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81B7-51EE-4314-A62E-C1A11AEBF2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D256-64FE-4D5F-946E-3270D6C95A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4333-AB48-4B59-AEE3-8554AA33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1EE-6BB0-433D-9805-E6C34DF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91D6-A975-4E89-82A9-4CBF82F0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28F5-B6DE-4A47-9878-5CA870E3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7E27-269A-4A57-B154-BACA8A51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A6E6-E943-4319-8473-3BB5726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B36-A952-4464-B9B5-77EDA07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E339-11AD-49ED-9466-9979496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789-472F-4D84-AFEC-D951C09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A17-641E-4DD6-983A-BF0C681D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A2BC-63FB-421E-AEC5-54BF098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D96-7B47-495D-A360-D0130E54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925-481A-432C-BBB5-FB45330B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E4B7-C00D-4B2E-BD3D-31299AC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68CE-D3A6-4409-AB8A-FA861A4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07E9-5F04-43AB-BAAB-524E2590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F605-9326-4BBB-ACF8-FDF3EE2C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6F2-5B40-491F-9FD8-DB43FE86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1E9-E9EA-4C37-A305-C4578967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607-7CC3-44CE-9057-092A280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E69-86C2-436E-A3E3-96DFDD9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32F-C52B-4EA5-ACC9-1A54F3C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034-CF2D-4775-BFCF-370B9BB2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F46-1EF5-4629-8275-1BEA563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D1AB-D85B-4F9A-ABDA-C77118CC5E1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25F6-40A2-4BDA-AA80-A7A3724912C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lik:Charles Darwin seated.jpg"/>
          <p:cNvPicPr/>
          <p:nvPr/>
        </p:nvPicPr>
        <p:blipFill>
          <a:blip r:embed="rId1"/>
          <a:stretch/>
        </p:blipFill>
        <p:spPr>
          <a:xfrm>
            <a:off x="395280" y="836640"/>
            <a:ext cx="319716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24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n genialny „bezbożnik”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KAROL DARW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532080"/>
            <a:ext cx="6408720" cy="22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chodzeniu człowieka i doborze w odniesieniu do pł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341360"/>
            <a:ext cx="8147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owiec „włożył kij w mrowisko”, sugerując delikatnie, że człowiek pochodzi „prawdopodobnie” od małp człekokształt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zewem były liczne karykatu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Plik:Editorial cartoon depicting Charles Darwin as an ape (1871).jpg"/>
          <p:cNvPicPr/>
          <p:nvPr/>
        </p:nvPicPr>
        <p:blipFill>
          <a:blip r:embed="rId1"/>
          <a:stretch/>
        </p:blipFill>
        <p:spPr>
          <a:xfrm>
            <a:off x="1139760" y="2774880"/>
            <a:ext cx="2355840" cy="316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hyba najbardziej znana karykatura brytyjskiego uczonego"/>
          <p:cNvPicPr/>
          <p:nvPr/>
        </p:nvPicPr>
        <p:blipFill>
          <a:blip r:embed="rId2"/>
          <a:stretch/>
        </p:blipFill>
        <p:spPr>
          <a:xfrm>
            <a:off x="6516720" y="2421000"/>
            <a:ext cx="15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Darwin i dama"/>
          <p:cNvPicPr/>
          <p:nvPr/>
        </p:nvPicPr>
        <p:blipFill>
          <a:blip r:embed="rId3"/>
          <a:stretch/>
        </p:blipFill>
        <p:spPr>
          <a:xfrm>
            <a:off x="3635280" y="2781360"/>
            <a:ext cx="2592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z Kościołem anglikań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1341360"/>
            <a:ext cx="554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uczyciele Darwina z Cambridge protestowali przeciw jego poglą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skup Samuel Wilberforce  protestował przeciw jak się wyraził „pochodzeniu od małpy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homas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przyjaciel Darwina, nazwał to sporem z „przesądem i ignorancją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arwin niszczy &quot;przesądy&quot; i &quot;ignorancję&quot;"/>
          <p:cNvPicPr/>
          <p:nvPr/>
        </p:nvPicPr>
        <p:blipFill>
          <a:blip r:embed="rId1"/>
          <a:stretch/>
        </p:blipFill>
        <p:spPr>
          <a:xfrm>
            <a:off x="5435640" y="2421000"/>
            <a:ext cx="3456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Huxl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Pierwsi ewolucjoniści – ewolucja niejedno ma imię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Młodość i studia Darwina – zanim powstało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 powstaniu gatunków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1337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Podróż życia (1831-183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Wielki rejs HMS Beagle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„Zięby Darwin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Walka o byt – istota darwi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wstawaniu gatunków (1859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 pochodzeniu człowieka i doborze w odniesieniu do pł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Spór z Kościołem anglikański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i ewolucjoniści -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niejedno ma imię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 XVIII w. zakładano istnieni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olu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 przyrodzie, twórcami pierwszych teorii ewolucji byl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an Baptiste d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Plik:Jean-baptiste lamarck2.jpg"/>
          <p:cNvPicPr/>
          <p:nvPr/>
        </p:nvPicPr>
        <p:blipFill>
          <a:blip r:embed="rId1"/>
          <a:stretch/>
        </p:blipFill>
        <p:spPr>
          <a:xfrm>
            <a:off x="5796000" y="2781360"/>
            <a:ext cx="3022560" cy="292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ile:Chambers-1.jpg"/>
          <p:cNvPicPr/>
          <p:nvPr/>
        </p:nvPicPr>
        <p:blipFill>
          <a:blip r:embed="rId2"/>
          <a:stretch/>
        </p:blipFill>
        <p:spPr>
          <a:xfrm>
            <a:off x="4038480" y="3887640"/>
            <a:ext cx="17654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Strzałka w prawo 5"/>
          <p:cNvSpPr/>
          <p:nvPr/>
        </p:nvSpPr>
        <p:spPr>
          <a:xfrm>
            <a:off x="5275440" y="314640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załka w prawo 5"/>
          <p:cNvSpPr/>
          <p:nvPr/>
        </p:nvSpPr>
        <p:spPr>
          <a:xfrm>
            <a:off x="3059280" y="4941720"/>
            <a:ext cx="863280" cy="79236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łodość i studia Darwina – zanim powstało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O powstawaniu gatunków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urodził się w Shrewsbury 12 lutego 18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udiował medycynę w Edynburg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ał zostać duchownym – w tym celu studiował w Cambridge do 1831 rok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teresował się raczej biologią i geolog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róż życia (1831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Podróż na HMS Beagle z kapitanem Fitzroyem do wybrzeży Ameryki Południowej w charakterze pokładowego przyrodnika przerodziła się w podróż dookoła świat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3989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elki rejs HMS Bea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otatki Darwina opublikował wraz ze swoimi kapitan Fitzroy. Były tak ciekawe, że Darwin zyskał sław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 było w notatk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isy geologiczne, geograficzne, obserwacje przyrody, a nawet teoria o tworzeniu się raf koral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ęby Darwi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serwacja różnych gatunków zięb na wyspach Galapagos, pchnęła Darwina do sformułowania tezy o doborze naturalny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3236760" y="2924280"/>
            <a:ext cx="3033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alka o byt – istota darwiniz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aździerniku 1838 […] zdarzyło mi się przeczytać dla rozrywki esej Malthusa na temat ludnoś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dobrze rozumiejąc, dzięki długiej obserwacji zwyczajów zwierząt i roślin, na czym polega wszechobecna walka o by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tychmiast przyszło mi do głowy, że w tych warunkach występowałaby tendencja do utrwalania zmian korzystnych, a zanikania zmian niekorzystn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em tego byłoby powstawanie nowych gatunków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powstawaniu gatunków (185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[…] w każdym gatunku rodzi się daleko więcej osobników niż może przeżyć i ponieważ na skutek tego powstaje pomiędzy nimi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alka o by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nik, który pod wpływem skomplikowanych i nieraz zmiennych warunków zmieni się nieznacznie, lecz w sposób korzystny dla siebi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ędzie miał więcej widoków na utrzymanie się przy życiu i w ten sposób ulegnie działaniu doboru naturalne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zasadzie zaś potężnego prawa dziedziczności każda taka wyselekcjonowana odmiana będzie dążyć do przekazania potomstwu swej nowej, zmienionej postac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22:24:47Z</dcterms:modified>
  <cp:revision>9</cp:revision>
  <dc:subject/>
  <dc:title>Slajd 1</dc:title>
</cp:coreProperties>
</file>