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BB11-A261-40C5-AEA7-0D2DA857C45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EDD8-579C-46C9-A79C-619B0BFF647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275-1618-4291-8A5E-56FA27B4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840-B922-45A1-B3D7-6DBCD36E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EFE-DC68-48F3-923F-1E965F73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8DD0-1FC5-4AE0-8B16-33848D6E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2FC5-BE9A-4C01-B180-F646EC5E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F8FD-329B-42E2-ACAC-9CD123F5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72DD-C56D-4399-B544-7E5BE1D6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4119-00E9-4CAC-AB00-876ADBB8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D367-EAF2-4C1B-A721-116C7C4D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6513-2A50-42BC-859B-32D64195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E0A5-0739-489B-BD03-5FFC5B3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7C7-06E7-4869-9996-EC7CCB27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9AF2-75E5-4BCC-BBFB-010A208E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1F15-8C10-44B3-A415-96DCC9CF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AABC-8ED0-4C99-9424-DE650DFC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BEC2-C2C4-4DDC-BBE8-36D0B9B7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0AA8-CF64-4A4F-941B-1D2AD74B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D60-A4BF-40DD-A93D-49230A99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BD2-7E5F-44C3-A522-63A0B007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E8B-101B-4270-B5F4-557068FE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F93-CF9F-499A-AE21-0E718AF8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E09-A701-4AB5-AA74-5778BAB0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3523-0E4F-4CA9-AC66-540882D0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828-01C4-46BC-988C-D106D958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582A-9CBF-4EA7-B085-B292653EFC6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0982-65A1-4B57-A202-64931243BB8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0.xml"/><Relationship Id="rId18" Type="http://schemas.openxmlformats.org/officeDocument/2006/relationships/slide" Target="slide11.xml"/><Relationship Id="rId19" Type="http://schemas.openxmlformats.org/officeDocument/2006/relationships/slide" Target="slide13.xml"/><Relationship Id="rId20" Type="http://schemas.openxmlformats.org/officeDocument/2006/relationships/slide" Target="slide13.xml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AROL DARWIN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jego wpływ na nauk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Plik:Charles Darwin by Julia Margaret Cameron 2.jpg"/>
          <p:cNvPicPr/>
          <p:nvPr/>
        </p:nvPicPr>
        <p:blipFill>
          <a:blip r:embed="rId1"/>
          <a:stretch/>
        </p:blipFill>
        <p:spPr>
          <a:xfrm>
            <a:off x="5003640" y="1320840"/>
            <a:ext cx="3240360" cy="4068720"/>
          </a:xfrm>
          <a:prstGeom prst="rect">
            <a:avLst/>
          </a:prstGeom>
          <a:ln w="0">
            <a:noFill/>
          </a:ln>
        </p:spPr>
      </p:pic>
      <p:sp>
        <p:nvSpPr>
          <p:cNvPr id="97" name="Podtytuł 2"/>
          <p:cNvSpPr/>
          <p:nvPr/>
        </p:nvSpPr>
        <p:spPr>
          <a:xfrm>
            <a:off x="468360" y="4437000"/>
            <a:ext cx="4500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oria, która natchnęła Darw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825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homas Malthus (1766-1834) – twórca koncepcji, według której przyrost ludności (zwłaszcza biedniejszej) odbywa się w postępie geometrycznym, a żywności – w arytmetyczn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ęska głodu jest nieuchronna, jeśli biedniejsi będą wspierani, zamiast wymierać. Trwa więc walka o by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maltus"/>
          <p:cNvPicPr/>
          <p:nvPr/>
        </p:nvPicPr>
        <p:blipFill>
          <a:blip r:embed="rId1"/>
          <a:stretch/>
        </p:blipFill>
        <p:spPr>
          <a:xfrm>
            <a:off x="4932360" y="2781360"/>
            <a:ext cx="40165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cha teorii Darw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arwinizm społeczny – ponieważ w naturze nie ma sentymentów, słabiej przystosowani giną. Podobnie powinno być w społeczeństwie. Nie można wspierać niezaradnych (Herbert Spenc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asizm – Ernst Haeckel i Houston Stewart Chamberlain  stworzyli koncepcję wyższości rasy teutońskiej (głownie Niemców) nad pozostałymi, co miało być naturalnym wynikiem ewolu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Buldog Darwina” – Ernst Haeck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403280" y="1484280"/>
            <a:ext cx="6265800" cy="40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Niemiecki naukowiec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Ernst Haeckel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rozpropagował w Niemczech teorię Darwina. Nie byłoby nic w tym złego, gdyby nie to, że żeby uprawdopodobnić ewolucję posługiwał się fałszerstwam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ymyślił pierwotne protoplazmowe organizmy – tzw. monera, które miały być ogniwem pośrednim między materią nieożywioną a pierwotniakam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Dokonał fałszerstw w rysunkach embrionów, by udowodnić, że ssaki w życiu płodowym „odtwarzają historię ewolucji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ymyślił tzw. brakujące ogniwo między człowiekiem a małpą - </a:t>
            </a: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pithecanthropus alalus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ociągnął” dalej  koncepcję ewolucji, twierdząc, że jedne rasy ludzkie są na niższym stopniu rozwoju, inne na wyższym (zwłaszcza Germani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Eug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600200"/>
            <a:ext cx="526716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Francis </a:t>
            </a:r>
            <a:r>
              <a:rPr b="1" lang="pl-PL" sz="1700" spc="-1" strike="noStrike">
                <a:solidFill>
                  <a:srgbClr val="000000"/>
                </a:solidFill>
                <a:latin typeface="Calibri"/>
              </a:rPr>
              <a:t>Galton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, stworzył koncepcję doboru par w celu uzyskania  „lepszego genetycznie potomstwa”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W USA pod wpływem Margaret </a:t>
            </a:r>
            <a:r>
              <a:rPr b="1" lang="pl-PL" sz="1700" spc="-1" strike="noStrike">
                <a:solidFill>
                  <a:srgbClr val="000000"/>
                </a:solidFill>
                <a:latin typeface="Calibri"/>
              </a:rPr>
              <a:t>Sanger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 rozpoczęto sterylizację imigrantów i Murzynów, w celu „dbania o rasę”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W Szwecji przymusowo wysterylizowano 62 tysiące „społecznie nieużytecznych” (do 1976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Racistcampaignposter1"/>
          <p:cNvPicPr/>
          <p:nvPr/>
        </p:nvPicPr>
        <p:blipFill>
          <a:blip r:embed="rId1"/>
          <a:stretch/>
        </p:blipFill>
        <p:spPr>
          <a:xfrm>
            <a:off x="6046920" y="2781360"/>
            <a:ext cx="2846160" cy="2286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5435640" y="522936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619280" y="391788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lakat wyborczy przeciw równouprawnieniu Murzynów – eugenika zaostrzała rasiz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Eugenik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w III Rzes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2682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prowadzenie Prawa o Zapobieganiu Urodzeniom Potomstwa Dziedzicznie Obciążonego -1933 r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musowo wysterylizowano 400 tys. osó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ramach akcji T4 wymordowano 70 tys. niepełnosprawnych umysłow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kom1202_schwarz"/>
          <p:cNvPicPr/>
          <p:nvPr/>
        </p:nvPicPr>
        <p:blipFill>
          <a:blip r:embed="rId1"/>
          <a:stretch/>
        </p:blipFill>
        <p:spPr>
          <a:xfrm>
            <a:off x="5364000" y="1125360"/>
            <a:ext cx="3565800" cy="356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4646520" y="468324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Calibri"/>
              </a:rPr>
              <a:t>Sterylizacja dotknęła też ciemnoskórych obywateli Niemiec. Propaganda tłumaczyła, że są owocem gwałtów na Niemka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sychoanali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luczowe teorie dotyczące psychologii człowieka, które powstały w niedługim czasie po wydaniu pracy Darwina, ujawniają wyraźny wpływ idei ewolucyjnych. […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ygmunt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Freud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ystąpił z teorią instynktów zachowania życia oraz instynktów seksualnych, które odpowiadają Darwinowskiemu rozróżnieniu na dobór naturalny i płciowy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wona Mikołajczyk,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Psychoanaliza Freuda w psychologii ewolucyjnej Instytut Psychologii UJ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raków 2008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arwinizm dzi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XX wieku naukowcy w większości zgadzali się co do tego, że dobór naturalny jest podstawowym mechanizmem ewolu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netyka przyniosła tyleż potwierdzeń co zaprzeczeń teorii ewolucy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USA ciągle głównym przeciwnikiem darwinizmu jest teori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eacjonizm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 (jednorazowego stworzenia świa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stnieje też konkurencyjna teori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teligentnego proje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owne J.,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 powstawaniu gatunków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uza,Warszawa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rwin K.,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O pochodzeniu człowieka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irafa Roja, Warszawa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one I,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powieść o Darwini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Muza, Warszawa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eła Darwina (również po polsku): http://darwin-online.org.uk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pl.wikipedia.org/wiki/Karol_Darw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wiw.pl/biblioteka/klasycy_nauki/darwin_spisrzeczy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creation.com/ernst-haeckel-evangelist-for-evolution-and-apostle-of-deceit-polis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slideshare.net/IwonaMikoajczyk/psychoanaliza-freuda-w-ujciu-psychologii-ewolu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amar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teligentny proje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eacjoniz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alka o b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lth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bór natural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arw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a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Fre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971640" y="76500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wórca teorii powstawania gatunków - biografia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00000" y="119700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2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wórca teorii powstawania gatunków – biografia 2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>
            <a:hlinkClick r:id="rId7" action="ppaction://hlinksldjump"/>
          </p:cNvPr>
          <p:cNvSpPr/>
          <p:nvPr/>
        </p:nvSpPr>
        <p:spPr>
          <a:xfrm>
            <a:off x="900000" y="14842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wórca teorii powstawania gatunków – biografia 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71640" y="213372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5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Trasa HMS Beag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71640" y="256536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Twórca teorii powstawania gatunków – biografia 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71640" y="2997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7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Jak żartowano z Darwi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971640" y="3429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8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7" action="ppaction://hlinksldjump"/>
              </a:rPr>
              <a:t>Teoria, która natchnęła Darwi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971640" y="3789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8" action="ppaction://hlinksldjump"/>
              </a:rPr>
              <a:t>9. Echa teorii Darw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971640" y="4508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9" action="ppaction://hlinksldjump"/>
              </a:rPr>
              <a:t>10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0" action="ppaction://hlinksldjump"/>
              </a:rPr>
              <a:t>Eugen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971640" y="4797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Eugenika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w III Rzesz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971640" y="5157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Psychoanali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971640" y="5516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3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arwinizm dziś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024360" y="533232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4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Bibliograf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971640" y="1844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ilk falklandz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971640" y="414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9a. Buldog Darw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órca teorii powstawania gatunków - biograf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79280" y="1844640"/>
            <a:ext cx="51847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harles Rober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arwin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1809-1892). Wybitny brytyjski przyrodnik, podróżnik, badacz ewoluc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jsłynniejsze teorie: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wstawanie gatunkó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obór natural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ewolucyjne powstawanie człowiek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owstawanie ato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rwin pierwotnie miał zostać duchownym, jednak już na studiach zajął się przyrodoznawstwem – geologią i biologi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darwin"/>
          <p:cNvPicPr/>
          <p:nvPr/>
        </p:nvPicPr>
        <p:blipFill>
          <a:blip r:embed="rId1"/>
          <a:stretch/>
        </p:blipFill>
        <p:spPr>
          <a:xfrm>
            <a:off x="6156360" y="1557360"/>
            <a:ext cx="26496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órca teorii powstawania gatunków – biografia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Emma_Darwin"/>
          <p:cNvPicPr/>
          <p:nvPr/>
        </p:nvPicPr>
        <p:blipFill>
          <a:blip r:embed="rId1"/>
          <a:stretch/>
        </p:blipFill>
        <p:spPr>
          <a:xfrm>
            <a:off x="6227640" y="2847960"/>
            <a:ext cx="2498760" cy="2914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5194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największą podróż odkrywczą swojego życia – rejs okrętem hydrograficznym HMS Beagle wybrał się na własny kosz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żenił się z Emmą Wedgwood, własną kuzynk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iał dziesięcioro dzieci, z których trójka zmarła w dzieciństw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uż za życia cieszył się naukową sław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5651640" y="981000"/>
            <a:ext cx="29527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órca teorii powstawania gatunków – biografia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457280"/>
            <a:ext cx="562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wielu odkryć dochodził Darwin powoli, obserwując i porównując zwierzęta, warstwy geologiczne, zestawiając da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róż dookoła świata, przystanki w Ameryce Południowej i na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yspach Galapagos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pozwoliły zebrać ogrom materiał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http://upload.wikimedia.org/wikipedia/commons/9/97/Darwin%27s_finches.jpeg"/>
          <p:cNvPicPr/>
          <p:nvPr/>
        </p:nvPicPr>
        <p:blipFill>
          <a:blip r:embed="rId1"/>
          <a:stretch/>
        </p:blipFill>
        <p:spPr>
          <a:xfrm>
            <a:off x="6084720" y="2421000"/>
            <a:ext cx="2843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ilk falklandz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397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nim Darwin dotarł na Galapagos, gdzie urzekło go bogactwo gatunków zięb, zwrócił uwagę na (dziś wymarłego) wilka falklandzkieg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óżnił się znacząco od drapieżników z kontynentu i miał szereg cech, wynikających z przystosowania do warunk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Plik:FalklandIslandFox2.jpg"/>
          <p:cNvPicPr/>
          <p:nvPr/>
        </p:nvPicPr>
        <p:blipFill>
          <a:blip r:embed="rId1"/>
          <a:stretch/>
        </p:blipFill>
        <p:spPr>
          <a:xfrm>
            <a:off x="4572000" y="1484280"/>
            <a:ext cx="43624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rasa HMS Bea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beagle"/>
          <p:cNvPicPr/>
          <p:nvPr/>
        </p:nvPicPr>
        <p:blipFill>
          <a:blip r:embed="rId1"/>
          <a:stretch/>
        </p:blipFill>
        <p:spPr>
          <a:xfrm>
            <a:off x="281160" y="1197000"/>
            <a:ext cx="846756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wórca teorii powstawania gatunków – biografia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58341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eorie ewolucyjn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Darwina były dopracowane, dlatego wzbudziły wiele kontrowersji. Szczególnie nie podobała się w kręgach Kościoła anglikań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cepcja, według której człowiek wyewoluował z małpy człekokształtnej wzbudziła niemal tyle samo protestów, co niewybrednych żart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adania genetyczne II połowy XX wieku potwierdziły wiele tez Darwina, ale wskazały też luki w szczegółach teor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Plik:Darwin tree.png"/>
          <p:cNvPicPr/>
          <p:nvPr/>
        </p:nvPicPr>
        <p:blipFill>
          <a:blip r:embed="rId1"/>
          <a:stretch/>
        </p:blipFill>
        <p:spPr>
          <a:xfrm>
            <a:off x="6205680" y="1341360"/>
            <a:ext cx="2373120" cy="4032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205680" y="52261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tatki Darwina z drzewem ewolucyjn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 żartowano z Darw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" descr="Darwin i dama"/>
          <p:cNvPicPr/>
          <p:nvPr/>
        </p:nvPicPr>
        <p:blipFill>
          <a:blip r:embed="rId1"/>
          <a:stretch/>
        </p:blipFill>
        <p:spPr>
          <a:xfrm>
            <a:off x="3071880" y="1268280"/>
            <a:ext cx="33638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4-06T19:05:12Z</dcterms:modified>
  <cp:revision>10</cp:revision>
  <dc:subject/>
  <dc:title>Slajd 1</dc:title>
</cp:coreProperties>
</file>