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BA9F-7706-4C04-BAF3-AFF7A5B17F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B143-DB38-4B9F-9BBC-550F24AA1B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236D-8354-403C-96E0-49DED0B325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DA4-722A-44DC-8BBF-BC70D1F2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663-BEA4-40F1-BDFE-F6F1C6A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AF5-CF8C-4221-8903-72283FB3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4E5-98BB-4DC8-9D0E-63041B47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716A-2969-4EF1-8937-7425699B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6F4-DE96-4EAA-A740-8A6A2C9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2363-7144-4E0F-A6FD-F2906309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DB8-E057-47FD-A0E0-8E4D49E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C57-9B75-4D3B-B0F2-A0035D4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063-816E-4667-B1A2-FB74917E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AB28-5EB3-418A-A2EA-2A728B7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DD8-5D26-4C17-B8E6-F84B8688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440-09F4-4B10-B5F6-13E8226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61E-2F4B-4688-9236-AF6702D9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FA89-EE2D-48DE-8807-F4C54CC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F68-761D-4C52-94F2-0F190D8A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8780-85D7-424B-965C-1E4DD5A5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48A-6011-4AE7-B184-189BF6B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BC1-25E8-48A5-9F30-7E820CC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447-9099-4E87-9DFA-2A6FF5C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B70-E99A-4A0A-912C-153657D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CF7-D74C-497D-9EC0-083ECE7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E99-B248-4803-83C7-D873A21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38C-5CA1-4E46-8B4E-6454AAE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3A1C-AD7D-4033-B0C4-C0B5C1306ED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62A-4504-42EF-A311-E212297DA75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artbiznes.pl/index.php/obrazy-w-przestworzach-czyli-o-micie-latania-w-sztuce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chimie-physique.weebly.com/antoine-laurent-lavoisier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oogle.pl/url?sa=i&amp;rct=j&amp;q=&amp;esrc=s&amp;source=images&amp;cd=&amp;cad=rja&amp;docid=mirG48mGOreu-M&amp;tbnid=5raNw75YgBJUPM:&amp;ved=0CAQQjB0&amp;url=http%3A%2F%2Fwww.tapeta-kwiaty-niebieskie-motyle-olte.na-telefon.org%2F&amp;ei=rAgxUZiYIYmr4ASzjIC4CA&amp;bvm=bv.43148975,d.bGE&amp;psig=AFQjCNEF59WcMGnNv4-BopKq7WEfXFOLPw&amp;ust=1362254371445238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kopalniawiedzy.pl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historion.pl/rewolucja-przemyslowa-w-xviii-wieku-historia/4/" TargetMode="External"/><Relationship Id="rId4" Type="http://schemas.openxmlformats.org/officeDocument/2006/relationships/hyperlink" Target="http://www.primus.com.pl/ng9/strony%20uczniow/mateusz_borowski_wynalazcy/James_Watt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wikipedia.p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ocities.com/rationalargumentator/John_Locke.jpg&amp;imgrefurl=http://www.geocities.com/rationalargumentator/lockeandiscourse.html&amp;h=867&amp;w=650&amp;sz=41&amp;hl=pl&amp;start=7&amp;um=1&amp;tbnid=xIT1rXzizuKCKM:&amp;tbnh=145&amp;tbnw=109&amp;prev=/images%3Fq%3Dlocke%26svnum%3D10%26um%3D1%26hl%3Dpl%26rlz%3D1T4SUNA_en___PL210%26sa%3DN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świeceni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j0429815[1]"/>
          <p:cNvPicPr/>
          <p:nvPr/>
        </p:nvPicPr>
        <p:blipFill>
          <a:blip r:embed="rId1"/>
          <a:stretch/>
        </p:blipFill>
        <p:spPr>
          <a:xfrm>
            <a:off x="0" y="2682720"/>
            <a:ext cx="2313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7640" y="333360"/>
            <a:ext cx="410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k XVIII okazał się przełomow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ież, jeśli chodzi o badani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one w naukach ścisłych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rodniczych. Dokonano odkry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lu pierwiastków i pra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emicznych. Konstruowan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rzędzia, które ułatwiał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łowiekowi poznawanie świat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dkrywano zjawiska przyrodnicz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izjologiczne oraz zasady mechani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aerodynamiki – dzięki temu odby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ę na przykład pierwszy lot balon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Obraz 3" descr="http://www.artbiznes.pl/wp-content/uploads/2012/02/Montgolfier_brothers_flight.jpg"/>
          <p:cNvPicPr/>
          <p:nvPr/>
        </p:nvPicPr>
        <p:blipFill>
          <a:blip r:embed="rId1"/>
          <a:stretch/>
        </p:blipFill>
        <p:spPr>
          <a:xfrm>
            <a:off x="4140360" y="333360"/>
            <a:ext cx="4724280" cy="460044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4"/>
          <p:cNvSpPr/>
          <p:nvPr/>
        </p:nvSpPr>
        <p:spPr>
          <a:xfrm>
            <a:off x="5292720" y="50911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artbiznes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64072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annes Kepler – Trzy prawa Keplera, prawo ruchu pla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Symbol zastępczy zawartości 3" descr="http://www.matematyka.wroc.pl/system/files/u12/roz/Kepler05.gif"/>
          <p:cNvPicPr/>
          <p:nvPr/>
        </p:nvPicPr>
        <p:blipFill>
          <a:blip r:embed="rId1"/>
          <a:stretch/>
        </p:blipFill>
        <p:spPr>
          <a:xfrm>
            <a:off x="1547640" y="2276640"/>
            <a:ext cx="410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Antoine Lavoisier – ojciec nowoczesnej chemii,spalanie tlenu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rc_mi" descr="http://chimie-physique.weebly.com/uploads/9/4/5/4/9454150/3391559_orig.jpg"/>
          <p:cNvPicPr/>
          <p:nvPr/>
        </p:nvPicPr>
        <p:blipFill>
          <a:blip r:embed="rId1"/>
          <a:stretch/>
        </p:blipFill>
        <p:spPr>
          <a:xfrm>
            <a:off x="684360" y="227664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5"/>
          <p:cNvSpPr/>
          <p:nvPr/>
        </p:nvSpPr>
        <p:spPr>
          <a:xfrm>
            <a:off x="5292720" y="32446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himie-physique.weebly.com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476280"/>
            <a:ext cx="7680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Karol Linneusz –systematyka rośli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ymbol zastępczy zawartości 3" descr="http://www.tapeta-kwiaty-niebieskie-motyle-olte.na-telefon.org/tapety/kwiaty-niebieskie-motyle-olte.jpeg"/>
          <p:cNvPicPr/>
          <p:nvPr/>
        </p:nvPicPr>
        <p:blipFill>
          <a:blip r:embed="rId1"/>
          <a:stretch/>
        </p:blipFill>
        <p:spPr>
          <a:xfrm>
            <a:off x="1042920" y="1557360"/>
            <a:ext cx="4035600" cy="439272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4"/>
          <p:cNvSpPr/>
          <p:nvPr/>
        </p:nvSpPr>
        <p:spPr>
          <a:xfrm>
            <a:off x="900000" y="59500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apeta-kwiaty-niebieskie-motyle-olte.na-telefon.or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5" descr="http://kopalniawiedzy.pl/media/lib/8/1179917266_957137-418e62c7b2ed7be115bc6efcc612f9b6.jpeg"/>
          <p:cNvPicPr/>
          <p:nvPr/>
        </p:nvPicPr>
        <p:blipFill>
          <a:blip r:embed="rId3"/>
          <a:stretch/>
        </p:blipFill>
        <p:spPr>
          <a:xfrm>
            <a:off x="5673600" y="1557360"/>
            <a:ext cx="2248200" cy="2705040"/>
          </a:xfrm>
          <a:prstGeom prst="rect">
            <a:avLst/>
          </a:prstGeom>
          <a:ln w="0">
            <a:noFill/>
          </a:ln>
        </p:spPr>
      </p:pic>
      <p:sp>
        <p:nvSpPr>
          <p:cNvPr id="142" name="Prostokąt 6"/>
          <p:cNvSpPr/>
          <p:nvPr/>
        </p:nvSpPr>
        <p:spPr>
          <a:xfrm>
            <a:off x="5364000" y="42624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kopalniawiedzy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 Karol Linneus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76802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Tunga"/>
              </a:rPr>
              <a:t>Największym dokonaniem XVIII w., które zostało na masową skalę wykorzystane w kolejnym stuleciu, było skonstruowanie maszyny parowej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Symbol zastępczy zawartości 3" descr="http://historion.pl/wp-content/uploads/2012/06/Silnik-parowy-Watta.jpg"/>
          <p:cNvPicPr/>
          <p:nvPr/>
        </p:nvPicPr>
        <p:blipFill>
          <a:blip r:embed="rId1"/>
          <a:stretch/>
        </p:blipFill>
        <p:spPr>
          <a:xfrm>
            <a:off x="539640" y="1844640"/>
            <a:ext cx="4392720" cy="2736720"/>
          </a:xfrm>
          <a:prstGeom prst="rect">
            <a:avLst/>
          </a:prstGeom>
          <a:ln w="0">
            <a:noFill/>
          </a:ln>
        </p:spPr>
      </p:pic>
      <p:pic>
        <p:nvPicPr>
          <p:cNvPr id="145" name="Obraz 5" descr="http://www.primus.com.pl/ng9/strony%20uczniow/mateusz_borowski_wynalazcy/james_watt.jpg"/>
          <p:cNvPicPr/>
          <p:nvPr/>
        </p:nvPicPr>
        <p:blipFill>
          <a:blip r:embed="rId2"/>
          <a:stretch/>
        </p:blipFill>
        <p:spPr>
          <a:xfrm>
            <a:off x="5292720" y="1312920"/>
            <a:ext cx="3324240" cy="4600440"/>
          </a:xfrm>
          <a:prstGeom prst="rect">
            <a:avLst/>
          </a:prstGeom>
          <a:ln w="0">
            <a:noFill/>
          </a:ln>
        </p:spPr>
      </p:pic>
      <p:sp>
        <p:nvSpPr>
          <p:cNvPr id="146" name="Prostokąt 7"/>
          <p:cNvSpPr/>
          <p:nvPr/>
        </p:nvSpPr>
        <p:spPr>
          <a:xfrm>
            <a:off x="75564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istorion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rostokąt 8"/>
          <p:cNvSpPr/>
          <p:nvPr/>
        </p:nvSpPr>
        <p:spPr>
          <a:xfrm>
            <a:off x="5292720" y="5913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es Watt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imus.com.p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–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2080" y="765000"/>
            <a:ext cx="40035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ATAJĄCE  CZÓŁENK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1733 roku gręplar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ohn K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ł latające czółenko, któ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elokrotniło wydajność warszta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kiego. Prześladowany prze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kaczy musiał opuścić Anglię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chronienie znalazł we Francji, gdz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arł w zupełnej nędzy. J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alazek został rozpowszechnio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oło 1760 roku w przemyś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łókienniczym, zwłaszc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wełnia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Obraz 3" descr="Plik:John Kay2.JPG"/>
          <p:cNvPicPr/>
          <p:nvPr/>
        </p:nvPicPr>
        <p:blipFill>
          <a:blip r:embed="rId1"/>
          <a:stretch/>
        </p:blipFill>
        <p:spPr>
          <a:xfrm>
            <a:off x="6588000" y="3753000"/>
            <a:ext cx="1584360" cy="2730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4" descr="http://wynalazki.slomniki.pl/images/stories/duze/kay1.jpg"/>
          <p:cNvPicPr/>
          <p:nvPr/>
        </p:nvPicPr>
        <p:blipFill>
          <a:blip r:embed="rId2"/>
          <a:stretch/>
        </p:blipFill>
        <p:spPr>
          <a:xfrm>
            <a:off x="4356000" y="1125360"/>
            <a:ext cx="4686480" cy="161928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5"/>
          <p:cNvSpPr/>
          <p:nvPr/>
        </p:nvSpPr>
        <p:spPr>
          <a:xfrm>
            <a:off x="4500720" y="3105000"/>
            <a:ext cx="45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ynalazki.slomniki.pl/index.php/wynalazcy/77-k/864-kay-joh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rostokąt 2"/>
          <p:cNvSpPr/>
          <p:nvPr/>
        </p:nvSpPr>
        <p:spPr>
          <a:xfrm>
            <a:off x="3635280" y="4365720"/>
            <a:ext cx="234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hn Kay  www.wikipedia 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rzędza Joasia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Obraz 3" descr="Spinning Jenny 300x247 Rewolucja przemys&amp;lstrok;owa w XVIII wieku   historia"/>
          <p:cNvPicPr/>
          <p:nvPr/>
        </p:nvPicPr>
        <p:blipFill>
          <a:blip r:embed="rId1"/>
          <a:stretch/>
        </p:blipFill>
        <p:spPr>
          <a:xfrm>
            <a:off x="755640" y="1268280"/>
            <a:ext cx="3600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4"/>
          <p:cNvSpPr/>
          <p:nvPr/>
        </p:nvSpPr>
        <p:spPr>
          <a:xfrm>
            <a:off x="4643280" y="2550960"/>
            <a:ext cx="424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767 roku przez cieślę i tkacza z Lancashire, Jamesa Hargreavesa.  Była to słynna „przędąca Joasia” (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spinning Jen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 mechaniczna przędzarka wózkowa. Ruchem korby wprowadzało się  w ruch osiem wrzecio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1154160"/>
            <a:ext cx="46800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był jednym 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ybitniejszych uczonych XVIII wieku. 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752 roku podczas burzy wypuścił latawie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doczepionym metalowym kluczem, b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ępnie wykazać w badaniach, że klucz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ostał naładowany elektrycznie - dowiód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ym samym elektrycznej natury błyskawic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rótce po tym wynalazł piorunochr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jący za zadanie chronić ochron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dynków podczas burz.  Był on twórc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icznych wynalazków, m.in.: fote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janego, organów kieliszkowych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densatora płaski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Benjamin Frankl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raz 3" descr="http://energia.toowo.pl/z_pioruny/piorunochron.jpg"/>
          <p:cNvPicPr/>
          <p:nvPr/>
        </p:nvPicPr>
        <p:blipFill>
          <a:blip r:embed="rId1"/>
          <a:stretch/>
        </p:blipFill>
        <p:spPr>
          <a:xfrm>
            <a:off x="4859280" y="115416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160" name="Prostokąt 4"/>
          <p:cNvSpPr/>
          <p:nvPr/>
        </p:nvSpPr>
        <p:spPr>
          <a:xfrm>
            <a:off x="5003640" y="4221000"/>
            <a:ext cx="36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dulandia.pl/edukacja/1,124766,6525480,Benjamin_Franklin.html#ixzz2MTKqLed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Tunga"/>
              </a:rPr>
              <a:t>Symbolem dorobku naukowego XVIII w. stała się Wielka Encykloped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Symbol zastępczy zawartości 3" descr="https://encrypted-tbn0.gstatic.com/images?q=tbn:ANd9GcRaWon-he6PWjEqFAUl6rHK0PXAyeRLwWd0FhglhSl3GLDpvkcy"/>
          <p:cNvPicPr/>
          <p:nvPr/>
        </p:nvPicPr>
        <p:blipFill>
          <a:blip r:embed="rId1"/>
          <a:stretch/>
        </p:blipFill>
        <p:spPr>
          <a:xfrm>
            <a:off x="250920" y="1731960"/>
            <a:ext cx="4825800" cy="352728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4"/>
          <p:cNvSpPr/>
          <p:nvPr/>
        </p:nvSpPr>
        <p:spPr>
          <a:xfrm>
            <a:off x="1619280" y="52704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www.wiw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irc_mi" descr="http://2.bp.blogspot.com/_XA9l0Gp5D_A/SedrBKtc2SI/AAAAAAAAAHg/EFQkxLYCmLk/s320/encyklopedia+francuska.jpg"/>
          <p:cNvPicPr/>
          <p:nvPr/>
        </p:nvPicPr>
        <p:blipFill>
          <a:blip r:embed="rId2"/>
          <a:stretch/>
        </p:blipFill>
        <p:spPr>
          <a:xfrm>
            <a:off x="5292720" y="1916280"/>
            <a:ext cx="3191040" cy="277488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6"/>
          <p:cNvSpPr/>
          <p:nvPr/>
        </p:nvSpPr>
        <p:spPr>
          <a:xfrm>
            <a:off x="4140360" y="5454720"/>
            <a:ext cx="417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projektoswiecenie2009.blogspot.com/2009/04/powiastka-filozoficzna_19.html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http://gifyjustinbiebermichaeljacksoniinne.blox.pl/resource/mediumkbml6m55493ecfbe1da9552923.jpg"/>
          <p:cNvPicPr/>
          <p:nvPr/>
        </p:nvPicPr>
        <p:blipFill>
          <a:blip r:embed="rId1"/>
          <a:stretch/>
        </p:blipFill>
        <p:spPr>
          <a:xfrm>
            <a:off x="665280" y="2924280"/>
            <a:ext cx="952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397400" y="17316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7451640" y="4361040"/>
            <a:ext cx="1135080" cy="154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539640" y="836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900000" y="76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"wiek rozumu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580000" y="3789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11280" y="42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"wiek filozofów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1"/>
          <p:cNvSpPr/>
          <p:nvPr/>
        </p:nvSpPr>
        <p:spPr>
          <a:xfrm>
            <a:off x="324000" y="1700280"/>
            <a:ext cx="84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świecenie -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prąd intelektualny, który w XVIII wieku zdominował Europę. Ruch intelektualny oparty na krytyce ustalonych poglądów i postaw, popierający oświatę , tolerancję religijną prawa naturalne .  Oświecenie hołd dla rozum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oświecenia czerpała z dorobku F.Bacona i T.Hobbsa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0920" y="2421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IECZNOŚĆ REFORMY WIEDZY i WIARA W POSTĘ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726080" y="21286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ranciszek Bac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bacon"/>
          <p:cNvPicPr/>
          <p:nvPr/>
        </p:nvPicPr>
        <p:blipFill>
          <a:blip r:embed="rId1"/>
          <a:stretch/>
        </p:blipFill>
        <p:spPr>
          <a:xfrm>
            <a:off x="5724360" y="2860560"/>
            <a:ext cx="262116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ytycy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acjonalizm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mpiryzm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iz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Tunga"/>
              </a:rPr>
              <a:t>Filozofi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goya2"/>
          <p:cNvPicPr/>
          <p:nvPr/>
        </p:nvPicPr>
        <p:blipFill>
          <a:blip r:embed="rId1"/>
          <a:stretch/>
        </p:blipFill>
        <p:spPr>
          <a:xfrm>
            <a:off x="395280" y="1628640"/>
            <a:ext cx="302436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Black"/>
              </a:rPr>
              <a:t>Racjonalizm – rozum jest najważniejsz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211640" y="333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211640" y="285264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 Black"/>
              </a:rPr>
              <a:t>Gdy rozum śpi budzą się upiory 179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1"/>
          <p:cNvSpPr/>
          <p:nvPr/>
        </p:nvSpPr>
        <p:spPr>
          <a:xfrm>
            <a:off x="3708360" y="458136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wikipedia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dy rozum śpi budzą się demo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Francisco Goya, pomiędzy 1797 a 1798 r.Museo del Grabado de Go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2440" y="1463400"/>
            <a:ext cx="479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szystka wiedza pochodzi z doświadczenia. Doświadczenie jest produktem rozumu„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mmanuel K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http://www.theowinter.com/2011/11/08/idealist-vs-materialist-ethics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empiryzm –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najważniejsze w poznawaniu jest doświadczen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http://www.theowinter.com/wp-content/uploads/2011/11/kant.jpg"/>
          <p:cNvPicPr/>
          <p:nvPr/>
        </p:nvPicPr>
        <p:blipFill>
          <a:blip r:embed="rId1"/>
          <a:stretch/>
        </p:blipFill>
        <p:spPr>
          <a:xfrm>
            <a:off x="5148360" y="1484280"/>
            <a:ext cx="2879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4f81bd"/>
                </a:solidFill>
                <a:latin typeface="Calibri"/>
                <a:ea typeface="Tunga"/>
              </a:rPr>
              <a:t>John Loc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John_Lock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89000"/>
            <a:ext cx="232740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Rozmiar: 58937 bajtów"/>
          <p:cNvPicPr/>
          <p:nvPr/>
        </p:nvPicPr>
        <p:blipFill>
          <a:blip r:embed="rId3"/>
          <a:stretch/>
        </p:blipFill>
        <p:spPr>
          <a:xfrm>
            <a:off x="179280" y="3284640"/>
            <a:ext cx="8744040" cy="3573360"/>
          </a:xfrm>
          <a:prstGeom prst="rect">
            <a:avLst/>
          </a:prstGeom>
          <a:ln w="0">
            <a:noFill/>
          </a:ln>
        </p:spPr>
      </p:pic>
      <p:pic>
        <p:nvPicPr>
          <p:cNvPr id="122" name="Obraz 7" descr="http://1.bp.blogspot.com/_1PcngHQ9iV0/SrkwiGtxRMI/AAAAAAAAB6M/wsvTfKh1tdg/s320/1217797_open_book_.jpg"/>
          <p:cNvPicPr/>
          <p:nvPr/>
        </p:nvPicPr>
        <p:blipFill>
          <a:blip r:embed="rId4"/>
          <a:stretch/>
        </p:blipFill>
        <p:spPr>
          <a:xfrm>
            <a:off x="539640" y="1208160"/>
            <a:ext cx="28576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Nowożytne zasady ustrojowe. Krytyka despotyzmu i feudalizmu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Symbol zastępczy zawartości 3" descr="http://upload.wikimedia.org/wikipedia/commons/thumb/d/de/Locke_treatises_of_government_page.jpg/220px-Locke_treatises_of_government_page.jpg"/>
          <p:cNvPicPr/>
          <p:nvPr/>
        </p:nvPicPr>
        <p:blipFill>
          <a:blip r:embed="rId1"/>
          <a:stretch/>
        </p:blipFill>
        <p:spPr>
          <a:xfrm>
            <a:off x="468360" y="1844640"/>
            <a:ext cx="2793960" cy="42800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4"/>
          <p:cNvSpPr/>
          <p:nvPr/>
        </p:nvSpPr>
        <p:spPr>
          <a:xfrm>
            <a:off x="3203640" y="148428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 powstaje w wyniku umowy społecznej J.J.Roussoue  :” Umowa społeczn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.Locke „  Dwa traktaty o rządze „ – teoria demokrac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20602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O duchu praw” (1748)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9864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  <a:ea typeface="Tunga"/>
              </a:rPr>
              <a:t>Monteskiusz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monteskiusz"/>
          <p:cNvPicPr/>
          <p:nvPr/>
        </p:nvPicPr>
        <p:blipFill>
          <a:blip r:embed="rId1"/>
          <a:stretch/>
        </p:blipFill>
        <p:spPr>
          <a:xfrm>
            <a:off x="6516720" y="189000"/>
            <a:ext cx="1905120" cy="2933640"/>
          </a:xfrm>
          <a:prstGeom prst="rect">
            <a:avLst/>
          </a:prstGeom>
          <a:ln w="0">
            <a:noFill/>
          </a:ln>
        </p:spPr>
      </p:pic>
      <p:pic>
        <p:nvPicPr>
          <p:cNvPr id="129" name="Obraz 7" descr="https://edukator.pl/pix/users/images/jj_rousseau.jpg"/>
          <p:cNvPicPr/>
          <p:nvPr/>
        </p:nvPicPr>
        <p:blipFill>
          <a:blip r:embed="rId2"/>
          <a:stretch/>
        </p:blipFill>
        <p:spPr>
          <a:xfrm>
            <a:off x="2268360" y="335772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wona</cp:lastModifiedBy>
  <dcterms:modified xsi:type="dcterms:W3CDTF">2013-08-05T10:23:26Z</dcterms:modified>
  <cp:revision>10</cp:revision>
  <dc:subject/>
  <dc:title>Slajd 1</dc:title>
</cp:coreProperties>
</file>