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3B6F-D862-4497-8EFA-147FB76AB0C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952D-3F8B-49AA-9F70-00D35D18123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A2F5-8DC1-4A9B-8B79-0A6BAC91A71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0F4-EB76-4655-BB00-43C63FB0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4CC8-2ED9-4364-81CD-9EBB44FE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45C-C2A9-44A7-9A78-010E3E1D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C1AF-9337-46C2-ABA9-4EEF619A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34FD-977E-4A4E-AF2A-982A51C7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CC73-3648-4F44-A937-2701D604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5779-93FB-49E2-BF81-4BF3A473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E4D6-5E41-4D25-A32B-E7D0EDBE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6A9C-3D58-46E4-9F96-294485C3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DEA7-C50D-45F3-9FC4-67DC91D8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8354-6920-418C-8932-68547E0B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2C9-731B-40E1-B09E-93E4734C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C952-24D8-46EE-82E3-C8E4EEB7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86FA-CC46-42B1-9605-16863684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F736-2A50-4612-B777-45CB8E9B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A9FA-DD3C-4298-8977-DC1CEBD1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23BF-FAC5-42F8-B25A-22F7EA59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B6316-A186-4BD1-949F-D22CD4DC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6528D-2B85-456A-91A4-78C1A49E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FD723-816A-494F-A1F6-9AB2F732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5F509-03B9-4C32-8F9B-206A47C3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A02E9-FC3A-4145-A06C-9E4981A6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998-FA1A-4595-8FAA-19842CAA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F909F-60AA-4A72-8DB0-263026EC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92F84-5954-4497-B536-A42FF797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FD2C3-143B-4861-9D99-C346317A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1F4CD-5245-4273-8BB3-9DCC99A3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8743F-85D2-42E2-8D74-52F48389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9D1E0-813A-4D7B-9A4B-17C8EA3E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9E7B3-EEE7-4237-B761-D124A821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10478-F43F-48EC-B6B3-624A7D3E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8579C-6B43-4DCD-8BED-2EC2DE16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B35B4-B372-4B12-A16A-8610C24C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38B2-F253-4100-8BA4-D83C1C82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8CFC2-D066-4FA4-BF18-48A82981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398B5-BF22-4677-BD36-6E8F4C32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6BBF4-FF21-4258-BCC5-B6386128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8893D-888F-4E51-838D-1C18A331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B44F9-D1B8-4D26-B9B2-CC6F7597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C5054-063F-4C56-B0F6-CBE85EEF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40B97-BBE6-414A-BCD4-603E2D5A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FE656-9BF3-4BBB-AD24-599E5903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29A51-FA94-4648-9DFC-6B9A8D66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7CA0-1027-46E6-A61F-5468BBCD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32E-D21C-40E4-BB25-1B204CE1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02F7-8FFB-4E38-9C7D-699E205B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2642-34B9-45CB-B642-D23C03C8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4E13-6763-4136-900D-26AC0084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B094-BC6E-493A-B4A1-3FB937EB06B0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6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8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2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6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9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az 8" descr="stopka_cz_b_pion.gif"/>
          <p:cNvPicPr/>
          <p:nvPr/>
        </p:nvPicPr>
        <p:blipFill>
          <a:blip r:embed="rId2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29" name="Obraz 9" descr="nagłówek_cz_b_pion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107C-9887-46AA-BF6F-847DA174E255}" type="slidenum">
              <a:rPr b="0" lang="pl-P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7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7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4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8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82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5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1E5C-2E98-461F-BA9C-0811B9CDA49F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6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8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62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6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69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2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477C-C00A-443C-AECD-9ECCBEE5337C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6560" y="1484280"/>
            <a:ext cx="720108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94c600"/>
                </a:solidFill>
                <a:latin typeface="Century Gothic"/>
              </a:rPr>
              <a:t>Akademia Krakowska </a:t>
            </a:r>
            <a:endParaRPr b="0" lang="en-US" sz="4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zabella Lankos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5" descr="http://us.123rf.com/400wm/400/400/michaeldb/michaeldb0901/michaeldb090100023/4228044-a-happy-usmiechnietej-buzki-absolwentow-w-graduacyjnej-dni-zaprawy-pokladzie-cap.jpg"/>
          <p:cNvPicPr/>
          <p:nvPr/>
        </p:nvPicPr>
        <p:blipFill>
          <a:blip r:embed="rId1"/>
          <a:stretch/>
        </p:blipFill>
        <p:spPr>
          <a:xfrm>
            <a:off x="5867280" y="3213000"/>
            <a:ext cx="2665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651672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94c600"/>
                </a:solidFill>
                <a:latin typeface="Century Gothic"/>
              </a:rPr>
              <a:t>Dziękuję za uwagę</a:t>
            </a:r>
            <a:endParaRPr b="0" lang="en-US" sz="4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6" descr="http://static4.depositphotos.com/1002188/321/i/950/depositphotos_3211039-Graduate-Smile.jpg"/>
          <p:cNvPicPr/>
          <p:nvPr/>
        </p:nvPicPr>
        <p:blipFill>
          <a:blip r:embed="rId1"/>
          <a:stretch/>
        </p:blipFill>
        <p:spPr>
          <a:xfrm>
            <a:off x="5796000" y="3059280"/>
            <a:ext cx="2347920" cy="26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590364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Założenie Akademii Krakowskiej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39280" y="1557000"/>
            <a:ext cx="50403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12 maja 1364 Kazimierz Wielki założył Akademię Krakowską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Był to drugi, po powstałym w 1348 r. w Pradze, uniwersytet w środkowej Europie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krótce powstaną uniwersytety w Wiedniu (1365), Peczu (1367) oraz w Heidelbergu (1386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1" name="Obraz 3" descr="http://www.wiw.pl/historia/poczet/pict/zoom/kazimierz_wielki.gif"/>
          <p:cNvPicPr/>
          <p:nvPr/>
        </p:nvPicPr>
        <p:blipFill>
          <a:blip r:embed="rId1"/>
          <a:stretch/>
        </p:blipFill>
        <p:spPr>
          <a:xfrm>
            <a:off x="5796000" y="476280"/>
            <a:ext cx="2730600" cy="34862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http://www.newsweek.pl/bins/Media/Pictures/8f/8fe1/8fe154c100df4152bd89681e57578456_thb14.jpg"/>
          <p:cNvPicPr/>
          <p:nvPr/>
        </p:nvPicPr>
        <p:blipFill>
          <a:blip r:embed="rId2"/>
          <a:stretch/>
        </p:blipFill>
        <p:spPr>
          <a:xfrm>
            <a:off x="5508720" y="39625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48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94c600"/>
                </a:solidFill>
                <a:latin typeface="Century Gothic"/>
              </a:rPr>
              <a:t>Studium General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1280" y="1557000"/>
            <a:ext cx="388944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tudium Generale - taka była oficjalna nazwa uniwersytetu w Krakowie - rozpoczęło działalność faktycznie nie wcześniej niż w 1367 r. i składało się z trzech tylko wydziałów: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ztuk wyzwolonych,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medycyny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prawa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Na utworzenie czwartego, najbardziej prestiżowego - teologii, papież Urban V nie wyraził zgody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5" name="Obraz 4" descr="http://studente.pl/krakow/_cache/_thumbs/12/12958467e30d53fca411b418c037f358.jpg"/>
          <p:cNvPicPr/>
          <p:nvPr/>
        </p:nvPicPr>
        <p:blipFill>
          <a:blip r:embed="rId1"/>
          <a:stretch/>
        </p:blipFill>
        <p:spPr>
          <a:xfrm>
            <a:off x="8172360" y="476280"/>
            <a:ext cx="822240" cy="1512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ttp://ks27729.kimsufi.com/p3/200911/1C/52673335.jpg"/>
          <p:cNvPicPr/>
          <p:nvPr/>
        </p:nvPicPr>
        <p:blipFill>
          <a:blip r:embed="rId2"/>
          <a:stretch/>
        </p:blipFill>
        <p:spPr>
          <a:xfrm>
            <a:off x="5219640" y="836640"/>
            <a:ext cx="2610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684360" y="1413000"/>
            <a:ext cx="45352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rektora wybierano spośród ogółu studiujących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studenci mogli wybierać sobie mistrzów, u których pobierali naukę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Nad egzaminami i nadaniami stopni naukowych czuwał kanclerz królewski on też pilnował wypełniania praktyk w sądach przez studentów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8" name="pole tekstowe 3"/>
          <p:cNvSpPr/>
          <p:nvPr/>
        </p:nvSpPr>
        <p:spPr>
          <a:xfrm>
            <a:off x="1187280" y="54936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rganizacja Akademii Krakowskiej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Obraz 5" descr="http://upload.wikimedia.org/wikipedia/commons/b/bd/Krak%C3%B3w.Uniwersytet_Jagiello%C5%84ski.Collegium_Maius.Stuba_Communis%28Schody%29.jpg"/>
          <p:cNvPicPr/>
          <p:nvPr/>
        </p:nvPicPr>
        <p:blipFill>
          <a:blip r:embed="rId1"/>
          <a:stretch/>
        </p:blipFill>
        <p:spPr>
          <a:xfrm>
            <a:off x="5564160" y="1111320"/>
            <a:ext cx="30574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684360" y="1413000"/>
            <a:ext cx="424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Mistrzowie byli wynagradzani ze skarbu państwa,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cholarzy wybierali rektora, któremu przyrzekali posłuszeństwo i poddaństwo wobec jego jurysdykcji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Zarówno rektor, jak i profesorowie byli opłacani ze skarbu państwa, przez urzędników króla, a źródłem tego dochodu były żupy solne w Wieliczce i Bochni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Kazimierz Wielki wyznaczył jednego Żyda w Krakowie, który mógł udzielać pożyczek studentom i profesorom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1" name="pole tekstowe 3"/>
          <p:cNvSpPr/>
          <p:nvPr/>
        </p:nvSpPr>
        <p:spPr>
          <a:xfrm>
            <a:off x="1187280" y="54936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rganizacja Akademii Krakowskiej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Obraz 4" descr="http://static.lovetotravel.pl/galery/th/th1_9611_collegium_maius.jpg"/>
          <p:cNvPicPr/>
          <p:nvPr/>
        </p:nvPicPr>
        <p:blipFill>
          <a:blip r:embed="rId1"/>
          <a:stretch/>
        </p:blipFill>
        <p:spPr>
          <a:xfrm>
            <a:off x="4859280" y="1154160"/>
            <a:ext cx="396072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38324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4c600"/>
                </a:solidFill>
                <a:latin typeface="Century Gothic"/>
              </a:rPr>
              <a:t>W Akademii Krakowskiej funkcjonowały następujące wydziały:</a:t>
            </a:r>
            <a:br>
              <a:rPr sz="2800"/>
            </a:b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920" y="1844280"/>
            <a:ext cx="396072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Prawo – 5 katedr prawa rzymskiego i 3 kanoniczego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2 katedry medycyn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1 katedra sztuk wyzwolonych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684000" y="692280"/>
            <a:ext cx="4392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Po śmierci 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Kazimierza Wielkiego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 w roku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1370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 podupadła lub została zupełnie zawieszona. Dopiero dzięki staraniom królowej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Jadwigi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, która zabiegała o utworzenie na uniwersytecie katedry teologii (na co zezwolił papież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Bonifacy IX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 w swojej bulli z roku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1397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) oraz przekazała w swoim testamencie znaczne środki finansowe na rozwój uczelni, krakowska szkoła mogła podjąć swoją działalność.  W 1401 roku naukę w zreformowanej uczelni podjęło 203 studentów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6" name="Obraz 3" descr="http://upload.wikimedia.org/wikipedia/commons/thumb/5/52/Matejko_UJ.JPG/220px-Matejko_UJ.JPG"/>
          <p:cNvPicPr/>
          <p:nvPr/>
        </p:nvPicPr>
        <p:blipFill>
          <a:blip r:embed="rId1"/>
          <a:stretch/>
        </p:blipFill>
        <p:spPr>
          <a:xfrm>
            <a:off x="5724360" y="692280"/>
            <a:ext cx="2311560" cy="2952720"/>
          </a:xfrm>
          <a:prstGeom prst="rect">
            <a:avLst/>
          </a:prstGeom>
          <a:ln w="0">
            <a:noFill/>
          </a:ln>
        </p:spPr>
      </p:pic>
      <p:pic>
        <p:nvPicPr>
          <p:cNvPr id="367" name="Obraz 4" descr="http://upload.wikimedia.org/wikipedia/commons/f/fc/Krak%C3%B3w_-_Collegium_Maius_-_Dziedziniec_01.JPG"/>
          <p:cNvPicPr/>
          <p:nvPr/>
        </p:nvPicPr>
        <p:blipFill>
          <a:blip r:embed="rId2"/>
          <a:stretch/>
        </p:blipFill>
        <p:spPr>
          <a:xfrm>
            <a:off x="5392800" y="3860640"/>
            <a:ext cx="291132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684360" y="1197000"/>
            <a:ext cx="4464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Dopiero zabiegi królowej Jadwigi na dworze papieskim w Awinionie, a potem zapis w testamencie jej majątku osobistego na rzecz uniwersytetu sprawiły, że wznowił on działalność w roku 1400, w rok po śmierci donatorki. Tym razem powstał już pełny uniwersytet średniowieczny, z wszystkimi czterema wydziałami, zorganizowany na wzór paryski. Odtąd rektora wybierało grono profesorskie; powstały kolegia, w których zamieszkiwali profesorowie, oraz bursy dla żaków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9" name="Picture 2" descr="http://th.interia.pl/40,oiobywatel,e79b3738228032/546996_600.jpg"/>
          <p:cNvPicPr/>
          <p:nvPr/>
        </p:nvPicPr>
        <p:blipFill>
          <a:blip r:embed="rId1"/>
          <a:stretch/>
        </p:blipFill>
        <p:spPr>
          <a:xfrm>
            <a:off x="5580000" y="404640"/>
            <a:ext cx="280980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4248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bibliografia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4360" y="1268280"/>
            <a:ext cx="45352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http://edukacja.studente.pl/krakow/obiekt/205/Uniwersytet-Jagiellonski-w-Krakowie-Collegium-Novum/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http://edukacja.studente.pl/krakow/obiekt/205/Uniwersytet-Jagiellonski-w-Krakowie-Collegium-Novum/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Century Gothic"/>
              </a:rPr>
              <a:t>Założenie Szkoły Głównej przeniesieniem do Krakowa ugruntowane. R.P. 1361-1399-1400</a:t>
            </a: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, obraz Jana Matejki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e3d2d"/>
                </a:solidFill>
                <a:latin typeface="Century Gothic"/>
              </a:rPr>
              <a:t>http://commons.wikimedia.org/wiki/File:Krak%C3%B3w.Uniwersytet_Jagiello%C5%84ski.Collegium_Maius.Aula_Jagiello%C5%84ska.jpg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e3d2d"/>
                </a:solidFill>
                <a:latin typeface="Century Gothic"/>
              </a:rPr>
              <a:t>http://www.maius.uj.edu.pl/collections.pl.html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http://historia.newsweek.pl/krol-kazimierz--wielki-budowniczy,98812,1,1.html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http://interia360.pl/galeria/bez%20nazwy,4334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http://www.photoblog.pl/cyfrowy/52673335/zak-krakowski.html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2" name="Picture 2" descr="http://1.bp.blogspot.com/_tgpOC3-kllQ/STaexUXnGVI/AAAAAAAAABs/PbX2hUWnQH0/s400/Jagiellonian.JPG"/>
          <p:cNvPicPr/>
          <p:nvPr/>
        </p:nvPicPr>
        <p:blipFill>
          <a:blip r:embed="rId1"/>
          <a:stretch/>
        </p:blipFill>
        <p:spPr>
          <a:xfrm>
            <a:off x="5724360" y="907920"/>
            <a:ext cx="30290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tos</cp:lastModifiedBy>
  <dcterms:modified xsi:type="dcterms:W3CDTF">2013-09-16T18:36:22Z</dcterms:modified>
  <cp:revision>17</cp:revision>
  <dc:subject>szablon prezentacji KPW</dc:subject>
  <dc:title>Zrównoważony rozwój</dc:title>
</cp:coreProperties>
</file>