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os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3-09-15T11:53:54.348000000" idx="1">
    <p:pos x="5081" y="3374"/>
    <p:text>zmieniłam podpis pod obrazem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BBB-93A3-4C71-A104-415E2792B14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CAD-2C0B-4AC7-A7C9-09AA7021BD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782-2A5F-4A1D-A268-57AA2EA339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4F1-AD3F-42A5-9F4C-A7164DE8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5ED2-C3E4-4B35-AC48-C06D5895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340-80F3-45E3-99F2-46938931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D8D-1CE6-449C-81E7-9FA0ECF7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030-ECF2-44D9-95F3-B844F96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61CB-A1BD-47A2-A382-7253C829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5D06-D1CF-4ECD-8ACB-803FF6B7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0A0-A55F-4BB0-A08D-FF38206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49DF-AB91-41D8-96E0-271DE10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0F9-5FD9-48C8-B023-3947BB5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C7B4-9E7D-4B6C-8DDB-9231ACD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9AC-C71F-4FA9-B132-AF5EE67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AC4F-6855-4BB7-B51F-E91DCAD7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3FE2-8550-4B19-A5A3-EFFD0D1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C891-3A99-4AA9-B153-41C07334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FCA8-5C57-42CC-8B69-F63B5CB8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92FE-B101-45E0-9C3D-C97D93A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A4797-3E84-450D-A966-787A15B6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15013-D33F-4F57-BEF8-6741003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891C5-B6E0-40EC-A5B9-22BBC250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A76B9-F336-4E1C-8E97-E1E00D21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743A5-49C8-4E07-B63D-883F3865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B12-E3C9-4D8D-AEAA-4A0B0DA9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E30F1-49A9-40FB-AFA1-1C99955C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1260B-AB4C-4FCC-8A7C-7288228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60D9A-7E52-49B1-9F6B-5CA9A6C4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5F598-7824-44D8-B5D7-DA56722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262AE-84FC-405A-A8C9-270AF750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F0077-63DD-4502-9F2F-700C80AF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FA4A8-1CA0-4000-90F2-E336420E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8317-B663-4A0D-8ACE-497E11AF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C589-15B0-4F34-8C54-596B4EF0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0456-7FF0-4D0A-A279-AEC5099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937-FD1A-4D8B-A733-F1A1C75D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3494-6A56-4687-841D-8E4F5F84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9009-FBB6-484A-A862-6346C99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042E-D7A0-4FDE-89D6-C7055B4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577C-ED7E-4B3C-AE17-33FBB680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CCA3-93A1-4EDA-9EBB-1E013559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7764-858F-4EDC-BD98-A3AD00C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85648-FCC1-403E-978B-35934BDB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A7C90-ECF4-4D67-9942-D7B6CBEB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6F11-C080-480B-87C2-C32D2989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B9D-A475-44C4-9610-E2D3467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D950-1D6C-42FC-B489-5023E09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904-B4AF-4E50-AF4D-7E7324AD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790-EBF0-49AB-A2C8-03E6836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7A3-5460-4B11-8C8B-46AB004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C19-3145-482A-A2B8-93417262E7F2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2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6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8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129" descr="stopka_cz_b_pion.gif"/>
          <p:cNvPicPr/>
          <p:nvPr/>
        </p:nvPicPr>
        <p:blipFill>
          <a:blip r:embed="rId2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9" name="Obraz 9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2D7A-00F9-47E3-A0EE-6C28056EB277}" type="slidenum">
              <a:rPr b="0" lang="pl-P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7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82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B8DB-C9B4-4357-9309-A3ECB49342FB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6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62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6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6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2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E03-ECFF-402C-94C3-1D512162136F}" type="slidenum">
              <a:rPr b="0" lang="pl-P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pl/url?sa=i&amp;rct=j&amp;q=&amp;esrc=s&amp;frm=1&amp;source=images&amp;cd=&amp;cad=rja&amp;docid=NQYEMopZ_1lFNM&amp;tbnid=6PuCjUaEENA9IM:&amp;ved=0CAQQjB0&amp;url=http%3A%2F%2Fwww.tillit.pl%2Fsiema.1%2Findex.php%3Foption%3Dcom_content%26view%3Darticle%26id%3D199%3Arozdzia-iii-qod-wojennego-chaosu-do-papiea-matematykaq%26catid%3D50%3Aciek-nauki-do-boga%26Itemid%3D68&amp;ei=bKQwUpz-PMKxtAaRw4DYCQ&amp;bvm=bv.51773540,d.bGE&amp;psig=AFQjCNHTrgnypTI1FZ0L8skgjx-5SVeJAA&amp;ust=1379005927153468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pl/url?sa=i&amp;rct=j&amp;q=&amp;esrc=s&amp;source=images&amp;cd=&amp;cad=rja&amp;docid=kdqn565oWenAvM&amp;tbnid=0EsIiZqfbkItHM:&amp;ved=0CAQQjB0&amp;url=http://radtrap.wordpress.com/2012/02/23/tajemnica-wielki-babilon-czesc-38/&amp;ei=D1kzUY-XN4ettAatqIHQCQ&amp;bvm=bv.43148975,d.Yms&amp;psig=AFQjCNHY1-EEm3DXByFL5G39LJkixdM5ww&amp;ust=136240600365071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mag.org/Uniwersytety-profesorowie-studenci-sredniowieczna-wspolnota-idei-715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2087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4c600"/>
                </a:solidFill>
                <a:latin typeface="Century Gothic"/>
              </a:rPr>
              <a:t>Początki średniowiecznego szkolnictwa 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iedem sztuk wyzwolonych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0" name="Symbol zastępczy zawartości 3" descr="rys.6"/>
          <p:cNvPicPr/>
          <p:nvPr/>
        </p:nvPicPr>
        <p:blipFill>
          <a:blip r:embed="rId1"/>
          <a:stretch/>
        </p:blipFill>
        <p:spPr>
          <a:xfrm>
            <a:off x="2106720" y="2478240"/>
            <a:ext cx="4647960" cy="3200400"/>
          </a:xfrm>
          <a:prstGeom prst="rect">
            <a:avLst/>
          </a:prstGeom>
          <a:ln w="9360">
            <a:solidFill>
              <a:srgbClr val="94c600"/>
            </a:solidFill>
            <a:miter/>
          </a:ln>
        </p:spPr>
      </p:pic>
      <p:sp>
        <p:nvSpPr>
          <p:cNvPr id="371" name="pole tekstowe 4"/>
          <p:cNvSpPr/>
          <p:nvPr/>
        </p:nvSpPr>
        <p:spPr>
          <a:xfrm>
            <a:off x="684360" y="1700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2" name="Łącznik prosty ze strzałką 6"/>
          <p:cNvCxnSpPr/>
          <p:nvPr/>
        </p:nvCxnSpPr>
        <p:spPr>
          <a:xfrm>
            <a:off x="1476000" y="1916280"/>
            <a:ext cx="648360" cy="79272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73" name="pole tekstowe 7"/>
          <p:cNvSpPr/>
          <p:nvPr/>
        </p:nvSpPr>
        <p:spPr>
          <a:xfrm>
            <a:off x="219564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tor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ole tekstowe 8"/>
          <p:cNvSpPr/>
          <p:nvPr/>
        </p:nvSpPr>
        <p:spPr>
          <a:xfrm>
            <a:off x="716436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ole tekstowe 9"/>
          <p:cNvSpPr/>
          <p:nvPr/>
        </p:nvSpPr>
        <p:spPr>
          <a:xfrm>
            <a:off x="651672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rytme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ole tekstowe 10"/>
          <p:cNvSpPr/>
          <p:nvPr/>
        </p:nvSpPr>
        <p:spPr>
          <a:xfrm>
            <a:off x="4788000" y="184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me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ole tekstowe 11"/>
          <p:cNvSpPr/>
          <p:nvPr/>
        </p:nvSpPr>
        <p:spPr>
          <a:xfrm>
            <a:off x="3780000" y="1557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zy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8" name="Łącznik prosty ze strzałką 13"/>
          <p:cNvCxnSpPr>
            <a:stCxn id="373" idx="2"/>
          </p:cNvCxnSpPr>
          <p:nvPr/>
        </p:nvCxnSpPr>
        <p:spPr>
          <a:xfrm>
            <a:off x="2879280" y="2214360"/>
            <a:ext cx="18036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9" name="Łącznik zakrzywiony 15"/>
          <p:cNvCxnSpPr/>
          <p:nvPr/>
        </p:nvCxnSpPr>
        <p:spPr>
          <a:xfrm flipH="1" rot="16200000">
            <a:off x="4194720" y="2260440"/>
            <a:ext cx="68004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0" name="Łącznik prosty ze strzałką 17"/>
          <p:cNvCxnSpPr>
            <a:stCxn id="376" idx="2"/>
          </p:cNvCxnSpPr>
          <p:nvPr/>
        </p:nvCxnSpPr>
        <p:spPr>
          <a:xfrm>
            <a:off x="5508720" y="2214360"/>
            <a:ext cx="72000" cy="2480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1" name="Łącznik prosty ze strzałką 20"/>
          <p:cNvCxnSpPr/>
          <p:nvPr/>
        </p:nvCxnSpPr>
        <p:spPr>
          <a:xfrm flipH="1">
            <a:off x="6226920" y="2214360"/>
            <a:ext cx="1585080" cy="4942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82" name="Łącznik prosty ze strzałką 22"/>
          <p:cNvCxnSpPr>
            <a:stCxn id="374" idx="1"/>
          </p:cNvCxnSpPr>
          <p:nvPr/>
        </p:nvCxnSpPr>
        <p:spPr>
          <a:xfrm flipH="1" flipV="1">
            <a:off x="6732000" y="3396600"/>
            <a:ext cx="432360" cy="10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83" name="Prostokąt 2"/>
          <p:cNvSpPr/>
          <p:nvPr/>
        </p:nvSpPr>
        <p:spPr>
          <a:xfrm>
            <a:off x="3059280" y="570240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www.tillit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Powstanie uniwersytetów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2323800"/>
            <a:ext cx="8136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XII w  Szkoły katedralne i miejskie – wprowadzono naukę czytania i listów. Przekształciły się one Uniwersytety.  Zaczęto je określać mianem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, a późniejsze bulle papieskie uznały ich względną autonomię i międzynarodowy status.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Studium generale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pozostało do końca średniowiecza oficjalną nazwą uniwersytetu Pojęcie 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wersytetu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i="1" lang="pl-PL" sz="2400" spc="-1" strike="noStrike">
                <a:solidFill>
                  <a:srgbClr val="3e3d2d"/>
                </a:solidFill>
                <a:latin typeface="Century Gothic"/>
              </a:rPr>
              <a:t>universitas magistrorum et scholarium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) pojawia się dopiero 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2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4c600"/>
                </a:solidFill>
                <a:latin typeface="Century Gothic"/>
              </a:rPr>
              <a:t>bibliografi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entury Gothic"/>
              </a:rPr>
              <a:t>http://histmag.org/Slowa-Platona-lub-o-niedostatkach-pospiesznego-czytania-filozofow-427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ww.tillit.pl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 </a:t>
            </a: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Dziękuję </a:t>
            </a:r>
            <a:br>
              <a:rPr sz="4900"/>
            </a:br>
            <a:r>
              <a:rPr b="1" lang="pl-PL" sz="4900" spc="-1" strike="noStrike">
                <a:solidFill>
                  <a:srgbClr val="94c600"/>
                </a:solidFill>
                <a:latin typeface="Century Gothic"/>
              </a:rPr>
              <a:t>                          za uwagę</a:t>
            </a:r>
            <a:endParaRPr b="0" lang="en-US" sz="4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0246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Antyczne korzenie średniowiecznego szkolnictw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50920" y="1341000"/>
            <a:ext cx="374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0" i="1" lang="pl-PL" sz="1800" spc="-1" strike="noStrike">
                <a:solidFill>
                  <a:srgbClr val="3e3d2d"/>
                </a:solidFill>
                <a:latin typeface="Century Gothic"/>
              </a:rPr>
              <a:t>akademeia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 – szkoła założona w Atenach ok. 387 p.n.e. przez Platona, istniała do 529, kiedy została zlikwidowana przez cesarza bizantyjskiego Justynian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Mieściła się w gaju poświęconym herosowi ateńskiemu </a:t>
            </a:r>
            <a:r>
              <a:rPr b="1" lang="pl-PL" sz="1800" spc="-1" strike="noStrike">
                <a:solidFill>
                  <a:srgbClr val="3e3d2d"/>
                </a:solidFill>
                <a:latin typeface="Century Gothic"/>
              </a:rPr>
              <a:t>Akademosowi,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od którego imienia pochodzi jej nazwa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Zajmowano się w niej przede wszystkim filozofią i matematyką, a także retoryką i naukami przyrodniczymi. Legenda głosi, że widniał na niej napis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Ageōmétrētos mēdeìs eisítō.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ἀγεωμέτρητος  μηδεὶς  εἰσίτω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 (gr. </a:t>
            </a:r>
            <a:r>
              <a:rPr b="1" i="1" lang="pl-PL" sz="1800" spc="-1" strike="noStrike">
                <a:solidFill>
                  <a:srgbClr val="3e3d2d"/>
                </a:solidFill>
                <a:latin typeface="Century Gothic"/>
              </a:rPr>
              <a:t>Niech nie wchodzi nikt nieobeznany z geometrią</a:t>
            </a:r>
            <a:r>
              <a:rPr b="0" lang="pl-PL" sz="1800" spc="-1" strike="noStrike">
                <a:solidFill>
                  <a:srgbClr val="3e3d2d"/>
                </a:solidFill>
                <a:latin typeface="Century Gothic"/>
              </a:rPr>
              <a:t>)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0" name="Prostokąt 5"/>
          <p:cNvSpPr/>
          <p:nvPr/>
        </p:nvSpPr>
        <p:spPr>
          <a:xfrm>
            <a:off x="3995640" y="5311800"/>
            <a:ext cx="453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kademia Platońska – mozaika z Pompejów http://histmag.org/Slowa-Platona-lub-o-niedostatkach-pospiesznego-czytania-filozofow-427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383000" y="1273320"/>
            <a:ext cx="41148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5545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94c600"/>
                </a:solidFill>
                <a:latin typeface="Century Gothic"/>
              </a:rPr>
              <a:t>Wczesne średniowiecze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4360" y="1628640"/>
            <a:ext cx="748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ielka wędrówka ludów u schyłku starożytności i na początku wieków średnich doprowadziła do zderzenia się dwóch zupełnie odmiennych kultur: rzymsko – chrześcijańskiej i pogańskiej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raz z upadkiem miast przestały  istnieć rzymskie szkoły publiczne , zanikała umiejętność czytania i pisania wśród ludzi świeckich. Władcom, podobnie jak wojownikom wykształcenie nie było potrzebne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4c600"/>
                </a:solidFill>
                <a:latin typeface="Century Gothic"/>
              </a:rPr>
              <a:t>Gdzie odbywało się kształcenie i nauczanie w pierwszych średniowiecznych monarchiach?</a:t>
            </a:r>
            <a:br>
              <a:rPr sz="2400"/>
            </a:b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557360"/>
            <a:ext cx="417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KLASZTORY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Szkoły klasztorne są dziełem Benedyktów, zakonu założonego przez Św. Benedykta z Nursji. Pierwszy wzorowy klasztor został założony na Monte Cassino w 529 roku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szkołach klasztornych kształcono tylko mnichó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6" name="Obraz 3" descr="http://upload.wikimedia.org/wikipedia/commons/thumb/4/48/Monte_Cassino_Fasada_Kosciol.JPG/200px-Monte_Cassino_Fasada_Kosciol.JPG"/>
          <p:cNvPicPr/>
          <p:nvPr/>
        </p:nvPicPr>
        <p:blipFill>
          <a:blip r:embed="rId1"/>
          <a:stretch/>
        </p:blipFill>
        <p:spPr>
          <a:xfrm>
            <a:off x="4716360" y="2000160"/>
            <a:ext cx="2481480" cy="2005200"/>
          </a:xfrm>
          <a:prstGeom prst="rect">
            <a:avLst/>
          </a:prstGeom>
          <a:ln w="0">
            <a:noFill/>
          </a:ln>
        </p:spPr>
      </p:pic>
      <p:sp>
        <p:nvSpPr>
          <p:cNvPr id="357" name="Prostokąt 4"/>
          <p:cNvSpPr/>
          <p:nvPr/>
        </p:nvSpPr>
        <p:spPr>
          <a:xfrm>
            <a:off x="4932360" y="4005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lasztor Benedyktynów na Monte Cassino www.wikipedia.p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Przełom – reformy Karola Wielkieg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Symbol zastępczy zawartości 3" descr="http://radtrap.files.wordpress.com/2012/02/srednn1.jpg"/>
          <p:cNvPicPr/>
          <p:nvPr/>
        </p:nvPicPr>
        <p:blipFill>
          <a:blip r:embed="rId1"/>
          <a:stretch/>
        </p:blipFill>
        <p:spPr>
          <a:xfrm>
            <a:off x="1258920" y="213372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360" name="Prostokąt 4"/>
          <p:cNvSpPr/>
          <p:nvPr/>
        </p:nvSpPr>
        <p:spPr>
          <a:xfrm>
            <a:off x="4067280" y="32446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radtrap.wordpress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000" y="620280"/>
            <a:ext cx="4103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Reforma karolińska w dziedzinie nauki i oświaty </a:t>
            </a: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opierała   się na trzech elementach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tradycji germańskiej,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antycznej kulturze rzymskiej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na chrześcijaństwie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Podstawową nauczania w szkole pałacowej był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siedem sztuk wyzwolonych 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zbogaconych o naukę o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Piśmie Świętym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W szkole nauczano także zasad </a:t>
            </a:r>
            <a:r>
              <a:rPr b="1" lang="pl-PL" sz="2200" spc="-1" strike="noStrike">
                <a:solidFill>
                  <a:srgbClr val="3e3d2d"/>
                </a:solidFill>
                <a:latin typeface="Century Gothic"/>
              </a:rPr>
              <a:t>kancelaryjnych</a:t>
            </a:r>
            <a:r>
              <a:rPr b="0" lang="pl-PL" sz="2200" spc="-1" strike="noStrike">
                <a:solidFill>
                  <a:srgbClr val="3e3d2d"/>
                </a:solidFill>
                <a:latin typeface="Century Gothic"/>
              </a:rPr>
              <a:t>, czyli umiejętności redagowania dekretów królewskich i cesarskich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2" name="Symbol zastępczy zawartości 4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4643280" y="981000"/>
            <a:ext cx="3241800" cy="3743280"/>
          </a:xfrm>
          <a:prstGeom prst="rect">
            <a:avLst/>
          </a:prstGeom>
          <a:ln w="0">
            <a:noFill/>
          </a:ln>
        </p:spPr>
      </p:pic>
      <p:sp>
        <p:nvSpPr>
          <p:cNvPr id="363" name="Prostokąt 5"/>
          <p:cNvSpPr/>
          <p:nvPr/>
        </p:nvSpPr>
        <p:spPr>
          <a:xfrm>
            <a:off x="4572000" y="472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ykład z filozofii </a:t>
            </a:r>
            <a:r>
              <a:rPr b="0" lang="pl-PL" sz="1100" spc="-1" strike="noStrike" u="sng">
                <a:solidFill>
                  <a:srgbClr val="e68200"/>
                </a:solidFill>
                <a:uFillTx/>
                <a:latin typeface="Calibri"/>
                <a:hlinkClick r:id="rId2"/>
              </a:rPr>
              <a:t>histmag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XI wiek – rozkwit średniowiecza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Językiem obowiązującym w Europie była łacin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 mocy IV soboru laterańskiego, papież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Innocenty III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1215 roku </a:t>
            </a: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nakazał przy każdej parafii i katedrze zakładać szkoły, aby przygotowywały one młodych chłopców do służby Bogu. Z czasem jednak oprócz duchownych kształcono w nich urzędników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42560" y="1557000"/>
            <a:ext cx="676908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e3d2d"/>
                </a:solidFill>
                <a:latin typeface="Century Gothic"/>
              </a:rPr>
              <a:t>W Europie zachodniej nastąpiło ożywienie gospodarcze a co za tym idzie rozwój kultury miejskiej. Intensywny rozwój zainteresowań filozoficznych i naukowych doprowadził do tego, że było trzeba otworzyć takie szkoły, gdzie uczniowie mogliby wypowiadać własne myśli i poglądy w różnych sprawach. Tą nową formę nauki nazwano </a:t>
            </a:r>
            <a:r>
              <a:rPr b="1" lang="pl-PL" sz="2400" spc="-1" strike="noStrike">
                <a:solidFill>
                  <a:srgbClr val="3e3d2d"/>
                </a:solidFill>
                <a:latin typeface="Century Gothic"/>
              </a:rPr>
              <a:t>uniwersytetem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94c600"/>
                </a:solidFill>
                <a:latin typeface="Century Gothic"/>
              </a:rPr>
              <a:t>struktura szkół w średniowieczu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436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parafi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 to najniższy stopień szkół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Uczono w nich przede wszystkim łaciny: gramatyki, czytania i pisan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lasztor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te powstawały w pierwszych wiekach średniowiecza, głównie przy klasztorach benedyktynów (np. w Tyńcu) i cystersów (np. w Mogile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Dbały głównie o wychowanie religijne, większość wychowanków trafiała do stanu duchownego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Szkoły katedral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Były to szkoły pod patronatem biskupów diecezjalnych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e3d2d"/>
                </a:solidFill>
                <a:latin typeface="Century Gothic"/>
              </a:rPr>
              <a:t>Zaczęły powstawać już w XI wiek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9-18T20:03:12Z</dcterms:modified>
  <cp:revision>25</cp:revision>
  <dc:subject>szablon prezentacji KPW</dc:subject>
  <dc:title>Zrównoważony rozwój</dc:title>
</cp:coreProperties>
</file>