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png" ContentType="image/png"/>
  <Override PartName="/ppt/media/image5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BE19-9291-4803-8AFA-9E284F3C31A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DD5B-E9D7-4F2D-8E24-3D5A4390D2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ABA-B26E-4868-A8E4-833975D2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06C-2D98-4C7D-8A3C-343D7787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86B-A219-44E6-A9C8-66D2771D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4E2A-BE83-43E0-B297-1066F692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60A1-B699-4436-91E6-3298326A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5A9A-ED75-4E1E-94A0-6947FE38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5A0D-30B1-4460-AD6A-3FB6DEC3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7B84-2D96-4177-8769-31B36A5B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1210-76E5-4930-8691-5C3ED127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C6D0-32F8-43DF-995C-10716DF2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D274-6A63-4711-8247-1B44660D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5A4-6922-48C7-85EB-FB10B087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BACD-B613-4BBC-9AE1-AF30A62B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FC32-8FC9-4B31-BCCF-3920B5D9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4C1D-B729-4C98-BF4E-1F794673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5405-CC02-4DF0-9DE8-1CC4605A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17DE-7C5B-4A49-B236-9AD02CD0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106-EBA2-4D95-BC4F-6E9C1AC6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4D9-1069-4215-AA7A-BDA6D614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A7F-28D4-4218-AD92-95FA2208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9B2-4A36-4679-842F-32AA8475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B49-5DE0-490E-993F-1059AE9D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1C0-B063-4DAA-B801-20FAFF94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C13-6718-4CB6-985B-B963F49B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C85F-3235-43E9-8B8A-8F938A164E1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C0F2-56A6-40C7-ACE8-0B523E3BD46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hyperlink" Target="http://www.kominek.in/2012/03/cztery-zagadki-i-jedna-odpowiedz/" TargetMode="External"/><Relationship Id="rId4" Type="http://schemas.openxmlformats.org/officeDocument/2006/relationships/hyperlink" Target="http://www.revelation2seven.org/UsedImages/pg208.gif" TargetMode="External"/><Relationship Id="rId5" Type="http://schemas.openxmlformats.org/officeDocument/2006/relationships/hyperlink" Target="http://www.kominek.in/2012/03/cztery-zagadki-i-jedna-odpowiedz/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www.kominek.in/2012/03/cztery-zagadki-i-jedna-odpowiedz/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kominek.in/2012/03/cztery-zagadki-i-jedna-odpowiedz/" TargetMode="External"/><Relationship Id="rId5" Type="http://schemas.openxmlformats.org/officeDocument/2006/relationships/hyperlink" Target="http://pl.wikipedia.org/wiki/Plik:Goddess_nut.jpg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jpeg"/><Relationship Id="rId3" Type="http://schemas.openxmlformats.org/officeDocument/2006/relationships/hyperlink" Target="http://www.kominek.in/2012/03/cztery-zagadki-i-jedna-odpowiedz/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hyperlink" Target="http://pl.wikipedia.org/wiki/Plik:Anaximander_world_map-pl.svg" TargetMode="External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png"/><Relationship Id="rId3" Type="http://schemas.openxmlformats.org/officeDocument/2006/relationships/hyperlink" Target="http://pl.wikipedia.org/wiki/Plik:Anaximander_world_map-pl.svg" TargetMode="External"/><Relationship Id="rId4" Type="http://schemas.openxmlformats.org/officeDocument/2006/relationships/hyperlink" Target="http://pl.wikipedia.org/wiki/Arch&#233;" TargetMode="External"/><Relationship Id="rId5" Type="http://schemas.openxmlformats.org/officeDocument/2006/relationships/hyperlink" Target="http://pl.wikipedia.org/wiki/Woda" TargetMode="Externa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recka zdolność do abstrakcji i jej konsekwencje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. 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C:\Documents and Settings\Grzes\Pulpit\d.wmf"/>
          <p:cNvPicPr/>
          <p:nvPr/>
        </p:nvPicPr>
        <p:blipFill>
          <a:blip r:embed="rId1"/>
          <a:stretch/>
        </p:blipFill>
        <p:spPr>
          <a:xfrm>
            <a:off x="826920" y="1197000"/>
            <a:ext cx="3106800" cy="327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Najmądrzejszy ze starożytnych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Arystoteles głosił zasadę złotego środka. Przez późniejsze pokolenia uważany był za człowieka, który podsumował wiedzę starożytności grecki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5"/>
          <p:cNvSpPr/>
          <p:nvPr/>
        </p:nvSpPr>
        <p:spPr>
          <a:xfrm>
            <a:off x="971640" y="4797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łowiek powinien dążyć do cnoty - Arystote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http://upload.wikimedia.org/wikipedia/commons/thumb/a/ae/Aristotle_Altemps_Inv8575.jpg/220px-Aristotle_Altemps_Inv8575.jpg"/>
          <p:cNvPicPr/>
          <p:nvPr/>
        </p:nvPicPr>
        <p:blipFill>
          <a:blip r:embed="rId1"/>
          <a:stretch/>
        </p:blipFill>
        <p:spPr>
          <a:xfrm>
            <a:off x="684360" y="1700280"/>
            <a:ext cx="2095200" cy="280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27936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pl-PL" sz="4400" spc="-1" strike="noStrike">
                <a:solidFill>
                  <a:srgbClr val="1f497d"/>
                </a:solidFill>
                <a:latin typeface="Calibri"/>
              </a:rPr>
              <a:t>Powstanie nauk szczegółowych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7"/>
          <p:cNvSpPr/>
          <p:nvPr/>
        </p:nvSpPr>
        <p:spPr>
          <a:xfrm>
            <a:off x="2916360" y="2133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ozo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8"/>
          <p:cNvSpPr/>
          <p:nvPr/>
        </p:nvSpPr>
        <p:spPr>
          <a:xfrm>
            <a:off x="46836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temat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9"/>
          <p:cNvSpPr/>
          <p:nvPr/>
        </p:nvSpPr>
        <p:spPr>
          <a:xfrm>
            <a:off x="234000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z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10"/>
          <p:cNvSpPr/>
          <p:nvPr/>
        </p:nvSpPr>
        <p:spPr>
          <a:xfrm>
            <a:off x="133200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og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11"/>
          <p:cNvSpPr/>
          <p:nvPr/>
        </p:nvSpPr>
        <p:spPr>
          <a:xfrm>
            <a:off x="356400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eograf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ole tekstowe 12"/>
          <p:cNvSpPr/>
          <p:nvPr/>
        </p:nvSpPr>
        <p:spPr>
          <a:xfrm>
            <a:off x="3564000" y="42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strono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13"/>
          <p:cNvSpPr/>
          <p:nvPr/>
        </p:nvSpPr>
        <p:spPr>
          <a:xfrm>
            <a:off x="5508720" y="292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edycy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Łącznik prosty ze strzałką 15"/>
          <p:cNvCxnSpPr>
            <a:endCxn id="149" idx="0"/>
          </p:cNvCxnSpPr>
          <p:nvPr/>
        </p:nvCxnSpPr>
        <p:spPr>
          <a:xfrm flipH="1">
            <a:off x="2267640" y="2565000"/>
            <a:ext cx="86436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Łącznik prosty ze strzałką 17"/>
          <p:cNvCxnSpPr/>
          <p:nvPr/>
        </p:nvCxnSpPr>
        <p:spPr>
          <a:xfrm flipH="1">
            <a:off x="1402560" y="3284280"/>
            <a:ext cx="36108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Łącznik prosty ze strzałką 19"/>
          <p:cNvCxnSpPr>
            <a:stCxn id="149" idx="2"/>
          </p:cNvCxnSpPr>
          <p:nvPr/>
        </p:nvCxnSpPr>
        <p:spPr>
          <a:xfrm>
            <a:off x="2268360" y="3293640"/>
            <a:ext cx="432720" cy="351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Łącznik prosty ze strzałką 21"/>
          <p:cNvCxnSpPr/>
          <p:nvPr/>
        </p:nvCxnSpPr>
        <p:spPr>
          <a:xfrm>
            <a:off x="3634920" y="2492280"/>
            <a:ext cx="57708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Łącznik prosty ze strzałką 23"/>
          <p:cNvCxnSpPr/>
          <p:nvPr/>
        </p:nvCxnSpPr>
        <p:spPr>
          <a:xfrm>
            <a:off x="3131640" y="3933360"/>
            <a:ext cx="36108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Łącznik prosty ze strzałką 25"/>
          <p:cNvCxnSpPr/>
          <p:nvPr/>
        </p:nvCxnSpPr>
        <p:spPr>
          <a:xfrm>
            <a:off x="3995640" y="2349000"/>
            <a:ext cx="165672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Hipokrates – wzór dla lekarz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ole tekstowe 5"/>
          <p:cNvSpPr/>
          <p:nvPr/>
        </p:nvSpPr>
        <p:spPr>
          <a:xfrm>
            <a:off x="0" y="3573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il.bielsko.pl/gfx/SKMBT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7" descr="http://www.bil.bielsko.pl/gfx/SKMBT.jpg"/>
          <p:cNvPicPr/>
          <p:nvPr/>
        </p:nvPicPr>
        <p:blipFill>
          <a:blip r:embed="rId1"/>
          <a:stretch/>
        </p:blipFill>
        <p:spPr>
          <a:xfrm>
            <a:off x="2627280" y="1700280"/>
            <a:ext cx="6056280" cy="419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2. Grecy wierzyli, że świat jest do opisania przy użyciu matematyki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ole tekstowe 4"/>
          <p:cNvSpPr/>
          <p:nvPr/>
        </p:nvSpPr>
        <p:spPr>
          <a:xfrm>
            <a:off x="395280" y="4581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ierdzenie Pitagora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azywiedzy.com/gfx/twierdzenie-Pitagorasa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6"/>
          <p:cNvSpPr/>
          <p:nvPr/>
        </p:nvSpPr>
        <p:spPr>
          <a:xfrm>
            <a:off x="5580000" y="465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ierdzenie Tal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9" descr="http://www.bazywiedzy.com/gfx/twierdzenie-Pitagorasa.png"/>
          <p:cNvPicPr/>
          <p:nvPr/>
        </p:nvPicPr>
        <p:blipFill>
          <a:blip r:embed="rId1"/>
          <a:stretch/>
        </p:blipFill>
        <p:spPr>
          <a:xfrm>
            <a:off x="755640" y="1268280"/>
            <a:ext cx="2592360" cy="3311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Documents and Settings\Grzes\Pulpit\d.wmf"/>
          <p:cNvPicPr/>
          <p:nvPr/>
        </p:nvPicPr>
        <p:blipFill>
          <a:blip r:embed="rId2"/>
          <a:stretch/>
        </p:blipFill>
        <p:spPr>
          <a:xfrm>
            <a:off x="4284720" y="1413000"/>
            <a:ext cx="3106800" cy="327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3. Jak przy pomocy studni i matematyki obliczyć obwód Ziemi, czyli Eartost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019640" y="1988640"/>
            <a:ext cx="118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898989"/>
                </a:solidFill>
                <a:latin typeface="Calibri"/>
              </a:rPr>
              <a:t>Źródło:http://upload.wikimedia.org/wikipedia/commons/b/be/Eratosthenes_%26_measurement_of_the_Earth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http://upload.wikimedia.org/wikipedia/commons/b/be/Eratosthenes_%26_measurement_of_the_Earth.png"/>
          <p:cNvPicPr/>
          <p:nvPr/>
        </p:nvPicPr>
        <p:blipFill>
          <a:blip r:embed="rId1"/>
          <a:stretch/>
        </p:blipFill>
        <p:spPr>
          <a:xfrm>
            <a:off x="826920" y="1884240"/>
            <a:ext cx="5473800" cy="3776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yobrażenia o świecie przed Grekami - Mezopotami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9" descr="http://www.revelation2seven.org/UsedImages/pg208.gif"/>
          <p:cNvPicPr/>
          <p:nvPr/>
        </p:nvPicPr>
        <p:blipFill>
          <a:blip r:embed="rId2"/>
          <a:stretch/>
        </p:blipFill>
        <p:spPr>
          <a:xfrm>
            <a:off x="6227640" y="2789280"/>
            <a:ext cx="2916360" cy="287172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8"/>
          <p:cNvSpPr/>
          <p:nvPr/>
        </p:nvSpPr>
        <p:spPr>
          <a:xfrm>
            <a:off x="4788000" y="5084640"/>
            <a:ext cx="216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revelation2seven.org/UsedImages/pg208.gif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ymbol zastępczy zawartości 2"/>
          <p:cNvSpPr/>
          <p:nvPr/>
        </p:nvSpPr>
        <p:spPr>
          <a:xfrm>
            <a:off x="468360" y="1484280"/>
            <a:ext cx="74278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Przed Grekami każda kultura inaczej wyobrażała sobie świ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ymbol zastępczy zawartości 2"/>
          <p:cNvSpPr/>
          <p:nvPr/>
        </p:nvSpPr>
        <p:spPr>
          <a:xfrm>
            <a:off x="0" y="2492280"/>
            <a:ext cx="622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Sumerowie wyobrażali go sobie jako sferę, podzieloną na trzy strefy – Nieba, Ziemi i świata podziemnego. Ich piramidy (Zikkuraty) były więc pomalowane na trzy kolory – niebieski, czarny i czerwo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yobrażenia o świecie przed Grekami - Egipcjanie 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ostokąt 6"/>
          <p:cNvSpPr/>
          <p:nvPr/>
        </p:nvSpPr>
        <p:spPr>
          <a:xfrm>
            <a:off x="4140360" y="2924280"/>
            <a:ext cx="216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 http://www.kominek.in/2012/03/cztery-zagadki-i-jedna-odpowiedz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" descr="Plik:Goddess nut.jpg"/>
          <p:cNvPicPr/>
          <p:nvPr/>
        </p:nvPicPr>
        <p:blipFill>
          <a:blip r:embed="rId3"/>
          <a:stretch/>
        </p:blipFill>
        <p:spPr>
          <a:xfrm>
            <a:off x="250920" y="1197000"/>
            <a:ext cx="6402240" cy="4665600"/>
          </a:xfrm>
          <a:prstGeom prst="rect">
            <a:avLst/>
          </a:prstGeom>
          <a:ln w="0">
            <a:noFill/>
          </a:ln>
        </p:spPr>
      </p:pic>
      <p:sp>
        <p:nvSpPr>
          <p:cNvPr id="106" name="Prostokąt 8"/>
          <p:cNvSpPr/>
          <p:nvPr/>
        </p:nvSpPr>
        <p:spPr>
          <a:xfrm>
            <a:off x="6732720" y="4724280"/>
            <a:ext cx="216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Źródło: </a:t>
            </a: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pl.wikipedia.org/wiki/Plik:Goddess_nut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877080" y="1700280"/>
            <a:ext cx="194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wyobrażeń Egipcjan, boska Nut obejmuje Ziemię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Wyobrażenia o świecie przed Grekami - Hindusi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ziemia na trzech sloniach"/>
          <p:cNvPicPr/>
          <p:nvPr/>
        </p:nvPicPr>
        <p:blipFill>
          <a:blip r:embed="rId2"/>
          <a:stretch/>
        </p:blipFill>
        <p:spPr>
          <a:xfrm>
            <a:off x="395280" y="3027240"/>
            <a:ext cx="4176720" cy="3127320"/>
          </a:xfrm>
          <a:prstGeom prst="rect">
            <a:avLst/>
          </a:prstGeom>
          <a:ln w="0">
            <a:noFill/>
          </a:ln>
        </p:spPr>
      </p:pic>
      <p:sp>
        <p:nvSpPr>
          <p:cNvPr id="110" name="Prostokąt 6"/>
          <p:cNvSpPr/>
          <p:nvPr/>
        </p:nvSpPr>
        <p:spPr>
          <a:xfrm>
            <a:off x="1042920" y="2421000"/>
            <a:ext cx="216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 http://www.kominek.in/2012/03/cztery-zagadki-i-jedna-odpowiedz/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, dostęp 20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ymbol zastępczy zawartości 2"/>
          <p:cNvSpPr/>
          <p:nvPr/>
        </p:nvSpPr>
        <p:spPr>
          <a:xfrm>
            <a:off x="4716360" y="2421000"/>
            <a:ext cx="39960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Hindusi wyobrażali go sobie jako tarczę na grzbietach słoni, unoszonych przez żółwia. Wyobrażenie to wykorzystał Terry Pratchett w swoim cyklu „Świat Dysku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4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reccy filozofowie i ich wyobrażenie Zie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Jońscy filozofowie przyrody (VII-VI w. p.n.e.) pochodzili z narodu żeglarzy. Dla nich zakrzywienie Ziemi było normą. Najpierw widzieli ją jako walec. Wkrótce uznali ją za kulę. Już Anaksymander potrafił opisać świat jak na rysunk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Plik:Anaximander world map-pl.svg"/>
          <p:cNvPicPr/>
          <p:nvPr/>
        </p:nvPicPr>
        <p:blipFill>
          <a:blip r:embed="rId2"/>
          <a:stretch/>
        </p:blipFill>
        <p:spPr>
          <a:xfrm>
            <a:off x="2556000" y="3357720"/>
            <a:ext cx="2520720" cy="2520720"/>
          </a:xfrm>
          <a:prstGeom prst="rect">
            <a:avLst/>
          </a:prstGeom>
          <a:ln w="0">
            <a:noFill/>
          </a:ln>
        </p:spPr>
      </p:pic>
      <p:sp>
        <p:nvSpPr>
          <p:cNvPr id="115" name="Prostokąt 6"/>
          <p:cNvSpPr/>
          <p:nvPr/>
        </p:nvSpPr>
        <p:spPr>
          <a:xfrm>
            <a:off x="7020000" y="378936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l.wikipedia.org/wiki/Plik:Anaximander_world_map-pl.sv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reccy filozofowie i ich wyobrażenie Zie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Tales, Anaksymander, Anaksymenes i Heraklit zadawali sobie pytanie, z czego skonstruowany jest świat? Co jest jego początkiem i zasad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Cztery żywioły w kole alchemicznym"/>
          <p:cNvPicPr/>
          <p:nvPr/>
        </p:nvPicPr>
        <p:blipFill>
          <a:blip r:embed="rId2"/>
          <a:stretch/>
        </p:blipFill>
        <p:spPr>
          <a:xfrm>
            <a:off x="3132000" y="2852640"/>
            <a:ext cx="2941920" cy="2986200"/>
          </a:xfrm>
          <a:prstGeom prst="rect">
            <a:avLst/>
          </a:prstGeom>
          <a:ln w="0">
            <a:noFill/>
          </a:ln>
        </p:spPr>
      </p:pic>
      <p:sp>
        <p:nvSpPr>
          <p:cNvPr id="119" name="Prostokąt 6"/>
          <p:cNvSpPr/>
          <p:nvPr/>
        </p:nvSpPr>
        <p:spPr>
          <a:xfrm>
            <a:off x="7093080" y="522936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l.wikipedia.org/wiki/Plik:Anaximander_world_map-pl.sv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ymbol zastępczy zawartości 2"/>
          <p:cNvSpPr/>
          <p:nvPr/>
        </p:nvSpPr>
        <p:spPr>
          <a:xfrm>
            <a:off x="250920" y="2708280"/>
            <a:ext cx="2590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Odpowiadali różn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484360" y="4724280"/>
            <a:ext cx="15829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ymbol zastępczy zawartości 2"/>
          <p:cNvSpPr/>
          <p:nvPr/>
        </p:nvSpPr>
        <p:spPr>
          <a:xfrm>
            <a:off x="468360" y="3789360"/>
            <a:ext cx="2590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ymbol zastępczy zawartości 2"/>
          <p:cNvSpPr/>
          <p:nvPr/>
        </p:nvSpPr>
        <p:spPr>
          <a:xfrm>
            <a:off x="0" y="4076640"/>
            <a:ext cx="2590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Tales -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arché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 jest 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wod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zawartości 2"/>
          <p:cNvSpPr/>
          <p:nvPr/>
        </p:nvSpPr>
        <p:spPr>
          <a:xfrm>
            <a:off x="179280" y="4797360"/>
            <a:ext cx="287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Anaksymander - arché jest bezkres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ymbol zastępczy zawartości 2"/>
          <p:cNvSpPr/>
          <p:nvPr/>
        </p:nvSpPr>
        <p:spPr>
          <a:xfrm>
            <a:off x="6084720" y="3933720"/>
            <a:ext cx="2590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Anaksymenes - arché jest powietrze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5867280" y="4292640"/>
            <a:ext cx="72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ymbol zastępczy zawartości 2"/>
          <p:cNvSpPr/>
          <p:nvPr/>
        </p:nvSpPr>
        <p:spPr>
          <a:xfrm>
            <a:off x="6012000" y="2708280"/>
            <a:ext cx="2590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Arial"/>
              </a:rPr>
              <a:t>Heraklit - arché jest ogień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17"/>
          <p:cNvSpPr/>
          <p:nvPr/>
        </p:nvSpPr>
        <p:spPr>
          <a:xfrm flipH="1">
            <a:off x="4788000" y="3141720"/>
            <a:ext cx="201600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191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Świat zbudowano z niepodzielnych atom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rostokąt 22"/>
          <p:cNvSpPr/>
          <p:nvPr/>
        </p:nvSpPr>
        <p:spPr>
          <a:xfrm>
            <a:off x="1187280" y="5516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mokryt z Abder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(ur. ok. 460 p.n.e., zm. ok. 370 p.n.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4" descr="Plik:Democritus2.jpg"/>
          <p:cNvPicPr/>
          <p:nvPr/>
        </p:nvPicPr>
        <p:blipFill>
          <a:blip r:embed="rId1"/>
          <a:stretch/>
        </p:blipFill>
        <p:spPr>
          <a:xfrm>
            <a:off x="1619280" y="2060640"/>
            <a:ext cx="2448000" cy="3384360"/>
          </a:xfrm>
          <a:prstGeom prst="rect">
            <a:avLst/>
          </a:prstGeom>
          <a:ln w="0">
            <a:noFill/>
          </a:ln>
        </p:spPr>
      </p:pic>
      <p:sp>
        <p:nvSpPr>
          <p:cNvPr id="132" name="pole tekstowe 24"/>
          <p:cNvSpPr/>
          <p:nvPr/>
        </p:nvSpPr>
        <p:spPr>
          <a:xfrm>
            <a:off x="4500720" y="292428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kogo to dziś nie dziwi. Ale Demokryt miał wielu przeciwnik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Początki refleksji nad człowiekiem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Złoty wiek Aten przyniósł namysł nad człowiekiem. W ten sposób filozofia stała się matką nie tylko fizyki i chemii, ale także psycholog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8" descr="sokrates"/>
          <p:cNvPicPr/>
          <p:nvPr/>
        </p:nvPicPr>
        <p:blipFill>
          <a:blip r:embed="rId1"/>
          <a:stretch/>
        </p:blipFill>
        <p:spPr>
          <a:xfrm>
            <a:off x="755640" y="1557360"/>
            <a:ext cx="3311640" cy="3527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4284720" y="37893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okrates zastanawiał się, jak dojść do prawdy o człowieku, ukrytej w człowie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Uczniowie Sokratesa i wielkie pytania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Dziś twierdzi się, że cała filozofia to komentarz do Platona. W swoich dziełach stworzył koncepcję, według której nasz świat jest bladym odbiciem świata idealnego, do którego można dotrzeć tylko poprzez mądroś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5"/>
          <p:cNvSpPr/>
          <p:nvPr/>
        </p:nvSpPr>
        <p:spPr>
          <a:xfrm>
            <a:off x="971640" y="479736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o jest brakiem mądrości – człowiek powinien dążyć do mądrości i przekazania jej innym - Pla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upload.wikimedia.org/wikipedia/commons/thumb/7/79/Platon-2.jpg/220px-Platon-2.jpg"/>
          <p:cNvPicPr/>
          <p:nvPr/>
        </p:nvPicPr>
        <p:blipFill>
          <a:blip r:embed="rId1"/>
          <a:stretch/>
        </p:blipFill>
        <p:spPr>
          <a:xfrm>
            <a:off x="1403280" y="1773360"/>
            <a:ext cx="2095560" cy="29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1T21:29:36Z</dcterms:modified>
  <cp:revision>61</cp:revision>
  <dc:subject/>
  <dc:title>Slajd 1</dc:title>
</cp:coreProperties>
</file>