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F3A9-A0EB-44A2-83FD-544C1AFE61D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F583-1E35-455D-A335-A2F8C4F570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815-A99F-4ECE-ABCE-E2E259A0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EE5-5BE3-4826-82AB-D633A074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D8D-645B-47D2-9036-57D7C7BA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8FF-1165-4EB2-A0F9-D5F537A1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A91D-07B7-4230-87AA-7644265E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21B4-E149-450D-A6F4-055CFDE0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40D7-CF8C-4A41-8287-EC2BA0FF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DEB9-38F6-4D82-9214-392CDE16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03A8-010F-48BC-B48A-27A86457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DD09-0071-46AA-B74D-BCF207D5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9F9E-2355-4F29-A862-2403B0FB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C29-431D-41FF-B115-4EE7BC26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F639-B530-43EA-B446-A94E8772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0618-D95A-456E-A3F1-784BC8BB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BB6F-BD46-421B-A787-86D1C4BA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5C44-8C2E-4ABC-876E-598E97FC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7864-BAD8-4649-A538-EF2D91EA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84B-020D-400B-8F89-55D9694C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B89-F644-4DA8-BF35-826683C0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2B2-684B-448F-B049-B72B2EA3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B9C-DFAD-4416-86B4-62444D20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92A-EFF9-4C7E-A086-384399D4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F14-BBD0-483E-9AB4-C5DE43D2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96D-9981-4458-A16F-B1112E72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46AF-553E-4F9C-8D46-26B179C3ED1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7845-0FAD-4287-8EF6-556651A679B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www.kominek.in/2012/03/cztery-zagadki-i-jedna-odpowiedz/" TargetMode="External"/><Relationship Id="rId6" Type="http://schemas.openxmlformats.org/officeDocument/2006/relationships/hyperlink" Target="http://www.revelation2seven.org/UsedImages/pg208.gif" TargetMode="External"/><Relationship Id="rId7" Type="http://schemas.openxmlformats.org/officeDocument/2006/relationships/hyperlink" Target="http://www.kominek.in/2012/03/cztery-zagadki-i-jedna-odpowiedz/" TargetMode="External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pl.wikipedia.org/wiki/Plik:Anaximander_world_map-pl.svg" TargetMode="Externa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ecka zdolność do abstrakcji i jej konsekwencje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. 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C:\Documents and Settings\Grzes\Pulpit\d.wmf"/>
          <p:cNvPicPr/>
          <p:nvPr/>
        </p:nvPicPr>
        <p:blipFill>
          <a:blip r:embed="rId1"/>
          <a:stretch/>
        </p:blipFill>
        <p:spPr>
          <a:xfrm>
            <a:off x="826920" y="1197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Plik:David - The Death of Socrates.jpg"/>
          <p:cNvPicPr/>
          <p:nvPr/>
        </p:nvPicPr>
        <p:blipFill>
          <a:blip r:embed="rId1"/>
          <a:stretch/>
        </p:blipFill>
        <p:spPr>
          <a:xfrm>
            <a:off x="900000" y="1916280"/>
            <a:ext cx="3722760" cy="244944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5"/>
          <p:cNvSpPr/>
          <p:nvPr/>
        </p:nvSpPr>
        <p:spPr>
          <a:xfrm>
            <a:off x="1042920" y="458136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e wnętrzu człowieka mieszka prawda – Sokra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5"/>
          <p:cNvSpPr/>
          <p:nvPr/>
        </p:nvSpPr>
        <p:spPr>
          <a:xfrm>
            <a:off x="971640" y="4797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ło jest brakiem mądrości – człowiek powinien dążyć do mądrości i przekazania jej innym - Pla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upload.wikimedia.org/wikipedia/commons/thumb/7/79/Platon-2.jpg/220px-Platon-2.jpg"/>
          <p:cNvPicPr/>
          <p:nvPr/>
        </p:nvPicPr>
        <p:blipFill>
          <a:blip r:embed="rId1"/>
          <a:stretch/>
        </p:blipFill>
        <p:spPr>
          <a:xfrm>
            <a:off x="1403280" y="1773360"/>
            <a:ext cx="2095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ciekawszy jest człowiek – czyli zwrot w filozofii greckiej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284720" y="1915920"/>
            <a:ext cx="4572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Najciekawszy jest człowiek – takiego zwrotu w myśleniu dokonali sofiści, a po nich Sokrates. Jego wielcy następcy (Platon, Arystoteles) zastanawiali się nad najważniejszymi dla człowieka rzecz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5"/>
          <p:cNvSpPr/>
          <p:nvPr/>
        </p:nvSpPr>
        <p:spPr>
          <a:xfrm>
            <a:off x="611280" y="47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łowiek powinien dążyć do cnoty _ Arystote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upload.wikimedia.org/wikipedia/commons/thumb/a/ae/Aristotle_Altemps_Inv8575.jpg/220px-Aristotle_Altemps_Inv8575.jpg"/>
          <p:cNvPicPr/>
          <p:nvPr/>
        </p:nvPicPr>
        <p:blipFill>
          <a:blip r:embed="rId1"/>
          <a:stretch/>
        </p:blipFill>
        <p:spPr>
          <a:xfrm>
            <a:off x="684360" y="1700280"/>
            <a:ext cx="20952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7"/>
          <p:cNvSpPr/>
          <p:nvPr/>
        </p:nvSpPr>
        <p:spPr>
          <a:xfrm>
            <a:off x="2916360" y="2133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8"/>
          <p:cNvSpPr/>
          <p:nvPr/>
        </p:nvSpPr>
        <p:spPr>
          <a:xfrm>
            <a:off x="46836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te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9"/>
          <p:cNvSpPr/>
          <p:nvPr/>
        </p:nvSpPr>
        <p:spPr>
          <a:xfrm>
            <a:off x="234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z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10"/>
          <p:cNvSpPr/>
          <p:nvPr/>
        </p:nvSpPr>
        <p:spPr>
          <a:xfrm>
            <a:off x="133200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g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11"/>
          <p:cNvSpPr/>
          <p:nvPr/>
        </p:nvSpPr>
        <p:spPr>
          <a:xfrm>
            <a:off x="356400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graf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12"/>
          <p:cNvSpPr/>
          <p:nvPr/>
        </p:nvSpPr>
        <p:spPr>
          <a:xfrm>
            <a:off x="356400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13"/>
          <p:cNvSpPr/>
          <p:nvPr/>
        </p:nvSpPr>
        <p:spPr>
          <a:xfrm>
            <a:off x="550872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edycy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Łącznik prosty ze strzałką 15"/>
          <p:cNvCxnSpPr>
            <a:endCxn id="151" idx="0"/>
          </p:cNvCxnSpPr>
          <p:nvPr/>
        </p:nvCxnSpPr>
        <p:spPr>
          <a:xfrm flipH="1">
            <a:off x="2267640" y="2565000"/>
            <a:ext cx="86436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Łącznik prosty ze strzałką 17"/>
          <p:cNvCxnSpPr/>
          <p:nvPr/>
        </p:nvCxnSpPr>
        <p:spPr>
          <a:xfrm flipH="1">
            <a:off x="1402560" y="3284280"/>
            <a:ext cx="36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Łącznik prosty ze strzałką 19"/>
          <p:cNvCxnSpPr>
            <a:stCxn id="151" idx="2"/>
          </p:cNvCxnSpPr>
          <p:nvPr/>
        </p:nvCxnSpPr>
        <p:spPr>
          <a:xfrm>
            <a:off x="2268360" y="3293640"/>
            <a:ext cx="432720" cy="35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Łącznik prosty ze strzałką 21"/>
          <p:cNvCxnSpPr/>
          <p:nvPr/>
        </p:nvCxnSpPr>
        <p:spPr>
          <a:xfrm>
            <a:off x="3634920" y="2492280"/>
            <a:ext cx="577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Łącznik prosty ze strzałką 23"/>
          <p:cNvCxnSpPr/>
          <p:nvPr/>
        </p:nvCxnSpPr>
        <p:spPr>
          <a:xfrm>
            <a:off x="3131640" y="3933360"/>
            <a:ext cx="36108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Łącznik prosty ze strzałką 25"/>
          <p:cNvCxnSpPr/>
          <p:nvPr/>
        </p:nvCxnSpPr>
        <p:spPr>
          <a:xfrm>
            <a:off x="3995640" y="2349000"/>
            <a:ext cx="165672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Medycyna grecka i jej wpływ na dzisiejsz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5"/>
          <p:cNvSpPr/>
          <p:nvPr/>
        </p:nvSpPr>
        <p:spPr>
          <a:xfrm>
            <a:off x="0" y="357336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il.bielsko.pl/gfx/SKMBT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http://www.bil.bielsko.pl/gfx/SKMBT.jpg"/>
          <p:cNvPicPr/>
          <p:nvPr/>
        </p:nvPicPr>
        <p:blipFill>
          <a:blip r:embed="rId1"/>
          <a:stretch/>
        </p:blipFill>
        <p:spPr>
          <a:xfrm>
            <a:off x="2627280" y="1700280"/>
            <a:ext cx="6056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7. Świat opisany matematycznie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4"/>
          <p:cNvSpPr/>
          <p:nvPr/>
        </p:nvSpPr>
        <p:spPr>
          <a:xfrm>
            <a:off x="395280" y="4581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Pitagor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azywiedzy.com/gfx/twierdzenie-Pitagorasa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6"/>
          <p:cNvSpPr/>
          <p:nvPr/>
        </p:nvSpPr>
        <p:spPr>
          <a:xfrm>
            <a:off x="5580000" y="465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Tal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9" descr="http://www.bazywiedzy.com/gfx/twierdzenie-Pitagorasa.png"/>
          <p:cNvPicPr/>
          <p:nvPr/>
        </p:nvPicPr>
        <p:blipFill>
          <a:blip r:embed="rId1"/>
          <a:stretch/>
        </p:blipFill>
        <p:spPr>
          <a:xfrm>
            <a:off x="755640" y="126828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Documents and Settings\Grzes\Pulpit\d.wmf"/>
          <p:cNvPicPr/>
          <p:nvPr/>
        </p:nvPicPr>
        <p:blipFill>
          <a:blip r:embed="rId2"/>
          <a:stretch/>
        </p:blipFill>
        <p:spPr>
          <a:xfrm>
            <a:off x="4284720" y="1413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artost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020000" y="1988640"/>
            <a:ext cx="194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</a:t>
            </a:r>
            <a:br>
              <a:rPr sz="1400"/>
            </a:br>
            <a:r>
              <a:rPr b="0" lang="pl-PL" sz="1400" spc="-1" strike="noStrike">
                <a:solidFill>
                  <a:srgbClr val="898989"/>
                </a:solidFill>
                <a:latin typeface="Calibri"/>
              </a:rPr>
              <a:t>http://upload.wikimedia.org/wikipedia/commons/b/be/Eratosthenes_%26_measurement_of_the_Earth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6" descr="http://upload.wikimedia.org/wikipedia/commons/b/be/Eratosthenes_%26_measurement_of_the_Earth.png"/>
          <p:cNvPicPr/>
          <p:nvPr/>
        </p:nvPicPr>
        <p:blipFill>
          <a:blip r:embed="rId1"/>
          <a:stretch/>
        </p:blipFill>
        <p:spPr>
          <a:xfrm>
            <a:off x="826920" y="1700280"/>
            <a:ext cx="5740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755640" y="1197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Wyobrażenia o świecie przed Greka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ruchomienie pytań o arche wśród jońskich filozofów przyro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205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Świat to różne domy zbudowane z tych samych cegie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826920" y="2637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Najciekawszy jest człowiek – czyli zwrot w filozofii greckiej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26920" y="3141720"/>
            <a:ext cx="48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5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826920" y="364500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Medycyna grecka i jej wpływ na dzisiejszą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826920" y="414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7. Świat opisany matematyczn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Świat przed Grekami wyobrażano sobie jako tarczę, oblaną wokół wodą i położona na grzbiecie zwierząt, albo sferę złożoną z nieba, ziemi i og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ziemia na trzech sloniach"/>
          <p:cNvPicPr/>
          <p:nvPr/>
        </p:nvPicPr>
        <p:blipFill>
          <a:blip r:embed="rId2"/>
          <a:stretch/>
        </p:blipFill>
        <p:spPr>
          <a:xfrm>
            <a:off x="0" y="2637000"/>
            <a:ext cx="4176720" cy="3127320"/>
          </a:xfrm>
          <a:prstGeom prst="rect">
            <a:avLst/>
          </a:prstGeom>
          <a:ln w="0">
            <a:noFill/>
          </a:ln>
        </p:spPr>
      </p:pic>
      <p:sp>
        <p:nvSpPr>
          <p:cNvPr id="109" name="Prostokąt 6"/>
          <p:cNvSpPr/>
          <p:nvPr/>
        </p:nvSpPr>
        <p:spPr>
          <a:xfrm>
            <a:off x="4140360" y="2924280"/>
            <a:ext cx="216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9" descr="http://www.revelation2seven.org/UsedImages/pg208.gif"/>
          <p:cNvPicPr/>
          <p:nvPr/>
        </p:nvPicPr>
        <p:blipFill>
          <a:blip r:embed="rId4"/>
          <a:stretch/>
        </p:blipFill>
        <p:spPr>
          <a:xfrm>
            <a:off x="6372360" y="3141720"/>
            <a:ext cx="255888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Prostokąt 8"/>
          <p:cNvSpPr/>
          <p:nvPr/>
        </p:nvSpPr>
        <p:spPr>
          <a:xfrm>
            <a:off x="4788000" y="5084640"/>
            <a:ext cx="216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revelation2seven.org/UsedImages/pg208.gif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ruchomienie pytań o arche wśród jońskich filozofów przyr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Jońscy filozofowie przyrody (VII-VI w. p.n.e.) nie tylko wyobrazili sobie ziemię jako walec, potem kulę, ale zaczęli poszukiwać źródła budowy ziemi, uznając jeden z „pierwiastków” (wodę, ogień, powietrze, ziemię) za źródło wszyst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Cztery żywioły w kole alchemicznym"/>
          <p:cNvPicPr/>
          <p:nvPr/>
        </p:nvPicPr>
        <p:blipFill>
          <a:blip r:embed="rId2"/>
          <a:stretch/>
        </p:blipFill>
        <p:spPr>
          <a:xfrm>
            <a:off x="1476360" y="3429000"/>
            <a:ext cx="230364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Plik:Anaximander world map-pl.svg"/>
          <p:cNvPicPr/>
          <p:nvPr/>
        </p:nvPicPr>
        <p:blipFill>
          <a:blip r:embed="rId3"/>
          <a:stretch/>
        </p:blipFill>
        <p:spPr>
          <a:xfrm>
            <a:off x="4572000" y="328464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6"/>
          <p:cNvSpPr/>
          <p:nvPr/>
        </p:nvSpPr>
        <p:spPr>
          <a:xfrm>
            <a:off x="7020000" y="378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ales z Mile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1628280"/>
            <a:ext cx="5276880" cy="24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ą (arché) jest w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agnes posiada dusz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szystko jest pełne bog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usze są nieśmierte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Plik:Illustrerad Verldshistoria band I Ill 107.jpg"/>
          <p:cNvPicPr/>
          <p:nvPr/>
        </p:nvPicPr>
        <p:blipFill>
          <a:blip r:embed="rId1"/>
          <a:stretch/>
        </p:blipFill>
        <p:spPr>
          <a:xfrm>
            <a:off x="468360" y="1916280"/>
            <a:ext cx="29480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naksymander z Milet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 ok. 610-546 p.n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apeiron (bezkr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ydzielanie się z bezkresu związane jest z win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wierzęta lądowe wywodzą się ze zwierząt morsk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Człowiek wywodzi się od zwierzą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Plik:Anaximander.jpg"/>
          <p:cNvPicPr/>
          <p:nvPr/>
        </p:nvPicPr>
        <p:blipFill>
          <a:blip r:embed="rId1"/>
          <a:stretch/>
        </p:blipFill>
        <p:spPr>
          <a:xfrm>
            <a:off x="324000" y="1268280"/>
            <a:ext cx="25318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naksymenes z Milet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(ok. 585 p.n.e - ok. 525 p.n.e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"/>
          <p:cNvSpPr/>
          <p:nvPr/>
        </p:nvSpPr>
        <p:spPr>
          <a:xfrm>
            <a:off x="684360" y="443700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Anaximenes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Plik:Anaximenes.jpg"/>
          <p:cNvPicPr/>
          <p:nvPr/>
        </p:nvPicPr>
        <p:blipFill>
          <a:blip r:embed="rId1"/>
          <a:stretch/>
        </p:blipFill>
        <p:spPr>
          <a:xfrm>
            <a:off x="684360" y="1341360"/>
            <a:ext cx="2552400" cy="3105360"/>
          </a:xfrm>
          <a:prstGeom prst="rect">
            <a:avLst/>
          </a:prstGeom>
          <a:ln w="0">
            <a:noFill/>
          </a:ln>
        </p:spPr>
      </p:pic>
      <p:sp>
        <p:nvSpPr>
          <p:cNvPr id="126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powietr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jest zmi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zależy od stopnia ściśnięcia powietr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Heraklit z Efezu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 (ok. 540p.n.e. -ok. 480 p.n.e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"/>
          <p:cNvSpPr/>
          <p:nvPr/>
        </p:nvSpPr>
        <p:spPr>
          <a:xfrm>
            <a:off x="6443640" y="4276800"/>
            <a:ext cx="23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Źródło: 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zawartości 2"/>
          <p:cNvSpPr/>
          <p:nvPr/>
        </p:nvSpPr>
        <p:spPr>
          <a:xfrm>
            <a:off x="3348000" y="1628640"/>
            <a:ext cx="527688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Zasadą (arché) jest ogie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szystko jest zmi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We wszystkim istniej e równowaga przeciweińst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Plik:Heraclitus, Johannes Moreelse.jpg"/>
          <p:cNvPicPr/>
          <p:nvPr/>
        </p:nvPicPr>
        <p:blipFill>
          <a:blip r:embed="rId1"/>
          <a:stretch/>
        </p:blipFill>
        <p:spPr>
          <a:xfrm>
            <a:off x="179280" y="1557360"/>
            <a:ext cx="3267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Świat to różne domy zbudowane z tych samych cegie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22"/>
          <p:cNvSpPr/>
          <p:nvPr/>
        </p:nvSpPr>
        <p:spPr>
          <a:xfrm>
            <a:off x="611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mokryt z Abder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(ur. ok. 460 p.n.e., zm. ok. 370 p.n.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4" descr="Plik:Democritus2.jpg"/>
          <p:cNvPicPr/>
          <p:nvPr/>
        </p:nvPicPr>
        <p:blipFill>
          <a:blip r:embed="rId1"/>
          <a:stretch/>
        </p:blipFill>
        <p:spPr>
          <a:xfrm>
            <a:off x="755640" y="2060640"/>
            <a:ext cx="2448000" cy="338436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24"/>
          <p:cNvSpPr/>
          <p:nvPr/>
        </p:nvSpPr>
        <p:spPr>
          <a:xfrm>
            <a:off x="4788000" y="2276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Świat składa się z małych , niepodzielnych cząstek zwanych atom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1T19:48:12Z</dcterms:modified>
  <cp:revision>61</cp:revision>
  <dc:subject/>
  <dc:title>Slajd 1</dc:title>
</cp:coreProperties>
</file>