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BB82-160C-4E87-86D8-7EBA7FE45EE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787C-9B22-4C85-875D-9152596DDD1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7694-0172-452C-A6E4-5E30663C3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A69B-8C58-4997-BC9C-C0343CF8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9152-6422-4A89-BEA9-09863D3D4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2197-F005-4B10-BA6C-A68CB6AE2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9B4C6-75F1-4462-8CD7-0CF2C8807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0903B-5492-44CC-83CA-92E79ACA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714F-4531-46F0-A8BF-98E59020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4BBC-A06E-4A88-B4D3-13662B85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2E58-87A5-43AC-B356-0EFA755A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2D7A-4155-4CF2-A8BD-F98AB2DC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D3FB-92B6-499B-ACEA-756A6DF7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AD80-111A-4BFE-BC35-6F8C2203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6B3C1-321D-4812-8059-158EA65A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016D-E3CC-43D7-B686-4D6FEC43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CB997-3CFE-411E-95F8-48D990AB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C14D-B17F-41D5-927A-2529B0A4C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82AD-B05D-4F80-B0BA-ECDDE155B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1D55-8233-48D5-96B6-2E8970B1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D934-88D2-4C59-941E-809E1C72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401A-A559-4BA6-8376-77A48D88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CC6D-D6FD-47F8-ADCD-EB592A38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4D9A-1CA9-4627-A286-946D1808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1045-6FB1-488E-9631-F2B309CF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E423-2FBD-48BE-BCF2-4821C72E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52F5-2F75-4A28-8636-2FB937370628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7C0F-54B6-4F60-AD2B-1D87473BC471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6.xml"/><Relationship Id="rId10" Type="http://schemas.openxmlformats.org/officeDocument/2006/relationships/slide" Target="slide6.xml"/><Relationship Id="rId11" Type="http://schemas.openxmlformats.org/officeDocument/2006/relationships/slide" Target="slide7.xml"/><Relationship Id="rId12" Type="http://schemas.openxmlformats.org/officeDocument/2006/relationships/slide" Target="slide7.xml"/><Relationship Id="rId13" Type="http://schemas.openxmlformats.org/officeDocument/2006/relationships/slide" Target="slide8.xml"/><Relationship Id="rId14" Type="http://schemas.openxmlformats.org/officeDocument/2006/relationships/slide" Target="slide8.xml"/><Relationship Id="rId1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Plik:Charles Darwin seated.jpg"/>
          <p:cNvPicPr/>
          <p:nvPr/>
        </p:nvPicPr>
        <p:blipFill>
          <a:blip r:embed="rId1"/>
          <a:stretch/>
        </p:blipFill>
        <p:spPr>
          <a:xfrm>
            <a:off x="395280" y="836640"/>
            <a:ext cx="3197160" cy="4464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24000" y="836280"/>
            <a:ext cx="445932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Ten genialny „bezbożnik”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KAROL DARW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odtytuł 2"/>
          <p:cNvSpPr/>
          <p:nvPr/>
        </p:nvSpPr>
        <p:spPr>
          <a:xfrm>
            <a:off x="274320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Arial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-532080"/>
            <a:ext cx="6408720" cy="22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 pochodzeniu człowieka i doborze w odniesieniu do pł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94920" y="1341360"/>
            <a:ext cx="814716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ukowiec „włożył kij w mrowisko”, sugerując delikatnie, że człowiek pochodzi „prawdopodobnie” od małp człekokształtny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dzewem były liczne karykatur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Plik:Editorial cartoon depicting Charles Darwin as an ape (1871).jpg"/>
          <p:cNvPicPr/>
          <p:nvPr/>
        </p:nvPicPr>
        <p:blipFill>
          <a:blip r:embed="rId1"/>
          <a:stretch/>
        </p:blipFill>
        <p:spPr>
          <a:xfrm>
            <a:off x="1139760" y="2774880"/>
            <a:ext cx="2355840" cy="3168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Chyba najbardziej znana karykatura brytyjskiego uczonego"/>
          <p:cNvPicPr/>
          <p:nvPr/>
        </p:nvPicPr>
        <p:blipFill>
          <a:blip r:embed="rId2"/>
          <a:stretch/>
        </p:blipFill>
        <p:spPr>
          <a:xfrm>
            <a:off x="6516720" y="2421000"/>
            <a:ext cx="1584360" cy="316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Darwin i dama"/>
          <p:cNvPicPr/>
          <p:nvPr/>
        </p:nvPicPr>
        <p:blipFill>
          <a:blip r:embed="rId3"/>
          <a:stretch/>
        </p:blipFill>
        <p:spPr>
          <a:xfrm>
            <a:off x="3635280" y="2781360"/>
            <a:ext cx="259236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pór z Kościołem anglikańsk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78920" y="1341360"/>
            <a:ext cx="5545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auczyciele Darwina z Cambridge protestowali przeciw jego pogląd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Biskup Samuel Wilberforce  protestował przeciw jak się wyraził „pochodzeniu od małpy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homas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Huxley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, przyjaciel Darwina, nazwał to sporem z „przesądem i ignorancją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Darwin niszczy &quot;przesądy&quot; i &quot;ignorancję&quot;"/>
          <p:cNvPicPr/>
          <p:nvPr/>
        </p:nvPicPr>
        <p:blipFill>
          <a:blip r:embed="rId1"/>
          <a:stretch/>
        </p:blipFill>
        <p:spPr>
          <a:xfrm>
            <a:off x="5435640" y="2421000"/>
            <a:ext cx="34560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Darwinizm dzi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40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XX wieku naukowcy w większości zgadzali się co do tego, że dobór naturalny jest podstawowym mechanizmem ewolucj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Genetyka przyniosła tyleż potwierdzeń co zaprzeczeń teorii ewolucyjny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USA ciągle głównym przeciwnikiem darwinizmu jest teoria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kreacjonizm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 (jednorazowego stworzenia świat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stnieje też konkurencyjna teoria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inteligentnego projekt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rowne J., 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O powstawaniu gatunków,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uza,Warszawa 20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arwin K.,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 O pochodzeniu człowieka,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irafa Roja, Warszawa 200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tone I, 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Opowieść o Darwinie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Muza, Warszawa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zieła Darwina (również po polsku): http://darwin-online.org.uk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http://pl.wikipedia.org/wiki/Karol_Darw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http://www.wiw.pl/biblioteka/klasycy_nauki/darwin_spisrzeczy.as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łowa kluczo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Lamar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Cha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inteligentny projek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kreacjoniz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Huxl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alka o by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Malth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dobór natural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Darw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3">
            <a:hlinkClick r:id="rId1" action="ppaction://hlinksldjump"/>
          </p:cNvPr>
          <p:cNvSpPr/>
          <p:nvPr/>
        </p:nvSpPr>
        <p:spPr>
          <a:xfrm>
            <a:off x="971640" y="126828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1. Pierwsi ewolucjoniści – ewolucja niejedno ma imię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971640" y="1700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2. Młodość i studia Darwina – zanim powstało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O powstaniu gatunków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971640" y="213372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3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Podróż życia (1831-1835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971640" y="263700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4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Wielki rejs HMS Beagle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0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971640" y="314172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1" action="ppaction://hlinksldjump"/>
              </a:rPr>
              <a:t>5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2" action="ppaction://hlinksldjump"/>
              </a:rPr>
              <a:t>„Zięby Darwina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971640" y="364500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3" action="ppaction://hlinksldjump"/>
              </a:rPr>
              <a:t>6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4" action="ppaction://hlinksldjump"/>
              </a:rPr>
              <a:t>Walka o byt – istota darwinizm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971640" y="422100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O powstawaniu gatunków (1859)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971640" y="472428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8. 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O pochodzeniu człowieka i doborze w odniesieniu do płc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971640" y="522936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Spór z Kościołem anglikańskim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971640" y="558972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10. 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Darwinizm dzi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3132000" y="558972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11. 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Bibliograf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ierwsi ewolucjoniści -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ewolucja niejedno ma imię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d XVIII w. zakładano istnienie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ewolucji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w przyrodzie, twórcami pierwszych teorii ewolucji byl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ean Baptiste de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Lamarck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obert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Chambers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Plik:Jean-baptiste lamarck2.jpg"/>
          <p:cNvPicPr/>
          <p:nvPr/>
        </p:nvPicPr>
        <p:blipFill>
          <a:blip r:embed="rId1"/>
          <a:stretch/>
        </p:blipFill>
        <p:spPr>
          <a:xfrm>
            <a:off x="5796000" y="2781360"/>
            <a:ext cx="3022560" cy="2924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File:Chambers-1.jpg"/>
          <p:cNvPicPr/>
          <p:nvPr/>
        </p:nvPicPr>
        <p:blipFill>
          <a:blip r:embed="rId2"/>
          <a:stretch/>
        </p:blipFill>
        <p:spPr>
          <a:xfrm>
            <a:off x="4038480" y="3887640"/>
            <a:ext cx="1765440" cy="2049480"/>
          </a:xfrm>
          <a:prstGeom prst="rect">
            <a:avLst/>
          </a:prstGeom>
          <a:ln w="0">
            <a:noFill/>
          </a:ln>
        </p:spPr>
      </p:pic>
      <p:sp>
        <p:nvSpPr>
          <p:cNvPr id="114" name="Strzałka w prawo 5"/>
          <p:cNvSpPr/>
          <p:nvPr/>
        </p:nvSpPr>
        <p:spPr>
          <a:xfrm>
            <a:off x="5275440" y="3146400"/>
            <a:ext cx="863280" cy="79236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trzałka w prawo 5"/>
          <p:cNvSpPr/>
          <p:nvPr/>
        </p:nvSpPr>
        <p:spPr>
          <a:xfrm>
            <a:off x="3059280" y="4941720"/>
            <a:ext cx="863280" cy="79236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619128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Młodość i studia Darwina – zanim powstało </a:t>
            </a: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O powstawaniu gatunków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harles Robert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Darwin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urodził się w Shrewsbury 12 lutego 180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tudiował medycynę w Edynburgu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iał zostać duchownym – w tym celu studiował w Cambridge do 1831 roku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nteresował się raczej biologią i geologi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dróż życia (1831-183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Calibri"/>
              </a:rPr>
              <a:t>Podróż na HMS Beagle z kapitanem Fitzroyem do wybrzeży Ameryki Południowej w charakterze pokładowego przyrodnika przerodziła się w podróż dookoła świata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835280" y="2565360"/>
            <a:ext cx="539892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ielki rejs HMS Beag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otatki Darwina opublikował wraz ze swoimi kapitan Fitzroy. Były tak ciekawe, że Darwin zyskał sławę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o było w notatkach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pisy geologiczne, geograficzne, obserwacje przyrody, a nawet teoria o tworzeniu się raf koralow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ięby Darwina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bserwacja różnych gatunków zięb na wyspach Galapagos, pchnęła Darwina do sformułowania tezy o doborze naturalny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http://upload.wikimedia.org/wikipedia/commons/9/97/Darwin%27s_finches.jpeg"/>
          <p:cNvPicPr/>
          <p:nvPr/>
        </p:nvPicPr>
        <p:blipFill>
          <a:blip r:embed="rId1"/>
          <a:stretch/>
        </p:blipFill>
        <p:spPr>
          <a:xfrm>
            <a:off x="3236760" y="2924280"/>
            <a:ext cx="303372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Walka o byt – istota darwiniz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październiku 1838 […] zdarzyło mi się przeczytać dla rozrywki esej Malthusa na temat ludnośc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 dobrze rozumiejąc, dzięki długiej obserwacji zwyczajów zwierząt i roślin, na czym polega wszechobecna walka o byt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atychmiast przyszło mi do głowy, że w tych warunkach występowałaby tendencja do utrwalania zmian korzystnych, a zanikania zmian niekorzystnych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ynikiem tego byłoby powstawanie nowych gatunków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 powstawaniu gatunków (185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[…] w każdym gatunku rodzi się daleko więcej osobników niż może przeżyć i ponieważ na skutek tego powstaje pomiędzy nimi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alka o byt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sobnik, który pod wpływem skomplikowanych i nieraz zmiennych warunków zmieni się nieznacznie, lecz w sposób korzystny dla siebi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ędzie miał więcej widoków na utrzymanie się przy życiu i w ten sposób ulegnie działaniu doboru naturalneg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 zasadzie zaś potężnego prawa dziedziczności każda taka wyselekcjonowana odmiana będzie dążyć do przekazania potomstwu swej nowej, zmienionej postaci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iwona</cp:lastModifiedBy>
  <dcterms:modified xsi:type="dcterms:W3CDTF">2013-08-05T22:24:47Z</dcterms:modified>
  <cp:revision>9</cp:revision>
  <dc:subject/>
  <dc:title>Slajd 1</dc:title>
</cp:coreProperties>
</file>