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3E8-73A8-4944-BD8B-AB770D936A3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55CC-8F5C-4852-97E2-C3D03D1884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91D-1C0A-4252-913E-7051B623E69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76C-5B92-4324-B664-E741AC11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04F-958B-495B-BC4D-CA6E0383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17C-AEBC-4284-A40F-51E89E8C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869-23BE-472B-BC1E-EC0298FF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FC60-E37E-419B-A589-17682FB6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5FA-F9E8-4DBA-B788-8D51F009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95BD-152A-477D-90E8-733DD0AD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0607-6A35-402D-97C9-07620B6D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8704-E723-4D10-97AB-AEB2099C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114B-4AC3-4342-9E2A-46159EC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2E48-9BCE-4E4E-B66B-1FEE9594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ED1-FED4-448D-8454-9C2CD7D4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E42D-EC6E-481B-A8D0-A06877E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005A-188D-4405-8FB6-4B1CB29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B559-9945-4D69-B0F4-03B62A55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4CB6-B8AD-4D0E-8691-9AA05C1A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9F43-5359-4135-8413-145D6F74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B35B4-DCA1-414F-828F-0E15B37A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2B590-15C7-4CD5-A35A-60B2C642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0B340-80F2-4334-9023-F82A7FEE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6A55B-C69F-489B-BFBF-99C1168A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470E2-E9DC-48F8-A348-0724EC7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629-7CBB-4BCA-8EAF-6CCD0DC5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0EAC9-A729-445C-9CD3-2231DBE2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AFDCD-4ACB-42C2-A614-34C14D20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FE749-6802-4552-A720-E64ABC67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5AEF4-0FBE-493A-879B-25BCF84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58974-82BB-4742-AB73-B245E84D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D298B-F750-4142-9F5A-5E2EE009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CE0D-E1EC-4918-B8F8-5F703560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9B26-2074-48B3-AA81-1167DFB9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FD3B-C434-4B8C-9C05-D8D6AC09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FD77-F024-4426-BD0D-AF30037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E9C-CC4A-4A61-B488-77316EE6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48E47-7C2E-4A40-A476-B6958A99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279B-7CE3-44D4-BC62-80FADAC7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2096-3A9C-4330-BEBA-51D4F2BD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E94D-F1DE-4A9C-9216-F128F12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F20D-F513-4BFF-85DD-8B5FC8E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833A-8680-4599-A074-A8C1760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636F-53AD-493A-A8B1-8FCD19E3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4018-F3B5-446B-AEDC-A9B19035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EB29B-5940-4953-BFD2-F37CCCEC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B2A-C9E9-4D10-B744-A4532B3B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35C-7250-4458-A93D-806C5B16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06B-8246-4897-B934-B1B38C82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431-B965-47B7-8854-9E8AF37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C0A-D36D-4944-87A7-9C74DB1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8AF1-B336-405F-A672-2592DD39769E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363-24C6-4217-88C0-5C600C0CD4BB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3A82-50AF-4EC7-95E1-00AA3507F81A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C7A5-0C62-401D-B043-69B5A2558E41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Akademia Krakowska 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http://us.123rf.com/400wm/400/400/michaeldb/michaeldb0901/michaeldb090100023/4228044-a-happy-usmiechnietej-buzki-absolwentow-w-graduacyjnej-dni-zaprawy-pokladzie-cap.jpg"/>
          <p:cNvPicPr/>
          <p:nvPr/>
        </p:nvPicPr>
        <p:blipFill>
          <a:blip r:embed="rId1"/>
          <a:stretch/>
        </p:blipFill>
        <p:spPr>
          <a:xfrm>
            <a:off x="5867280" y="321300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651672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6" descr="http://static4.depositphotos.com/1002188/321/i/950/depositphotos_3211039-Graduate-Smile.jpg"/>
          <p:cNvPicPr/>
          <p:nvPr/>
        </p:nvPicPr>
        <p:blipFill>
          <a:blip r:embed="rId1"/>
          <a:stretch/>
        </p:blipFill>
        <p:spPr>
          <a:xfrm>
            <a:off x="5796000" y="3059280"/>
            <a:ext cx="23479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903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Założenie Akademii Krakowskiej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280" y="1557000"/>
            <a:ext cx="5040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2 maja 1364 Kazimierz Wielki założył Akademię Krakowską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Był to drugi, po powstałym w 1348 r. w Pradze, uniwersytet w środkowej Europi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krótce powstaną uniwersytety w Wiedniu (1365), Peczu (1367) oraz w Heidelbergu (1386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Obraz 3" descr="http://www.wiw.pl/historia/poczet/pict/zoom/kazimierz_wielki.gif"/>
          <p:cNvPicPr/>
          <p:nvPr/>
        </p:nvPicPr>
        <p:blipFill>
          <a:blip r:embed="rId1"/>
          <a:stretch/>
        </p:blipFill>
        <p:spPr>
          <a:xfrm>
            <a:off x="5796000" y="476280"/>
            <a:ext cx="2730600" cy="3486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newsweek.pl/bins/Media/Pictures/8f/8fe1/8fe154c100df4152bd89681e57578456_thb14.jpg"/>
          <p:cNvPicPr/>
          <p:nvPr/>
        </p:nvPicPr>
        <p:blipFill>
          <a:blip r:embed="rId2"/>
          <a:stretch/>
        </p:blipFill>
        <p:spPr>
          <a:xfrm>
            <a:off x="5508720" y="39625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48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Studium General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1280" y="1557000"/>
            <a:ext cx="38894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tudium Generale - taka była oficjalna nazwa uniwersytetu w Krakowie - rozpoczęło działalność faktycznie nie wcześniej niż w 1367 r. i składało się z trzech tylko wydziałów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tuk wyzwolonych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edycyn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prawa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Na utworzenie czwartego, najbardziej prestiżowego - teologii, papież Urban V nie wyraził zgod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Obraz 4" descr="http://studente.pl/krakow/_cache/_thumbs/12/12958467e30d53fca411b418c037f358.jpg"/>
          <p:cNvPicPr/>
          <p:nvPr/>
        </p:nvPicPr>
        <p:blipFill>
          <a:blip r:embed="rId1"/>
          <a:stretch/>
        </p:blipFill>
        <p:spPr>
          <a:xfrm>
            <a:off x="8172360" y="476280"/>
            <a:ext cx="822240" cy="1512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ttp://ks27729.kimsufi.com/p3/200911/1C/52673335.jpg"/>
          <p:cNvPicPr/>
          <p:nvPr/>
        </p:nvPicPr>
        <p:blipFill>
          <a:blip r:embed="rId2"/>
          <a:stretch/>
        </p:blipFill>
        <p:spPr>
          <a:xfrm>
            <a:off x="5219640" y="836640"/>
            <a:ext cx="261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84360" y="1413000"/>
            <a:ext cx="45352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rektora wybierano spośród ogółu studiujących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tudenci mogli wybierać sobie mistrzów, u których pobierali naukę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d egzaminami i nadaniami stopni naukowych czuwał kanclerz królewski on też pilnował wypełniania praktyk w sądach przez studentów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Obraz 5" descr="http://upload.wikimedia.org/wikipedia/commons/b/bd/Krak%C3%B3w.Uniwersytet_Jagiello%C5%84ski.Collegium_Maius.Stuba_Communis%28Schody%29.jpg"/>
          <p:cNvPicPr/>
          <p:nvPr/>
        </p:nvPicPr>
        <p:blipFill>
          <a:blip r:embed="rId1"/>
          <a:stretch/>
        </p:blipFill>
        <p:spPr>
          <a:xfrm>
            <a:off x="5564160" y="1111320"/>
            <a:ext cx="30574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84360" y="1413000"/>
            <a:ext cx="42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Mistrzowie byli wynagradzani ze skarbu państwa,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cholarzy wybierali rektora, któremu przyrzekali posłuszeństwo i poddaństwo wobec jego jurysdykcj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równo rektor, jak i profesorowie byli opłacani ze skarbu państwa, przez urzędników króla, a źródłem tego dochodu były żupy solne w Wieliczce i Bochni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Kazimierz Wielki wyznaczył jednego Żyda w Krakowie, który mógł udzielać pożyczek studentom i profesorom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pole tekstowe 3"/>
          <p:cNvSpPr/>
          <p:nvPr/>
        </p:nvSpPr>
        <p:spPr>
          <a:xfrm>
            <a:off x="1187280" y="549360"/>
            <a:ext cx="59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rganizacja Akademii Krakow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Obraz 4" descr="http://static.lovetotravel.pl/galery/th/th1_9611_collegium_maius.jpg"/>
          <p:cNvPicPr/>
          <p:nvPr/>
        </p:nvPicPr>
        <p:blipFill>
          <a:blip r:embed="rId1"/>
          <a:stretch/>
        </p:blipFill>
        <p:spPr>
          <a:xfrm>
            <a:off x="4859280" y="1154160"/>
            <a:ext cx="396072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738324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4c600"/>
                </a:solidFill>
                <a:latin typeface="Century Gothic"/>
              </a:rPr>
              <a:t>W Akademii Krakowskiej funkcjonowały następujące wydziały:</a:t>
            </a:r>
            <a:br>
              <a:rPr sz="2800"/>
            </a:b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920" y="1844280"/>
            <a:ext cx="39607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Prawo – 5 katedr prawa rzymskiego i 3 kanoniczeg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2 katedry medycyn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1 katedra sztuk wyzwolonych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684000" y="692280"/>
            <a:ext cx="439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 śmierci 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zimierza Wielkiego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70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podupadła lub została zupełnie zawieszona. Dopiero dzięki staraniom królowej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Jadwigi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która zabiegała o utworzenie na uniwersytecie katedry teologii (na co zezwolił papież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Bonifacy IX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w swojej bulli z roku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1397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) oraz przekazała w swoim testamencie znaczne środki finansowe na rozwój uczelni, krakowska szkoła mogła podjąć swoją działalność.  W 1401 roku naukę w zreformowanej uczelni podjęło 203 studentów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Obraz 3" descr="http://upload.wikimedia.org/wikipedia/commons/thumb/5/52/Matejko_UJ.JPG/220px-Matejko_UJ.JPG"/>
          <p:cNvPicPr/>
          <p:nvPr/>
        </p:nvPicPr>
        <p:blipFill>
          <a:blip r:embed="rId1"/>
          <a:stretch/>
        </p:blipFill>
        <p:spPr>
          <a:xfrm>
            <a:off x="5724360" y="692280"/>
            <a:ext cx="2311560" cy="2952720"/>
          </a:xfrm>
          <a:prstGeom prst="rect">
            <a:avLst/>
          </a:prstGeom>
          <a:ln w="0">
            <a:noFill/>
          </a:ln>
        </p:spPr>
      </p:pic>
      <p:pic>
        <p:nvPicPr>
          <p:cNvPr id="367" name="Obraz 4" descr="http://upload.wikimedia.org/wikipedia/commons/f/fc/Krak%C3%B3w_-_Collegium_Maius_-_Dziedziniec_01.JPG"/>
          <p:cNvPicPr/>
          <p:nvPr/>
        </p:nvPicPr>
        <p:blipFill>
          <a:blip r:embed="rId2"/>
          <a:stretch/>
        </p:blipFill>
        <p:spPr>
          <a:xfrm>
            <a:off x="5392800" y="3860640"/>
            <a:ext cx="2911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684360" y="1197000"/>
            <a:ext cx="446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opiero zabiegi królowej Jadwigi na dworze papieskim w Awinionie, a potem zapis w testamencie jej majątku osobistego na rzecz uniwersytetu sprawiły, że wznowił on działalność w roku 1400, w rok po śmierci donatorki. Tym razem powstał już pełny uniwersytet średniowieczny, z wszystkimi czterema wydziałami, zorganizowany na wzór paryski. Odtąd rektora wybierało grono profesorskie; powstały kolegia, w których zamieszkiwali profesorowie, oraz bursy dla żakó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9" name="Picture 2" descr="http://th.interia.pl/40,oiobywatel,e79b3738228032/546996_600.jpg"/>
          <p:cNvPicPr/>
          <p:nvPr/>
        </p:nvPicPr>
        <p:blipFill>
          <a:blip r:embed="rId1"/>
          <a:stretch/>
        </p:blipFill>
        <p:spPr>
          <a:xfrm>
            <a:off x="5580000" y="404640"/>
            <a:ext cx="28098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4248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4360" y="1268280"/>
            <a:ext cx="45352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edukacja.studente.pl/krakow/obiekt/205/Uniwersytet-Jagiellonski-w-Krakowie-Collegium-Novum/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Century Gothic"/>
              </a:rPr>
              <a:t>Założenie Szkoły Głównej przeniesieniem do Krakowa ugruntowane. R.P. 1361-1399-1400</a:t>
            </a: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, obraz Jana Matejki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commons.wikimedia.org/wiki/File:Krak%C3%B3w.Uniwersytet_Jagiello%C5%84ski.Collegium_Maius.Aula_Jagiello%C5%84ska.jpg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e3d2d"/>
                </a:solidFill>
                <a:latin typeface="Century Gothic"/>
              </a:rPr>
              <a:t>http://www.maius.uj.edu.pl/collections.pl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historia.newsweek.pl/krol-kazimierz--wielki-budowniczy,98812,1,1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interia360.pl/galeria/bez%20nazwy,4334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Gothic"/>
              </a:rPr>
              <a:t>http://www.photoblog.pl/cyfrowy/52673335/zak-krakowski.html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2" name="Picture 2" descr="http://1.bp.blogspot.com/_tgpOC3-kllQ/STaexUXnGVI/AAAAAAAAABs/PbX2hUWnQH0/s400/Jagiellonian.JPG"/>
          <p:cNvPicPr/>
          <p:nvPr/>
        </p:nvPicPr>
        <p:blipFill>
          <a:blip r:embed="rId1"/>
          <a:stretch/>
        </p:blipFill>
        <p:spPr>
          <a:xfrm>
            <a:off x="5724360" y="907920"/>
            <a:ext cx="30290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tos</cp:lastModifiedBy>
  <dcterms:modified xsi:type="dcterms:W3CDTF">2013-09-16T18:36:22Z</dcterms:modified>
  <cp:revision>17</cp:revision>
  <dc:subject>szablon prezentacji KPW</dc:subject>
  <dc:title>Zrównoważony rozwój</dc:title>
</cp:coreProperties>
</file>