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5CC2-CFEF-468C-A86E-BCEBD3DA5E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82B3-D744-4EEA-98F6-21FFE5AC0A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9F5-2286-4769-A816-E4569E5284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86E-F986-4C42-BB9D-B26C4214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C10-F4C9-449D-A523-CDE87748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91B-2EDA-460A-A0CF-A8742ADC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84E-8176-44D0-97DA-8558B807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0820-BFF8-4477-A1A5-C46C62E5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E225-DA13-409C-81C9-B1A26FA9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297-E730-4848-B3D5-DBE81151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6EEF-C534-4CBE-83EA-222A91D2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9F53-66B6-44ED-9F06-8D12AF8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556D-7213-47DC-903D-3F4E3086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D057-4844-4EAB-A9DE-E99094CD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F4C-9671-41D3-81FF-802855D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CB25-A936-46FD-A15A-9194923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EBAE-28E4-4DFE-AB6C-EDEEBAD1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8EC6-7F57-4067-8ACA-7CF6E81A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CFC-5F1A-4B68-9143-2435AF09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22A0-A16C-4E35-A7CC-A6D4A077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420-9465-42FA-B46F-5DA754E0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15A-3C97-4087-AA61-E5B7607D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35C-C8B1-4481-98FF-AD6EE1C2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1B6-0B3B-4AE8-B822-5FF6670C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A3A-654B-48CA-BD0B-55C7E80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7C8-8728-4DB3-8B12-0C589DE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B28-29EB-4126-ACC6-C9C18C5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EA6E-B2BF-4323-A1EF-71E8DDE5E29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927-DE1B-4777-8A0B-71D393BEEFD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contributionstoscience.wikispaces.com/Thomas+Edison+and+the+Lightbulb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zachod.pl/radio-zachod/serwis-informacyjny/kraj/dzwiekowa-tablica-mendelejewa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fuw.edu.pl/~neutrina/promieniowanie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upload.wikimedia.org/wikipedia/commons/3/3c/Albert_Edelfelt_-_Louis_Pasteur_-_1885.jpg" TargetMode="External"/><Relationship Id="rId3" Type="http://schemas.openxmlformats.org/officeDocument/2006/relationships/hyperlink" Target="http://upload.wikimedia.org/wikipedia/commons/3/3c/Albert_Edelfelt_-_Louis_Pasteur_-_1885.jpg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ciekawostkihistoryczne.pl/2011/07/27/jak-przechytrzyc-smierc-xix-wieczny-przyrzad-do-ozywiania-zmarlych/" TargetMode="External"/><Relationship Id="rId3" Type="http://schemas.openxmlformats.org/officeDocument/2006/relationships/hyperlink" Target="http://ciekawostkihistoryczne.pl/2011/07/27/jak-przechytrzyc-smierc-xix-wieczny-przyrzad-do-ozywiania-zmarlych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eterodoxology.files.wordpress.com/2010/03/auguste_comte.jp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pl.wikipedia.org/wiki/Plik:Demologos1814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3/3f/Stephenson%27s_Rocket_drawing.jp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gadzetomania.pl/2010/12/22/wynalazki-xix-wieku-bez-ktorych-nie-byloby-gadzetomani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Postęp rozwiąże wszystkie problem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Żarówka, elektrow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ą elektrownię wybudował Thomas Edison, co zapoczątkowało szybki proces elektry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nach Zjednoczo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77 r. wynalazł fonograf, a w 1897 r. żarówk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Users\Bartek\Downloads\edison.jpg"/>
          <p:cNvPicPr/>
          <p:nvPr/>
        </p:nvPicPr>
        <p:blipFill>
          <a:blip r:embed="rId1"/>
          <a:stretch/>
        </p:blipFill>
        <p:spPr>
          <a:xfrm>
            <a:off x="5003640" y="2421000"/>
            <a:ext cx="3659400" cy="274464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7"/>
          <p:cNvSpPr/>
          <p:nvPr/>
        </p:nvSpPr>
        <p:spPr>
          <a:xfrm>
            <a:off x="4859280" y="5300640"/>
            <a:ext cx="3968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Edis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ontributionstoscience.wikispaces.com/Thomas+Edison+and+the+Lightbul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ablica pierwiastkó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69 r. Dymitr Mendelejew  sklasyfikował pierwiastki chemicz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Bartek\Downloads\tablica_mendelejewa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429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7"/>
          <p:cNvSpPr/>
          <p:nvPr/>
        </p:nvSpPr>
        <p:spPr>
          <a:xfrm>
            <a:off x="4679280" y="5157720"/>
            <a:ext cx="44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Tablica Mendelejew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zachod.pl/radio-zachod/serwis-informacyjny/kraj/dzwiekowa-tablica-mendelejewa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krycia chem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mieniotwórcz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2174760"/>
            <a:ext cx="4259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jawisko promieniotwórczości odkrył  Henri Becquerel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 1896 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98 r. Maria Curie-Skłodowska wraz z mężem odkryli polon i rad (promieniotwórcze pierwiastk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Bartek\Downloads\Maria_Piotr_Curie.jpg"/>
          <p:cNvPicPr/>
          <p:nvPr/>
        </p:nvPicPr>
        <p:blipFill>
          <a:blip r:embed="rId1"/>
          <a:stretch/>
        </p:blipFill>
        <p:spPr>
          <a:xfrm>
            <a:off x="5219640" y="2276640"/>
            <a:ext cx="2857680" cy="314316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7"/>
          <p:cNvSpPr/>
          <p:nvPr/>
        </p:nvSpPr>
        <p:spPr>
          <a:xfrm>
            <a:off x="5171760" y="5516640"/>
            <a:ext cx="2837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Maria i Piotr Cur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uw.edu.pl/~neutrina/promieniowa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medycy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Ludwika Pasteur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oberta Kocha nad wścieklizną i gruźlicą doprowadziły do rozwoju bakteri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Pasteur oraz Edward Jenner odkryli szczepionki na wściekliznę i osp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lhelm Roentgen odkrył promieniowanie X w 1895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Users\Bartek\Downloads\Louis_Pasteur_1885.jpg"/>
          <p:cNvPicPr/>
          <p:nvPr/>
        </p:nvPicPr>
        <p:blipFill>
          <a:blip r:embed="rId1"/>
          <a:stretch/>
        </p:blipFill>
        <p:spPr>
          <a:xfrm>
            <a:off x="5364000" y="1700280"/>
            <a:ext cx="3237120" cy="393696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9"/>
          <p:cNvSpPr/>
          <p:nvPr/>
        </p:nvSpPr>
        <p:spPr>
          <a:xfrm>
            <a:off x="5319720" y="5732640"/>
            <a:ext cx="34862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Ludwik Pasteu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c/Albert_Edelfelt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_Louis_Pasteur_-_1885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ozwój techniki budowla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yształowy Pałac (pawilon wystawowy) wzniesiony na londyńską Wystawę Światową w 1851 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ża Eiffla zbudowa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89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Bartek\Downloads\Joseph_Paxton_pałac Kryształowy.jpg"/>
          <p:cNvPicPr/>
          <p:nvPr/>
        </p:nvPicPr>
        <p:blipFill>
          <a:blip r:embed="rId1"/>
          <a:stretch/>
        </p:blipFill>
        <p:spPr>
          <a:xfrm>
            <a:off x="5508720" y="1557360"/>
            <a:ext cx="3095640" cy="2338200"/>
          </a:xfrm>
          <a:prstGeom prst="rect">
            <a:avLst/>
          </a:prstGeom>
          <a:ln w="0">
            <a:noFill/>
          </a:ln>
        </p:spPr>
      </p:pic>
      <p:sp>
        <p:nvSpPr>
          <p:cNvPr id="150" name="pole tekstowe 5"/>
          <p:cNvSpPr/>
          <p:nvPr/>
        </p:nvSpPr>
        <p:spPr>
          <a:xfrm>
            <a:off x="5454360" y="3933720"/>
            <a:ext cx="31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Pałac Kryształowy w Londyn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ztukahistorii.blogspot.com/2011/04/27-ucz-sie-zamiast-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gapic-sie-na-scian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C:\Users\Bartek\Downloads\wieza_eiffla.jpg"/>
          <p:cNvPicPr/>
          <p:nvPr/>
        </p:nvPicPr>
        <p:blipFill>
          <a:blip r:embed="rId2"/>
          <a:stretch/>
        </p:blipFill>
        <p:spPr>
          <a:xfrm>
            <a:off x="395280" y="3860640"/>
            <a:ext cx="3967200" cy="2621160"/>
          </a:xfrm>
          <a:prstGeom prst="rect">
            <a:avLst/>
          </a:prstGeom>
          <a:ln w="0">
            <a:noFill/>
          </a:ln>
        </p:spPr>
      </p:pic>
      <p:sp>
        <p:nvSpPr>
          <p:cNvPr id="152" name="pole tekstowe 7"/>
          <p:cNvSpPr/>
          <p:nvPr/>
        </p:nvSpPr>
        <p:spPr>
          <a:xfrm>
            <a:off x="4427640" y="6021360"/>
            <a:ext cx="297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Etapy budowy wieży Eiffl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otoelzbieta3.files.wordpress.com/2011/11/we1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loracja Afryki przez brytyjskich podróżników Dawida Livingstone’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Henry’ego Stanleya. Badania w dorzeczach Konga i Zambezi oraz poszukiwania źródeł Nilu doprowadziły do odkrycia nieznanych ludów afrykański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spotkanie_Stanleya_z_Livingstonem.jpg"/>
          <p:cNvPicPr/>
          <p:nvPr/>
        </p:nvPicPr>
        <p:blipFill>
          <a:blip r:embed="rId1"/>
          <a:stretch/>
        </p:blipFill>
        <p:spPr>
          <a:xfrm>
            <a:off x="4643280" y="1557360"/>
            <a:ext cx="4038840" cy="28335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8"/>
          <p:cNvSpPr/>
          <p:nvPr/>
        </p:nvSpPr>
        <p:spPr>
          <a:xfrm>
            <a:off x="4591080" y="4508640"/>
            <a:ext cx="36129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Stanley spotyka Livingstone'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yborcza.pl/1,75475,10642562,Bialo_czerwone_i_czarne.html?as=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dania geograf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różnicy docierali do niepoznanych terenów Ameryki Południowej oraz Austral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bardziej znanym badaczem kontynentu Australijskiego był polski podróżnik Edmund Strzelec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rzełomie XIX i XX wieku zaczęto penetrować obszary arktyczne (pierwszym człowiekiem na biegunie południowym był Roald Amundsen, a na północnym Robert Pea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map_of_Antactica.jpg"/>
          <p:cNvPicPr/>
          <p:nvPr/>
        </p:nvPicPr>
        <p:blipFill>
          <a:blip r:embed="rId1"/>
          <a:stretch/>
        </p:blipFill>
        <p:spPr>
          <a:xfrm>
            <a:off x="3419640" y="4292640"/>
            <a:ext cx="3454200" cy="209556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5"/>
          <p:cNvSpPr/>
          <p:nvPr/>
        </p:nvSpPr>
        <p:spPr>
          <a:xfrm>
            <a:off x="6882480" y="5732640"/>
            <a:ext cx="215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3. Mapa Antarktydy z 1894 r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pl.wikipedia.org/wiki/Plik:1894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map_of_Antactic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eoria Ewolu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 rozgłos w XIX w. zyskała teoria Karola Darw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badań, które prowadził wysnuł wniosek o ewolucji gatunków, na który miały wpływ zmieniające się warunki byt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C:\Users\Bartek\Downloads\ewolucja_człowieka.jpg"/>
          <p:cNvPicPr/>
          <p:nvPr/>
        </p:nvPicPr>
        <p:blipFill>
          <a:blip r:embed="rId1"/>
          <a:stretch/>
        </p:blipFill>
        <p:spPr>
          <a:xfrm>
            <a:off x="4643280" y="2060640"/>
            <a:ext cx="4038840" cy="242388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5"/>
          <p:cNvSpPr/>
          <p:nvPr/>
        </p:nvSpPr>
        <p:spPr>
          <a:xfrm>
            <a:off x="4662000" y="4581360"/>
            <a:ext cx="211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4. Ewolucja człowie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nauka-o-czlowieku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68" name="pole tekstowe 4"/>
          <p:cNvSpPr/>
          <p:nvPr/>
        </p:nvSpPr>
        <p:spPr>
          <a:xfrm>
            <a:off x="1871640" y="5445000"/>
            <a:ext cx="53276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ciekawostkihistoryczne.pl/2011/07/27/jak-przechytrzyc-smierc-xix-wieczny-przyrzad-do-ozywiania-zmarlych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zostałe wynalaz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210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znasz jeszcze XIX – wieczne wynalazki, które zrewolucjonizowały świa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zupełnij tabelk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łoże przemian w nauce i tech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nalazki techn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krycia che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medycy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techniki budowlan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dania geograf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oria ewolu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nauka była urzeczywistnieniem postęp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Bartek\Downloads\przyrzad_do_przywracania_zycia.jpg"/>
          <p:cNvPicPr/>
          <p:nvPr/>
        </p:nvPicPr>
        <p:blipFill>
          <a:blip r:embed="rId1"/>
          <a:stretch/>
        </p:blipFill>
        <p:spPr>
          <a:xfrm>
            <a:off x="1946160" y="1557360"/>
            <a:ext cx="5251680" cy="377496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4"/>
          <p:cNvSpPr/>
          <p:nvPr/>
        </p:nvSpPr>
        <p:spPr>
          <a:xfrm>
            <a:off x="1896120" y="5445000"/>
            <a:ext cx="5278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Przyrząd do przywracania życi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ciekawostkihistoryczne.pl/2011/07/27/jak-przechytrzyc-smierc-xix-wieczny-przyrzad-do-ozywiania-zmarlych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latach 30. XIX w. dominującą rolę zdobył nowy system myślowy, którego twórcą był Francuz August Com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Bartek\Downloads\auguste_comte.jpg"/>
          <p:cNvPicPr/>
          <p:nvPr/>
        </p:nvPicPr>
        <p:blipFill>
          <a:blip r:embed="rId1"/>
          <a:stretch/>
        </p:blipFill>
        <p:spPr>
          <a:xfrm>
            <a:off x="5257800" y="2174760"/>
            <a:ext cx="2627280" cy="368640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6"/>
          <p:cNvSpPr/>
          <p:nvPr/>
        </p:nvSpPr>
        <p:spPr>
          <a:xfrm>
            <a:off x="5148360" y="5919840"/>
            <a:ext cx="3547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ys 2. August Co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eterodoxology.files.wordpress.com/2010/03/auguste_comte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ilozofia - pozytywiz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westionowanie sensu dociekań metafiz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odne uwagi są jedynie stwierdzalne empiryczn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rzeczywiste przedmio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badań naukowych miało być ustalanie praw, poprzez szczegółowe obserwacje lub eksperymen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daniem nauki powinna być poprawa warunków życia społeczeństwa poprzez badania, wynalazki i rozwój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łoże przemian w nauc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tech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nauki i techniki wywołany był rozwojem gospodarczym i eksplozją demograficzną (rywalizacja między Angli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Stanami Zjednoczonym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zęto stosować nowe metody badawcze (zawodowi naukowcy, specjalistyczna aparatura, opierano się na doświadczeniach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bserwacj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tek parowy Fult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07 r. Robert Fulton zbudował pierwszy statek par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stalowe statki pojawiły się w drugiej połowie XIX 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Bartek\Downloads\statek_parowy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46060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10"/>
          <p:cNvSpPr/>
          <p:nvPr/>
        </p:nvSpPr>
        <p:spPr>
          <a:xfrm>
            <a:off x="4578120" y="5013360"/>
            <a:ext cx="35960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Pierwszy parowy statek wojenny (Stany Zjednoczone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Demologos1814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lej żela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825 r. otwarto pierwszą linię kolej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 wynalazcę kolei żelaznej uważa się Georga Stephensona, który skonstruował lokomotywę parow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Bartek\Downloads\Rakieta_Stephensona_rysunek.jpg"/>
          <p:cNvPicPr/>
          <p:nvPr/>
        </p:nvPicPr>
        <p:blipFill>
          <a:blip r:embed="rId1"/>
          <a:stretch/>
        </p:blipFill>
        <p:spPr>
          <a:xfrm>
            <a:off x="4716360" y="2276640"/>
            <a:ext cx="4041720" cy="282384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4531680" y="5084640"/>
            <a:ext cx="4377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Rysunek „Rakiety” Stephenson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3/3f/Stephenson%27s_Rocket_drawi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nalazki techni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lfabet Morse’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uel F. Morse opracował pierwszy amerykański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legraf, który był oparty na  systemie krop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resek, zwanym alfabetem Morse’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Bartek\Downloads\Alfabet_Morsea.jpg"/>
          <p:cNvPicPr/>
          <p:nvPr/>
        </p:nvPicPr>
        <p:blipFill>
          <a:blip r:embed="rId1"/>
          <a:stretch/>
        </p:blipFill>
        <p:spPr>
          <a:xfrm>
            <a:off x="4788000" y="2205000"/>
            <a:ext cx="3024000" cy="364176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4684320" y="5805360"/>
            <a:ext cx="442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Alfabet Morse’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adzetomania.pl/2010/12/22/wynalazki-xix-wieku-bez-ktorych-nie-byloby-gadzetomani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3:22:04Z</dcterms:modified>
  <cp:revision>156</cp:revision>
  <dc:subject/>
  <dc:title>Slajd 1</dc:title>
</cp:coreProperties>
</file>