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os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3-09-15T11:53:54.348000000" idx="1">
    <p:pos x="5081" y="3374"/>
    <p:text>zmieniłam podpis pod obrazem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5C7-A471-490B-A3B2-3AD5DBFF42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3CF-7303-413B-B664-4638677A4A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470-C640-4D89-8239-97772CEFF2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6B1-869A-4963-AD35-8645823F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CC0-B646-4529-AB49-BDB1816B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D23-09D7-4A88-B615-B05F9A71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F67-5696-4076-9CD1-DEB3100A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A64E-5DFB-4E4D-91FB-E715D938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89FA-64D6-48AD-9122-01F1466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3649-9149-47DA-8A85-1D2715D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4DEF-5C1D-4EAD-8692-4E92895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07E1-B640-4488-A078-C939AB8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C535-0E1B-4CAA-AB27-ABE8B052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C159-9B20-46ED-89C7-9E61BE7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58A-684E-4FB9-AE46-A789085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6B5-2D38-4600-A2B3-888DB00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228-AB42-46E3-81DB-F0886BA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0C2-058D-4147-BC18-2B69BDD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AF47-46EE-414A-9483-E2F1E9D3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C3C-48AA-4506-BA8E-A3823E79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76B19-C19E-4152-8BEA-8399C3C5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E5F79-9904-44B9-A537-9D0D8F7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09BC1-C2A1-45EC-992C-446251DB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0C71F-488B-4EB6-9948-16A91C0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724F7-57AD-4C97-93FC-3552EB7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144-1374-41CF-956C-7A4C8B6C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947D3-EC7C-491D-9C5D-D8B8EFC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7176E-53D0-4CAA-9F62-C9B7602D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8E349-1DC6-4DB1-AA55-47A5293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287A6-1031-4815-BDC3-83A6278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C8D06-4655-451A-9277-8C21333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2864-C27C-4E8D-8429-C2B89C2D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7F86F-2D6B-4EA3-ABC8-86212DB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A1F9-1A08-4BF0-AB5E-2A3C4627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6511-B2AC-48B5-B9B0-BAB7EFF5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F902-CDF0-45E7-921F-B965FCDF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AA7-CBF1-460B-AE14-34B1D6BA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6E47-F8BF-4FAB-AAAC-CDD3FEB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F311-AB71-4E57-9E80-B63AC074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03C0-BEF7-4740-9249-A187461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26EE-CDF5-4319-A25D-DD79E04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8B12-A7E1-440D-9881-8BE9F22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D8F1-89CE-4365-9A0F-4B4FC59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E544-786C-4D4C-8C98-BE466FF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B2EF-02F3-48F8-A578-339F85AA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2190-DBED-4CC8-9A2A-2A6A13DE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89C-631F-4CEB-8D2B-174DC705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25-3164-4C8E-B429-51B447A5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3F0-FD63-4650-9C0F-4B63F22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AD2-B508-4FC7-8544-30EE85F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F90-218C-4AF6-AB22-62C186D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B7A-2E0C-4229-90B9-E31A2D0FC58F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129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B22-CDF9-4EA6-A510-16EA96651C57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655-ED1B-4AEE-BD04-2802D623C2FC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6694-CF39-492D-AE2B-61AF0CF1456A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pl/url?sa=i&amp;rct=j&amp;q=&amp;esrc=s&amp;frm=1&amp;source=images&amp;cd=&amp;cad=rja&amp;docid=NQYEMopZ_1lFNM&amp;tbnid=6PuCjUaEENA9IM:&amp;ved=0CAQQjB0&amp;url=http%3A%2F%2Fwww.tillit.pl%2Fsiema.1%2Findex.php%3Foption%3Dcom_content%26view%3Darticle%26id%3D199%3Arozdzia-iii-qod-wojennego-chaosu-do-papiea-matematykaq%26catid%3D50%3Aciek-nauki-do-boga%26Itemid%3D68&amp;ei=bKQwUpz-PMKxtAaRw4DYCQ&amp;bvm=bv.51773540,d.bGE&amp;psig=AFQjCNHTrgnypTI1FZ0L8skgjx-5SVeJAA&amp;ust=1379005927153468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pl/url?sa=i&amp;rct=j&amp;q=&amp;esrc=s&amp;source=images&amp;cd=&amp;cad=rja&amp;docid=kdqn565oWenAvM&amp;tbnid=0EsIiZqfbkItHM:&amp;ved=0CAQQjB0&amp;url=http://radtrap.wordpress.com/2012/02/23/tajemnica-wielki-babilon-czesc-38/&amp;ei=D1kzUY-XN4ettAatqIHQCQ&amp;bvm=bv.43148975,d.Yms&amp;psig=AFQjCNHY1-EEm3DXByFL5G39LJkixdM5ww&amp;ust=136240600365071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mag.org/Uniwersytety-profesorowie-studenci-sredniowieczna-wspolnota-idei-715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87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4c600"/>
                </a:solidFill>
                <a:latin typeface="Century Gothic"/>
              </a:rPr>
              <a:t>Początki średniowiecznego szkolnictwa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iedem sztuk wyzwolony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0" name="Symbol zastępczy zawartości 3" descr="rys.6"/>
          <p:cNvPicPr/>
          <p:nvPr/>
        </p:nvPicPr>
        <p:blipFill>
          <a:blip r:embed="rId1"/>
          <a:stretch/>
        </p:blipFill>
        <p:spPr>
          <a:xfrm>
            <a:off x="2106720" y="2478240"/>
            <a:ext cx="4647960" cy="3200400"/>
          </a:xfrm>
          <a:prstGeom prst="rect">
            <a:avLst/>
          </a:prstGeom>
          <a:ln w="9360">
            <a:solidFill>
              <a:srgbClr val="94c600"/>
            </a:solidFill>
            <a:miter/>
          </a:ln>
        </p:spPr>
      </p:pic>
      <p:sp>
        <p:nvSpPr>
          <p:cNvPr id="371" name="pole tekstowe 4"/>
          <p:cNvSpPr/>
          <p:nvPr/>
        </p:nvSpPr>
        <p:spPr>
          <a:xfrm>
            <a:off x="684360" y="1700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Łącznik prosty ze strzałką 6"/>
          <p:cNvCxnSpPr/>
          <p:nvPr/>
        </p:nvCxnSpPr>
        <p:spPr>
          <a:xfrm>
            <a:off x="1476000" y="1916280"/>
            <a:ext cx="648360" cy="79272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73" name="pole tekstowe 7"/>
          <p:cNvSpPr/>
          <p:nvPr/>
        </p:nvSpPr>
        <p:spPr>
          <a:xfrm>
            <a:off x="219564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tor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ole tekstowe 8"/>
          <p:cNvSpPr/>
          <p:nvPr/>
        </p:nvSpPr>
        <p:spPr>
          <a:xfrm>
            <a:off x="716436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ole tekstowe 9"/>
          <p:cNvSpPr/>
          <p:nvPr/>
        </p:nvSpPr>
        <p:spPr>
          <a:xfrm>
            <a:off x="651672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ytme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ole tekstowe 10"/>
          <p:cNvSpPr/>
          <p:nvPr/>
        </p:nvSpPr>
        <p:spPr>
          <a:xfrm>
            <a:off x="4788000" y="184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me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ole tekstowe 11"/>
          <p:cNvSpPr/>
          <p:nvPr/>
        </p:nvSpPr>
        <p:spPr>
          <a:xfrm>
            <a:off x="378000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zy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Łącznik prosty ze strzałką 13"/>
          <p:cNvCxnSpPr>
            <a:stCxn id="373" idx="2"/>
          </p:cNvCxnSpPr>
          <p:nvPr/>
        </p:nvCxnSpPr>
        <p:spPr>
          <a:xfrm>
            <a:off x="2879280" y="2214360"/>
            <a:ext cx="18036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9" name="Łącznik zakrzywiony 15"/>
          <p:cNvCxnSpPr/>
          <p:nvPr/>
        </p:nvCxnSpPr>
        <p:spPr>
          <a:xfrm flipH="1" rot="16200000">
            <a:off x="4194720" y="2260440"/>
            <a:ext cx="68004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0" name="Łącznik prosty ze strzałką 17"/>
          <p:cNvCxnSpPr>
            <a:stCxn id="376" idx="2"/>
          </p:cNvCxnSpPr>
          <p:nvPr/>
        </p:nvCxnSpPr>
        <p:spPr>
          <a:xfrm>
            <a:off x="5508720" y="2214360"/>
            <a:ext cx="72000" cy="2480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1" name="Łącznik prosty ze strzałką 20"/>
          <p:cNvCxnSpPr/>
          <p:nvPr/>
        </p:nvCxnSpPr>
        <p:spPr>
          <a:xfrm flipH="1">
            <a:off x="6226920" y="2214360"/>
            <a:ext cx="158508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2" name="Łącznik prosty ze strzałką 22"/>
          <p:cNvCxnSpPr>
            <a:stCxn id="374" idx="1"/>
          </p:cNvCxnSpPr>
          <p:nvPr/>
        </p:nvCxnSpPr>
        <p:spPr>
          <a:xfrm flipH="1" flipV="1">
            <a:off x="6732000" y="3396600"/>
            <a:ext cx="432360" cy="10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83" name="Prostokąt 2"/>
          <p:cNvSpPr/>
          <p:nvPr/>
        </p:nvSpPr>
        <p:spPr>
          <a:xfrm>
            <a:off x="3059280" y="5702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tillit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Powstanie uniwersytetó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2323800"/>
            <a:ext cx="8136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XII w  Szkoły katedralne i miejskie – wprowadzono naukę czytania i listów. Przekształciły się one Uniwersytety.  Zaczęto je określać mianem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, a późniejsze bulle papieskie uznały ich względną autonomię i międzynarodowy status.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pozostało do końca średniowiecza oficjalną nazwą uniwersytetu Pojęcie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wersytetu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versitas magistrorum et scholarium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) pojawia się dopiero 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2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entury Gothic"/>
              </a:rPr>
              <a:t>http://histmag.org/Slowa-Platona-lub-o-niedostatkach-pospiesznego-czytania-filozofow-427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ww.tillit.pl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 </a:t>
            </a: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</a:t>
            </a:r>
            <a:br>
              <a:rPr sz="4900"/>
            </a:b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Antyczne korzenie średniowiecznego szkolnictw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920" y="1341000"/>
            <a:ext cx="374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0" i="1" lang="pl-PL" sz="1800" spc="-1" strike="noStrike">
                <a:solidFill>
                  <a:srgbClr val="3e3d2d"/>
                </a:solidFill>
                <a:latin typeface="Century Gothic"/>
              </a:rPr>
              <a:t>akademe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 – szkoła założona w Atenach ok. 387 p.n.e. przez Platona, istniała do 529, kiedy została zlikwidowana przez cesarza bizantyjskiego Justynian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Mieściła się w gaju poświęconym herosowi ateńskiemu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osowi,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od którego imienia pochodzi jej nazw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Zajmowano się w niej przede wszystkim filozofią i matematyką, a także retoryką i naukami przyrodniczymi. Legenda głosi, że widniał na niej napis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Ageōmétrētos mēdeìs eisítō.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ἀγεωμέτρητος  μηδεὶς  εἰσίτω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Niech nie wchodzi nikt nieobeznany z geometrią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0" name="Prostokąt 5"/>
          <p:cNvSpPr/>
          <p:nvPr/>
        </p:nvSpPr>
        <p:spPr>
          <a:xfrm>
            <a:off x="3995640" y="5311800"/>
            <a:ext cx="453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kademia Platońska – mozaika z Pompejów http://histmag.org/Slowa-Platona-lub-o-niedostatkach-pospiesznego-czytania-filozofow-427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383000" y="1273320"/>
            <a:ext cx="41148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545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Wczesne średniowiecze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360" y="1628640"/>
            <a:ext cx="74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ielka wędrówka ludów u schyłku starożytności i na początku wieków średnich doprowadziła do zderzenia się dwóch zupełnie odmiennych kultur: rzymsko – chrześcijańskiej i pogańskiej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raz z upadkiem miast przestały  istnieć rzymskie szkoły publiczne , zanikała umiejętność czytania i pisania wśród ludzi świeckich. Władcom, podobnie jak wojownikom wykształcenie nie było potrzebn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4c600"/>
                </a:solidFill>
                <a:latin typeface="Century Gothic"/>
              </a:rPr>
              <a:t>Gdzie odbywało się kształcenie i nauczanie w pierwszych średniowiecznych monarchiach?</a:t>
            </a:r>
            <a:br>
              <a:rPr sz="2400"/>
            </a:b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KLASZTORY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zkoły klasztorne są dziełem Benedyktów, zakonu założonego przez Św. Benedykta z Nursji. Pierwszy wzorowy klasztor został założony na Monte Cassino w 529 roku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szkołach klasztornych kształcono tylko mnichó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Obraz 3" descr="http://upload.wikimedia.org/wikipedia/commons/thumb/4/48/Monte_Cassino_Fasada_Kosciol.JPG/200px-Monte_Cassino_Fasada_Kosciol.JPG"/>
          <p:cNvPicPr/>
          <p:nvPr/>
        </p:nvPicPr>
        <p:blipFill>
          <a:blip r:embed="rId1"/>
          <a:stretch/>
        </p:blipFill>
        <p:spPr>
          <a:xfrm>
            <a:off x="4716360" y="2000160"/>
            <a:ext cx="2481480" cy="2005200"/>
          </a:xfrm>
          <a:prstGeom prst="rect">
            <a:avLst/>
          </a:prstGeom>
          <a:ln w="0">
            <a:noFill/>
          </a:ln>
        </p:spPr>
      </p:pic>
      <p:sp>
        <p:nvSpPr>
          <p:cNvPr id="357" name="Prostokąt 4"/>
          <p:cNvSpPr/>
          <p:nvPr/>
        </p:nvSpPr>
        <p:spPr>
          <a:xfrm>
            <a:off x="493236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lasztor Benedyktynów na Monte Cassino www.wikipedia.p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Przełom – reformy Karola Wielkieg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Symbol zastępczy zawartości 3" descr="http://radtrap.files.wordpress.com/2012/02/srednn1.jpg"/>
          <p:cNvPicPr/>
          <p:nvPr/>
        </p:nvPicPr>
        <p:blipFill>
          <a:blip r:embed="rId1"/>
          <a:stretch/>
        </p:blipFill>
        <p:spPr>
          <a:xfrm>
            <a:off x="1258920" y="213372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360" name="Prostokąt 4"/>
          <p:cNvSpPr/>
          <p:nvPr/>
        </p:nvSpPr>
        <p:spPr>
          <a:xfrm>
            <a:off x="4067280" y="32446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radtrap.wordpress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620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Reforma karolińska w dziedzinie nauki i oświaty </a:t>
            </a: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opierała   się na trzech elementach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tradycji germańskiej,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antycznej kulturze rzymskiej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chrześcijaństwie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dstawową nauczania w szkole pałacowej był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siedem sztuk wyzwolonych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zbogaconych o naukę 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Piśmie Świętym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 szkole nauczano także zasad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ncelaryjnych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czyli umiejętności redagowania dekretów królewskich i cesarski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Symbol zastępczy zawartości 4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3743280"/>
          </a:xfrm>
          <a:prstGeom prst="rect">
            <a:avLst/>
          </a:prstGeom>
          <a:ln w="0">
            <a:noFill/>
          </a:ln>
        </p:spPr>
      </p:pic>
      <p:sp>
        <p:nvSpPr>
          <p:cNvPr id="363" name="Prostokąt 5"/>
          <p:cNvSpPr/>
          <p:nvPr/>
        </p:nvSpPr>
        <p:spPr>
          <a:xfrm>
            <a:off x="4572000" y="472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ykład z filozofii </a:t>
            </a:r>
            <a:r>
              <a:rPr b="0" lang="pl-PL" sz="1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histmag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XI wiek – rozkwit średniowiecz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Językiem obowiązującym w Europie była łacin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 mocy IV soboru laterańskiego, papież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Innocenty III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15 roku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kazał przy każdej parafii i katedrze zakładać szkoły, aby przygotowywały one młodych chłopców do służby Bogu. Z czasem jednak oprócz duchownych kształcono w nich urzędników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42560" y="1557000"/>
            <a:ext cx="67690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Europie zachodniej nastąpiło ożywienie gospodarcze a co za tym idzie rozwój kultury miejskiej. Intensywny rozwój zainteresowań filozoficznych i naukowych doprowadził do tego, że było trzeba otworzyć takie szkoły, gdzie uczniowie mogliby wypowiadać własne myśli i poglądy w różnych sprawach. Tą nową formę nauki nazwano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uniwersytetem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truktura szkół w średniowieczu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parafi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 to najniższy stopień szkół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Uczono w nich przede wszystkim łaciny: gramatyki, czytania i pisan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lasztor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te powstawały w pierwszych wiekach średniowiecza, głównie przy klasztorach benedyktynów (np. w Tyńcu) i cystersów (np. w Mogil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bały głównie o wychowanie religijne, większość wychowanków trafiała do stanu duchownego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atedr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y to szkoły pod patronatem biskupów diecezjalnych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częły powstawać już w XI wiek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9-18T20:03:12Z</dcterms:modified>
  <cp:revision>25</cp:revision>
  <dc:subject>szablon prezentacji KPW</dc:subject>
  <dc:title>Zrównoważony rozwój</dc:title>
</cp:coreProperties>
</file>