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5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7DAD-C8B1-4CBC-9F58-9E68F49EEA9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DC42-0CB1-472F-8685-D8A67C65694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BF2-D732-4F56-8DF4-4959B1D7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B9F-3D57-4882-BE7F-B351B7C8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840-9D6C-4EED-84D3-2FEC269F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F71-FFEC-4E95-9BC1-AB575E69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2E66-47C8-4DAC-8F3A-FFD42B27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D630-3C72-435C-B7DD-21FB2149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2D8B-0AC7-4453-86C3-4798DDAB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8048-F833-4D45-A58C-6DC9B495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6CD1-4342-4E3B-A3FD-C5768BC8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EE4D-C567-4496-A20E-0F8A8905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213A-2402-463E-A7F2-D1D1CAD1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B99-76B2-4AE9-BA09-5FCD94DB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C9F3-F758-4495-B066-67F9F68B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C1DC-1D0E-4A32-818E-F5191AB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4690-933A-4457-8C52-2505CFA8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BAD7-F4F2-4EE0-ADB0-EEF0EC80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2A33-F478-4A9A-BF63-D3DD6D40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1AE-92BE-4AA8-AEE1-10E153BE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839-6E8B-48D2-8CE4-D303A843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49B-FBF8-4E76-BD99-101EAD8E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C85-D200-4C5E-9D82-B1A7219E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A0C-B4F7-4E05-B9ED-C56E2347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537-E819-4EAD-A93B-361475ED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42E-C4EB-41DB-B344-EB70210B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B6BD-ACB3-4389-A5EF-3832DF9EFC6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0F7F-B742-4DB3-9BAE-811924BD52E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hyperlink" Target="http://www.revelation2seven.org/UsedImages/pg208.gif" TargetMode="External"/><Relationship Id="rId5" Type="http://schemas.openxmlformats.org/officeDocument/2006/relationships/hyperlink" Target="http://www.kominek.in/2012/03/cztery-zagadki-i-jedna-odpowiedz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www.kominek.in/2012/03/cztery-zagadki-i-jedna-odpowiedz/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kominek.in/2012/03/cztery-zagadki-i-jedna-odpowiedz/" TargetMode="External"/><Relationship Id="rId5" Type="http://schemas.openxmlformats.org/officeDocument/2006/relationships/hyperlink" Target="http://pl.wikipedia.org/wiki/Plik:Goddess_nut.jpg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hyperlink" Target="http://pl.wikipedia.org/wiki/Plik:Anaximander_world_map-pl.svg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png"/><Relationship Id="rId3" Type="http://schemas.openxmlformats.org/officeDocument/2006/relationships/hyperlink" Target="http://pl.wikipedia.org/wiki/Plik:Anaximander_world_map-pl.svg" TargetMode="External"/><Relationship Id="rId4" Type="http://schemas.openxmlformats.org/officeDocument/2006/relationships/hyperlink" Target="http://pl.wikipedia.org/wiki/Arch&#233;" TargetMode="External"/><Relationship Id="rId5" Type="http://schemas.openxmlformats.org/officeDocument/2006/relationships/hyperlink" Target="http://pl.wikipedia.org/wiki/Woda" TargetMode="Externa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ecka zdolność do abstrakcji i jej konsekwencje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.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C:\Documents and Settings\Grzes\Pulpit\d.wmf"/>
          <p:cNvPicPr/>
          <p:nvPr/>
        </p:nvPicPr>
        <p:blipFill>
          <a:blip r:embed="rId1"/>
          <a:stretch/>
        </p:blipFill>
        <p:spPr>
          <a:xfrm>
            <a:off x="826920" y="1197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mądrzejszy ze starożytnych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Arystoteles głosił zasadę złotego środka. Przez późniejsze pokolenia uważany był za człowieka, który podsumował wiedzę starożytności grecki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5"/>
          <p:cNvSpPr/>
          <p:nvPr/>
        </p:nvSpPr>
        <p:spPr>
          <a:xfrm>
            <a:off x="971640" y="47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łowiek powinien dążyć do cnoty - Arystote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upload.wikimedia.org/wikipedia/commons/thumb/a/ae/Aristotle_Altemps_Inv8575.jpg/220px-Aristotle_Altemps_Inv8575.jpg"/>
          <p:cNvPicPr/>
          <p:nvPr/>
        </p:nvPicPr>
        <p:blipFill>
          <a:blip r:embed="rId1"/>
          <a:stretch/>
        </p:blipFill>
        <p:spPr>
          <a:xfrm>
            <a:off x="684360" y="1700280"/>
            <a:ext cx="2095200" cy="280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27936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7"/>
          <p:cNvSpPr/>
          <p:nvPr/>
        </p:nvSpPr>
        <p:spPr>
          <a:xfrm>
            <a:off x="2916360" y="2133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8"/>
          <p:cNvSpPr/>
          <p:nvPr/>
        </p:nvSpPr>
        <p:spPr>
          <a:xfrm>
            <a:off x="46836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te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9"/>
          <p:cNvSpPr/>
          <p:nvPr/>
        </p:nvSpPr>
        <p:spPr>
          <a:xfrm>
            <a:off x="234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z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0"/>
          <p:cNvSpPr/>
          <p:nvPr/>
        </p:nvSpPr>
        <p:spPr>
          <a:xfrm>
            <a:off x="133200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g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11"/>
          <p:cNvSpPr/>
          <p:nvPr/>
        </p:nvSpPr>
        <p:spPr>
          <a:xfrm>
            <a:off x="356400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graf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12"/>
          <p:cNvSpPr/>
          <p:nvPr/>
        </p:nvSpPr>
        <p:spPr>
          <a:xfrm>
            <a:off x="356400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13"/>
          <p:cNvSpPr/>
          <p:nvPr/>
        </p:nvSpPr>
        <p:spPr>
          <a:xfrm>
            <a:off x="550872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edycy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Łącznik prosty ze strzałką 15"/>
          <p:cNvCxnSpPr>
            <a:endCxn id="149" idx="0"/>
          </p:cNvCxnSpPr>
          <p:nvPr/>
        </p:nvCxnSpPr>
        <p:spPr>
          <a:xfrm flipH="1">
            <a:off x="2267640" y="2565000"/>
            <a:ext cx="86436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Łącznik prosty ze strzałką 17"/>
          <p:cNvCxnSpPr/>
          <p:nvPr/>
        </p:nvCxnSpPr>
        <p:spPr>
          <a:xfrm flipH="1">
            <a:off x="1402560" y="3284280"/>
            <a:ext cx="36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Łącznik prosty ze strzałką 19"/>
          <p:cNvCxnSpPr>
            <a:stCxn id="149" idx="2"/>
          </p:cNvCxnSpPr>
          <p:nvPr/>
        </p:nvCxnSpPr>
        <p:spPr>
          <a:xfrm>
            <a:off x="2268360" y="3293640"/>
            <a:ext cx="432720" cy="35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Łącznik prosty ze strzałką 21"/>
          <p:cNvCxnSpPr/>
          <p:nvPr/>
        </p:nvCxnSpPr>
        <p:spPr>
          <a:xfrm>
            <a:off x="3634920" y="2492280"/>
            <a:ext cx="577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Łącznik prosty ze strzałką 23"/>
          <p:cNvCxnSpPr/>
          <p:nvPr/>
        </p:nvCxnSpPr>
        <p:spPr>
          <a:xfrm>
            <a:off x="3131640" y="3933360"/>
            <a:ext cx="36108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Łącznik prosty ze strzałką 25"/>
          <p:cNvCxnSpPr/>
          <p:nvPr/>
        </p:nvCxnSpPr>
        <p:spPr>
          <a:xfrm>
            <a:off x="3995640" y="2349000"/>
            <a:ext cx="165672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Hipokrates – wzór dla lekar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ole tekstowe 5"/>
          <p:cNvSpPr/>
          <p:nvPr/>
        </p:nvSpPr>
        <p:spPr>
          <a:xfrm>
            <a:off x="0" y="3573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il.bielsko.pl/gfx/SKMBT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7" descr="http://www.bil.bielsko.pl/gfx/SKMBT.jpg"/>
          <p:cNvPicPr/>
          <p:nvPr/>
        </p:nvPicPr>
        <p:blipFill>
          <a:blip r:embed="rId1"/>
          <a:stretch/>
        </p:blipFill>
        <p:spPr>
          <a:xfrm>
            <a:off x="2627280" y="1700280"/>
            <a:ext cx="6056280" cy="419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2. Grecy wierzyli, że świat jest do opisania przy użyciu matematyki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4"/>
          <p:cNvSpPr/>
          <p:nvPr/>
        </p:nvSpPr>
        <p:spPr>
          <a:xfrm>
            <a:off x="395280" y="4581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Pitagor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azywiedzy.com/gfx/twierdzenie-Pitagorasa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6"/>
          <p:cNvSpPr/>
          <p:nvPr/>
        </p:nvSpPr>
        <p:spPr>
          <a:xfrm>
            <a:off x="5580000" y="465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Tal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9" descr="http://www.bazywiedzy.com/gfx/twierdzenie-Pitagorasa.png"/>
          <p:cNvPicPr/>
          <p:nvPr/>
        </p:nvPicPr>
        <p:blipFill>
          <a:blip r:embed="rId1"/>
          <a:stretch/>
        </p:blipFill>
        <p:spPr>
          <a:xfrm>
            <a:off x="755640" y="126828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Documents and Settings\Grzes\Pulpit\d.wmf"/>
          <p:cNvPicPr/>
          <p:nvPr/>
        </p:nvPicPr>
        <p:blipFill>
          <a:blip r:embed="rId2"/>
          <a:stretch/>
        </p:blipFill>
        <p:spPr>
          <a:xfrm>
            <a:off x="4284720" y="1413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3. Jak przy pomocy studni i matematyki obliczyć obwód Ziemi, czyli Eartost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019640" y="1988640"/>
            <a:ext cx="118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898989"/>
                </a:solidFill>
                <a:latin typeface="Calibri"/>
              </a:rPr>
              <a:t>Źródło:http://upload.wikimedia.org/wikipedia/commons/b/be/Eratosthenes_%26_measurement_of_the_Earth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http://upload.wikimedia.org/wikipedia/commons/b/be/Eratosthenes_%26_measurement_of_the_Earth.png"/>
          <p:cNvPicPr/>
          <p:nvPr/>
        </p:nvPicPr>
        <p:blipFill>
          <a:blip r:embed="rId1"/>
          <a:stretch/>
        </p:blipFill>
        <p:spPr>
          <a:xfrm>
            <a:off x="826920" y="1884240"/>
            <a:ext cx="5473800" cy="377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Mezopotami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9" descr="http://www.revelation2seven.org/UsedImages/pg208.gif"/>
          <p:cNvPicPr/>
          <p:nvPr/>
        </p:nvPicPr>
        <p:blipFill>
          <a:blip r:embed="rId2"/>
          <a:stretch/>
        </p:blipFill>
        <p:spPr>
          <a:xfrm>
            <a:off x="6227640" y="2789280"/>
            <a:ext cx="2916360" cy="287172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8"/>
          <p:cNvSpPr/>
          <p:nvPr/>
        </p:nvSpPr>
        <p:spPr>
          <a:xfrm>
            <a:off x="4788000" y="5084640"/>
            <a:ext cx="216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revelation2seven.org/UsedImages/pg208.gif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ymbol zastępczy zawartości 2"/>
          <p:cNvSpPr/>
          <p:nvPr/>
        </p:nvSpPr>
        <p:spPr>
          <a:xfrm>
            <a:off x="468360" y="1484280"/>
            <a:ext cx="74278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Przed Grekami każda kultura inaczej wyobrażała sobie świ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ymbol zastępczy zawartości 2"/>
          <p:cNvSpPr/>
          <p:nvPr/>
        </p:nvSpPr>
        <p:spPr>
          <a:xfrm>
            <a:off x="0" y="2492280"/>
            <a:ext cx="622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Sumerowie wyobrażali go sobie jako sferę, podzieloną na trzy strefy – Nieba, Ziemi i świata podziemnego. Ich piramidy (Zikkuraty) były więc pomalowane na trzy kolory – niebieski, czarny i czerwo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Egipcjanie 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6"/>
          <p:cNvSpPr/>
          <p:nvPr/>
        </p:nvSpPr>
        <p:spPr>
          <a:xfrm>
            <a:off x="4140360" y="2924280"/>
            <a:ext cx="216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Plik:Goddess nut.jpg"/>
          <p:cNvPicPr/>
          <p:nvPr/>
        </p:nvPicPr>
        <p:blipFill>
          <a:blip r:embed="rId3"/>
          <a:stretch/>
        </p:blipFill>
        <p:spPr>
          <a:xfrm>
            <a:off x="250920" y="1197000"/>
            <a:ext cx="6402240" cy="466560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8"/>
          <p:cNvSpPr/>
          <p:nvPr/>
        </p:nvSpPr>
        <p:spPr>
          <a:xfrm>
            <a:off x="6732720" y="4724280"/>
            <a:ext cx="216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pl.wikipedia.org/wiki/Plik:Goddess_nut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877080" y="1700280"/>
            <a:ext cx="194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wyobrażeń Egipcjan, boska Nut obejmuje Ziemi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Hindus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ziemia na trzech sloniach"/>
          <p:cNvPicPr/>
          <p:nvPr/>
        </p:nvPicPr>
        <p:blipFill>
          <a:blip r:embed="rId2"/>
          <a:stretch/>
        </p:blipFill>
        <p:spPr>
          <a:xfrm>
            <a:off x="395280" y="3027240"/>
            <a:ext cx="4176720" cy="312732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6"/>
          <p:cNvSpPr/>
          <p:nvPr/>
        </p:nvSpPr>
        <p:spPr>
          <a:xfrm>
            <a:off x="1042920" y="2421000"/>
            <a:ext cx="216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ymbol zastępczy zawartości 2"/>
          <p:cNvSpPr/>
          <p:nvPr/>
        </p:nvSpPr>
        <p:spPr>
          <a:xfrm>
            <a:off x="4716360" y="2421000"/>
            <a:ext cx="3996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Hindusi wyobrażali go sobie jako tarczę na grzbietach słoni, unoszonych przez żółwia. Wyobrażenie to wykorzystał Terry Pratchett w swoim cyklu „Świat Dysku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eccy filozofowie i ich wyobrażenie Zie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Jońscy filozofowie przyrody (VII-VI w. p.n.e.) pochodzili z narodu żeglarzy. Dla nich zakrzywienie Ziemi było normą. Najpierw widzieli ją jako walec. Wkrótce uznali ją za kulę. Już Anaksymander potrafił opisać świat jak na rysunk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Plik:Anaximander world map-pl.svg"/>
          <p:cNvPicPr/>
          <p:nvPr/>
        </p:nvPicPr>
        <p:blipFill>
          <a:blip r:embed="rId2"/>
          <a:stretch/>
        </p:blipFill>
        <p:spPr>
          <a:xfrm>
            <a:off x="2556000" y="3357720"/>
            <a:ext cx="2520720" cy="252072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6"/>
          <p:cNvSpPr/>
          <p:nvPr/>
        </p:nvSpPr>
        <p:spPr>
          <a:xfrm>
            <a:off x="7020000" y="378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eccy filozofowie i ich wyobrażenie Zie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Tales, Anaksymander, Anaksymenes i Heraklit zadawali sobie pytanie, z czego skonstruowany jest świat? Co jest jego początkiem i zasad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Cztery żywioły w kole alchemicznym"/>
          <p:cNvPicPr/>
          <p:nvPr/>
        </p:nvPicPr>
        <p:blipFill>
          <a:blip r:embed="rId2"/>
          <a:stretch/>
        </p:blipFill>
        <p:spPr>
          <a:xfrm>
            <a:off x="3132000" y="2852640"/>
            <a:ext cx="2941920" cy="2986200"/>
          </a:xfrm>
          <a:prstGeom prst="rect">
            <a:avLst/>
          </a:prstGeom>
          <a:ln w="0">
            <a:noFill/>
          </a:ln>
        </p:spPr>
      </p:pic>
      <p:sp>
        <p:nvSpPr>
          <p:cNvPr id="119" name="Prostokąt 6"/>
          <p:cNvSpPr/>
          <p:nvPr/>
        </p:nvSpPr>
        <p:spPr>
          <a:xfrm>
            <a:off x="7093080" y="522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ymbol zastępczy zawartości 2"/>
          <p:cNvSpPr/>
          <p:nvPr/>
        </p:nvSpPr>
        <p:spPr>
          <a:xfrm>
            <a:off x="250920" y="2708280"/>
            <a:ext cx="259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Odpowiadali róż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484360" y="4724280"/>
            <a:ext cx="15829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ymbol zastępczy zawartości 2"/>
          <p:cNvSpPr/>
          <p:nvPr/>
        </p:nvSpPr>
        <p:spPr>
          <a:xfrm>
            <a:off x="468360" y="378936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ymbol zastępczy zawartości 2"/>
          <p:cNvSpPr/>
          <p:nvPr/>
        </p:nvSpPr>
        <p:spPr>
          <a:xfrm>
            <a:off x="0" y="407664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Tales -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arché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 jest 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wod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zawartości 2"/>
          <p:cNvSpPr/>
          <p:nvPr/>
        </p:nvSpPr>
        <p:spPr>
          <a:xfrm>
            <a:off x="179280" y="4797360"/>
            <a:ext cx="287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Anaksymander - arché jest bezkres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zawartości 2"/>
          <p:cNvSpPr/>
          <p:nvPr/>
        </p:nvSpPr>
        <p:spPr>
          <a:xfrm>
            <a:off x="6084720" y="393372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Anaksymenes - arché jest powietrz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5867280" y="429264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ymbol zastępczy zawartości 2"/>
          <p:cNvSpPr/>
          <p:nvPr/>
        </p:nvSpPr>
        <p:spPr>
          <a:xfrm>
            <a:off x="6012000" y="2708280"/>
            <a:ext cx="259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Heraklit - arché jest ogień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17"/>
          <p:cNvSpPr/>
          <p:nvPr/>
        </p:nvSpPr>
        <p:spPr>
          <a:xfrm flipH="1">
            <a:off x="4788000" y="3141720"/>
            <a:ext cx="201600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Świat zbudowano z niepodzielnych atom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rostokąt 22"/>
          <p:cNvSpPr/>
          <p:nvPr/>
        </p:nvSpPr>
        <p:spPr>
          <a:xfrm>
            <a:off x="1187280" y="5516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mokryt z Abder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(ur. ok. 460 p.n.e., zm. ok. 370 p.n.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4" descr="Plik:Democritus2.jpg"/>
          <p:cNvPicPr/>
          <p:nvPr/>
        </p:nvPicPr>
        <p:blipFill>
          <a:blip r:embed="rId1"/>
          <a:stretch/>
        </p:blipFill>
        <p:spPr>
          <a:xfrm>
            <a:off x="1619280" y="2060640"/>
            <a:ext cx="2448000" cy="338436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24"/>
          <p:cNvSpPr/>
          <p:nvPr/>
        </p:nvSpPr>
        <p:spPr>
          <a:xfrm>
            <a:off x="4500720" y="292428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kogo to dziś nie dziwi. Ale Demokryt miał wielu przeciwnik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Początki refleksji nad człowiekiem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Złoty wiek Aten przyniósł namysł nad człowiekiem. W ten sposób filozofia stała się matką nie tylko fizyki i chemii, ale także psycholo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8" descr="sokrates"/>
          <p:cNvPicPr/>
          <p:nvPr/>
        </p:nvPicPr>
        <p:blipFill>
          <a:blip r:embed="rId1"/>
          <a:stretch/>
        </p:blipFill>
        <p:spPr>
          <a:xfrm>
            <a:off x="755640" y="1557360"/>
            <a:ext cx="3311640" cy="3527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4284720" y="37893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okrates zastanawiał się, jak dojść do prawdy o człowieku, ukrytej w człowie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Uczniowie Sokratesa i wielkie pytania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Dziś twierdzi się, że cała filozofia to komentarz do Platona. W swoich dziełach stworzył koncepcję, według której nasz świat jest bladym odbiciem świata idealnego, do którego można dotrzeć tylko poprzez mądroś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5"/>
          <p:cNvSpPr/>
          <p:nvPr/>
        </p:nvSpPr>
        <p:spPr>
          <a:xfrm>
            <a:off x="971640" y="4797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 jest brakiem mądrości – człowiek powinien dążyć do mądrości i przekazania jej innym - Pla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upload.wikimedia.org/wikipedia/commons/thumb/7/79/Platon-2.jpg/220px-Platon-2.jpg"/>
          <p:cNvPicPr/>
          <p:nvPr/>
        </p:nvPicPr>
        <p:blipFill>
          <a:blip r:embed="rId1"/>
          <a:stretch/>
        </p:blipFill>
        <p:spPr>
          <a:xfrm>
            <a:off x="1403280" y="1773360"/>
            <a:ext cx="2095560" cy="29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1T21:29:36Z</dcterms:modified>
  <cp:revision>61</cp:revision>
  <dc:subject/>
  <dc:title>Slajd 1</dc:title>
</cp:coreProperties>
</file>