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2D21-1351-4D31-960E-FF03896E57C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CDC3-7B56-49EF-90B9-2614A540BD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9D7-277F-4DD0-8002-C0A38B94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B3C-6F1A-4817-AFF4-ECAE6FD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A85-CDE8-4520-BE3A-224CA02C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3A8-C153-4E80-ADFA-D0E948E3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4AB-A415-4E0C-A082-9DF432E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40AF-846D-46F1-A9E5-DEB608D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8C79-07ED-4941-89F1-9A17028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A6F-51FA-430D-9C59-E655B9B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57C2-BC1D-4F87-82F2-E81F7B27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6E4-7893-46F7-BF74-FE3848C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8AF-6B80-470A-9669-BCCF465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CCA-63F6-4652-A9AE-4D3F8BD1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5069-604E-4A40-BB81-EA80A91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ECC7-3ADE-4A67-86E7-C1B4CA23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E0C-6F43-4F67-A094-EAF15EA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BA7-10CD-4B26-B102-5B8E5FAD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5348-DB83-403F-ABB3-D2D94EEB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102-A297-43FA-A5C5-1B8B4135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CBA-6C88-49DE-A8F0-41711029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9B1-96F0-4A5F-880C-FCAF9E4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B60-4E70-4F3B-A8BB-AD05097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D64-E2C0-4136-85B3-581918EF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74B-FDBF-40F4-9C08-37FA853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892-A3AC-41C6-8236-59BEE56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7FF0-C0A5-4A18-86EF-DE5CA6BDA14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F31-C147-430F-A5A8-3622998F831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lik:Charles Darwin seated.jpg"/>
          <p:cNvPicPr/>
          <p:nvPr/>
        </p:nvPicPr>
        <p:blipFill>
          <a:blip r:embed="rId1"/>
          <a:stretch/>
        </p:blipFill>
        <p:spPr>
          <a:xfrm>
            <a:off x="395280" y="836640"/>
            <a:ext cx="319716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4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n genialny „bezbożnik”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KAROL DARW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532080"/>
            <a:ext cx="6408720" cy="22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chodzeniu człowieka i doborze w odniesieniu do pł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341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owiec „włożył kij w mrowisko”, sugerując delikatnie, że człowiek pochodzi „prawdopodobnie” od małp człekokształt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zewem były liczne karykatu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Plik:Editorial cartoon depicting Charles Darwin as an ape (1871).jpg"/>
          <p:cNvPicPr/>
          <p:nvPr/>
        </p:nvPicPr>
        <p:blipFill>
          <a:blip r:embed="rId1"/>
          <a:stretch/>
        </p:blipFill>
        <p:spPr>
          <a:xfrm>
            <a:off x="1139760" y="2774880"/>
            <a:ext cx="2355840" cy="316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yba najbardziej znana karykatura brytyjskiego uczonego"/>
          <p:cNvPicPr/>
          <p:nvPr/>
        </p:nvPicPr>
        <p:blipFill>
          <a:blip r:embed="rId2"/>
          <a:stretch/>
        </p:blipFill>
        <p:spPr>
          <a:xfrm>
            <a:off x="6516720" y="2421000"/>
            <a:ext cx="15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arwin i dama"/>
          <p:cNvPicPr/>
          <p:nvPr/>
        </p:nvPicPr>
        <p:blipFill>
          <a:blip r:embed="rId3"/>
          <a:stretch/>
        </p:blipFill>
        <p:spPr>
          <a:xfrm>
            <a:off x="3635280" y="2781360"/>
            <a:ext cx="2592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z Kościołem anglikań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1341360"/>
            <a:ext cx="554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uczyciele Darwina z Cambridge protestowali przeciw jego poglą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skup Samuel Wilberforce  protestował przeciw jak się wyraził „pochodzeniu od małpy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oma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przyjaciel Darwina, nazwał to sporem z „przesądem i ignorancją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arwin niszczy &quot;przesądy&quot; i &quot;ignorancję&quot;"/>
          <p:cNvPicPr/>
          <p:nvPr/>
        </p:nvPicPr>
        <p:blipFill>
          <a:blip r:embed="rId1"/>
          <a:stretch/>
        </p:blipFill>
        <p:spPr>
          <a:xfrm>
            <a:off x="5435640" y="2421000"/>
            <a:ext cx="34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Pierwsi ewolucjoniści – ewolucja niejedno ma imię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Młodość i studia Darwina – zanim powstało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 powstaniu gatunków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133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odróż życia (1831-183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Wielki rejs HMS Beagle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„Zięby Darwin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Walka o byt – istota darwi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wstawaniu gatunków (1859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chodzeniu człowieka i doborze w odniesieniu do pł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Spór z Kościołem anglikań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i ewolucjoniści -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niejedno ma imię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 XVIII w. zakładano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olu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przyrodzie, twórcami pierwszych teorii ewolucji b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an Baptiste d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Plik:Jean-baptiste lamarck2.jpg"/>
          <p:cNvPicPr/>
          <p:nvPr/>
        </p:nvPicPr>
        <p:blipFill>
          <a:blip r:embed="rId1"/>
          <a:stretch/>
        </p:blipFill>
        <p:spPr>
          <a:xfrm>
            <a:off x="5796000" y="2781360"/>
            <a:ext cx="3022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ile:Chambers-1.jpg"/>
          <p:cNvPicPr/>
          <p:nvPr/>
        </p:nvPicPr>
        <p:blipFill>
          <a:blip r:embed="rId2"/>
          <a:stretch/>
        </p:blipFill>
        <p:spPr>
          <a:xfrm>
            <a:off x="4038480" y="3887640"/>
            <a:ext cx="17654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Strzałka w prawo 5"/>
          <p:cNvSpPr/>
          <p:nvPr/>
        </p:nvSpPr>
        <p:spPr>
          <a:xfrm>
            <a:off x="5275440" y="314640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załka w prawo 5"/>
          <p:cNvSpPr/>
          <p:nvPr/>
        </p:nvSpPr>
        <p:spPr>
          <a:xfrm>
            <a:off x="3059280" y="494172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łodość i studia Darwina – zanim powstało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O powstawaniu gatunk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rodził się w Shrewsbury 12 lutego 18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udiował medycynę w Edynburg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ał zostać duchownym – w tym celu studiował w Cambridge do 1831 rok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resował się raczej biologią i geolog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róż życia (1831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Podróż na HMS Beagle z kapitanem Fitzroyem do wybrzeży Ameryki Południowej w charakterze pokładowego przyrodnika przerodziła się w podróż dookoła świat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398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i rejs HMS Bea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atki Darwina opublikował wraz ze swoimi kapitan Fitzroy. Były tak ciekawe, że Darwin zyskał sław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było w notatk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isy geologiczne, geograficzne, obserwacje przyrody, a nawet teoria o tworzeniu się raf koral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ęby Darwi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erwacja różnych gatunków zięb na wyspach Galapagos, pchnęła Darwina do sformułowania tezy o doborze natural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3236760" y="2924280"/>
            <a:ext cx="3033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alka o byt – istota darwi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aździerniku 1838 […] zdarzyło mi się przeczytać dla rozrywki esej Malthusa na temat lu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dobrze rozumiejąc, dzięki długiej obserwacji zwyczajów zwierząt i roślin, na czym polega wszechobecna walka o by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tychmiast przyszło mi do głowy, że w tych warunkach występowałaby tendencja do utrwalania zmian korzystnych, a zanikania zmian niekorzyst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em tego byłoby powstawanie nowych gatunków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wstawaniu gatunków (185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…] w każdym gatunku rodzi się daleko więcej osobników niż może przeżyć i ponieważ na skutek tego powstaje pomiędzy nimi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lka o by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nik, który pod wpływem skomplikowanych i nieraz zmiennych warunków zmieni się nieznacznie, lecz w sposób korzystny dla sieb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ędzie miał więcej widoków na utrzymanie się przy życiu i w ten sposób ulegnie działaniu doboru naturalne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zasadzie zaś potężnego prawa dziedziczności każda taka wyselekcjonowana odmiana będzie dążyć do przekazania potomstwu swej nowej, zmienionej postac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22:24:47Z</dcterms:modified>
  <cp:revision>9</cp:revision>
  <dc:subject/>
  <dc:title>Slajd 1</dc:title>
</cp:coreProperties>
</file>