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51D8-128D-40B7-9B2B-FF75157676E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C39-1A98-4A81-ABCB-5D6CC92B74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0A3-8F94-4115-9E06-B4EE5F88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475-7A7C-4E61-BD5E-C74169A0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A5C-8913-453A-8F13-020FE947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2EB-8AFE-4323-B0DC-010BA551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E28A-FD74-462B-95C0-0C6F5802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C8F-0552-42BA-91AA-4F1B39FA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E71F-D4B7-4010-B057-50A55E9D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1F42-75BD-4374-8B15-E4F6FCB3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0A71-DFD1-464F-98E6-E593D6F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4E8-DE22-4739-84B6-D93BF3B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A8C-79A5-4AC1-89CE-3B06123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703-F329-4BB1-AD1C-860DB37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1213-67C5-4A7D-9356-D6C8CB3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A02-140D-4160-A0D2-B91AF47E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D970-7965-43AE-902B-F2859592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BD23-CCDC-482C-95FD-0ED40E0B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7F3-A52C-4D3C-A3B3-2A3850C8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488-AA08-45FB-A7CE-F1CD213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DF9-B78F-415D-A500-3BB52A02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921-C52A-40B5-BA6E-51435F6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8F4-9A94-4059-8B65-FC41885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1AE-901C-4834-88D6-5652A6F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907-6C75-4D93-B8A5-C266518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3BF-B7A9-45A4-B948-CB18A7A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34DE-7846-47AC-8095-AFB4A2F3407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D648-8866-495A-8A22-937687D7BFF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hyperlink" Target="http://www.revelation2seven.org/UsedImages/pg208.gif" TargetMode="External"/><Relationship Id="rId7" Type="http://schemas.openxmlformats.org/officeDocument/2006/relationships/hyperlink" Target="http://www.kominek.in/2012/03/cztery-zagadki-i-jedna-odpowiedz/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l.wikipedia.org/wiki/Plik:Anaximander_world_map-pl.svg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Plik:David - The Death of Socrates.jpg"/>
          <p:cNvPicPr/>
          <p:nvPr/>
        </p:nvPicPr>
        <p:blipFill>
          <a:blip r:embed="rId1"/>
          <a:stretch/>
        </p:blipFill>
        <p:spPr>
          <a:xfrm>
            <a:off x="900000" y="1916280"/>
            <a:ext cx="3722760" cy="244944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5"/>
          <p:cNvSpPr/>
          <p:nvPr/>
        </p:nvSpPr>
        <p:spPr>
          <a:xfrm>
            <a:off x="1042920" y="4581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 wnętrzu człowieka mieszka prawda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284720" y="1915920"/>
            <a:ext cx="4572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5"/>
          <p:cNvSpPr/>
          <p:nvPr/>
        </p:nvSpPr>
        <p:spPr>
          <a:xfrm>
            <a:off x="61128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powinien dążyć do cnoty _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Łącznik prosty ze strzałką 15"/>
          <p:cNvCxnSpPr>
            <a:endCxn id="151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19"/>
          <p:cNvCxnSpPr>
            <a:stCxn id="151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edycyna grecka i jej wpływ na dzisiejsz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5"/>
          <p:cNvSpPr/>
          <p:nvPr/>
        </p:nvSpPr>
        <p:spPr>
          <a:xfrm>
            <a:off x="0" y="357336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7. Świat opisany matematycznie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020000" y="1988640"/>
            <a:ext cx="194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br>
              <a:rPr sz="1400"/>
            </a:br>
            <a:r>
              <a:rPr b="0" lang="pl-PL" sz="1400" spc="-1" strike="noStrike">
                <a:solidFill>
                  <a:srgbClr val="898989"/>
                </a:solidFill>
                <a:latin typeface="Calibri"/>
              </a:rPr>
              <a:t>http://upload.wikimedia.org/wikipedia/commons/b/be/Eratosthenes_%26_measurement_of_the_Earth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700280"/>
            <a:ext cx="5740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755640" y="1197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Wyobrażenia o świecie przed Grek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205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Świat to różne domy zbudowane z tych samych cegie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637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Najciekawszy jest człowiek – czyli zwrot w filozofii greckiej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26920" y="3141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26920" y="364500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Medycyna grecka i jej wpływ na dzisiejszą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82692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Świat opisany matematycz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Świat przed Grekami wyobrażano sobie jako tarczę, oblaną wokół wodą i położona na grzbiecie zwierząt, albo sferę złożoną z nieba, ziemi i og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ziemia na trzech sloniach"/>
          <p:cNvPicPr/>
          <p:nvPr/>
        </p:nvPicPr>
        <p:blipFill>
          <a:blip r:embed="rId2"/>
          <a:stretch/>
        </p:blipFill>
        <p:spPr>
          <a:xfrm>
            <a:off x="0" y="263700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09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http://www.revelation2seven.org/UsedImages/pg208.gif"/>
          <p:cNvPicPr/>
          <p:nvPr/>
        </p:nvPicPr>
        <p:blipFill>
          <a:blip r:embed="rId4"/>
          <a:stretch/>
        </p:blipFill>
        <p:spPr>
          <a:xfrm>
            <a:off x="6372360" y="3141720"/>
            <a:ext cx="255888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Jońscy filozofowie przyrody (VII-VI w. p.n.e.) nie tylko wyobrazili sobie ziemię jako walec, potem kulę, ale zaczęli poszukiwać źródła budowy ziemi, uznając jeden z „pierwiastków” (wodę, ogień, powietrze, ziemię) za źródło wszyst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1476360" y="3429000"/>
            <a:ext cx="230364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Plik:Anaximander world map-pl.svg"/>
          <p:cNvPicPr/>
          <p:nvPr/>
        </p:nvPicPr>
        <p:blipFill>
          <a:blip r:embed="rId3"/>
          <a:stretch/>
        </p:blipFill>
        <p:spPr>
          <a:xfrm>
            <a:off x="4572000" y="328464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ales z Mile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1628280"/>
            <a:ext cx="527688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ą (arché) jest 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gnes posiada dusz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szystko jest pełne bog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usze są nieśmierte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lik:Illustrerad Verldshistoria band I Ill 107.jpg"/>
          <p:cNvPicPr/>
          <p:nvPr/>
        </p:nvPicPr>
        <p:blipFill>
          <a:blip r:embed="rId1"/>
          <a:stretch/>
        </p:blipFill>
        <p:spPr>
          <a:xfrm>
            <a:off x="468360" y="1916280"/>
            <a:ext cx="2948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ander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ok. 610-546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apeiron (bezk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ydzielanie się z bezkresu związane jest z win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wierzęta lądowe wywodzą się ze zwierząt morsk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złowiek wywodzi się od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Plik:Anaximander.jpg"/>
          <p:cNvPicPr/>
          <p:nvPr/>
        </p:nvPicPr>
        <p:blipFill>
          <a:blip r:embed="rId1"/>
          <a:stretch/>
        </p:blipFill>
        <p:spPr>
          <a:xfrm>
            <a:off x="324000" y="1268280"/>
            <a:ext cx="25318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enes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(ok. 585 p.n.e - ok. 525 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684360" y="44370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Anaximenes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Plik:Anaximenes.jpg"/>
          <p:cNvPicPr/>
          <p:nvPr/>
        </p:nvPicPr>
        <p:blipFill>
          <a:blip r:embed="rId1"/>
          <a:stretch/>
        </p:blipFill>
        <p:spPr>
          <a:xfrm>
            <a:off x="684360" y="1341360"/>
            <a:ext cx="2552400" cy="3105360"/>
          </a:xfrm>
          <a:prstGeom prst="rect">
            <a:avLst/>
          </a:prstGeom>
          <a:ln w="0">
            <a:noFill/>
          </a:ln>
        </p:spPr>
      </p:pic>
      <p:sp>
        <p:nvSpPr>
          <p:cNvPr id="126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powiet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zależy od stopnia ściśnięcia powiet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eraklit z Efez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(ok. 540p.n.e. -ok. 480 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"/>
          <p:cNvSpPr/>
          <p:nvPr/>
        </p:nvSpPr>
        <p:spPr>
          <a:xfrm>
            <a:off x="6443640" y="4276800"/>
            <a:ext cx="23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og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e wszystkim istniej e równowaga przeciweińst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Plik:Heraclitus, Johannes Moreelse.jpg"/>
          <p:cNvPicPr/>
          <p:nvPr/>
        </p:nvPicPr>
        <p:blipFill>
          <a:blip r:embed="rId1"/>
          <a:stretch/>
        </p:blipFill>
        <p:spPr>
          <a:xfrm>
            <a:off x="179280" y="1557360"/>
            <a:ext cx="3267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to różne domy zbudowane z tych samych cegie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22"/>
          <p:cNvSpPr/>
          <p:nvPr/>
        </p:nvSpPr>
        <p:spPr>
          <a:xfrm>
            <a:off x="611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4" descr="Plik:Democritus2.jpg"/>
          <p:cNvPicPr/>
          <p:nvPr/>
        </p:nvPicPr>
        <p:blipFill>
          <a:blip r:embed="rId1"/>
          <a:stretch/>
        </p:blipFill>
        <p:spPr>
          <a:xfrm>
            <a:off x="75564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24"/>
          <p:cNvSpPr/>
          <p:nvPr/>
        </p:nvSpPr>
        <p:spPr>
          <a:xfrm>
            <a:off x="4788000" y="227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Świat składa się z małych , niepodzielnych cząstek zwanych atom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19:48:12Z</dcterms:modified>
  <cp:revision>61</cp:revision>
  <dc:subject/>
  <dc:title>Slajd 1</dc:title>
</cp:coreProperties>
</file>