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A3E-47BC-4D0E-842F-937CEED3574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BBAE-E45D-44DE-BDCA-4B97EE1181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21F-5DE0-45BF-A948-D2F1645C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2DC-E38C-42F1-8373-CA666BC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F6E-B0C8-454A-939A-5F0D1C40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CF6-D4EF-4633-A9AF-4CD59935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30A8-24C6-41B5-9848-844AF3A3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899-55B4-43EA-8DB2-5CBF4E29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E88-3402-479E-A027-1299676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7F4-18F6-4683-92D5-7A7E05F2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815-7AEE-4631-B0C1-6D8C78B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06AB-6793-4555-AEA2-FB2E8FD9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FD8-3AA7-45EA-A51E-A40E88A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5A4-CA00-4662-AA7A-343C9F26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DED-6837-4B8E-A4A6-5B6CE200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249-C3B5-4712-8A73-D65B860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597-A125-4144-AF6E-63E5AB59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89C-58DB-4962-98B7-2417CEAD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17B5-0DEB-4785-8161-D5EDAB4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091-FF06-4ECD-A2B1-ACD596B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66C-41E5-415F-B029-5250B1F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9A7-6E10-4466-8D8C-6BF7722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CCD-306E-49A5-A46F-09C7CEEE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28F-6DFA-4787-A384-25820F0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7A0-9DD5-4E38-99F6-EECD655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63E-FAA7-4BB2-8C64-AB6028CA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92E3-65BC-4473-8E44-869AF89982E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DB1-DE83-457D-9D1A-EBCB2F6AC3C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ROL DARWIN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jego wpływ na nauk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Plik:Charles Darwin by Julia Margaret Cameron 2.jpg"/>
          <p:cNvPicPr/>
          <p:nvPr/>
        </p:nvPicPr>
        <p:blipFill>
          <a:blip r:embed="rId1"/>
          <a:stretch/>
        </p:blipFill>
        <p:spPr>
          <a:xfrm>
            <a:off x="5003640" y="1320840"/>
            <a:ext cx="3240360" cy="4068720"/>
          </a:xfrm>
          <a:prstGeom prst="rect">
            <a:avLst/>
          </a:prstGeom>
          <a:ln w="0">
            <a:noFill/>
          </a:ln>
        </p:spPr>
      </p:pic>
      <p:sp>
        <p:nvSpPr>
          <p:cNvPr id="97" name="Podtytuł 2"/>
          <p:cNvSpPr/>
          <p:nvPr/>
        </p:nvSpPr>
        <p:spPr>
          <a:xfrm>
            <a:off x="468360" y="4437000"/>
            <a:ext cx="45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, która natchnęła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825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althus (1766-1834) – twórca koncepcji, według której przyrost ludności (zwłaszcza biedniejszej) odbywa się w postępie geometrycznym, a żywności – w arytmetyczn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ęska głodu jest nieuchronna, jeśli biedniejsi będą wspierani, zamiast wymierać. Trwa więc walka o by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altus"/>
          <p:cNvPicPr/>
          <p:nvPr/>
        </p:nvPicPr>
        <p:blipFill>
          <a:blip r:embed="rId1"/>
          <a:stretch/>
        </p:blipFill>
        <p:spPr>
          <a:xfrm>
            <a:off x="4932360" y="2781360"/>
            <a:ext cx="4016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cha teorii Dar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rwinizm społeczny – ponieważ w naturze nie ma sentymentów, słabiej przystosowani giną. Podobnie powinno być w społeczeństwie. Nie można wspierać niezaradnych (Herbert Spenc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asizm – Ernst Haeckel i Houston Stewart Chamberlain  stworzyli koncepcję wyższości rasy teutońskiej (głownie Niemców) nad pozostałymi, co miało być naturalnym wynikiem ewolu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Buldog Darwina” – Ernst Haeck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1484280"/>
            <a:ext cx="62658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miecki naukowiec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Ernst Haeckel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rozpropagował w Niemczech teorię Darwina. Nie byłoby nic w tym złego, gdyby nie to, że żeby uprawdopodobnić ewolucję posługiwał się fałszerstwam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pierwotne protoplazmowe organizmy – tzw. monera, które miały być ogniwem pośrednim między materią nieożywioną a pierwotniakam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onał fałszerstw w rysunkach embrionów, by udowodnić, że ssaki w życiu płodowym „odtwarzają historię ewolucji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tzw. brakujące ogniwo między człowiekiem a małpą -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pithecanthropus alalu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ciągnął” dalej  koncepcję ewolucji, twierdząc, że jedne rasy ludzkie są na niższym stopniu rozwoju, inne na wyższym (zwłaszcza German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526716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Francis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Galton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, stworzył koncepcję doboru par w celu uzyskania  „lepszego genetycznie potomstwa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USA pod wpływem Margaret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Sanger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 rozpoczęto sterylizację imigrantów i Murzynów, w celu „dbania o rasę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Szwecji przymusowo wysterylizowano 62 tysiące „społecznie nieużytecznych” (do 1976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Racistcampaignposter1"/>
          <p:cNvPicPr/>
          <p:nvPr/>
        </p:nvPicPr>
        <p:blipFill>
          <a:blip r:embed="rId1"/>
          <a:stretch/>
        </p:blipFill>
        <p:spPr>
          <a:xfrm>
            <a:off x="6046920" y="2781360"/>
            <a:ext cx="284616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435640" y="5229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19280" y="39178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kat wyborczy przeciw równouprawnieniu Murzynów – eugenika zaostrzała ras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w III Rzes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268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Prawa o Zapobieganiu Urodzeniom Potomstwa Dziedzicznie Obciążonego -1933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wysterylizowano 400 tys. osó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amach akcji T4 wymordowano 70 tys. niepełnosprawnych umysło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kom1202_schwarz"/>
          <p:cNvPicPr/>
          <p:nvPr/>
        </p:nvPicPr>
        <p:blipFill>
          <a:blip r:embed="rId1"/>
          <a:stretch/>
        </p:blipFill>
        <p:spPr>
          <a:xfrm>
            <a:off x="5364000" y="1125360"/>
            <a:ext cx="3565800" cy="356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646520" y="46832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Sterylizacja dotknęła też ciemnoskórych obywateli Niemiec. Propaganda tłumaczyła, że są owocem gwałtów na Niemk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sychoan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uczowe teorie dotyczące psychologii człowieka, które powstały w niedługim czasie po wydaniu pracy Darwina, ujawniają wyraźny wpływ idei ewolucyjnych. […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ygmun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stąpił z teorią instynktów zachowania życia oraz instynktów seksualnych, które odpowiadają Darwinowskiemu rozróżnieniu na dobór naturalny i płciowy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wona Mikołajczyk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sychoanaliza Freuda w psychologii ewolucyjnej Instytut Psychologii U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ków 2008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creation.com/ernst-haeckel-evangelist-for-evolution-and-apostle-of-deceit-polis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slideshare.net/IwonaMikoajczyk/psychoanaliza-freuda-w-ujciu-psychologii-ewolu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765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wórca teorii powstawania gatunków - biografia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0000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wórca teorii powstawania gatunków – biografia 2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>
            <a:hlinkClick r:id="rId7" action="ppaction://hlinksldjump"/>
          </p:cNvPr>
          <p:cNvSpPr/>
          <p:nvPr/>
        </p:nvSpPr>
        <p:spPr>
          <a:xfrm>
            <a:off x="900000" y="1484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wórca teorii powstawania gatunków – biografi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133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rasa HMS Bea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2565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Twórca teorii powstawania gatunków – biografia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299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Jak żartowano z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342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Teoria, która natchnęła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378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9. Echa teorii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Euge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4797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Eugeni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w III Rzes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71640" y="51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sychoanali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71640" y="551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024360" y="533232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971640" y="184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ilk falkland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97164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a. Buldog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- b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9280" y="1844640"/>
            <a:ext cx="5184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1809-1892). Wybitny brytyjski przyrodnik, podróżnik, badacz ewolu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słynniejsze teorie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tawanie gatun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wolucyjne powstawanie człowie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wstawanie at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pierwotnie miał zostać duchownym, jednak już na studiach zajął się przyrodoznawstwem – geologią i biolog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arwin"/>
          <p:cNvPicPr/>
          <p:nvPr/>
        </p:nvPicPr>
        <p:blipFill>
          <a:blip r:embed="rId1"/>
          <a:stretch/>
        </p:blipFill>
        <p:spPr>
          <a:xfrm>
            <a:off x="6156360" y="1557360"/>
            <a:ext cx="2649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mma_Darwin"/>
          <p:cNvPicPr/>
          <p:nvPr/>
        </p:nvPicPr>
        <p:blipFill>
          <a:blip r:embed="rId1"/>
          <a:stretch/>
        </p:blipFill>
        <p:spPr>
          <a:xfrm>
            <a:off x="6227640" y="2847960"/>
            <a:ext cx="2498760" cy="291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19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większą podróż odkrywczą swojego życia – rejs okrętem hydrograficznym HMS Beagle wybrał się na własny kos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żenił się z Emmą Wedgwood, własną kuzynk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 dziesięcioro dzieci, z których trójka zmarła w dziecińst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uż za życia cieszył się naukową sław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651640" y="981000"/>
            <a:ext cx="2952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562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wielu odkryć dochodził Darwin powoli, obserwując i porównując zwierzęta, warstwy geologiczne, zestawiając d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róż dookoła świata, przystanki w Ameryce Południowej i na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spach Galapago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zwoliły zebrać ogrom materiał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6084720" y="2421000"/>
            <a:ext cx="2843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lk falkland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97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nim Darwin dotarł na Galapagos, gdzie urzekło go bogactwo gatunków zięb, zwrócił uwagę na (dziś wymarłego) wilka falklandz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żnił się znacząco od drapieżników z kontynentu i miał szereg cech, wynikających z przystosowania do warun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Plik:FalklandIslandFox2.jpg"/>
          <p:cNvPicPr/>
          <p:nvPr/>
        </p:nvPicPr>
        <p:blipFill>
          <a:blip r:embed="rId1"/>
          <a:stretch/>
        </p:blipFill>
        <p:spPr>
          <a:xfrm>
            <a:off x="4572000" y="1484280"/>
            <a:ext cx="43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asa HMS Bea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beagle"/>
          <p:cNvPicPr/>
          <p:nvPr/>
        </p:nvPicPr>
        <p:blipFill>
          <a:blip r:embed="rId1"/>
          <a:stretch/>
        </p:blipFill>
        <p:spPr>
          <a:xfrm>
            <a:off x="281160" y="1197000"/>
            <a:ext cx="84675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834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e ewolucyj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Darwina były dopracowane, dlatego wzbudziły wiele kontrowersji. Szczególnie nie podobała się w kręgach Kościoła anglik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cepcja, według której człowiek wyewoluował z małpy człekokształtnej wzbudziła niemal tyle samo protestów, co niewybrednych żar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genetyczne II połowy XX wieku potwierdziły wiele tez Darwina, ale wskazały też luki w szczegółach teor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Plik:Darwin tree.png"/>
          <p:cNvPicPr/>
          <p:nvPr/>
        </p:nvPicPr>
        <p:blipFill>
          <a:blip r:embed="rId1"/>
          <a:stretch/>
        </p:blipFill>
        <p:spPr>
          <a:xfrm>
            <a:off x="6205680" y="1341360"/>
            <a:ext cx="2373120" cy="4032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05680" y="5226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tatki Darwina z drzewem ewolucyj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żartowano z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Darwin i dama"/>
          <p:cNvPicPr/>
          <p:nvPr/>
        </p:nvPicPr>
        <p:blipFill>
          <a:blip r:embed="rId1"/>
          <a:stretch/>
        </p:blipFill>
        <p:spPr>
          <a:xfrm>
            <a:off x="3071880" y="1268280"/>
            <a:ext cx="3363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05:12Z</dcterms:modified>
  <cp:revision>10</cp:revision>
  <dc:subject/>
  <dc:title>Slajd 1</dc:title>
</cp:coreProperties>
</file>