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2C96-B23C-4082-B008-A743B7CBB67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7B61-050F-4318-ADA0-8683E9466D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863-44C1-4E34-AC81-05AB8BA4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29C-6521-4632-A288-42A81F34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1C1-FD3E-4A5F-A56F-25936858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542-70EF-4955-A120-E7645C48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CCAB-8FA9-41E9-A325-FB2DD3A7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63B4-EC25-41F0-A890-26B4B21D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2061-689E-460D-BAB8-F6837C47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705D-8707-4079-A53C-49E12475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DD82-E8AA-4E1E-93FC-11B9AA3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FD0D-561B-449A-953D-A21A741F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C57E-9F46-4A11-822E-EBB93BF7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1D3-4DED-49C8-91C7-3FE16072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DCF0-E70B-4C7A-B6AA-0F1BCE1F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0132-2A3F-4D5E-A60A-CF0F9326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E6F7-2D67-4B01-8E03-B85B8556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82D8-A9F6-4B02-B49E-5063C5C6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277D-99BE-4D97-B901-4BD2B3E5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57E-4F5D-451B-87F3-A171D4E3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5BD-17D9-479E-855D-3BEA2A1C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422-9231-49CE-BC8C-E319CC49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17E-514B-46D5-B173-AD52BDC2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8DC-EA2A-4D09-9AC3-077EA9F3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2A3-ABDB-4D85-8AA2-74E8895A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EC7-20CA-4ED6-B1AF-8042484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92CE-CBB9-410F-9614-CF16E7274F0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2E45-DF08-481A-ADFD-19153BBED98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3.xml"/><Relationship Id="rId20" Type="http://schemas.openxmlformats.org/officeDocument/2006/relationships/slide" Target="slide13.xml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ROL DARWIN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jego wpływ na nauk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Plik:Charles Darwin by Julia Margaret Cameron 2.jpg"/>
          <p:cNvPicPr/>
          <p:nvPr/>
        </p:nvPicPr>
        <p:blipFill>
          <a:blip r:embed="rId1"/>
          <a:stretch/>
        </p:blipFill>
        <p:spPr>
          <a:xfrm>
            <a:off x="5003640" y="1320840"/>
            <a:ext cx="3240360" cy="4068720"/>
          </a:xfrm>
          <a:prstGeom prst="rect">
            <a:avLst/>
          </a:prstGeom>
          <a:ln w="0">
            <a:noFill/>
          </a:ln>
        </p:spPr>
      </p:pic>
      <p:sp>
        <p:nvSpPr>
          <p:cNvPr id="97" name="Podtytuł 2"/>
          <p:cNvSpPr/>
          <p:nvPr/>
        </p:nvSpPr>
        <p:spPr>
          <a:xfrm>
            <a:off x="468360" y="4437000"/>
            <a:ext cx="450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, która natchnęła Darw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825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homas Malthus (1766-1834) – twórca koncepcji, według której przyrost ludności (zwłaszcza biedniejszej) odbywa się w postępie geometrycznym, a żywności – w arytmetyczn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ęska głodu jest nieuchronna, jeśli biedniejsi będą wspierani, zamiast wymierać. Trwa więc walka o by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altus"/>
          <p:cNvPicPr/>
          <p:nvPr/>
        </p:nvPicPr>
        <p:blipFill>
          <a:blip r:embed="rId1"/>
          <a:stretch/>
        </p:blipFill>
        <p:spPr>
          <a:xfrm>
            <a:off x="4932360" y="2781360"/>
            <a:ext cx="40165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cha teorii Darw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arwinizm społeczny – ponieważ w naturze nie ma sentymentów, słabiej przystosowani giną. Podobnie powinno być w społeczeństwie. Nie można wspierać niezaradnych (Herbert Spenc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asizm – Ernst Haeckel i Houston Stewart Chamberlain  stworzyli koncepcję wyższości rasy teutońskiej (głownie Niemców) nad pozostałymi, co miało być naturalnym wynikiem ewolu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Buldog Darwina” – Ernst Haeck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403280" y="1484280"/>
            <a:ext cx="626580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iemiecki naukowiec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Ernst Haeckel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rozpropagował w Niemczech teorię Darwina. Nie byłoby nic w tym złego, gdyby nie to, że żeby uprawdopodobnić ewolucję posługiwał się fałszerstwam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myślił pierwotne protoplazmowe organizmy – tzw. monera, które miały być ogniwem pośrednim między materią nieożywioną a pierwotniakam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konał fałszerstw w rysunkach embrionów, by udowodnić, że ssaki w życiu płodowym „odtwarzają historię ewolucji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myślił tzw. brakujące ogniwo między człowiekiem a małpą - 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pithecanthropus alalus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ciągnął” dalej  koncepcję ewolucji, twierdząc, że jedne rasy ludzkie są na niższym stopniu rozwoju, inne na wyższym (zwłaszcza Germani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ug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600200"/>
            <a:ext cx="526716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Francis </a:t>
            </a: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Galton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, stworzył koncepcję doboru par w celu uzyskania  „lepszego genetycznie potomstwa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USA pod wpływem Margaret </a:t>
            </a: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Sanger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 rozpoczęto sterylizację imigrantów i Murzynów, w celu „dbania o rasę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Szwecji przymusowo wysterylizowano 62 tysiące „społecznie nieużytecznych” (do 1976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Racistcampaignposter1"/>
          <p:cNvPicPr/>
          <p:nvPr/>
        </p:nvPicPr>
        <p:blipFill>
          <a:blip r:embed="rId1"/>
          <a:stretch/>
        </p:blipFill>
        <p:spPr>
          <a:xfrm>
            <a:off x="6046920" y="2781360"/>
            <a:ext cx="2846160" cy="2286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435640" y="52293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619280" y="39178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kat wyborczy przeciw równouprawnieniu Murzynów – eugenika zaostrzała rasiz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ugenik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w III Rzes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268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enie Prawa o Zapobieganiu Urodzeniom Potomstwa Dziedzicznie Obciążonego -1933 r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musowo wysterylizowano 400 tys. osó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amach akcji T4 wymordowano 70 tys. niepełnosprawnych umysło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kom1202_schwarz"/>
          <p:cNvPicPr/>
          <p:nvPr/>
        </p:nvPicPr>
        <p:blipFill>
          <a:blip r:embed="rId1"/>
          <a:stretch/>
        </p:blipFill>
        <p:spPr>
          <a:xfrm>
            <a:off x="5364000" y="1125360"/>
            <a:ext cx="3565800" cy="356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646520" y="46832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Calibri"/>
              </a:rPr>
              <a:t>Sterylizacja dotknęła też ciemnoskórych obywateli Niemiec. Propaganda tłumaczyła, że są owocem gwałtów na Niemka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sychoanali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uczowe teorie dotyczące psychologii człowieka, które powstały w niedługim czasie po wydaniu pracy Darwina, ujawniają wyraźny wpływ idei ewolucyjnych. […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ygmun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reud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ystąpił z teorią instynktów zachowania życia oraz instynktów seksualnych, które odpowiadają Darwinowskiemu rozróżnieniu na dobór naturalny i płciowy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wona Mikołajczyk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sychoanaliza Freuda w psychologii ewolucyjnej Instytut Psychologii U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raków 2008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arwinizm dzi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X wieku naukowcy w większości zgadzali się co do tego, że dobór naturalny jest podstawowym mechanizmem ewolu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tyka przyniosła tyleż potwierdzeń co zaprzeczeń teorii ewol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ciągle głównym przeciwnikiem darwinizmu jest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 (jednorazowego stworzenia świ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tnieje też konkurencyjna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ego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owne J.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 powstawaniu gatunków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uza,Warszawa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K.,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 pochodzeniu człowieka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irafa Roja, Warszawa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ne I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owieść o Darwi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uza, Warszaw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eła Darwina (również po polsku): http://darwin-online.org.u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pl.wikipedia.org/wiki/Karol_Dar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wiw.pl/biblioteka/klasycy_nauki/darwin_spisrzecz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creation.com/ernst-haeckel-evangelist-for-evolution-and-apostle-of-deceit-polis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slideshare.net/IwonaMikoajczyk/psychoanaliza-freuda-w-ujciu-psychologii-ewolu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y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lka o b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a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re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765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wórca teorii powstawania gatunków - biografia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00000" y="1197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2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wórca teorii powstawania gatunków – biografia 2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>
            <a:hlinkClick r:id="rId7" action="ppaction://hlinksldjump"/>
          </p:cNvPr>
          <p:cNvSpPr/>
          <p:nvPr/>
        </p:nvSpPr>
        <p:spPr>
          <a:xfrm>
            <a:off x="900000" y="14842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wórca teorii powstawania gatunków – biografia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133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Trasa HMS Bea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2565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Twórca teorii powstawania gatunków – biografia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2997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7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Jak żartowano z Darw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342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Teoria, która natchnęła Darw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378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9. Echa teorii Darw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45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10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Euge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4797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Eugenika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w III Rzesz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71640" y="5157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sychoanali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971640" y="551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arwinizm dzi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024360" y="533232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971640" y="1844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ilk falklandz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971640" y="414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9a. Buldog Darw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- b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79280" y="1844640"/>
            <a:ext cx="5184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arles Rober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rwin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1809-1892). Wybitny brytyjski przyrodnik, podróżnik, badacz ewolu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słynniejsze teorie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wstawanie gatunk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wolucyjne powstawanie człowie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wstawanie ato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pierwotnie miał zostać duchownym, jednak już na studiach zajął się przyrodoznawstwem – geologią i biologi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darwin"/>
          <p:cNvPicPr/>
          <p:nvPr/>
        </p:nvPicPr>
        <p:blipFill>
          <a:blip r:embed="rId1"/>
          <a:stretch/>
        </p:blipFill>
        <p:spPr>
          <a:xfrm>
            <a:off x="6156360" y="1557360"/>
            <a:ext cx="26496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mma_Darwin"/>
          <p:cNvPicPr/>
          <p:nvPr/>
        </p:nvPicPr>
        <p:blipFill>
          <a:blip r:embed="rId1"/>
          <a:stretch/>
        </p:blipFill>
        <p:spPr>
          <a:xfrm>
            <a:off x="6227640" y="2847960"/>
            <a:ext cx="2498760" cy="2914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5194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ajwiększą podróż odkrywczą swojego życia – rejs okrętem hydrograficznym HMS Beagle wybrał się na własny kosz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żenił się z Emmą Wedgwood, własną kuzynk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ał dziesięcioro dzieci, z których trójka zmarła w dzieciństw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uż za życia cieszył się naukową sław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5651640" y="981000"/>
            <a:ext cx="2952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562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wielu odkryć dochodził Darwin powoli, obserwując i porównując zwierzęta, warstwy geologiczne, zestawiając d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róż dookoła świata, przystanki w Ameryce Południowej i na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spach Galapago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pozwoliły zebrać ogrom materiał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upload.wikimedia.org/wikipedia/commons/9/97/Darwin%27s_finches.jpeg"/>
          <p:cNvPicPr/>
          <p:nvPr/>
        </p:nvPicPr>
        <p:blipFill>
          <a:blip r:embed="rId1"/>
          <a:stretch/>
        </p:blipFill>
        <p:spPr>
          <a:xfrm>
            <a:off x="6084720" y="2421000"/>
            <a:ext cx="2843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lk falklandz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397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nim Darwin dotarł na Galapagos, gdzie urzekło go bogactwo gatunków zięb, zwrócił uwagę na (dziś wymarłego) wilka falklandz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żnił się znacząco od drapieżników z kontynentu i miał szereg cech, wynikających z przystosowania do warun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Plik:FalklandIslandFox2.jpg"/>
          <p:cNvPicPr/>
          <p:nvPr/>
        </p:nvPicPr>
        <p:blipFill>
          <a:blip r:embed="rId1"/>
          <a:stretch/>
        </p:blipFill>
        <p:spPr>
          <a:xfrm>
            <a:off x="4572000" y="1484280"/>
            <a:ext cx="43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rasa HMS Bea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beagle"/>
          <p:cNvPicPr/>
          <p:nvPr/>
        </p:nvPicPr>
        <p:blipFill>
          <a:blip r:embed="rId1"/>
          <a:stretch/>
        </p:blipFill>
        <p:spPr>
          <a:xfrm>
            <a:off x="281160" y="1197000"/>
            <a:ext cx="84675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834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eorie ewolucyj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Darwina były dopracowane, dlatego wzbudziły wiele kontrowersji. Szczególnie nie podobała się w kręgach Kościoła anglikań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cepcja, według której człowiek wyewoluował z małpy człekokształtnej wzbudziła niemal tyle samo protestów, co niewybrednych żar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genetyczne II połowy XX wieku potwierdziły wiele tez Darwina, ale wskazały też luki w szczegółach teor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Plik:Darwin tree.png"/>
          <p:cNvPicPr/>
          <p:nvPr/>
        </p:nvPicPr>
        <p:blipFill>
          <a:blip r:embed="rId1"/>
          <a:stretch/>
        </p:blipFill>
        <p:spPr>
          <a:xfrm>
            <a:off x="6205680" y="1341360"/>
            <a:ext cx="2373120" cy="4032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05680" y="52261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tatki Darwina z drzewem ewolucyj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żartowano z Darw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Darwin i dama"/>
          <p:cNvPicPr/>
          <p:nvPr/>
        </p:nvPicPr>
        <p:blipFill>
          <a:blip r:embed="rId1"/>
          <a:stretch/>
        </p:blipFill>
        <p:spPr>
          <a:xfrm>
            <a:off x="3071880" y="1268280"/>
            <a:ext cx="33638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9:05:12Z</dcterms:modified>
  <cp:revision>10</cp:revision>
  <dc:subject/>
  <dc:title>Slajd 1</dc:title>
</cp:coreProperties>
</file>