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3985-3DEF-4388-985D-DA9137B6E8F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0883-D6DC-49D5-B0ED-3C98813126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B18-C858-4C5D-A2FC-31D03A0C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7A2-3561-4A86-B05D-CDCC8D32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D35-7526-4621-A987-BDE22F03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90F-7203-4336-B7CC-18C5DAFA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D8E4-6074-4AFC-86A2-60087C68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6CD5-4FB5-4178-86E7-DD24F1AB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0A1F-9516-404F-A8BD-52181F36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3308-ED8E-4CA8-8BC3-A5AA7988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FAE1-8961-4BF7-8EDF-80AF25FA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51CF-ACEA-40B5-A8CF-656C0D05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ECC-7054-4104-A05D-4A8AA9F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25E-D174-4BE8-BA0F-07D4057E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DC5A-209F-4BBF-AD48-FE62441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1836-6F6B-405C-887B-CF54E262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21EF-66B9-4251-9EB3-9884575E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0B6F-0784-4054-A57A-E87E6D6E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2422-EE83-48BE-8DD8-CFFCC0D0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6CE-82BF-457B-B248-FC8A5FA4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F81-7381-431F-9FEA-A720384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D24-D0D1-4723-A4D5-A37A11DB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28C-099F-4F78-9626-8D55E8E9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07A-1949-4342-BBC0-A7674F3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321-9A14-46CA-9045-2230FB9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086-D962-4DCE-9D7C-69F6D215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221-BE2E-4A81-AB6A-C9E710085C2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B95-B207-4047-B1F0-424071D6DE3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hyperlink" Target="http://www.revelation2seven.org/UsedImages/pg208.gif" TargetMode="External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www.kominek.in/2012/03/cztery-zagadki-i-jedna-odpowiedz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kominek.in/2012/03/cztery-zagadki-i-jedna-odpowiedz/" TargetMode="External"/><Relationship Id="rId5" Type="http://schemas.openxmlformats.org/officeDocument/2006/relationships/hyperlink" Target="http://pl.wikipedia.org/wiki/Plik:Goddess_nut.jpg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hyperlink" Target="http://pl.wikipedia.org/wiki/Arch&#233;" TargetMode="External"/><Relationship Id="rId5" Type="http://schemas.openxmlformats.org/officeDocument/2006/relationships/hyperlink" Target="http://pl.wikipedia.org/wiki/Woda" TargetMode="Externa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mądrzejszy ze starożytnych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Arystoteles głosił zasadę złotego środka. Przez późniejsze pokolenia uważany był za człowieka, który podsumował wiedzę starożytności greck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97164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łowiek powinien dążyć do cnoty -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27936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Łącznik prosty ze strzałką 15"/>
          <p:cNvCxnSpPr>
            <a:endCxn id="149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Łącznik prosty ze strzałką 19"/>
          <p:cNvCxnSpPr>
            <a:stCxn id="149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Hipokrates – wzór dla lekar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5"/>
          <p:cNvSpPr/>
          <p:nvPr/>
        </p:nvSpPr>
        <p:spPr>
          <a:xfrm>
            <a:off x="0" y="3573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2. Grecy wierzyli, że świat jest do opisania przy użyciu matematyki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3. Jak przy pomocy studni i matematyki obliczyć obwód Ziemi, czyli 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019640" y="1988640"/>
            <a:ext cx="118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898989"/>
                </a:solidFill>
                <a:latin typeface="Calibri"/>
              </a:rPr>
              <a:t>Źródło:http://upload.wikimedia.org/wikipedia/commons/b/be/Eratosthenes_%26_measurement_of_the_Earth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884240"/>
            <a:ext cx="5473800" cy="377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Mezopotami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http://www.revelation2seven.org/UsedImages/pg208.gif"/>
          <p:cNvPicPr/>
          <p:nvPr/>
        </p:nvPicPr>
        <p:blipFill>
          <a:blip r:embed="rId2"/>
          <a:stretch/>
        </p:blipFill>
        <p:spPr>
          <a:xfrm>
            <a:off x="6227640" y="2789280"/>
            <a:ext cx="2916360" cy="287172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zawartości 2"/>
          <p:cNvSpPr/>
          <p:nvPr/>
        </p:nvSpPr>
        <p:spPr>
          <a:xfrm>
            <a:off x="468360" y="1484280"/>
            <a:ext cx="7427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Przed Grekami każda kultura inaczej wyobrażała sobie świ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ymbol zastępczy zawartości 2"/>
          <p:cNvSpPr/>
          <p:nvPr/>
        </p:nvSpPr>
        <p:spPr>
          <a:xfrm>
            <a:off x="0" y="2492280"/>
            <a:ext cx="622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Sumerowie wyobrażali go sobie jako sferę, podzieloną na trzy strefy – Nieba, Ziemi i świata podziemnego. Ich piramidy (Zikkuraty) były więc pomalowane na trzy kolory – niebieski, czarny i czerw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Egipcjanie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Plik:Goddess nut.jpg"/>
          <p:cNvPicPr/>
          <p:nvPr/>
        </p:nvPicPr>
        <p:blipFill>
          <a:blip r:embed="rId3"/>
          <a:stretch/>
        </p:blipFill>
        <p:spPr>
          <a:xfrm>
            <a:off x="250920" y="1197000"/>
            <a:ext cx="6402240" cy="46656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8"/>
          <p:cNvSpPr/>
          <p:nvPr/>
        </p:nvSpPr>
        <p:spPr>
          <a:xfrm>
            <a:off x="6732720" y="4724280"/>
            <a:ext cx="2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l.wikipedia.org/wiki/Plik:Goddess_nut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877080" y="1700280"/>
            <a:ext cx="19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wyobrażeń Egipcjan, boska Nut obejmuje Ziemi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Hindus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ziemia na trzech sloniach"/>
          <p:cNvPicPr/>
          <p:nvPr/>
        </p:nvPicPr>
        <p:blipFill>
          <a:blip r:embed="rId2"/>
          <a:stretch/>
        </p:blipFill>
        <p:spPr>
          <a:xfrm>
            <a:off x="395280" y="302724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6"/>
          <p:cNvSpPr/>
          <p:nvPr/>
        </p:nvSpPr>
        <p:spPr>
          <a:xfrm>
            <a:off x="1042920" y="2421000"/>
            <a:ext cx="216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ymbol zastępczy zawartości 2"/>
          <p:cNvSpPr/>
          <p:nvPr/>
        </p:nvSpPr>
        <p:spPr>
          <a:xfrm>
            <a:off x="4716360" y="2421000"/>
            <a:ext cx="3996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Hindusi wyobrażali go sobie jako tarczę na grzbietach słoni, unoszonych przez żółwia. Wyobrażenie to wykorzystał Terry Pratchett w swoim cyklu „Świat Dysku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Jońscy filozofowie przyrody (VII-VI w. p.n.e.) pochodzili z narodu żeglarzy. Dla nich zakrzywienie Ziemi było normą. Najpierw widzieli ją jako walec. Wkrótce uznali ją za kulę. Już Anaksymander potrafił opisać świat jak na rysunk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Plik:Anaximander world map-pl.svg"/>
          <p:cNvPicPr/>
          <p:nvPr/>
        </p:nvPicPr>
        <p:blipFill>
          <a:blip r:embed="rId2"/>
          <a:stretch/>
        </p:blipFill>
        <p:spPr>
          <a:xfrm>
            <a:off x="2556000" y="335772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Tales, Anaksymander, Anaksymenes i Heraklit zadawali sobie pytanie, z czego skonstruowany jest świat? Co jest jego początkiem i zasad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3132000" y="2852640"/>
            <a:ext cx="2941920" cy="2986200"/>
          </a:xfrm>
          <a:prstGeom prst="rect">
            <a:avLst/>
          </a:prstGeom>
          <a:ln w="0">
            <a:noFill/>
          </a:ln>
        </p:spPr>
      </p:pic>
      <p:sp>
        <p:nvSpPr>
          <p:cNvPr id="119" name="Prostokąt 6"/>
          <p:cNvSpPr/>
          <p:nvPr/>
        </p:nvSpPr>
        <p:spPr>
          <a:xfrm>
            <a:off x="7093080" y="522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ymbol zastępczy zawartości 2"/>
          <p:cNvSpPr/>
          <p:nvPr/>
        </p:nvSpPr>
        <p:spPr>
          <a:xfrm>
            <a:off x="25092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Odpowiadali róż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484360" y="4724280"/>
            <a:ext cx="1582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zawartości 2"/>
          <p:cNvSpPr/>
          <p:nvPr/>
        </p:nvSpPr>
        <p:spPr>
          <a:xfrm>
            <a:off x="468360" y="378936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zawartości 2"/>
          <p:cNvSpPr/>
          <p:nvPr/>
        </p:nvSpPr>
        <p:spPr>
          <a:xfrm>
            <a:off x="0" y="407664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Tales -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arché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 jest 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wod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zawartości 2"/>
          <p:cNvSpPr/>
          <p:nvPr/>
        </p:nvSpPr>
        <p:spPr>
          <a:xfrm>
            <a:off x="179280" y="4797360"/>
            <a:ext cx="287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ander - arché jest bezkres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zawartości 2"/>
          <p:cNvSpPr/>
          <p:nvPr/>
        </p:nvSpPr>
        <p:spPr>
          <a:xfrm>
            <a:off x="6084720" y="393372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enes - arché jest powietrz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5867280" y="429264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zawartości 2"/>
          <p:cNvSpPr/>
          <p:nvPr/>
        </p:nvSpPr>
        <p:spPr>
          <a:xfrm>
            <a:off x="601200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Heraklit - arché jest ogień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4788000" y="3141720"/>
            <a:ext cx="201600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zbudowano z niepodzielnych atom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rostokąt 22"/>
          <p:cNvSpPr/>
          <p:nvPr/>
        </p:nvSpPr>
        <p:spPr>
          <a:xfrm>
            <a:off x="1187280" y="5516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4" descr="Plik:Democritus2.jpg"/>
          <p:cNvPicPr/>
          <p:nvPr/>
        </p:nvPicPr>
        <p:blipFill>
          <a:blip r:embed="rId1"/>
          <a:stretch/>
        </p:blipFill>
        <p:spPr>
          <a:xfrm>
            <a:off x="161928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24"/>
          <p:cNvSpPr/>
          <p:nvPr/>
        </p:nvSpPr>
        <p:spPr>
          <a:xfrm>
            <a:off x="4500720" y="292428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kogo to dziś nie dziwi. Ale Demokryt miał wielu przeciwnik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Początki refleksji nad człowiekiem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Złoty wiek Aten przyniósł namysł nad człowiekiem. W ten sposób filozofia stała się matką nie tylko fizyki i chemii, ale także psych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sokrates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4284720" y="3789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okrates zastanawiał się, jak dojść do prawdy o człowieku, ukrytej w człowie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Uczniowie Sokratesa i wielkie pyta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Dziś twierdzi się, że cała filozofia to komentarz do Platona. W swoich dziełach stworzył koncepcję, według której nasz świat jest bladym odbiciem świata idealnego, do którego można dotrzeć tylko poprzez mądro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21:29:36Z</dcterms:modified>
  <cp:revision>61</cp:revision>
  <dc:subject/>
  <dc:title>Slajd 1</dc:title>
</cp:coreProperties>
</file>