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F66E4-20C8-430F-806F-C931D2F76EBD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A8241-9ADB-4DE9-948E-3620EE5A2005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06588-1FB9-4AA5-A7AC-3831A50A0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D7812-EB69-4135-AA0E-A850923FA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BBC7A-A201-4C13-9B1B-5334C2EAE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28D16-B2BD-4096-9CD3-82F4E8697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3FB15-1C09-4CA6-8592-8D42D21BC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85A38-1C8D-4139-AF53-E6CE74F4E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4C140-392F-45AA-BB09-B36E2A232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ED942-BEF7-442E-BA02-370EDDF91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72777-DC8C-4A60-8C09-F41AAEE56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73AF1-D050-4573-B349-7EC9B0D33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41FC2-98A8-40C5-99D3-C9CCBC71C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F3D96-3140-4804-A3BC-049DA4DB3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2332A-199E-4BAF-B722-B905EE824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B9912-DC36-4E2E-87E5-C11926AB3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CB84F-E3F0-47B9-8A91-0148AC4E5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4AE4F-D3F0-4968-9816-27F581DDA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3F256-1EEF-4582-99AC-90D42A2A7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68FF4-9609-4792-91A6-6503F370B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20276-DA42-42C0-BFBE-AC87248F5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C06AD-4BD7-481D-9887-349621304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DAF9F-C829-4768-BAFE-463171C50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198F0-FAC6-482F-A69F-37643268B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D2A78-0231-434B-9E54-ADE6D8301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39503-6386-4EAA-859D-596750E33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"/>
          <p:cNvPicPr/>
          <p:nvPr/>
        </p:nvPicPr>
        <p:blipFill>
          <a:blip r:embed="rId2"/>
          <a:stretch/>
        </p:blipFill>
        <p:spPr>
          <a:xfrm>
            <a:off x="0" y="5979960"/>
            <a:ext cx="9144000" cy="9050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112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AF5CE-7050-48D4-A6BF-8784C17C760C}" type="slidenum"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2"/>
          <a:stretch/>
        </p:blipFill>
        <p:spPr>
          <a:xfrm>
            <a:off x="0" y="5979960"/>
            <a:ext cx="9144000" cy="9050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1123920"/>
          </a:xfrm>
          <a:prstGeom prst="rect">
            <a:avLst/>
          </a:prstGeom>
          <a:ln w="0">
            <a:noFill/>
          </a:ln>
        </p:spPr>
      </p:pic>
      <p:pic>
        <p:nvPicPr>
          <p:cNvPr id="45" name="Obraz 2" descr="stopka_poz.gif"/>
          <p:cNvPicPr/>
          <p:nvPr/>
        </p:nvPicPr>
        <p:blipFill>
          <a:blip r:embed="rId4"/>
          <a:stretch/>
        </p:blipFill>
        <p:spPr>
          <a:xfrm>
            <a:off x="0" y="5951520"/>
            <a:ext cx="9144000" cy="906480"/>
          </a:xfrm>
          <a:prstGeom prst="rect">
            <a:avLst/>
          </a:prstGeom>
          <a:ln w="0">
            <a:noFill/>
          </a:ln>
        </p:spPr>
      </p:pic>
      <p:pic>
        <p:nvPicPr>
          <p:cNvPr id="46" name="Obraz 9" descr="nagłówek_poz.gif"/>
          <p:cNvPicPr/>
          <p:nvPr/>
        </p:nvPicPr>
        <p:blipFill>
          <a:blip r:embed="rId5"/>
          <a:stretch/>
        </p:blipFill>
        <p:spPr>
          <a:xfrm>
            <a:off x="0" y="0"/>
            <a:ext cx="9144000" cy="112536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FFAD4-59ED-4A3C-B260-D40242089849}" type="slidenum"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4.xml"/><Relationship Id="rId5" Type="http://schemas.openxmlformats.org/officeDocument/2006/relationships/slide" Target="slide4.xml"/><Relationship Id="rId6" Type="http://schemas.openxmlformats.org/officeDocument/2006/relationships/slide" Target="slide5.xml"/><Relationship Id="rId7" Type="http://schemas.openxmlformats.org/officeDocument/2006/relationships/slide" Target="slide5.xml"/><Relationship Id="rId8" Type="http://schemas.openxmlformats.org/officeDocument/2006/relationships/slide" Target="slide6.xml"/><Relationship Id="rId9" Type="http://schemas.openxmlformats.org/officeDocument/2006/relationships/slide" Target="slide6.xml"/><Relationship Id="rId10" Type="http://schemas.openxmlformats.org/officeDocument/2006/relationships/slide" Target="slide6.xml"/><Relationship Id="rId11" Type="http://schemas.openxmlformats.org/officeDocument/2006/relationships/slide" Target="slide7.xml"/><Relationship Id="rId12" Type="http://schemas.openxmlformats.org/officeDocument/2006/relationships/slide" Target="slide7.xml"/><Relationship Id="rId13" Type="http://schemas.openxmlformats.org/officeDocument/2006/relationships/slide" Target="slide8.xml"/><Relationship Id="rId14" Type="http://schemas.openxmlformats.org/officeDocument/2006/relationships/slide" Target="slide8.xml"/><Relationship Id="rId15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Plik:Charles Darwin seated.jpg"/>
          <p:cNvPicPr/>
          <p:nvPr/>
        </p:nvPicPr>
        <p:blipFill>
          <a:blip r:embed="rId1"/>
          <a:stretch/>
        </p:blipFill>
        <p:spPr>
          <a:xfrm>
            <a:off x="395280" y="836640"/>
            <a:ext cx="3197160" cy="446400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24000" y="836280"/>
            <a:ext cx="4459320" cy="46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Ten genialny „bezbożnik”</a:t>
            </a:r>
            <a:br>
              <a:rPr sz="4400"/>
            </a:b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 KAROL DARW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odtytuł 2"/>
          <p:cNvSpPr/>
          <p:nvPr/>
        </p:nvSpPr>
        <p:spPr>
          <a:xfrm>
            <a:off x="2743200" y="450864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898989"/>
                </a:solidFill>
                <a:latin typeface="Arial"/>
              </a:rPr>
              <a:t>Grzegorz Szymanowsk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50920" y="-532080"/>
            <a:ext cx="6408720" cy="22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O pochodzeniu człowieka i doborze w odniesieniu do płc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94920" y="1341360"/>
            <a:ext cx="8147160" cy="17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Naukowiec „włożył kij w mrowisko”, sugerując delikatnie, że człowiek pochodzi „prawdopodobnie” od małp człekokształtnych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Odzewem były liczne karykatury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Picture 2" descr="Plik:Editorial cartoon depicting Charles Darwin as an ape (1871).jpg"/>
          <p:cNvPicPr/>
          <p:nvPr/>
        </p:nvPicPr>
        <p:blipFill>
          <a:blip r:embed="rId1"/>
          <a:stretch/>
        </p:blipFill>
        <p:spPr>
          <a:xfrm>
            <a:off x="1139760" y="2774880"/>
            <a:ext cx="2355840" cy="31687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8" descr="Chyba najbardziej znana karykatura brytyjskiego uczonego"/>
          <p:cNvPicPr/>
          <p:nvPr/>
        </p:nvPicPr>
        <p:blipFill>
          <a:blip r:embed="rId2"/>
          <a:stretch/>
        </p:blipFill>
        <p:spPr>
          <a:xfrm>
            <a:off x="6516720" y="2421000"/>
            <a:ext cx="1584360" cy="31687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0" descr="Darwin i dama"/>
          <p:cNvPicPr/>
          <p:nvPr/>
        </p:nvPicPr>
        <p:blipFill>
          <a:blip r:embed="rId3"/>
          <a:stretch/>
        </p:blipFill>
        <p:spPr>
          <a:xfrm>
            <a:off x="3635280" y="2781360"/>
            <a:ext cx="2592360" cy="31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202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Spór z Kościołem anglikański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78920" y="1341360"/>
            <a:ext cx="55450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nauczyciele Darwina z Cambridge protestowali przeciw jego poglądo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Biskup Samuel Wilberforce  protestował przeciw jak się wyraził „pochodzeniu od małpy”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Thomas </a:t>
            </a: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Huxley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, przyjaciel Darwina, nazwał to sporem z „przesądem i ignorancją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Picture 2" descr="Darwin niszczy &quot;przesądy&quot; i &quot;ignorancję&quot;"/>
          <p:cNvPicPr/>
          <p:nvPr/>
        </p:nvPicPr>
        <p:blipFill>
          <a:blip r:embed="rId1"/>
          <a:stretch/>
        </p:blipFill>
        <p:spPr>
          <a:xfrm>
            <a:off x="5435640" y="2421000"/>
            <a:ext cx="345600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Calibri"/>
              </a:rPr>
              <a:t>Darwinizm dziś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24000" y="1197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W XX wieku naukowcy w większości zgadzali się co do tego, że dobór naturalny jest podstawowym mechanizmem ewolucj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Genetyka przyniosła tyleż potwierdzeń co zaprzeczeń teorii ewolucyjnyc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W USA ciągle głównym przeciwnikiem darwinizmu jest teoria </a:t>
            </a: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kreacjonizm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u (jednorazowego stworzenia świata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Istnieje też konkurencyjna teoria </a:t>
            </a: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inteligentnego projektu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Bibliografi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Browne J., </a:t>
            </a:r>
            <a:r>
              <a:rPr b="0" i="1" lang="pl-PL" sz="2000" spc="-1" strike="noStrike">
                <a:solidFill>
                  <a:srgbClr val="000000"/>
                </a:solidFill>
                <a:latin typeface="Calibri"/>
              </a:rPr>
              <a:t>O powstawaniu gatunków,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Muza,Warszawa 200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Darwin K.,</a:t>
            </a:r>
            <a:r>
              <a:rPr b="0" i="1" lang="pl-PL" sz="2000" spc="-1" strike="noStrike">
                <a:solidFill>
                  <a:srgbClr val="000000"/>
                </a:solidFill>
                <a:latin typeface="Calibri"/>
              </a:rPr>
              <a:t> O pochodzeniu człowieka,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Jirafa Roja, Warszawa 2009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Stone I, </a:t>
            </a:r>
            <a:r>
              <a:rPr b="0" i="1" lang="pl-PL" sz="2000" spc="-1" strike="noStrike">
                <a:solidFill>
                  <a:srgbClr val="000000"/>
                </a:solidFill>
                <a:latin typeface="Calibri"/>
              </a:rPr>
              <a:t>Opowieść o Darwinie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, Muza, Warszawa 201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Dzieła Darwina (również po polsku): http://darwin-online.org.uk/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http://pl.wikipedia.org/wiki/Karol_Darw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http://www.wiw.pl/biblioteka/klasycy_nauki/darwin_spisrzeczy.as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Słowa kluczow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Lamarc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Chamb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inteligentny projek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kreacjoniz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Huxle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walka o by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Malth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dobór naturaln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Darwi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0" y="1844280"/>
            <a:ext cx="91440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900" spc="-1" strike="noStrike">
                <a:solidFill>
                  <a:srgbClr val="000000"/>
                </a:solidFill>
                <a:latin typeface="Calibri"/>
              </a:rPr>
              <a:t>Dziękuję za uwagę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640" y="47628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Calibri"/>
              </a:rPr>
              <a:t>Plan prezentacji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 Box 3">
            <a:hlinkClick r:id="rId1" action="ppaction://hlinksldjump"/>
          </p:cNvPr>
          <p:cNvSpPr/>
          <p:nvPr/>
        </p:nvSpPr>
        <p:spPr>
          <a:xfrm>
            <a:off x="971640" y="1268280"/>
            <a:ext cx="691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1. Pierwsi ewolucjoniści – ewolucja niejedno ma imię 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971640" y="170028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2. Młodość i studia Darwina – zanim powstało </a:t>
            </a:r>
            <a:r>
              <a:rPr b="0" lang="pl-PL" sz="1800" spc="-1" strike="noStrike" u="sng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O powstaniu gatunków</a:t>
            </a:r>
            <a:r>
              <a:rPr b="0" lang="pl-PL" sz="1800" spc="-1" strike="noStrike" u="sng">
                <a:solidFill>
                  <a:srgbClr val="0000ff"/>
                </a:solidFill>
                <a:uFillTx/>
                <a:latin typeface="Calibri"/>
                <a:hlinkClick r:id="rId5" action="ppaction://hlinksldjump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971640" y="2133720"/>
            <a:ext cx="67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 u="sng">
                <a:solidFill>
                  <a:srgbClr val="0000ff"/>
                </a:solidFill>
                <a:uFillTx/>
                <a:latin typeface="Calibri"/>
                <a:hlinkClick r:id="rId6" action="ppaction://hlinksldjump"/>
              </a:rPr>
              <a:t>3. </a:t>
            </a:r>
            <a:r>
              <a:rPr b="0" lang="pl-PL" sz="1800" spc="-1" strike="noStrike" u="sng">
                <a:solidFill>
                  <a:srgbClr val="0000ff"/>
                </a:solidFill>
                <a:uFillTx/>
                <a:latin typeface="Calibri"/>
                <a:hlinkClick r:id="rId7" action="ppaction://hlinksldjump"/>
              </a:rPr>
              <a:t>Podróż życia (1831-1835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 Box 6"/>
          <p:cNvSpPr/>
          <p:nvPr/>
        </p:nvSpPr>
        <p:spPr>
          <a:xfrm>
            <a:off x="971640" y="2637000"/>
            <a:ext cx="65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 u="sng">
                <a:solidFill>
                  <a:srgbClr val="0000ff"/>
                </a:solidFill>
                <a:uFillTx/>
                <a:latin typeface="Calibri"/>
                <a:hlinkClick r:id="rId8" action="ppaction://hlinksldjump"/>
              </a:rPr>
              <a:t>4. </a:t>
            </a:r>
            <a:r>
              <a:rPr b="0" lang="pl-PL" sz="1800" spc="-1" strike="noStrike" u="sng">
                <a:solidFill>
                  <a:srgbClr val="0000ff"/>
                </a:solidFill>
                <a:uFillTx/>
                <a:latin typeface="Calibri"/>
                <a:hlinkClick r:id="rId9" action="ppaction://hlinksldjump"/>
              </a:rPr>
              <a:t>Wielki rejs HMS Beagle</a:t>
            </a:r>
            <a:r>
              <a:rPr b="0" lang="pl-PL" sz="1800" spc="-1" strike="noStrike" u="sng">
                <a:solidFill>
                  <a:srgbClr val="0000ff"/>
                </a:solidFill>
                <a:uFillTx/>
                <a:latin typeface="Calibri"/>
                <a:hlinkClick r:id="rId10" action="ppaction://hlinksldjump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 Box 7"/>
          <p:cNvSpPr/>
          <p:nvPr/>
        </p:nvSpPr>
        <p:spPr>
          <a:xfrm>
            <a:off x="971640" y="3141720"/>
            <a:ext cx="41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 u="sng">
                <a:solidFill>
                  <a:srgbClr val="0000ff"/>
                </a:solidFill>
                <a:uFillTx/>
                <a:latin typeface="Calibri"/>
                <a:hlinkClick r:id="rId11" action="ppaction://hlinksldjump"/>
              </a:rPr>
              <a:t>5. </a:t>
            </a:r>
            <a:r>
              <a:rPr b="0" lang="pl-PL" sz="1800" spc="-1" strike="noStrike" u="sng">
                <a:solidFill>
                  <a:srgbClr val="0000ff"/>
                </a:solidFill>
                <a:uFillTx/>
                <a:latin typeface="Calibri"/>
                <a:hlinkClick r:id="rId12" action="ppaction://hlinksldjump"/>
              </a:rPr>
              <a:t>„Zięby Darwina”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Text Box 8"/>
          <p:cNvSpPr/>
          <p:nvPr/>
        </p:nvSpPr>
        <p:spPr>
          <a:xfrm>
            <a:off x="971640" y="3645000"/>
            <a:ext cx="48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 u="sng">
                <a:solidFill>
                  <a:srgbClr val="0000ff"/>
                </a:solidFill>
                <a:uFillTx/>
                <a:latin typeface="Calibri"/>
                <a:hlinkClick r:id="rId13" action="ppaction://hlinksldjump"/>
              </a:rPr>
              <a:t>6. </a:t>
            </a:r>
            <a:r>
              <a:rPr b="0" lang="pl-PL" sz="1800" spc="-1" strike="noStrike" u="sng">
                <a:solidFill>
                  <a:srgbClr val="0000ff"/>
                </a:solidFill>
                <a:uFillTx/>
                <a:latin typeface="Calibri"/>
                <a:hlinkClick r:id="rId14" action="ppaction://hlinksldjump"/>
              </a:rPr>
              <a:t>Walka o byt – istota darwinizm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Text Box 9"/>
          <p:cNvSpPr/>
          <p:nvPr/>
        </p:nvSpPr>
        <p:spPr>
          <a:xfrm>
            <a:off x="971640" y="4221000"/>
            <a:ext cx="554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7. </a:t>
            </a:r>
            <a:r>
              <a:rPr b="0" lang="pl-PL" sz="1800" spc="-1" strike="noStrike">
                <a:solidFill>
                  <a:srgbClr val="1f497d"/>
                </a:solidFill>
                <a:latin typeface="Calibri"/>
              </a:rPr>
              <a:t>O powstawaniu gatunków (1859)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Text Box 10"/>
          <p:cNvSpPr/>
          <p:nvPr/>
        </p:nvSpPr>
        <p:spPr>
          <a:xfrm>
            <a:off x="971640" y="4724280"/>
            <a:ext cx="66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8. </a:t>
            </a:r>
            <a:r>
              <a:rPr b="0" lang="pl-PL" sz="1800" spc="-1" strike="noStrike">
                <a:solidFill>
                  <a:srgbClr val="1f497d"/>
                </a:solidFill>
                <a:latin typeface="Calibri"/>
              </a:rPr>
              <a:t>O pochodzeniu człowieka i doborze w odniesieniu do płc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Text Box 11"/>
          <p:cNvSpPr/>
          <p:nvPr/>
        </p:nvSpPr>
        <p:spPr>
          <a:xfrm>
            <a:off x="971640" y="5229360"/>
            <a:ext cx="66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9. </a:t>
            </a:r>
            <a:r>
              <a:rPr b="0" lang="pl-PL" sz="1800" spc="-1" strike="noStrike">
                <a:solidFill>
                  <a:srgbClr val="1f497d"/>
                </a:solidFill>
                <a:latin typeface="Calibri"/>
              </a:rPr>
              <a:t>Spór z Kościołem anglikańskim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Text Box 12"/>
          <p:cNvSpPr/>
          <p:nvPr/>
        </p:nvSpPr>
        <p:spPr>
          <a:xfrm>
            <a:off x="971640" y="5589720"/>
            <a:ext cx="66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10. </a:t>
            </a:r>
            <a:r>
              <a:rPr b="0" lang="pl-PL" sz="1800" spc="-1" strike="noStrike">
                <a:solidFill>
                  <a:srgbClr val="1f497d"/>
                </a:solidFill>
                <a:latin typeface="Calibri"/>
              </a:rPr>
              <a:t>Darwinizm dziś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Text Box 13"/>
          <p:cNvSpPr/>
          <p:nvPr/>
        </p:nvSpPr>
        <p:spPr>
          <a:xfrm>
            <a:off x="3132000" y="5589720"/>
            <a:ext cx="66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11. </a:t>
            </a:r>
            <a:r>
              <a:rPr b="0" lang="pl-PL" sz="1800" spc="-1" strike="noStrike">
                <a:solidFill>
                  <a:srgbClr val="1f497d"/>
                </a:solidFill>
                <a:latin typeface="Calibri"/>
              </a:rPr>
              <a:t>Bibliografi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Pierwsi ewolucjoniści - </a:t>
            </a:r>
            <a:br>
              <a:rPr sz="3200"/>
            </a:b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ewolucja niejedno ma imię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Od XVIII w. zakładano istnienie </a:t>
            </a: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ewolucji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 w przyrodzie, twórcami pierwszych teorii ewolucji byli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Jean Baptiste de </a:t>
            </a: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Lamarck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Robert </a:t>
            </a: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Chambers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Picture 2" descr="Plik:Jean-baptiste lamarck2.jpg"/>
          <p:cNvPicPr/>
          <p:nvPr/>
        </p:nvPicPr>
        <p:blipFill>
          <a:blip r:embed="rId1"/>
          <a:stretch/>
        </p:blipFill>
        <p:spPr>
          <a:xfrm>
            <a:off x="5796000" y="2781360"/>
            <a:ext cx="3022560" cy="29242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4" descr="File:Chambers-1.jpg"/>
          <p:cNvPicPr/>
          <p:nvPr/>
        </p:nvPicPr>
        <p:blipFill>
          <a:blip r:embed="rId2"/>
          <a:stretch/>
        </p:blipFill>
        <p:spPr>
          <a:xfrm>
            <a:off x="4038480" y="3887640"/>
            <a:ext cx="1765440" cy="2049480"/>
          </a:xfrm>
          <a:prstGeom prst="rect">
            <a:avLst/>
          </a:prstGeom>
          <a:ln w="0">
            <a:noFill/>
          </a:ln>
        </p:spPr>
      </p:pic>
      <p:sp>
        <p:nvSpPr>
          <p:cNvPr id="114" name="Strzałka w prawo 5"/>
          <p:cNvSpPr/>
          <p:nvPr/>
        </p:nvSpPr>
        <p:spPr>
          <a:xfrm>
            <a:off x="5275440" y="3146400"/>
            <a:ext cx="863280" cy="792360"/>
          </a:xfrm>
          <a:prstGeom prst="rightArrow">
            <a:avLst>
              <a:gd name="adj1" fmla="val 50000"/>
              <a:gd name="adj2" fmla="val 4997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Strzałka w prawo 5"/>
          <p:cNvSpPr/>
          <p:nvPr/>
        </p:nvSpPr>
        <p:spPr>
          <a:xfrm>
            <a:off x="3059280" y="4941720"/>
            <a:ext cx="863280" cy="792360"/>
          </a:xfrm>
          <a:prstGeom prst="rightArrow">
            <a:avLst>
              <a:gd name="adj1" fmla="val 50000"/>
              <a:gd name="adj2" fmla="val 4997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6191280" cy="171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Młodość i studia Darwina – zanim powstało </a:t>
            </a:r>
            <a:r>
              <a:rPr b="0" i="1" lang="pl-PL" sz="3200" spc="-1" strike="noStrike">
                <a:solidFill>
                  <a:srgbClr val="000000"/>
                </a:solidFill>
                <a:latin typeface="Calibri"/>
              </a:rPr>
              <a:t>O powstawaniu gatunków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Charles Robert </a:t>
            </a: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Darwin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 urodził się w Shrewsbury 12 lutego 1809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Studiował medycynę w Edynburgu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Miał zostać duchownym – w tym celu studiował w Cambridge do 1831 roku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Interesował się raczej biologią i geologi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Podróż życia (1831-1835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300" spc="-1" strike="noStrike">
                <a:solidFill>
                  <a:srgbClr val="000000"/>
                </a:solidFill>
                <a:latin typeface="Calibri"/>
              </a:rPr>
              <a:t>Podróż na HMS Beagle z kapitanem Fitzroyem do wybrzeży Ameryki Południowej w charakterze pokładowego przyrodnika przerodziła się w podróż dookoła świata.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2" descr=""/>
          <p:cNvPicPr/>
          <p:nvPr/>
        </p:nvPicPr>
        <p:blipFill>
          <a:blip r:embed="rId1"/>
          <a:stretch/>
        </p:blipFill>
        <p:spPr>
          <a:xfrm>
            <a:off x="1835280" y="2565360"/>
            <a:ext cx="5398920" cy="34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Wielki rejs HMS Beag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Notatki Darwina opublikował wraz ze swoimi kapitan Fitzroy. Były tak ciekawe, że Darwin zyskał sławę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Co było w notatkach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Opisy geologiczne, geograficzne, obserwacje przyrody, a nawet teoria o tworzeniu się raf koralowy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Zięby Darwina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600200"/>
            <a:ext cx="8229600" cy="19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Obserwacja różnych gatunków zięb na wyspach Galapagos, pchnęła Darwina do sformułowania tezy o doborze naturalny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Picture 2" descr="http://upload.wikimedia.org/wikipedia/commons/9/97/Darwin%27s_finches.jpeg"/>
          <p:cNvPicPr/>
          <p:nvPr/>
        </p:nvPicPr>
        <p:blipFill>
          <a:blip r:embed="rId1"/>
          <a:stretch/>
        </p:blipFill>
        <p:spPr>
          <a:xfrm>
            <a:off x="3236760" y="2924280"/>
            <a:ext cx="3033720" cy="28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202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3200" spc="-1" strike="noStrike">
                <a:solidFill>
                  <a:srgbClr val="000000"/>
                </a:solidFill>
                <a:latin typeface="Calibri"/>
              </a:rPr>
              <a:t>Walka o byt – istota darwinizm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1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W październiku 1838 […] zdarzyło mi się przeczytać dla rozrywki esej Malthusa na temat ludności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i dobrze rozumiejąc, dzięki długiej obserwacji zwyczajów zwierząt i roślin, na czym polega wszechobecna walka o byt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natychmiast przyszło mi do głowy, że w tych warunkach występowałaby tendencja do utrwalania zmian korzystnych, a zanikania zmian niekorzystnych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Wynikiem tego byłoby powstawanie nowych gatunków.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13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O powstawaniu gatunków (1859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[…] w każdym gatunku rodzi się daleko więcej osobników niż może przeżyć i ponieważ na skutek tego powstaje pomiędzy nimi </a:t>
            </a: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walka o byt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osobnik, który pod wpływem skomplikowanych i nieraz zmiennych warunków zmieni się nieznacznie, lecz w sposób korzystny dla siebie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będzie miał więcej widoków na utrzymanie się przy życiu i w ten sposób ulegnie działaniu doboru naturalnego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Na zasadzie zaś potężnego prawa dziedziczności każda taka wyselekcjonowana odmiana będzie dążyć do przekazania potomstwu swej nowej, zmienionej postaci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9T06:37:45Z</dcterms:created>
  <dc:creator>awrobel</dc:creator>
  <dc:description/>
  <dc:language>en-US</dc:language>
  <cp:lastModifiedBy>iwona</cp:lastModifiedBy>
  <dcterms:modified xsi:type="dcterms:W3CDTF">2013-08-05T22:24:47Z</dcterms:modified>
  <cp:revision>9</cp:revision>
  <dc:subject/>
  <dc:title>Slajd 1</dc:title>
</cp:coreProperties>
</file>