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tos" initials="t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<Relationship Id="rId21" Type="http://schemas.openxmlformats.org/officeDocument/2006/relationships/commentAuthors" Target="commentAuthors.xml"/>
</Relationships>
</file>

<file path=ppt/comments/comment2.xml><?xml version="1.0" encoding="utf-8"?>
<p:cmLst xmlns:p="http://schemas.openxmlformats.org/presentationml/2006/main">
  <p:cm authorId="0" dt="2013-09-15T11:53:54.348000000" idx="1">
    <p:pos x="5081" y="3374"/>
    <p:text>zmieniłam podpis pod obrazem 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007D6-7BC0-4599-872D-AE9B303C1DB6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3C8E2-B2DB-4232-BE83-C3A5061FF05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98A2C-C033-4C40-A81A-D0B3558892D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248A-0843-45DA-B8EB-1C56FE309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6717-BE4A-4139-8E85-3F8D1E7EA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01E7-A841-4B63-87BF-59C96C2C0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053C-3AA5-4E8B-A8B8-36ACB5E85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FE7A5-75DB-4B81-A00B-F39942A1F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31465-175A-4DC6-B31D-45852E18D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0FA5A-5556-40B2-B03F-6FC2581DC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07FF9-8622-46D3-AE60-3007C19E9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96DA1-6292-4BC0-929F-9703A5046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9FC27-8613-4667-9695-044C08866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C7A7C-0431-45BC-BEBF-67E0719F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9D37-A105-4E0E-BFC6-31EFFA7B0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8DF9D-E73E-4883-812F-02DEB1C8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09234-64C3-442F-A2A8-3E24EC8D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04A83-4F5C-426A-9920-806A6B0B8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D6FBF-FA59-4F3D-B683-5A0DC98D4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A63B7-19B6-456B-8FD4-D99EC9011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5A324D-482F-426C-9866-4F70338AD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15495D-18DD-467C-ABE6-C137E873B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929A11-7026-4293-B7D4-A530EBC9F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0D7455-B876-4C57-9996-2B822332E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DCDEAD-9F3C-4774-B8CE-187789ED3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5CBA-85B6-473D-924C-3FD4F1448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AA77F8-28C4-4D6C-83A6-4F042CEAC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34D4AA-C1FE-43E7-9DAD-F3F5D1F1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41BA0A-44EE-44E4-93C7-6642A85E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638D91-09A2-49F6-A8F3-4E44510A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A4EB9E-5DE5-4440-AA5E-9F89ECD9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29FF99-F6C0-45A3-A6DD-F91B49115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C2B266-3027-4FB9-BC3D-E71869EA3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E6AD6-6151-42F9-8366-5BBFCBC51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FFEF9-1512-4533-AA21-06FF00EBD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CE903-CE57-42EA-B421-458A4DBB0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2E27-AC00-4FFA-8526-E40124E1A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54D91-2EB1-469D-BB48-C08C2279F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769D9-B478-4740-9CD7-5B7DE224F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A9C81-2F91-4158-A133-1D12FA3AA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BA16A-C253-45AD-BA3A-F9F98425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4E5BA-3E43-4457-94F7-D241CC9C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89FD9-B6CC-436B-9E0C-F54446E2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0E6E6-2CEC-4D11-BA13-50E23F2FF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C97D1-A79A-4400-B2E4-DC16E8F7F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A173B-197F-4916-B91C-99A4FA28C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4C1A-BDE6-4654-B2EA-35403DB45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6132-F57C-4F24-A7F5-491C15F70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F367-E92B-4781-BEBA-E715C5B4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3895-B59E-4A50-AC3C-D10830A7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7174-715B-48ED-A414-2C66D447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C4484-2DAF-4A69-8184-47014F020243}" type="slidenum">
              <a:rPr b="0" lang="pl-PL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2"/>
          <a:stretch/>
        </p:blipFill>
        <p:spPr>
          <a:xfrm>
            <a:off x="0" y="576108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3"/>
          <a:stretch/>
        </p:blipFill>
        <p:spPr>
          <a:xfrm>
            <a:off x="-4680" y="0"/>
            <a:ext cx="9144000" cy="162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6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7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8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9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0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1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2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3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4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5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6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7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8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99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2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Obraz 129" descr="stopka_cz_b_pion.gif"/>
          <p:cNvPicPr/>
          <p:nvPr/>
        </p:nvPicPr>
        <p:blipFill>
          <a:blip r:embed="rId2"/>
          <a:stretch/>
        </p:blipFill>
        <p:spPr>
          <a:xfrm>
            <a:off x="0" y="5877000"/>
            <a:ext cx="9144000" cy="1125360"/>
          </a:xfrm>
          <a:prstGeom prst="rect">
            <a:avLst/>
          </a:prstGeom>
          <a:ln w="0">
            <a:noFill/>
          </a:ln>
        </p:spPr>
      </p:pic>
      <p:pic>
        <p:nvPicPr>
          <p:cNvPr id="129" name="Obraz 9" descr="nagłówek_cz_b_pion.gif"/>
          <p:cNvPicPr/>
          <p:nvPr/>
        </p:nvPicPr>
        <p:blipFill>
          <a:blip r:embed="rId3"/>
          <a:stretch/>
        </p:blipFill>
        <p:spPr>
          <a:xfrm>
            <a:off x="0" y="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93E63-F596-4325-9B4A-6EFEF6125265}" type="slidenum">
              <a:rPr b="0" lang="pl-PL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7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7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4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7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8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9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0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8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82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3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4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85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8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0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44D2B-58AD-4BFF-A944-6E74D5530B79}" type="slidenum">
              <a:rPr b="0" lang="pl-PL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6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7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8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9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0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61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62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3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4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65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6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7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8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69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2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4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F1637-CFC3-4BC2-9C56-1B42E97B24CE}" type="slidenum">
              <a:rPr b="0" lang="pl-PL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google.pl/url?sa=i&amp;rct=j&amp;q=&amp;esrc=s&amp;frm=1&amp;source=images&amp;cd=&amp;cad=rja&amp;docid=NQYEMopZ_1lFNM&amp;tbnid=6PuCjUaEENA9IM:&amp;ved=0CAQQjB0&amp;url=http%3A%2F%2Fwww.tillit.pl%2Fsiema.1%2Findex.php%3Foption%3Dcom_content%26view%3Darticle%26id%3D199%3Arozdzia-iii-qod-wojennego-chaosu-do-papiea-matematykaq%26catid%3D50%3Aciek-nauki-do-boga%26Itemid%3D68&amp;ei=bKQwUpz-PMKxtAaRw4DYCQ&amp;bvm=bv.51773540,d.bGE&amp;psig=AFQjCNHTrgnypTI1FZ0L8skgjx-5SVeJAA&amp;ust=1379005927153468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google.pl/url?sa=i&amp;rct=j&amp;q=&amp;esrc=s&amp;source=images&amp;cd=&amp;cad=rja&amp;docid=kdqn565oWenAvM&amp;tbnid=0EsIiZqfbkItHM:&amp;ved=0CAQQjB0&amp;url=http://radtrap.wordpress.com/2012/02/23/tajemnica-wielki-babilon-czesc-38/&amp;ei=D1kzUY-XN4ettAatqIHQCQ&amp;bvm=bv.43148975,d.Yms&amp;psig=AFQjCNHY1-EEm3DXByFL5G39LJkixdM5ww&amp;ust=1362406003650717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histmag.org/Uniwersytety-profesorowie-studenci-sredniowieczna-wspolnota-idei-7151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24000" y="1484280"/>
            <a:ext cx="8208720" cy="187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94c600"/>
                </a:solidFill>
                <a:latin typeface="Century Gothic"/>
              </a:rPr>
              <a:t>Początki średniowiecznego szkolnictwa </a:t>
            </a: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7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Izabella Lankos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42560" y="836280"/>
            <a:ext cx="7024680" cy="60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94c600"/>
                </a:solidFill>
                <a:latin typeface="Century Gothic"/>
              </a:rPr>
              <a:t>Siedem sztuk wyzwolonych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70" name="Symbol zastępczy zawartości 3" descr="rys.6"/>
          <p:cNvPicPr/>
          <p:nvPr/>
        </p:nvPicPr>
        <p:blipFill>
          <a:blip r:embed="rId1"/>
          <a:stretch/>
        </p:blipFill>
        <p:spPr>
          <a:xfrm>
            <a:off x="2106720" y="2478240"/>
            <a:ext cx="4647960" cy="3200400"/>
          </a:xfrm>
          <a:prstGeom prst="rect">
            <a:avLst/>
          </a:prstGeom>
          <a:ln w="9360">
            <a:solidFill>
              <a:srgbClr val="94c600"/>
            </a:solidFill>
            <a:miter/>
          </a:ln>
        </p:spPr>
      </p:pic>
      <p:sp>
        <p:nvSpPr>
          <p:cNvPr id="371" name="pole tekstowe 4"/>
          <p:cNvSpPr/>
          <p:nvPr/>
        </p:nvSpPr>
        <p:spPr>
          <a:xfrm>
            <a:off x="684360" y="1700280"/>
            <a:ext cx="19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gramaty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72" name="Łącznik prosty ze strzałką 6"/>
          <p:cNvCxnSpPr/>
          <p:nvPr/>
        </p:nvCxnSpPr>
        <p:spPr>
          <a:xfrm>
            <a:off x="1476000" y="1916280"/>
            <a:ext cx="648360" cy="792720"/>
          </a:xfrm>
          <a:prstGeom prst="straightConnector1">
            <a:avLst/>
          </a:prstGeom>
          <a:ln w="9360">
            <a:solidFill>
              <a:srgbClr val="94c600"/>
            </a:solidFill>
            <a:miter/>
            <a:tailEnd len="med" type="arrow" w="med"/>
          </a:ln>
        </p:spPr>
      </p:cxnSp>
      <p:sp>
        <p:nvSpPr>
          <p:cNvPr id="373" name="pole tekstowe 7"/>
          <p:cNvSpPr/>
          <p:nvPr/>
        </p:nvSpPr>
        <p:spPr>
          <a:xfrm>
            <a:off x="2195640" y="1844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etory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ole tekstowe 8"/>
          <p:cNvSpPr/>
          <p:nvPr/>
        </p:nvSpPr>
        <p:spPr>
          <a:xfrm>
            <a:off x="7164360" y="3213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astronom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ole tekstowe 9"/>
          <p:cNvSpPr/>
          <p:nvPr/>
        </p:nvSpPr>
        <p:spPr>
          <a:xfrm>
            <a:off x="6516720" y="1844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arytmety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ole tekstowe 10"/>
          <p:cNvSpPr/>
          <p:nvPr/>
        </p:nvSpPr>
        <p:spPr>
          <a:xfrm>
            <a:off x="4788000" y="184464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geometr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ole tekstowe 11"/>
          <p:cNvSpPr/>
          <p:nvPr/>
        </p:nvSpPr>
        <p:spPr>
          <a:xfrm>
            <a:off x="3780000" y="155736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uzyk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78" name="Łącznik prosty ze strzałką 13"/>
          <p:cNvCxnSpPr>
            <a:stCxn id="373" idx="2"/>
          </p:cNvCxnSpPr>
          <p:nvPr/>
        </p:nvCxnSpPr>
        <p:spPr>
          <a:xfrm>
            <a:off x="2879280" y="2214360"/>
            <a:ext cx="180360" cy="494280"/>
          </a:xfrm>
          <a:prstGeom prst="straightConnector1">
            <a:avLst/>
          </a:prstGeom>
          <a:ln w="9360">
            <a:solidFill>
              <a:srgbClr val="94c600"/>
            </a:solidFill>
            <a:miter/>
            <a:tailEnd len="med" type="arrow" w="med"/>
          </a:ln>
        </p:spPr>
      </p:cxnSp>
      <p:cxnSp>
        <p:nvCxnSpPr>
          <p:cNvPr id="379" name="Łącznik zakrzywiony 15"/>
          <p:cNvCxnSpPr/>
          <p:nvPr/>
        </p:nvCxnSpPr>
        <p:spPr>
          <a:xfrm flipH="1" rot="16200000">
            <a:off x="4194720" y="2260440"/>
            <a:ext cx="680040" cy="216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94c600"/>
            </a:solidFill>
            <a:miter/>
            <a:tailEnd len="med" type="arrow" w="med"/>
          </a:ln>
        </p:spPr>
      </p:cxnSp>
      <p:cxnSp>
        <p:nvCxnSpPr>
          <p:cNvPr id="380" name="Łącznik prosty ze strzałką 17"/>
          <p:cNvCxnSpPr>
            <a:stCxn id="376" idx="2"/>
          </p:cNvCxnSpPr>
          <p:nvPr/>
        </p:nvCxnSpPr>
        <p:spPr>
          <a:xfrm>
            <a:off x="5508720" y="2214360"/>
            <a:ext cx="72000" cy="248040"/>
          </a:xfrm>
          <a:prstGeom prst="straightConnector1">
            <a:avLst/>
          </a:prstGeom>
          <a:ln w="9360">
            <a:solidFill>
              <a:srgbClr val="94c600"/>
            </a:solidFill>
            <a:miter/>
            <a:tailEnd len="med" type="arrow" w="med"/>
          </a:ln>
        </p:spPr>
      </p:cxnSp>
      <p:cxnSp>
        <p:nvCxnSpPr>
          <p:cNvPr id="381" name="Łącznik prosty ze strzałką 20"/>
          <p:cNvCxnSpPr/>
          <p:nvPr/>
        </p:nvCxnSpPr>
        <p:spPr>
          <a:xfrm flipH="1">
            <a:off x="6226920" y="2214360"/>
            <a:ext cx="1585080" cy="494280"/>
          </a:xfrm>
          <a:prstGeom prst="straightConnector1">
            <a:avLst/>
          </a:prstGeom>
          <a:ln w="9360">
            <a:solidFill>
              <a:srgbClr val="94c600"/>
            </a:solidFill>
            <a:miter/>
            <a:tailEnd len="med" type="arrow" w="med"/>
          </a:ln>
        </p:spPr>
      </p:cxnSp>
      <p:cxnSp>
        <p:nvCxnSpPr>
          <p:cNvPr id="382" name="Łącznik prosty ze strzałką 22"/>
          <p:cNvCxnSpPr>
            <a:stCxn id="374" idx="1"/>
          </p:cNvCxnSpPr>
          <p:nvPr/>
        </p:nvCxnSpPr>
        <p:spPr>
          <a:xfrm flipH="1" flipV="1">
            <a:off x="6732000" y="3396600"/>
            <a:ext cx="432360" cy="1080"/>
          </a:xfrm>
          <a:prstGeom prst="straightConnector1">
            <a:avLst/>
          </a:prstGeom>
          <a:ln w="9360">
            <a:solidFill>
              <a:srgbClr val="94c600"/>
            </a:solidFill>
            <a:miter/>
            <a:tailEnd len="med" type="arrow" w="med"/>
          </a:ln>
        </p:spPr>
      </p:cxnSp>
      <p:sp>
        <p:nvSpPr>
          <p:cNvPr id="383" name="Prostokąt 2"/>
          <p:cNvSpPr/>
          <p:nvPr/>
        </p:nvSpPr>
        <p:spPr>
          <a:xfrm>
            <a:off x="3059280" y="5702400"/>
            <a:ext cx="41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e68200"/>
                </a:solidFill>
                <a:uFillTx/>
                <a:latin typeface="Calibri"/>
                <a:hlinkClick r:id="rId2"/>
              </a:rPr>
              <a:t>www.tillit.pl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94c600"/>
                </a:solidFill>
                <a:latin typeface="Century Gothic"/>
              </a:rPr>
              <a:t>Powstanie uniwersytetów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68360" y="2323800"/>
            <a:ext cx="8136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XII w  Szkoły katedralne i miejskie – wprowadzono naukę czytania i listów. Przekształciły się one Uniwersytety.  Zaczęto je określać mianem </a:t>
            </a:r>
            <a:r>
              <a:rPr b="0" i="1" lang="pl-PL" sz="2400" spc="-1" strike="noStrike">
                <a:solidFill>
                  <a:srgbClr val="3e3d2d"/>
                </a:solidFill>
                <a:latin typeface="Century Gothic"/>
              </a:rPr>
              <a:t>studium generale</a:t>
            </a: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, a późniejsze bulle papieskie uznały ich względną autonomię i międzynarodowy status. </a:t>
            </a:r>
            <a:r>
              <a:rPr b="0" i="1" lang="pl-PL" sz="2400" spc="-1" strike="noStrike">
                <a:solidFill>
                  <a:srgbClr val="3e3d2d"/>
                </a:solidFill>
                <a:latin typeface="Century Gothic"/>
              </a:rPr>
              <a:t>Studium generale</a:t>
            </a: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 pozostało do końca średniowiecza oficjalną nazwą uniwersytetu Pojęcie </a:t>
            </a:r>
            <a:r>
              <a:rPr b="0" i="1" lang="pl-PL" sz="2400" spc="-1" strike="noStrike">
                <a:solidFill>
                  <a:srgbClr val="3e3d2d"/>
                </a:solidFill>
                <a:latin typeface="Century Gothic"/>
              </a:rPr>
              <a:t>uniwersytetu</a:t>
            </a: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i="1" lang="pl-PL" sz="2400" spc="-1" strike="noStrike">
                <a:solidFill>
                  <a:srgbClr val="3e3d2d"/>
                </a:solidFill>
                <a:latin typeface="Century Gothic"/>
              </a:rPr>
              <a:t>universitas magistrorum et scholarium</a:t>
            </a: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) pojawia się dopiero w </a:t>
            </a:r>
            <a:r>
              <a:rPr b="1" lang="pl-PL" sz="2400" spc="-1" strike="noStrike">
                <a:solidFill>
                  <a:srgbClr val="3e3d2d"/>
                </a:solidFill>
                <a:latin typeface="Century Gothic"/>
              </a:rPr>
              <a:t>1221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94c600"/>
                </a:solidFill>
                <a:latin typeface="Century Gothic"/>
              </a:rPr>
              <a:t>bibliografia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Century Gothic"/>
              </a:rPr>
              <a:t>http://histmag.org/Slowa-Platona-lub-o-niedostatkach-pospiesznego-czytania-filozofow-4276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9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www.tillit.pl 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9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9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1915920"/>
            <a:ext cx="9144000" cy="18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94c600"/>
                </a:solidFill>
                <a:latin typeface="Century Gothic"/>
              </a:rPr>
              <a:t>                           </a:t>
            </a:r>
            <a:r>
              <a:rPr b="1" lang="pl-PL" sz="4900" spc="-1" strike="noStrike">
                <a:solidFill>
                  <a:srgbClr val="94c600"/>
                </a:solidFill>
                <a:latin typeface="Century Gothic"/>
              </a:rPr>
              <a:t>Dziękuję </a:t>
            </a:r>
            <a:br>
              <a:rPr sz="4900"/>
            </a:br>
            <a:r>
              <a:rPr b="1" lang="pl-PL" sz="4900" spc="-1" strike="noStrike">
                <a:solidFill>
                  <a:srgbClr val="94c600"/>
                </a:solidFill>
                <a:latin typeface="Century Gothic"/>
              </a:rPr>
              <a:t>                          za uwagę</a:t>
            </a:r>
            <a:endParaRPr b="0" lang="en-US" sz="49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702468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94c600"/>
                </a:solidFill>
                <a:latin typeface="Century Gothic"/>
              </a:rPr>
              <a:t>Antyczne korzenie średniowiecznego szkolnictwa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250920" y="1341000"/>
            <a:ext cx="3744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e3d2d"/>
                </a:solidFill>
                <a:latin typeface="Century Gothic"/>
              </a:rPr>
              <a:t>Akademia</a:t>
            </a: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 (gr. </a:t>
            </a:r>
            <a:r>
              <a:rPr b="0" i="1" lang="pl-PL" sz="1800" spc="-1" strike="noStrike">
                <a:solidFill>
                  <a:srgbClr val="3e3d2d"/>
                </a:solidFill>
                <a:latin typeface="Century Gothic"/>
              </a:rPr>
              <a:t>akademeia</a:t>
            </a: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) – szkoła założona w Atenach ok. 387 p.n.e. przez Platona, istniała do 529, kiedy została zlikwidowana przez cesarza bizantyjskiego Justyniana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Mieściła się w gaju poświęconym herosowi ateńskiemu </a:t>
            </a:r>
            <a:r>
              <a:rPr b="1" lang="pl-PL" sz="1800" spc="-1" strike="noStrike">
                <a:solidFill>
                  <a:srgbClr val="3e3d2d"/>
                </a:solidFill>
                <a:latin typeface="Century Gothic"/>
              </a:rPr>
              <a:t>Akademosowi,</a:t>
            </a: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 od którego imienia pochodzi jej nazwa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Zajmowano się w niej przede wszystkim filozofią i matematyką, a także retoryką i naukami przyrodniczymi. Legenda głosi, że widniał na niej napis </a:t>
            </a:r>
            <a:r>
              <a:rPr b="1" i="1" lang="pl-PL" sz="1800" spc="-1" strike="noStrike">
                <a:solidFill>
                  <a:srgbClr val="3e3d2d"/>
                </a:solidFill>
                <a:latin typeface="Century Gothic"/>
              </a:rPr>
              <a:t>Ageōmétrētos mēdeìs eisítō.</a:t>
            </a: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i="1" lang="pl-PL" sz="1800" spc="-1" strike="noStrike">
                <a:solidFill>
                  <a:srgbClr val="3e3d2d"/>
                </a:solidFill>
                <a:latin typeface="Century Gothic"/>
              </a:rPr>
              <a:t>ἀγεωμέτρητος  μηδεὶς  εἰσίτω</a:t>
            </a: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 (gr. </a:t>
            </a:r>
            <a:r>
              <a:rPr b="1" i="1" lang="pl-PL" sz="1800" spc="-1" strike="noStrike">
                <a:solidFill>
                  <a:srgbClr val="3e3d2d"/>
                </a:solidFill>
                <a:latin typeface="Century Gothic"/>
              </a:rPr>
              <a:t>Niech nie wchodzi nikt nieobeznany z geometrią</a:t>
            </a: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)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0" name="Prostokąt 5"/>
          <p:cNvSpPr/>
          <p:nvPr/>
        </p:nvSpPr>
        <p:spPr>
          <a:xfrm>
            <a:off x="3995640" y="5311800"/>
            <a:ext cx="4537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Akademia Platońska – mozaika z Pompejów http://histmag.org/Slowa-Platona-lub-o-niedostatkach-pospiesznego-czytania-filozofow-4276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1" name="Picture 6" descr=""/>
          <p:cNvPicPr/>
          <p:nvPr/>
        </p:nvPicPr>
        <p:blipFill>
          <a:blip r:embed="rId1"/>
          <a:stretch/>
        </p:blipFill>
        <p:spPr>
          <a:xfrm>
            <a:off x="4383000" y="1273320"/>
            <a:ext cx="41148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42560" y="620280"/>
            <a:ext cx="554508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94c600"/>
                </a:solidFill>
                <a:latin typeface="Century Gothic"/>
              </a:rPr>
              <a:t>Wczesne średniowiecze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84360" y="1628640"/>
            <a:ext cx="7488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Wielka wędrówka ludów u schyłku starożytności i na początku wieków średnich doprowadziła do zderzenia się dwóch zupełnie odmiennych kultur: rzymsko – chrześcijańskiej i pogańskiej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Wraz z upadkiem miast przestały  istnieć rzymskie szkoły publiczne , zanikała umiejętność czytania i pisania wśród ludzi świeckich. Władcom, podobnie jak wojownikom wykształcenie nie było potrzebne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777708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94c600"/>
                </a:solidFill>
                <a:latin typeface="Century Gothic"/>
              </a:rPr>
              <a:t>Gdzie odbywało się kształcenie i nauczanie w pierwszych średniowiecznych monarchiach?</a:t>
            </a:r>
            <a:br>
              <a:rPr sz="2400"/>
            </a:br>
            <a:endParaRPr b="0" lang="en-US" sz="2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68360" y="1557360"/>
            <a:ext cx="4176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KLASZTORY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Szkoły klasztorne są dziełem Benedyktów, zakonu założonego przez Św. Benedykta z Nursji. Pierwszy wzorowy klasztor został założony na Monte Cassino w 529 roku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W szkołach klasztornych kształcono tylko mnichów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56" name="Obraz 3" descr="http://upload.wikimedia.org/wikipedia/commons/thumb/4/48/Monte_Cassino_Fasada_Kosciol.JPG/200px-Monte_Cassino_Fasada_Kosciol.JPG"/>
          <p:cNvPicPr/>
          <p:nvPr/>
        </p:nvPicPr>
        <p:blipFill>
          <a:blip r:embed="rId1"/>
          <a:stretch/>
        </p:blipFill>
        <p:spPr>
          <a:xfrm>
            <a:off x="4716360" y="2000160"/>
            <a:ext cx="2481480" cy="2005200"/>
          </a:xfrm>
          <a:prstGeom prst="rect">
            <a:avLst/>
          </a:prstGeom>
          <a:ln w="0">
            <a:noFill/>
          </a:ln>
        </p:spPr>
      </p:pic>
      <p:sp>
        <p:nvSpPr>
          <p:cNvPr id="357" name="Prostokąt 4"/>
          <p:cNvSpPr/>
          <p:nvPr/>
        </p:nvSpPr>
        <p:spPr>
          <a:xfrm>
            <a:off x="4932360" y="4005360"/>
            <a:ext cx="33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Klasztor Benedyktynów na Monte Cassino www.wikipedia.pl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94c600"/>
                </a:solidFill>
                <a:latin typeface="Century Gothic"/>
              </a:rPr>
              <a:t>Przełom – reformy Karola Wielkiego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59" name="Symbol zastępczy zawartości 3" descr="http://radtrap.files.wordpress.com/2012/02/srednn1.jpg"/>
          <p:cNvPicPr/>
          <p:nvPr/>
        </p:nvPicPr>
        <p:blipFill>
          <a:blip r:embed="rId1"/>
          <a:stretch/>
        </p:blipFill>
        <p:spPr>
          <a:xfrm>
            <a:off x="1258920" y="2133720"/>
            <a:ext cx="2808360" cy="3743280"/>
          </a:xfrm>
          <a:prstGeom prst="rect">
            <a:avLst/>
          </a:prstGeom>
          <a:ln w="0">
            <a:noFill/>
          </a:ln>
        </p:spPr>
      </p:pic>
      <p:sp>
        <p:nvSpPr>
          <p:cNvPr id="360" name="Prostokąt 4"/>
          <p:cNvSpPr/>
          <p:nvPr/>
        </p:nvSpPr>
        <p:spPr>
          <a:xfrm>
            <a:off x="4067280" y="324468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e68200"/>
                </a:solidFill>
                <a:uFillTx/>
                <a:latin typeface="Calibri"/>
                <a:hlinkClick r:id="rId2"/>
              </a:rPr>
              <a:t>radtrap.wordpress.com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 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468000" y="620280"/>
            <a:ext cx="41036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3e3d2d"/>
                </a:solidFill>
                <a:latin typeface="Century Gothic"/>
              </a:rPr>
              <a:t>Reforma karolińska w dziedzinie nauki i oświaty </a:t>
            </a:r>
            <a:r>
              <a:rPr b="0" lang="pl-PL" sz="2200" spc="-1" strike="noStrike">
                <a:solidFill>
                  <a:srgbClr val="000000"/>
                </a:solidFill>
                <a:latin typeface="Century Gothic"/>
              </a:rPr>
              <a:t>opierała   się na trzech elementach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3e3d2d"/>
                </a:solidFill>
                <a:latin typeface="Century Gothic"/>
              </a:rPr>
              <a:t>na tradycji germańskiej,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3e3d2d"/>
                </a:solidFill>
                <a:latin typeface="Century Gothic"/>
              </a:rPr>
              <a:t>na antycznej kulturze rzymskiej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3e3d2d"/>
                </a:solidFill>
                <a:latin typeface="Century Gothic"/>
              </a:rPr>
              <a:t>na chrześcijaństwie.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pl-PL" sz="2200" spc="-1" strike="noStrike">
                <a:solidFill>
                  <a:srgbClr val="3e3d2d"/>
                </a:solidFill>
                <a:latin typeface="Century Gothic"/>
              </a:rPr>
              <a:t>Podstawową nauczania w szkole pałacowej było </a:t>
            </a:r>
            <a:r>
              <a:rPr b="1" lang="pl-PL" sz="2200" spc="-1" strike="noStrike">
                <a:solidFill>
                  <a:srgbClr val="3e3d2d"/>
                </a:solidFill>
                <a:latin typeface="Century Gothic"/>
              </a:rPr>
              <a:t>siedem sztuk wyzwolonych </a:t>
            </a:r>
            <a:r>
              <a:rPr b="0" lang="pl-PL" sz="2200" spc="-1" strike="noStrike">
                <a:solidFill>
                  <a:srgbClr val="3e3d2d"/>
                </a:solidFill>
                <a:latin typeface="Century Gothic"/>
              </a:rPr>
              <a:t>wzbogaconych o naukę o </a:t>
            </a:r>
            <a:r>
              <a:rPr b="1" lang="pl-PL" sz="2200" spc="-1" strike="noStrike">
                <a:solidFill>
                  <a:srgbClr val="3e3d2d"/>
                </a:solidFill>
                <a:latin typeface="Century Gothic"/>
              </a:rPr>
              <a:t>Piśmie Świętym</a:t>
            </a:r>
            <a:r>
              <a:rPr b="0" lang="pl-PL" sz="2200" spc="-1" strike="noStrike">
                <a:solidFill>
                  <a:srgbClr val="3e3d2d"/>
                </a:solidFill>
                <a:latin typeface="Century Gothic"/>
              </a:rPr>
              <a:t>.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3e3d2d"/>
                </a:solidFill>
                <a:latin typeface="Century Gothic"/>
              </a:rPr>
              <a:t>W szkole nauczano także zasad </a:t>
            </a:r>
            <a:r>
              <a:rPr b="1" lang="pl-PL" sz="2200" spc="-1" strike="noStrike">
                <a:solidFill>
                  <a:srgbClr val="3e3d2d"/>
                </a:solidFill>
                <a:latin typeface="Century Gothic"/>
              </a:rPr>
              <a:t>kancelaryjnych</a:t>
            </a:r>
            <a:r>
              <a:rPr b="0" lang="pl-PL" sz="2200" spc="-1" strike="noStrike">
                <a:solidFill>
                  <a:srgbClr val="3e3d2d"/>
                </a:solidFill>
                <a:latin typeface="Century Gothic"/>
              </a:rPr>
              <a:t>, czyli umiejętności redagowania dekretów królewskich i cesarskich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62" name="Symbol zastępczy zawartości 4" descr="http://histmag.org/grafika/articles5/uniwersytety-sredniowiecze/uniwersytety1.jpg"/>
          <p:cNvPicPr/>
          <p:nvPr/>
        </p:nvPicPr>
        <p:blipFill>
          <a:blip r:embed="rId1"/>
          <a:stretch/>
        </p:blipFill>
        <p:spPr>
          <a:xfrm>
            <a:off x="4643280" y="981000"/>
            <a:ext cx="3241800" cy="3743280"/>
          </a:xfrm>
          <a:prstGeom prst="rect">
            <a:avLst/>
          </a:prstGeom>
          <a:ln w="0">
            <a:noFill/>
          </a:ln>
        </p:spPr>
      </p:pic>
      <p:sp>
        <p:nvSpPr>
          <p:cNvPr id="363" name="Prostokąt 5"/>
          <p:cNvSpPr/>
          <p:nvPr/>
        </p:nvSpPr>
        <p:spPr>
          <a:xfrm>
            <a:off x="4572000" y="4724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Wykład z filozofii </a:t>
            </a:r>
            <a:r>
              <a:rPr b="0" lang="pl-PL" sz="1100" spc="-1" strike="noStrike" u="sng">
                <a:solidFill>
                  <a:srgbClr val="e68200"/>
                </a:solidFill>
                <a:uFillTx/>
                <a:latin typeface="Calibri"/>
                <a:hlinkClick r:id="rId2"/>
              </a:rPr>
              <a:t>histmag.org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94c600"/>
                </a:solidFill>
                <a:latin typeface="Century Gothic"/>
              </a:rPr>
              <a:t>XI wiek – rozkwit średniowiecza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Językiem obowiązującym w Europie była łacina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Na mocy IV soboru laterańskiego, papież </a:t>
            </a:r>
            <a:r>
              <a:rPr b="1" lang="pl-PL" sz="2400" spc="-1" strike="noStrike">
                <a:solidFill>
                  <a:srgbClr val="3e3d2d"/>
                </a:solidFill>
                <a:latin typeface="Century Gothic"/>
              </a:rPr>
              <a:t>Innocenty III </a:t>
            </a: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w </a:t>
            </a:r>
            <a:r>
              <a:rPr b="1" lang="pl-PL" sz="2400" spc="-1" strike="noStrike">
                <a:solidFill>
                  <a:srgbClr val="3e3d2d"/>
                </a:solidFill>
                <a:latin typeface="Century Gothic"/>
              </a:rPr>
              <a:t>1215 roku </a:t>
            </a: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nakazał przy każdej parafii i katedrze zakładać szkoły, aby przygotowywały one młodych chłopców do służby Bogu. Z czasem jednak oprócz duchownych kształcono w nich urzędników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1042560" y="1557000"/>
            <a:ext cx="6769080" cy="42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W Europie zachodniej nastąpiło ożywienie gospodarcze a co za tym idzie rozwój kultury miejskiej. Intensywny rozwój zainteresowań filozoficznych i naukowych doprowadził do tego, że było trzeba otworzyć takie szkoły, gdzie uczniowie mogliby wypowiadać własne myśli i poglądy w różnych sprawach. Tą nową formę nauki nazwano </a:t>
            </a:r>
            <a:r>
              <a:rPr b="1" lang="pl-PL" sz="2400" spc="-1" strike="noStrike">
                <a:solidFill>
                  <a:srgbClr val="3e3d2d"/>
                </a:solidFill>
                <a:latin typeface="Century Gothic"/>
              </a:rPr>
              <a:t>uniwersytetem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94c600"/>
                </a:solidFill>
                <a:latin typeface="Century Gothic"/>
              </a:rPr>
              <a:t>struktura szkół w średniowieczu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8436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e3d2d"/>
                </a:solidFill>
                <a:latin typeface="Century Gothic"/>
              </a:rPr>
              <a:t>Szkoły parafialne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e3d2d"/>
                </a:solidFill>
                <a:latin typeface="Century Gothic"/>
              </a:rPr>
              <a:t>Był to najniższy stopień szkół.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e3d2d"/>
                </a:solidFill>
                <a:latin typeface="Century Gothic"/>
              </a:rPr>
              <a:t>Uczono w nich przede wszystkim łaciny: gramatyki, czytania i pisania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e3d2d"/>
                </a:solidFill>
                <a:latin typeface="Century Gothic"/>
              </a:rPr>
              <a:t>Szkoły klasztorne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e3d2d"/>
                </a:solidFill>
                <a:latin typeface="Century Gothic"/>
              </a:rPr>
              <a:t>Szkoły te powstawały w pierwszych wiekach średniowiecza, głównie przy klasztorach benedyktynów (np. w Tyńcu) i cystersów (np. w Mogile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e3d2d"/>
                </a:solidFill>
                <a:latin typeface="Century Gothic"/>
              </a:rPr>
              <a:t>Dbały głównie o wychowanie religijne, większość wychowanków trafiała do stanu duchownego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e3d2d"/>
                </a:solidFill>
                <a:latin typeface="Century Gothic"/>
              </a:rPr>
              <a:t>Szkoły katedralne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e3d2d"/>
                </a:solidFill>
                <a:latin typeface="Century Gothic"/>
              </a:rPr>
              <a:t>Były to szkoły pod patronatem biskupów diecezjalnych.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e3d2d"/>
                </a:solidFill>
                <a:latin typeface="Century Gothic"/>
              </a:rPr>
              <a:t>Zaczęły powstawać już w XI wieku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5T16:24:23Z</dcterms:created>
  <dc:creator>Iwona</dc:creator>
  <dc:description/>
  <dc:language>en-US</dc:language>
  <cp:lastModifiedBy>iwona</cp:lastModifiedBy>
  <dcterms:modified xsi:type="dcterms:W3CDTF">2013-09-18T20:03:12Z</dcterms:modified>
  <cp:revision>25</cp:revision>
  <dc:subject>szablon prezentacji KPW</dc:subject>
  <dc:title>Zrównoważony rozwój</dc:title>
</cp:coreProperties>
</file>