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7932-4F22-43AE-9193-FE801CF1886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8545-39D4-4386-8D5D-86FB20F067C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DFE9-FA95-4B2C-8034-AF576BEFC9A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99D-B8DE-4D2D-845B-4F8D185A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8BA-514B-466A-83D2-FA88758A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DC7-52BA-4F2C-B96A-42E70418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449-793F-4D21-9783-A0555373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588D-86F4-4F79-853E-6A5314E9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522C-7C29-4F40-9A71-7904A38B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F17C-8AD0-4B40-A1C8-7AF32C75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4E82-82D1-4CB4-B93F-9C01C388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1EA9-6603-4BE4-9E96-23C48E45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7CCA-0617-4E7B-89DF-E04AD08F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384B-FA64-4669-B6E6-32DCF9EA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E82-BB3B-4D8C-8505-71012DD5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0BA9-DA9A-4802-BD79-EB525DB8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44CD-9306-4A0E-BFB3-D804EEC0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0A4D-F779-44E1-9A25-689DDA8D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985A-1AF6-4817-9B5C-0D6A3A44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0412-1CC2-41FB-86C8-4A3A733B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6B037-8334-44CB-9287-E4D3ED2C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B43E8-B7E5-46E5-A4D4-72E690AA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18BD3-F621-4C8D-8F6D-47E8870B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D6E15-FFB7-455A-AAA1-04336EF8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B294D-7939-4C7A-87A6-68D5CE45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475C-B2A0-4373-9C40-8D4431F6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4CB65-52E2-4587-A72F-F9C085EA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3C4A6-F15F-4160-84F9-9316A1ED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21981-9CEF-42B0-B36E-B07559EE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93C87C-A300-48B5-887B-E26D871F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18379-DF73-4AC1-81DE-EB0E4167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67F6E-40F0-434C-A853-2D0A9F17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27C87-CC00-4D7E-B466-F7892187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551A1-EE52-48F8-AE19-5655C1DA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5294B-57D8-4C03-BE7A-5FF550C3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E4687-3CDC-4646-9C4C-FA8B08DC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479D-9A51-4CB1-B494-EA13365C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D0D5A-736D-4A1B-A7B3-5832A6F6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FC190-8263-49D1-8464-6CBC179B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B2DA0-9A2E-43B8-BFDD-B9472F8A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580A3-BFAD-4BB6-825D-00F0569F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2F598-C76C-4475-9F2F-F2C5FDBF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DB919-822E-4D9D-BFA1-D4D6CC0D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2A321-613F-4404-9198-4DDF049C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A66CF-F880-4852-B616-DF0D46DB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FFD73-0B42-44D5-A5B9-BE8F9926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5720-EC36-4437-8C5C-3F0CC9F2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F86-92A4-4A6F-8D14-A7434C8C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075B-D024-44FC-85FA-CB8D8643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6319-97A9-487B-B4A8-3774DFF9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39DB-0FC0-4900-A9BA-B51D5EFE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6923-65DC-4FCE-B69C-A45DC2C82D27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6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8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2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6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9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az 8" descr="stopka_cz_b_pion.gif"/>
          <p:cNvPicPr/>
          <p:nvPr/>
        </p:nvPicPr>
        <p:blipFill>
          <a:blip r:embed="rId2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29" name="Obraz 9" descr="nagłówek_cz_b_pion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5835-B7EB-4394-92BC-4B84D455A69E}" type="slidenum">
              <a:rPr b="0" lang="pl-P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7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7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4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8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82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5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B881-078A-41D2-A41C-601055D4D3B8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6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8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62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6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69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2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1A67-A8EC-42E5-B9DE-74F3656A4BC8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6560" y="1484280"/>
            <a:ext cx="720108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94c600"/>
                </a:solidFill>
                <a:latin typeface="Century Gothic"/>
              </a:rPr>
              <a:t>Akademia Krakowska </a:t>
            </a:r>
            <a:endParaRPr b="0" lang="en-US" sz="4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zabella Lankos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5" descr="http://us.123rf.com/400wm/400/400/michaeldb/michaeldb0901/michaeldb090100023/4228044-a-happy-usmiechnietej-buzki-absolwentow-w-graduacyjnej-dni-zaprawy-pokladzie-cap.jpg"/>
          <p:cNvPicPr/>
          <p:nvPr/>
        </p:nvPicPr>
        <p:blipFill>
          <a:blip r:embed="rId1"/>
          <a:stretch/>
        </p:blipFill>
        <p:spPr>
          <a:xfrm>
            <a:off x="5867280" y="3213000"/>
            <a:ext cx="2665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651672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94c600"/>
                </a:solidFill>
                <a:latin typeface="Century Gothic"/>
              </a:rPr>
              <a:t>Dziękuję za uwagę</a:t>
            </a:r>
            <a:endParaRPr b="0" lang="en-US" sz="4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6" descr="http://static4.depositphotos.com/1002188/321/i/950/depositphotos_3211039-Graduate-Smile.jpg"/>
          <p:cNvPicPr/>
          <p:nvPr/>
        </p:nvPicPr>
        <p:blipFill>
          <a:blip r:embed="rId1"/>
          <a:stretch/>
        </p:blipFill>
        <p:spPr>
          <a:xfrm>
            <a:off x="5796000" y="3059280"/>
            <a:ext cx="2347920" cy="26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590364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Założenie Akademii Krakowskiej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39280" y="1557000"/>
            <a:ext cx="50403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12 maja 1364 Kazimierz Wielki założył Akademię Krakowską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Był to drugi, po powstałym w 1348 r. w Pradze, uniwersytet w środkowej Europie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krótce powstaną uniwersytety w Wiedniu (1365), Peczu (1367) oraz w Heidelbergu (1386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1" name="Obraz 3" descr="http://www.wiw.pl/historia/poczet/pict/zoom/kazimierz_wielki.gif"/>
          <p:cNvPicPr/>
          <p:nvPr/>
        </p:nvPicPr>
        <p:blipFill>
          <a:blip r:embed="rId1"/>
          <a:stretch/>
        </p:blipFill>
        <p:spPr>
          <a:xfrm>
            <a:off x="5796000" y="476280"/>
            <a:ext cx="2730600" cy="34862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http://www.newsweek.pl/bins/Media/Pictures/8f/8fe1/8fe154c100df4152bd89681e57578456_thb14.jpg"/>
          <p:cNvPicPr/>
          <p:nvPr/>
        </p:nvPicPr>
        <p:blipFill>
          <a:blip r:embed="rId2"/>
          <a:stretch/>
        </p:blipFill>
        <p:spPr>
          <a:xfrm>
            <a:off x="5508720" y="396252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48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94c600"/>
                </a:solidFill>
                <a:latin typeface="Century Gothic"/>
              </a:rPr>
              <a:t>Studium General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1280" y="1557000"/>
            <a:ext cx="388944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tudium Generale - taka była oficjalna nazwa uniwersytetu w Krakowie - rozpoczęło działalność faktycznie nie wcześniej niż w 1367 r. i składało się z trzech tylko wydziałów: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ztuk wyzwolonych,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medycyny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prawa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Na utworzenie czwartego, najbardziej prestiżowego - teologii, papież Urban V nie wyraził zgody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5" name="Obraz 4" descr="http://studente.pl/krakow/_cache/_thumbs/12/12958467e30d53fca411b418c037f358.jpg"/>
          <p:cNvPicPr/>
          <p:nvPr/>
        </p:nvPicPr>
        <p:blipFill>
          <a:blip r:embed="rId1"/>
          <a:stretch/>
        </p:blipFill>
        <p:spPr>
          <a:xfrm>
            <a:off x="8172360" y="476280"/>
            <a:ext cx="822240" cy="1512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ttp://ks27729.kimsufi.com/p3/200911/1C/52673335.jpg"/>
          <p:cNvPicPr/>
          <p:nvPr/>
        </p:nvPicPr>
        <p:blipFill>
          <a:blip r:embed="rId2"/>
          <a:stretch/>
        </p:blipFill>
        <p:spPr>
          <a:xfrm>
            <a:off x="5219640" y="836640"/>
            <a:ext cx="2610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684360" y="1413000"/>
            <a:ext cx="45352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rektora wybierano spośród ogółu studiujących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studenci mogli wybierać sobie mistrzów, u których pobierali naukę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Nad egzaminami i nadaniami stopni naukowych czuwał kanclerz królewski on też pilnował wypełniania praktyk w sądach przez studentów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8" name="pole tekstowe 3"/>
          <p:cNvSpPr/>
          <p:nvPr/>
        </p:nvSpPr>
        <p:spPr>
          <a:xfrm>
            <a:off x="1187280" y="54936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rganizacja Akademii Krakowskiej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Obraz 5" descr="http://upload.wikimedia.org/wikipedia/commons/b/bd/Krak%C3%B3w.Uniwersytet_Jagiello%C5%84ski.Collegium_Maius.Stuba_Communis%28Schody%29.jpg"/>
          <p:cNvPicPr/>
          <p:nvPr/>
        </p:nvPicPr>
        <p:blipFill>
          <a:blip r:embed="rId1"/>
          <a:stretch/>
        </p:blipFill>
        <p:spPr>
          <a:xfrm>
            <a:off x="5564160" y="1111320"/>
            <a:ext cx="30574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684360" y="1413000"/>
            <a:ext cx="424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Mistrzowie byli wynagradzani ze skarbu państwa,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cholarzy wybierali rektora, któremu przyrzekali posłuszeństwo i poddaństwo wobec jego jurysdykcji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Zarówno rektor, jak i profesorowie byli opłacani ze skarbu państwa, przez urzędników króla, a źródłem tego dochodu były żupy solne w Wieliczce i Bochni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Kazimierz Wielki wyznaczył jednego Żyda w Krakowie, który mógł udzielać pożyczek studentom i profesorom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1" name="pole tekstowe 3"/>
          <p:cNvSpPr/>
          <p:nvPr/>
        </p:nvSpPr>
        <p:spPr>
          <a:xfrm>
            <a:off x="1187280" y="54936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rganizacja Akademii Krakowskiej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Obraz 4" descr="http://static.lovetotravel.pl/galery/th/th1_9611_collegium_maius.jpg"/>
          <p:cNvPicPr/>
          <p:nvPr/>
        </p:nvPicPr>
        <p:blipFill>
          <a:blip r:embed="rId1"/>
          <a:stretch/>
        </p:blipFill>
        <p:spPr>
          <a:xfrm>
            <a:off x="4859280" y="1154160"/>
            <a:ext cx="396072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738324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4c600"/>
                </a:solidFill>
                <a:latin typeface="Century Gothic"/>
              </a:rPr>
              <a:t>W Akademii Krakowskiej funkcjonowały następujące wydziały:</a:t>
            </a:r>
            <a:br>
              <a:rPr sz="2800"/>
            </a:b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42920" y="1844280"/>
            <a:ext cx="396072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Prawo – 5 katedr prawa rzymskiego i 3 kanoniczego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2 katedry medycyn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1 katedra sztuk wyzwolonych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684000" y="692280"/>
            <a:ext cx="4392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Po śmierci 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Kazimierza Wielkiego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 w roku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1370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 podupadła lub została zupełnie zawieszona. Dopiero dzięki staraniom królowej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Jadwigi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, która zabiegała o utworzenie na uniwersytecie katedry teologii (na co zezwolił papież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Bonifacy IX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 w swojej bulli z roku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1397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) oraz przekazała w swoim testamencie znaczne środki finansowe na rozwój uczelni, krakowska szkoła mogła podjąć swoją działalność.  W 1401 roku naukę w zreformowanej uczelni podjęło 203 studentów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6" name="Obraz 3" descr="http://upload.wikimedia.org/wikipedia/commons/thumb/5/52/Matejko_UJ.JPG/220px-Matejko_UJ.JPG"/>
          <p:cNvPicPr/>
          <p:nvPr/>
        </p:nvPicPr>
        <p:blipFill>
          <a:blip r:embed="rId1"/>
          <a:stretch/>
        </p:blipFill>
        <p:spPr>
          <a:xfrm>
            <a:off x="5724360" y="692280"/>
            <a:ext cx="2311560" cy="2952720"/>
          </a:xfrm>
          <a:prstGeom prst="rect">
            <a:avLst/>
          </a:prstGeom>
          <a:ln w="0">
            <a:noFill/>
          </a:ln>
        </p:spPr>
      </p:pic>
      <p:pic>
        <p:nvPicPr>
          <p:cNvPr id="367" name="Obraz 4" descr="http://upload.wikimedia.org/wikipedia/commons/f/fc/Krak%C3%B3w_-_Collegium_Maius_-_Dziedziniec_01.JPG"/>
          <p:cNvPicPr/>
          <p:nvPr/>
        </p:nvPicPr>
        <p:blipFill>
          <a:blip r:embed="rId2"/>
          <a:stretch/>
        </p:blipFill>
        <p:spPr>
          <a:xfrm>
            <a:off x="5392800" y="3860640"/>
            <a:ext cx="291132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684360" y="1197000"/>
            <a:ext cx="4464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Dopiero zabiegi królowej Jadwigi na dworze papieskim w Awinionie, a potem zapis w testamencie jej majątku osobistego na rzecz uniwersytetu sprawiły, że wznowił on działalność w roku 1400, w rok po śmierci donatorki. Tym razem powstał już pełny uniwersytet średniowieczny, z wszystkimi czterema wydziałami, zorganizowany na wzór paryski. Odtąd rektora wybierało grono profesorskie; powstały kolegia, w których zamieszkiwali profesorowie, oraz bursy dla żaków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9" name="Picture 2" descr="http://th.interia.pl/40,oiobywatel,e79b3738228032/546996_600.jpg"/>
          <p:cNvPicPr/>
          <p:nvPr/>
        </p:nvPicPr>
        <p:blipFill>
          <a:blip r:embed="rId1"/>
          <a:stretch/>
        </p:blipFill>
        <p:spPr>
          <a:xfrm>
            <a:off x="5580000" y="404640"/>
            <a:ext cx="280980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4248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bibliografia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4360" y="1268280"/>
            <a:ext cx="45352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http://edukacja.studente.pl/krakow/obiekt/205/Uniwersytet-Jagiellonski-w-Krakowie-Collegium-Novum/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http://edukacja.studente.pl/krakow/obiekt/205/Uniwersytet-Jagiellonski-w-Krakowie-Collegium-Novum/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Century Gothic"/>
              </a:rPr>
              <a:t>Założenie Szkoły Głównej przeniesieniem do Krakowa ugruntowane. R.P. 1361-1399-1400</a:t>
            </a: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, obraz Jana Matejki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e3d2d"/>
                </a:solidFill>
                <a:latin typeface="Century Gothic"/>
              </a:rPr>
              <a:t>http://commons.wikimedia.org/wiki/File:Krak%C3%B3w.Uniwersytet_Jagiello%C5%84ski.Collegium_Maius.Aula_Jagiello%C5%84ska.jpg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e3d2d"/>
                </a:solidFill>
                <a:latin typeface="Century Gothic"/>
              </a:rPr>
              <a:t>http://www.maius.uj.edu.pl/collections.pl.html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http://historia.newsweek.pl/krol-kazimierz--wielki-budowniczy,98812,1,1.html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http://interia360.pl/galeria/bez%20nazwy,4334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http://www.photoblog.pl/cyfrowy/52673335/zak-krakowski.html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2" name="Picture 2" descr="http://1.bp.blogspot.com/_tgpOC3-kllQ/STaexUXnGVI/AAAAAAAAABs/PbX2hUWnQH0/s400/Jagiellonian.JPG"/>
          <p:cNvPicPr/>
          <p:nvPr/>
        </p:nvPicPr>
        <p:blipFill>
          <a:blip r:embed="rId1"/>
          <a:stretch/>
        </p:blipFill>
        <p:spPr>
          <a:xfrm>
            <a:off x="5724360" y="907920"/>
            <a:ext cx="30290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tos</cp:lastModifiedBy>
  <dcterms:modified xsi:type="dcterms:W3CDTF">2013-09-16T18:36:22Z</dcterms:modified>
  <cp:revision>17</cp:revision>
  <dc:subject>szablon prezentacji KPW</dc:subject>
  <dc:title>Zrównoważony rozwój</dc:title>
</cp:coreProperties>
</file>