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2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2.jpeg" ContentType="image/jpeg"/>
  <Override PartName="/ppt/media/image6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8361-7935-4537-987C-AB747DBA50B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9BA1-799A-4F7D-81B4-D7C718B4E9E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DE6E-68C8-48F6-AB84-38BF7840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8B0B-806A-4F7A-AAFB-EE2C4958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8CB1-DE07-4708-B6AA-E1E41ED87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E495-4234-467A-8089-E663360F8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B9FB-AEBF-4D86-BF37-A3A829ACC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BE41-2EDA-4C0C-A9D6-7EF59C42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8E59-F61C-4D9A-B063-F61D7745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EF23-16F0-481D-B966-0C4B17ED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0A64-7221-4AB7-A817-4BBB30A8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B623-FACD-4675-AEF5-4684B7B4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F21A-EA8B-4E17-B83C-E5AFC800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4142-FBFE-4E53-BF07-CD269347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194A-DCD8-4C52-91A7-AA5D664F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33E5-A88A-42D3-BC07-27A143F1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E221-8E03-48F0-8118-D0A3482F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76BB-C321-4B28-AC9A-E7923B682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748C-7A6F-4FE6-9D6E-39432F9CA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96A0-65BF-4199-BE16-0A6D22A7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C04C-187F-423D-827E-DBE3A939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B98D-D0CF-4462-AE41-D72A411F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38B3-5AA1-43DB-AC30-9E60E141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8A63-A7B7-453C-844B-D360FF36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DB35-A689-4929-8C16-8F9188D7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A391-ACAA-4190-8576-D8ED55C9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F472-EC97-414D-A46F-255CF70135C8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9DC8-9C54-4554-AC0C-EF47B1BC9AA3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0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jpeg"/><Relationship Id="rId3" Type="http://schemas.openxmlformats.org/officeDocument/2006/relationships/hyperlink" Target="http://www.kominek.in/2012/03/cztery-zagadki-i-jedna-odpowiedz/" TargetMode="External"/><Relationship Id="rId4" Type="http://schemas.openxmlformats.org/officeDocument/2006/relationships/image" Target="../media/image7.png"/><Relationship Id="rId5" Type="http://schemas.openxmlformats.org/officeDocument/2006/relationships/hyperlink" Target="http://www.kominek.in/2012/03/cztery-zagadki-i-jedna-odpowiedz/" TargetMode="External"/><Relationship Id="rId6" Type="http://schemas.openxmlformats.org/officeDocument/2006/relationships/hyperlink" Target="http://www.revelation2seven.org/UsedImages/pg208.gif" TargetMode="External"/><Relationship Id="rId7" Type="http://schemas.openxmlformats.org/officeDocument/2006/relationships/hyperlink" Target="http://www.kominek.in/2012/03/cztery-zagadki-i-jedna-odpowiedz/" TargetMode="External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http://pl.wikipedia.org/wiki/Plik:Anaximander_world_map-pl.svg" TargetMode="External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55640" y="836280"/>
            <a:ext cx="445932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Grecka zdolność do abstrakcji i jej konsekwencje </a:t>
            </a:r>
            <a:br>
              <a:rPr sz="4400"/>
            </a:b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cz. </a:t>
            </a:r>
            <a:r>
              <a:rPr b="1" lang="pl-PL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27432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Arial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6" descr="C:\Documents and Settings\Grzes\Pulpit\d.wmf"/>
          <p:cNvPicPr/>
          <p:nvPr/>
        </p:nvPicPr>
        <p:blipFill>
          <a:blip r:embed="rId1"/>
          <a:stretch/>
        </p:blipFill>
        <p:spPr>
          <a:xfrm>
            <a:off x="826920" y="1197000"/>
            <a:ext cx="310680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Najciekawszy jest człowiek – czyli zwrot w filozofii greckiej.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0" y="1599840"/>
            <a:ext cx="4572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Najciekawszy jest człowiek – takiego zwrotu w myśleniu dokonali sofiści, a po nich Sokrates. Jego wielcy następcy (Platon, Arystoteles) zastanawiali się nad najważniejszymi dla człowieka rzeczam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6" descr="Plik:David - The Death of Socrates.jpg"/>
          <p:cNvPicPr/>
          <p:nvPr/>
        </p:nvPicPr>
        <p:blipFill>
          <a:blip r:embed="rId1"/>
          <a:stretch/>
        </p:blipFill>
        <p:spPr>
          <a:xfrm>
            <a:off x="900000" y="1916280"/>
            <a:ext cx="3722760" cy="2449440"/>
          </a:xfrm>
          <a:prstGeom prst="rect">
            <a:avLst/>
          </a:prstGeom>
          <a:ln w="0">
            <a:noFill/>
          </a:ln>
        </p:spPr>
      </p:pic>
      <p:sp>
        <p:nvSpPr>
          <p:cNvPr id="138" name="pole tekstowe 5"/>
          <p:cNvSpPr/>
          <p:nvPr/>
        </p:nvSpPr>
        <p:spPr>
          <a:xfrm>
            <a:off x="1042920" y="4581360"/>
            <a:ext cx="34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e wnętrzu człowieka mieszka prawda – Sokrat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Najciekawszy jest człowiek – czyli zwrot w filozofii greckiej.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0" y="1599840"/>
            <a:ext cx="4572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Najciekawszy jest człowiek – takiego zwrotu w myśleniu dokonali sofiści, a po nich Sokrates. Jego wielcy następcy (Platon, Arystoteles) zastanawiali się nad najważniejszymi dla człowieka rzeczam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ole tekstowe 5"/>
          <p:cNvSpPr/>
          <p:nvPr/>
        </p:nvSpPr>
        <p:spPr>
          <a:xfrm>
            <a:off x="971640" y="479736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ło jest brakiem mądrości – człowiek powinien dążyć do mądrości i przekazania jej innym - Pla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http://upload.wikimedia.org/wikipedia/commons/thumb/7/79/Platon-2.jpg/220px-Platon-2.jpg"/>
          <p:cNvPicPr/>
          <p:nvPr/>
        </p:nvPicPr>
        <p:blipFill>
          <a:blip r:embed="rId1"/>
          <a:stretch/>
        </p:blipFill>
        <p:spPr>
          <a:xfrm>
            <a:off x="1403280" y="1773360"/>
            <a:ext cx="209556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Najciekawszy jest człowiek – czyli zwrot w filozofii greckiej.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284720" y="1915920"/>
            <a:ext cx="45720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Najciekawszy jest człowiek – takiego zwrotu w myśleniu dokonali sofiści, a po nich Sokrates. Jego wielcy następcy (Platon, Arystoteles) zastanawiali się nad najważniejszymi dla człowieka rzeczam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ole tekstowe 5"/>
          <p:cNvSpPr/>
          <p:nvPr/>
        </p:nvSpPr>
        <p:spPr>
          <a:xfrm>
            <a:off x="611280" y="47973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złowiek powinien dążyć do cnoty _ Arystote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http://upload.wikimedia.org/wikipedia/commons/thumb/a/ae/Aristotle_Altemps_Inv8575.jpg/220px-Aristotle_Altemps_Inv8575.jpg"/>
          <p:cNvPicPr/>
          <p:nvPr/>
        </p:nvPicPr>
        <p:blipFill>
          <a:blip r:embed="rId1"/>
          <a:stretch/>
        </p:blipFill>
        <p:spPr>
          <a:xfrm>
            <a:off x="684360" y="1700280"/>
            <a:ext cx="20952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pl-PL" sz="4400" spc="-1" strike="noStrike">
                <a:solidFill>
                  <a:srgbClr val="1f497d"/>
                </a:solidFill>
                <a:latin typeface="Calibri"/>
              </a:rPr>
              <a:t>Powstanie nauk szczegółowych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ole tekstowe 7"/>
          <p:cNvSpPr/>
          <p:nvPr/>
        </p:nvSpPr>
        <p:spPr>
          <a:xfrm>
            <a:off x="2916360" y="21337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lozof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ole tekstowe 8"/>
          <p:cNvSpPr/>
          <p:nvPr/>
        </p:nvSpPr>
        <p:spPr>
          <a:xfrm>
            <a:off x="468360" y="3500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atematy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ole tekstowe 9"/>
          <p:cNvSpPr/>
          <p:nvPr/>
        </p:nvSpPr>
        <p:spPr>
          <a:xfrm>
            <a:off x="2340000" y="3645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zy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ole tekstowe 10"/>
          <p:cNvSpPr/>
          <p:nvPr/>
        </p:nvSpPr>
        <p:spPr>
          <a:xfrm>
            <a:off x="1332000" y="2924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ogi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ole tekstowe 11"/>
          <p:cNvSpPr/>
          <p:nvPr/>
        </p:nvSpPr>
        <p:spPr>
          <a:xfrm>
            <a:off x="3564000" y="3500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Geografi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ole tekstowe 12"/>
          <p:cNvSpPr/>
          <p:nvPr/>
        </p:nvSpPr>
        <p:spPr>
          <a:xfrm>
            <a:off x="3564000" y="4221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stronom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ole tekstowe 13"/>
          <p:cNvSpPr/>
          <p:nvPr/>
        </p:nvSpPr>
        <p:spPr>
          <a:xfrm>
            <a:off x="5508720" y="2924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edycy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Łącznik prosty ze strzałką 15"/>
          <p:cNvCxnSpPr>
            <a:endCxn id="151" idx="0"/>
          </p:cNvCxnSpPr>
          <p:nvPr/>
        </p:nvCxnSpPr>
        <p:spPr>
          <a:xfrm flipH="1">
            <a:off x="2267640" y="2565000"/>
            <a:ext cx="864360" cy="35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Łącznik prosty ze strzałką 17"/>
          <p:cNvCxnSpPr/>
          <p:nvPr/>
        </p:nvCxnSpPr>
        <p:spPr>
          <a:xfrm flipH="1">
            <a:off x="1402560" y="3284280"/>
            <a:ext cx="361080" cy="14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Łącznik prosty ze strzałką 19"/>
          <p:cNvCxnSpPr>
            <a:stCxn id="151" idx="2"/>
          </p:cNvCxnSpPr>
          <p:nvPr/>
        </p:nvCxnSpPr>
        <p:spPr>
          <a:xfrm>
            <a:off x="2268360" y="3293640"/>
            <a:ext cx="432720" cy="351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Łącznik prosty ze strzałką 21"/>
          <p:cNvCxnSpPr/>
          <p:nvPr/>
        </p:nvCxnSpPr>
        <p:spPr>
          <a:xfrm>
            <a:off x="3634920" y="2492280"/>
            <a:ext cx="577080" cy="10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Łącznik prosty ze strzałką 23"/>
          <p:cNvCxnSpPr/>
          <p:nvPr/>
        </p:nvCxnSpPr>
        <p:spPr>
          <a:xfrm>
            <a:off x="3131640" y="3933360"/>
            <a:ext cx="361080" cy="35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Łącznik prosty ze strzałką 25"/>
          <p:cNvCxnSpPr/>
          <p:nvPr/>
        </p:nvCxnSpPr>
        <p:spPr>
          <a:xfrm>
            <a:off x="3995640" y="2349000"/>
            <a:ext cx="1656720" cy="57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Medycyna grecka i jej wpływ na dzisiejsz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ole tekstowe 5"/>
          <p:cNvSpPr/>
          <p:nvPr/>
        </p:nvSpPr>
        <p:spPr>
          <a:xfrm>
            <a:off x="0" y="3573360"/>
            <a:ext cx="22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www.bil.bielsko.pl/gfx/SKMBT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7" descr="http://www.bil.bielsko.pl/gfx/SKMBT.jpg"/>
          <p:cNvPicPr/>
          <p:nvPr/>
        </p:nvPicPr>
        <p:blipFill>
          <a:blip r:embed="rId1"/>
          <a:stretch/>
        </p:blipFill>
        <p:spPr>
          <a:xfrm>
            <a:off x="2627280" y="1700280"/>
            <a:ext cx="605628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7. Świat opisany matematycznie</a:t>
            </a:r>
            <a:r>
              <a:rPr b="0" lang="pl-PL" sz="32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ole tekstowe 4"/>
          <p:cNvSpPr/>
          <p:nvPr/>
        </p:nvSpPr>
        <p:spPr>
          <a:xfrm>
            <a:off x="395280" y="458136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wierdzenie Pitagoras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www.bazywiedzy.com/gfx/twierdzenie-Pitagorasa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ole tekstowe 6"/>
          <p:cNvSpPr/>
          <p:nvPr/>
        </p:nvSpPr>
        <p:spPr>
          <a:xfrm>
            <a:off x="5580000" y="4653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wierdzenie Tale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9" descr="http://www.bazywiedzy.com/gfx/twierdzenie-Pitagorasa.png"/>
          <p:cNvPicPr/>
          <p:nvPr/>
        </p:nvPicPr>
        <p:blipFill>
          <a:blip r:embed="rId1"/>
          <a:stretch/>
        </p:blipFill>
        <p:spPr>
          <a:xfrm>
            <a:off x="755640" y="1268280"/>
            <a:ext cx="2592360" cy="3311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C:\Documents and Settings\Grzes\Pulpit\d.wmf"/>
          <p:cNvPicPr/>
          <p:nvPr/>
        </p:nvPicPr>
        <p:blipFill>
          <a:blip r:embed="rId2"/>
          <a:stretch/>
        </p:blipFill>
        <p:spPr>
          <a:xfrm>
            <a:off x="4284720" y="1413000"/>
            <a:ext cx="310680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artoste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020000" y="1988640"/>
            <a:ext cx="1944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</a:t>
            </a:r>
            <a:br>
              <a:rPr sz="1400"/>
            </a:br>
            <a:r>
              <a:rPr b="0" lang="pl-PL" sz="1400" spc="-1" strike="noStrike">
                <a:solidFill>
                  <a:srgbClr val="898989"/>
                </a:solidFill>
                <a:latin typeface="Calibri"/>
              </a:rPr>
              <a:t>http://upload.wikimedia.org/wikipedia/commons/b/be/Eratosthenes_%26_measurement_of_the_Earth.p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6" descr="http://upload.wikimedia.org/wikipedia/commons/b/be/Eratosthenes_%26_measurement_of_the_Earth.png"/>
          <p:cNvPicPr/>
          <p:nvPr/>
        </p:nvPicPr>
        <p:blipFill>
          <a:blip r:embed="rId1"/>
          <a:stretch/>
        </p:blipFill>
        <p:spPr>
          <a:xfrm>
            <a:off x="826920" y="1700280"/>
            <a:ext cx="57405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3">
            <a:hlinkClick r:id="rId1" action="ppaction://hlinksldjump"/>
          </p:cNvPr>
          <p:cNvSpPr/>
          <p:nvPr/>
        </p:nvSpPr>
        <p:spPr>
          <a:xfrm>
            <a:off x="755640" y="119700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. Wyobrażenia o świecie przed Grekam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826920" y="1700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2.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Uruchomienie pytań o arche wśród jońskich filozofów przyrod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26920" y="220500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3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Świat to różne domy zbudowane z tych samych cegie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826920" y="263700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4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Najciekawszy jest człowiek – czyli zwrot w filozofii greckiej.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826920" y="3141720"/>
            <a:ext cx="48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5.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Powstanie nauk szczegółowyc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826920" y="3645000"/>
            <a:ext cx="55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0" action="ppaction://hlinksldjump"/>
              </a:rPr>
              <a:t>6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1" action="ppaction://hlinksldjump"/>
              </a:rPr>
              <a:t>Medycyna grecka i jej wpływ na dzisiejszą.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2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826920" y="41497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3" action="ppaction://hlinksldjump"/>
              </a:rPr>
              <a:t>7. Świat opisany matematyczni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641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pl-PL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Wyobrażenia o świecie przed Grekami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Świat przed Grekami wyobrażano sobie jako tarczę, oblaną wokół wodą i położona na grzbiecie zwierząt, albo sferę złożoną z nieba, ziemi i ogn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7" descr="ziemia na trzech sloniach"/>
          <p:cNvPicPr/>
          <p:nvPr/>
        </p:nvPicPr>
        <p:blipFill>
          <a:blip r:embed="rId2"/>
          <a:stretch/>
        </p:blipFill>
        <p:spPr>
          <a:xfrm>
            <a:off x="0" y="2637000"/>
            <a:ext cx="4176720" cy="3127320"/>
          </a:xfrm>
          <a:prstGeom prst="rect">
            <a:avLst/>
          </a:prstGeom>
          <a:ln w="0">
            <a:noFill/>
          </a:ln>
        </p:spPr>
      </p:pic>
      <p:sp>
        <p:nvSpPr>
          <p:cNvPr id="109" name="Prostokąt 6"/>
          <p:cNvSpPr/>
          <p:nvPr/>
        </p:nvSpPr>
        <p:spPr>
          <a:xfrm>
            <a:off x="4140360" y="2924280"/>
            <a:ext cx="2160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Źródło: http://www.kominek.in/2012/03/cztery-zagadki-i-jedna-odpowiedz/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, dostęp 20.05.201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9" descr="http://www.revelation2seven.org/UsedImages/pg208.gif"/>
          <p:cNvPicPr/>
          <p:nvPr/>
        </p:nvPicPr>
        <p:blipFill>
          <a:blip r:embed="rId4"/>
          <a:stretch/>
        </p:blipFill>
        <p:spPr>
          <a:xfrm>
            <a:off x="6372360" y="3141720"/>
            <a:ext cx="2558880" cy="2519280"/>
          </a:xfrm>
          <a:prstGeom prst="rect">
            <a:avLst/>
          </a:prstGeom>
          <a:ln w="0">
            <a:noFill/>
          </a:ln>
        </p:spPr>
      </p:pic>
      <p:sp>
        <p:nvSpPr>
          <p:cNvPr id="111" name="Prostokąt 8"/>
          <p:cNvSpPr/>
          <p:nvPr/>
        </p:nvSpPr>
        <p:spPr>
          <a:xfrm>
            <a:off x="4788000" y="5084640"/>
            <a:ext cx="216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Źródło: </a:t>
            </a:r>
            <a:r>
              <a:rPr b="0" lang="pl-PL" sz="1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revelation2seven.org/UsedImages/pg208.gif </a:t>
            </a:r>
            <a:r>
              <a:rPr b="0" lang="pl-PL" sz="1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/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, dostęp 20.05.201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2.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ruchomienie pytań o arche wśród jońskich filozofów przyro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- Jońscy filozofowie przyrody (VII-VI w. p.n.e.) nie tylko wyobrazili sobie ziemię jako walec, potem kulę, ale zaczęli poszukiwać źródła budowy ziemi, uznając jeden z „pierwiastków” (wodę, ogień, powietrze, ziemię) za źródło wszystkieg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7" descr="Cztery żywioły w kole alchemicznym"/>
          <p:cNvPicPr/>
          <p:nvPr/>
        </p:nvPicPr>
        <p:blipFill>
          <a:blip r:embed="rId2"/>
          <a:stretch/>
        </p:blipFill>
        <p:spPr>
          <a:xfrm>
            <a:off x="1476360" y="3429000"/>
            <a:ext cx="2303640" cy="2338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Plik:Anaximander world map-pl.svg"/>
          <p:cNvPicPr/>
          <p:nvPr/>
        </p:nvPicPr>
        <p:blipFill>
          <a:blip r:embed="rId3"/>
          <a:stretch/>
        </p:blipFill>
        <p:spPr>
          <a:xfrm>
            <a:off x="4572000" y="3284640"/>
            <a:ext cx="2521080" cy="2520720"/>
          </a:xfrm>
          <a:prstGeom prst="rect">
            <a:avLst/>
          </a:prstGeom>
          <a:ln w="0">
            <a:noFill/>
          </a:ln>
        </p:spPr>
      </p:pic>
      <p:sp>
        <p:nvSpPr>
          <p:cNvPr id="116" name="Prostokąt 6"/>
          <p:cNvSpPr/>
          <p:nvPr/>
        </p:nvSpPr>
        <p:spPr>
          <a:xfrm>
            <a:off x="7020000" y="3789360"/>
            <a:ext cx="18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pl.wikipedia.org/wiki/Plik:Anaximander_world_map-pl.sv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Tales z Mile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348000" y="1628280"/>
            <a:ext cx="5276880" cy="24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Zasadą (arché) jest wo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Magnes posiada dusz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Wszystko jest pełne bog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Dusze są nieśmiertel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Plik:Illustrerad Verldshistoria band I Ill 107.jpg"/>
          <p:cNvPicPr/>
          <p:nvPr/>
        </p:nvPicPr>
        <p:blipFill>
          <a:blip r:embed="rId1"/>
          <a:stretch/>
        </p:blipFill>
        <p:spPr>
          <a:xfrm>
            <a:off x="468360" y="1916280"/>
            <a:ext cx="294804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Anaksymander z Miletu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  ok. 610-546 p.n.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ymbol zastępczy zawartości 2"/>
          <p:cNvSpPr/>
          <p:nvPr/>
        </p:nvSpPr>
        <p:spPr>
          <a:xfrm>
            <a:off x="3348000" y="1628640"/>
            <a:ext cx="5276880" cy="24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Zasadą (arché) jest apeiron (bezkr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Wydzielanie się z bezkresu związane jest z win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Zwierzęta lądowe wywodzą się ze zwierząt morski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Człowiek wywodzi się od zwierzą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5" descr="Plik:Anaximander.jpg"/>
          <p:cNvPicPr/>
          <p:nvPr/>
        </p:nvPicPr>
        <p:blipFill>
          <a:blip r:embed="rId1"/>
          <a:stretch/>
        </p:blipFill>
        <p:spPr>
          <a:xfrm>
            <a:off x="324000" y="1268280"/>
            <a:ext cx="25318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619128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Anaksymenes z Miletu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 (ok. 585 p.n.e - ok. 525 p.n.e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4"/>
          <p:cNvSpPr/>
          <p:nvPr/>
        </p:nvSpPr>
        <p:spPr>
          <a:xfrm>
            <a:off x="684360" y="443700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pl.wikipedia.org/wiki/Plik:Anaximenes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7" descr="Plik:Anaximenes.jpg"/>
          <p:cNvPicPr/>
          <p:nvPr/>
        </p:nvPicPr>
        <p:blipFill>
          <a:blip r:embed="rId1"/>
          <a:stretch/>
        </p:blipFill>
        <p:spPr>
          <a:xfrm>
            <a:off x="684360" y="1341360"/>
            <a:ext cx="2552400" cy="3105360"/>
          </a:xfrm>
          <a:prstGeom prst="rect">
            <a:avLst/>
          </a:prstGeom>
          <a:ln w="0">
            <a:noFill/>
          </a:ln>
        </p:spPr>
      </p:pic>
      <p:sp>
        <p:nvSpPr>
          <p:cNvPr id="126" name="Symbol zastępczy zawartości 2"/>
          <p:cNvSpPr/>
          <p:nvPr/>
        </p:nvSpPr>
        <p:spPr>
          <a:xfrm>
            <a:off x="3348000" y="1628640"/>
            <a:ext cx="5276880" cy="24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Zasadą (arché) jest powietr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Wszystko jest zmien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Wszystko zależy od stopnia ściśnięcia powietr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Heraklit z Efezu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  (ok. 540p.n.e. -ok. 480 p.n.e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1"/>
          <p:cNvSpPr/>
          <p:nvPr/>
        </p:nvSpPr>
        <p:spPr>
          <a:xfrm>
            <a:off x="6443640" y="4276800"/>
            <a:ext cx="237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Źródło: http://pl.wikipedia.org/wiki/Plik:Spinning_jenny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ymbol zastępczy zawartości 2"/>
          <p:cNvSpPr/>
          <p:nvPr/>
        </p:nvSpPr>
        <p:spPr>
          <a:xfrm>
            <a:off x="3348000" y="1628640"/>
            <a:ext cx="5276880" cy="24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Zasadą (arché) jest ogie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Wszystko jest zmien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We wszystkim istniej e równowaga przeciweińst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8" descr="Plik:Heraclitus, Johannes Moreelse.jpg"/>
          <p:cNvPicPr/>
          <p:nvPr/>
        </p:nvPicPr>
        <p:blipFill>
          <a:blip r:embed="rId1"/>
          <a:stretch/>
        </p:blipFill>
        <p:spPr>
          <a:xfrm>
            <a:off x="179280" y="1557360"/>
            <a:ext cx="32673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61912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Świat to różne domy zbudowane z tych samych cegie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rostokąt 22"/>
          <p:cNvSpPr/>
          <p:nvPr/>
        </p:nvSpPr>
        <p:spPr>
          <a:xfrm>
            <a:off x="611280" y="162864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emokryt z Abder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(ur. ok. 460 p.n.e., zm. ok. 370 p.n.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4" descr="Plik:Democritus2.jpg"/>
          <p:cNvPicPr/>
          <p:nvPr/>
        </p:nvPicPr>
        <p:blipFill>
          <a:blip r:embed="rId1"/>
          <a:stretch/>
        </p:blipFill>
        <p:spPr>
          <a:xfrm>
            <a:off x="755640" y="2060640"/>
            <a:ext cx="2448000" cy="3384360"/>
          </a:xfrm>
          <a:prstGeom prst="rect">
            <a:avLst/>
          </a:prstGeom>
          <a:ln w="0">
            <a:noFill/>
          </a:ln>
        </p:spPr>
      </p:pic>
      <p:sp>
        <p:nvSpPr>
          <p:cNvPr id="134" name="pole tekstowe 24"/>
          <p:cNvSpPr/>
          <p:nvPr/>
        </p:nvSpPr>
        <p:spPr>
          <a:xfrm>
            <a:off x="4788000" y="227664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Świat składa się z małych , niepodzielnych cząstek zwanych atomam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iwona</cp:lastModifiedBy>
  <dcterms:modified xsi:type="dcterms:W3CDTF">2013-08-01T19:48:12Z</dcterms:modified>
  <cp:revision>61</cp:revision>
  <dc:subject/>
  <dc:title>Slajd 1</dc:title>
</cp:coreProperties>
</file>