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tos" initials="t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13-09-15T11:53:54.348000000" idx="1">
    <p:pos x="5081" y="3374"/>
    <p:text>zmieniłam podpis pod obrazem 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5ECA-8EE5-4444-A312-980DED34DE4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3061-2443-4807-ABF4-4F778708CD0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3F7D-52FB-44FE-9318-2BDC6DBC985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4300-02E8-4EC1-A3CA-CBB1B66B0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9FFA-1779-4BA3-832E-B422833A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30C8-E774-4F24-A3B5-636A9DF4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E5C0-1118-42F5-AC0D-DEFF0B87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5175-580C-421B-8DCC-1CF2D6D9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777A-1328-4901-8FC9-83E4657B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4A3A-39C4-4DA7-A010-2752534C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A52F-AA4C-4542-B66B-D14165C4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44ED-0F35-4908-BDFA-37087215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BA87-39DB-4250-9D20-312B302D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0190-A19F-4016-BB24-32C58C73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BA89-D5C2-4229-B2E4-D16954ED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3675-73C8-4B8F-9DF5-7D2B5198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F00D-7553-444F-AA72-14BCD9E7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25CC-9E46-4055-B680-0CEF8DBB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B9D6-759D-4EB9-BAD7-3C36976C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78A0-AF6E-452F-8C5A-EC1DB700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4F9F7-9A1A-4862-B525-D7CABAE7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9AEDFA-7E43-4FC0-9424-C5FFF03C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B7DB42-0CE8-4CE9-AECD-2A559B14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9C531-08DB-4B0D-9D8B-01997D96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BE1C6-494D-46B1-A9D3-597E0F9F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A7AA-ED73-4DF5-B65D-89976F0D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34C5CE-8F69-4507-B405-BA6953B4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C5A71-1426-4E80-8B7D-4E745B3A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769C6C-1471-4BC7-AB64-E0DB1677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7343BE-7D06-42A6-8C82-F6D0E41D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DC63C9-BAE6-4333-9D64-8B7FBED7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93A3A4-3607-4473-9B90-BAFE6F46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1C865C-C992-4C16-A5F7-5AB9C7DD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042A1-B02A-4524-BC29-E9A92A90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F7282-D736-43D3-A39F-CDC2CEA2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7A0C6-53EA-4D39-A9EF-41F33BB7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8AC2-7177-410D-B7A8-2514E63B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7BF09-A303-4638-8327-51D7D1B0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D87C7-57EC-46DD-8BF1-4BB00AAA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D6577-0DAC-494F-8FB2-94D2490E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1A5EC-6673-433B-AEDF-E2BACADC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AC632-62FD-4CA2-A6B7-0AFB3C46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1F3A9-9ED2-4BE2-9D60-59408A01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E695A-98B1-4E6F-A79D-23F2B259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9BE5F-E261-414D-A9DF-36E7233B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5606B-3232-436B-AF10-D771AEAB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35BD-ACF1-40B0-AA11-46997F59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B440-A322-40A6-8F32-7A7D8012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5CA6-E944-44FE-A0D8-CFA7CD34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70ED-3829-4984-8DC7-00F37A49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E8C2-6A2C-4548-A5E2-77F18CB7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B44F-E803-4F80-AE02-11A72CE99B55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6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7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8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1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2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5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6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7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9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az 129" descr="stopka_cz_b_pion.gif"/>
          <p:cNvPicPr/>
          <p:nvPr/>
        </p:nvPicPr>
        <p:blipFill>
          <a:blip r:embed="rId2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29" name="Obraz 9" descr="nagłówek_cz_b_pion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0425-64B3-488A-8F2D-C133EBCA7AB0}" type="slidenum">
              <a:rPr b="0" lang="pl-PL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7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7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4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8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82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5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8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0FBA-6EF9-43BE-AE1F-17F2571E6D52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6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7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8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1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62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5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6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8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69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2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B804-B4D7-485D-8A6F-D7BF4D9BC1ED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google.pl/url?sa=i&amp;rct=j&amp;q=&amp;esrc=s&amp;frm=1&amp;source=images&amp;cd=&amp;cad=rja&amp;docid=NQYEMopZ_1lFNM&amp;tbnid=6PuCjUaEENA9IM:&amp;ved=0CAQQjB0&amp;url=http%3A%2F%2Fwww.tillit.pl%2Fsiema.1%2Findex.php%3Foption%3Dcom_content%26view%3Darticle%26id%3D199%3Arozdzia-iii-qod-wojennego-chaosu-do-papiea-matematykaq%26catid%3D50%3Aciek-nauki-do-boga%26Itemid%3D68&amp;ei=bKQwUpz-PMKxtAaRw4DYCQ&amp;bvm=bv.51773540,d.bGE&amp;psig=AFQjCNHTrgnypTI1FZ0L8skgjx-5SVeJAA&amp;ust=1379005927153468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google.pl/url?sa=i&amp;rct=j&amp;q=&amp;esrc=s&amp;source=images&amp;cd=&amp;cad=rja&amp;docid=kdqn565oWenAvM&amp;tbnid=0EsIiZqfbkItHM:&amp;ved=0CAQQjB0&amp;url=http://radtrap.wordpress.com/2012/02/23/tajemnica-wielki-babilon-czesc-38/&amp;ei=D1kzUY-XN4ettAatqIHQCQ&amp;bvm=bv.43148975,d.Yms&amp;psig=AFQjCNHY1-EEm3DXByFL5G39LJkixdM5ww&amp;ust=1362406003650717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histmag.org/Uniwersytety-profesorowie-studenci-sredniowieczna-wspolnota-idei-7151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24000" y="1484280"/>
            <a:ext cx="820872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94c600"/>
                </a:solidFill>
                <a:latin typeface="Century Gothic"/>
              </a:rPr>
              <a:t>Początki średniowiecznego szkolnictwa 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Izabella Lankos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836280"/>
            <a:ext cx="70246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94c600"/>
                </a:solidFill>
                <a:latin typeface="Century Gothic"/>
              </a:rPr>
              <a:t>Siedem sztuk wyzwolonych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0" name="Symbol zastępczy zawartości 3" descr="rys.6"/>
          <p:cNvPicPr/>
          <p:nvPr/>
        </p:nvPicPr>
        <p:blipFill>
          <a:blip r:embed="rId1"/>
          <a:stretch/>
        </p:blipFill>
        <p:spPr>
          <a:xfrm>
            <a:off x="2106720" y="2478240"/>
            <a:ext cx="4647960" cy="3200400"/>
          </a:xfrm>
          <a:prstGeom prst="rect">
            <a:avLst/>
          </a:prstGeom>
          <a:ln w="9360">
            <a:solidFill>
              <a:srgbClr val="94c600"/>
            </a:solidFill>
            <a:miter/>
          </a:ln>
        </p:spPr>
      </p:pic>
      <p:sp>
        <p:nvSpPr>
          <p:cNvPr id="371" name="pole tekstowe 4"/>
          <p:cNvSpPr/>
          <p:nvPr/>
        </p:nvSpPr>
        <p:spPr>
          <a:xfrm>
            <a:off x="684360" y="170028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ramat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2" name="Łącznik prosty ze strzałką 6"/>
          <p:cNvCxnSpPr/>
          <p:nvPr/>
        </p:nvCxnSpPr>
        <p:spPr>
          <a:xfrm>
            <a:off x="1476000" y="1916280"/>
            <a:ext cx="648360" cy="792720"/>
          </a:xfrm>
          <a:prstGeom prst="straightConnector1">
            <a:avLst/>
          </a:prstGeom>
          <a:ln w="9360">
            <a:solidFill>
              <a:srgbClr val="94c600"/>
            </a:solidFill>
            <a:miter/>
            <a:tailEnd len="med" type="arrow" w="med"/>
          </a:ln>
        </p:spPr>
      </p:cxnSp>
      <p:sp>
        <p:nvSpPr>
          <p:cNvPr id="373" name="pole tekstowe 7"/>
          <p:cNvSpPr/>
          <p:nvPr/>
        </p:nvSpPr>
        <p:spPr>
          <a:xfrm>
            <a:off x="2195640" y="184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etor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ole tekstowe 8"/>
          <p:cNvSpPr/>
          <p:nvPr/>
        </p:nvSpPr>
        <p:spPr>
          <a:xfrm>
            <a:off x="7164360" y="321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stronom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ole tekstowe 9"/>
          <p:cNvSpPr/>
          <p:nvPr/>
        </p:nvSpPr>
        <p:spPr>
          <a:xfrm>
            <a:off x="6516720" y="1844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rytmet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ole tekstowe 10"/>
          <p:cNvSpPr/>
          <p:nvPr/>
        </p:nvSpPr>
        <p:spPr>
          <a:xfrm>
            <a:off x="4788000" y="1844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eomet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ole tekstowe 11"/>
          <p:cNvSpPr/>
          <p:nvPr/>
        </p:nvSpPr>
        <p:spPr>
          <a:xfrm>
            <a:off x="3780000" y="155736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uzyk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8" name="Łącznik prosty ze strzałką 13"/>
          <p:cNvCxnSpPr>
            <a:stCxn id="373" idx="2"/>
          </p:cNvCxnSpPr>
          <p:nvPr/>
        </p:nvCxnSpPr>
        <p:spPr>
          <a:xfrm>
            <a:off x="2879280" y="2214360"/>
            <a:ext cx="180360" cy="494280"/>
          </a:xfrm>
          <a:prstGeom prst="straightConnector1">
            <a:avLst/>
          </a:prstGeom>
          <a:ln w="9360">
            <a:solidFill>
              <a:srgbClr val="94c600"/>
            </a:solidFill>
            <a:miter/>
            <a:tailEnd len="med" type="arrow" w="med"/>
          </a:ln>
        </p:spPr>
      </p:cxnSp>
      <p:cxnSp>
        <p:nvCxnSpPr>
          <p:cNvPr id="379" name="Łącznik zakrzywiony 15"/>
          <p:cNvCxnSpPr/>
          <p:nvPr/>
        </p:nvCxnSpPr>
        <p:spPr>
          <a:xfrm flipH="1" rot="16200000">
            <a:off x="4194720" y="2260440"/>
            <a:ext cx="680040" cy="21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94c600"/>
            </a:solidFill>
            <a:miter/>
            <a:tailEnd len="med" type="arrow" w="med"/>
          </a:ln>
        </p:spPr>
      </p:cxnSp>
      <p:cxnSp>
        <p:nvCxnSpPr>
          <p:cNvPr id="380" name="Łącznik prosty ze strzałką 17"/>
          <p:cNvCxnSpPr>
            <a:stCxn id="376" idx="2"/>
          </p:cNvCxnSpPr>
          <p:nvPr/>
        </p:nvCxnSpPr>
        <p:spPr>
          <a:xfrm>
            <a:off x="5508720" y="2214360"/>
            <a:ext cx="72000" cy="248040"/>
          </a:xfrm>
          <a:prstGeom prst="straightConnector1">
            <a:avLst/>
          </a:prstGeom>
          <a:ln w="9360">
            <a:solidFill>
              <a:srgbClr val="94c600"/>
            </a:solidFill>
            <a:miter/>
            <a:tailEnd len="med" type="arrow" w="med"/>
          </a:ln>
        </p:spPr>
      </p:cxnSp>
      <p:cxnSp>
        <p:nvCxnSpPr>
          <p:cNvPr id="381" name="Łącznik prosty ze strzałką 20"/>
          <p:cNvCxnSpPr/>
          <p:nvPr/>
        </p:nvCxnSpPr>
        <p:spPr>
          <a:xfrm flipH="1">
            <a:off x="6226920" y="2214360"/>
            <a:ext cx="1585080" cy="494280"/>
          </a:xfrm>
          <a:prstGeom prst="straightConnector1">
            <a:avLst/>
          </a:prstGeom>
          <a:ln w="9360">
            <a:solidFill>
              <a:srgbClr val="94c600"/>
            </a:solidFill>
            <a:miter/>
            <a:tailEnd len="med" type="arrow" w="med"/>
          </a:ln>
        </p:spPr>
      </p:cxnSp>
      <p:cxnSp>
        <p:nvCxnSpPr>
          <p:cNvPr id="382" name="Łącznik prosty ze strzałką 22"/>
          <p:cNvCxnSpPr>
            <a:stCxn id="374" idx="1"/>
          </p:cNvCxnSpPr>
          <p:nvPr/>
        </p:nvCxnSpPr>
        <p:spPr>
          <a:xfrm flipH="1" flipV="1">
            <a:off x="6732000" y="3396600"/>
            <a:ext cx="432360" cy="1080"/>
          </a:xfrm>
          <a:prstGeom prst="straightConnector1">
            <a:avLst/>
          </a:prstGeom>
          <a:ln w="9360">
            <a:solidFill>
              <a:srgbClr val="94c600"/>
            </a:solidFill>
            <a:miter/>
            <a:tailEnd len="med" type="arrow" w="med"/>
          </a:ln>
        </p:spPr>
      </p:cxnSp>
      <p:sp>
        <p:nvSpPr>
          <p:cNvPr id="383" name="Prostokąt 2"/>
          <p:cNvSpPr/>
          <p:nvPr/>
        </p:nvSpPr>
        <p:spPr>
          <a:xfrm>
            <a:off x="3059280" y="570240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e68200"/>
                </a:solidFill>
                <a:uFillTx/>
                <a:latin typeface="Calibri"/>
                <a:hlinkClick r:id="rId2"/>
              </a:rPr>
              <a:t>www.tillit.pl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94c600"/>
                </a:solidFill>
                <a:latin typeface="Century Gothic"/>
              </a:rPr>
              <a:t>Powstanie uniwersytetów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68360" y="2323800"/>
            <a:ext cx="8136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XII w  Szkoły katedralne i miejskie – wprowadzono naukę czytania i listów. Przekształciły się one Uniwersytety.  Zaczęto je określać mianem </a:t>
            </a:r>
            <a:r>
              <a:rPr b="0" i="1" lang="pl-PL" sz="2400" spc="-1" strike="noStrike">
                <a:solidFill>
                  <a:srgbClr val="3e3d2d"/>
                </a:solidFill>
                <a:latin typeface="Century Gothic"/>
              </a:rPr>
              <a:t>studium generale</a:t>
            </a: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, a późniejsze bulle papieskie uznały ich względną autonomię i międzynarodowy status. </a:t>
            </a:r>
            <a:r>
              <a:rPr b="0" i="1" lang="pl-PL" sz="2400" spc="-1" strike="noStrike">
                <a:solidFill>
                  <a:srgbClr val="3e3d2d"/>
                </a:solidFill>
                <a:latin typeface="Century Gothic"/>
              </a:rPr>
              <a:t>Studium generale</a:t>
            </a: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 pozostało do końca średniowiecza oficjalną nazwą uniwersytetu Pojęcie </a:t>
            </a:r>
            <a:r>
              <a:rPr b="0" i="1" lang="pl-PL" sz="2400" spc="-1" strike="noStrike">
                <a:solidFill>
                  <a:srgbClr val="3e3d2d"/>
                </a:solidFill>
                <a:latin typeface="Century Gothic"/>
              </a:rPr>
              <a:t>uniwersytetu</a:t>
            </a: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i="1" lang="pl-PL" sz="2400" spc="-1" strike="noStrike">
                <a:solidFill>
                  <a:srgbClr val="3e3d2d"/>
                </a:solidFill>
                <a:latin typeface="Century Gothic"/>
              </a:rPr>
              <a:t>universitas magistrorum et scholarium</a:t>
            </a: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) pojawia się dopiero w </a:t>
            </a:r>
            <a:r>
              <a:rPr b="1" lang="pl-PL" sz="2400" spc="-1" strike="noStrike">
                <a:solidFill>
                  <a:srgbClr val="3e3d2d"/>
                </a:solidFill>
                <a:latin typeface="Century Gothic"/>
              </a:rPr>
              <a:t>1221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94c600"/>
                </a:solidFill>
                <a:latin typeface="Century Gothic"/>
              </a:rPr>
              <a:t>bibliografia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Century Gothic"/>
              </a:rPr>
              <a:t>http://histmag.org/Slowa-Platona-lub-o-niedostatkach-pospiesznego-czytania-filozofow-4276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www.tillit.pl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18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94c600"/>
                </a:solidFill>
                <a:latin typeface="Century Gothic"/>
              </a:rPr>
              <a:t>                           </a:t>
            </a:r>
            <a:r>
              <a:rPr b="1" lang="pl-PL" sz="4900" spc="-1" strike="noStrike">
                <a:solidFill>
                  <a:srgbClr val="94c600"/>
                </a:solidFill>
                <a:latin typeface="Century Gothic"/>
              </a:rPr>
              <a:t>Dziękuję </a:t>
            </a:r>
            <a:br>
              <a:rPr sz="4900"/>
            </a:br>
            <a:r>
              <a:rPr b="1" lang="pl-PL" sz="4900" spc="-1" strike="noStrike">
                <a:solidFill>
                  <a:srgbClr val="94c600"/>
                </a:solidFill>
                <a:latin typeface="Century Gothic"/>
              </a:rPr>
              <a:t>                          za uwagę</a:t>
            </a:r>
            <a:endParaRPr b="0" lang="en-US" sz="4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0246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4c600"/>
                </a:solidFill>
                <a:latin typeface="Century Gothic"/>
              </a:rPr>
              <a:t>Antyczne korzenie średniowiecznego szkolnictwa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50920" y="1341000"/>
            <a:ext cx="374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Akademia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(gr. </a:t>
            </a:r>
            <a:r>
              <a:rPr b="0" i="1" lang="pl-PL" sz="1800" spc="-1" strike="noStrike">
                <a:solidFill>
                  <a:srgbClr val="3e3d2d"/>
                </a:solidFill>
                <a:latin typeface="Century Gothic"/>
              </a:rPr>
              <a:t>akademeia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) – szkoła założona w Atenach ok. 387 p.n.e. przez Platona, istniała do 529, kiedy została zlikwidowana przez cesarza bizantyjskiego Justyniana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Mieściła się w gaju poświęconym herosowi ateńskiemu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Akademosowi,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od którego imienia pochodzi jej nazwa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Zajmowano się w niej przede wszystkim filozofią i matematyką, a także retoryką i naukami przyrodniczymi. Legenda głosi, że widniał na niej napis </a:t>
            </a:r>
            <a:r>
              <a:rPr b="1" i="1" lang="pl-PL" sz="1800" spc="-1" strike="noStrike">
                <a:solidFill>
                  <a:srgbClr val="3e3d2d"/>
                </a:solidFill>
                <a:latin typeface="Century Gothic"/>
              </a:rPr>
              <a:t>Ageōmétrētos mēdeìs eisítō.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i="1" lang="pl-PL" sz="1800" spc="-1" strike="noStrike">
                <a:solidFill>
                  <a:srgbClr val="3e3d2d"/>
                </a:solidFill>
                <a:latin typeface="Century Gothic"/>
              </a:rPr>
              <a:t>ἀγεωμέτρητος  μηδεὶς  εἰσίτω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(gr. </a:t>
            </a:r>
            <a:r>
              <a:rPr b="1" i="1" lang="pl-PL" sz="1800" spc="-1" strike="noStrike">
                <a:solidFill>
                  <a:srgbClr val="3e3d2d"/>
                </a:solidFill>
                <a:latin typeface="Century Gothic"/>
              </a:rPr>
              <a:t>Niech nie wchodzi nikt nieobeznany z geometrią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)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0" name="Prostokąt 5"/>
          <p:cNvSpPr/>
          <p:nvPr/>
        </p:nvSpPr>
        <p:spPr>
          <a:xfrm>
            <a:off x="3995640" y="5311800"/>
            <a:ext cx="4537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Akademia Platońska – mozaika z Pompejów http://histmag.org/Slowa-Platona-lub-o-niedostatkach-pospiesznego-czytania-filozofow-427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6" descr=""/>
          <p:cNvPicPr/>
          <p:nvPr/>
        </p:nvPicPr>
        <p:blipFill>
          <a:blip r:embed="rId1"/>
          <a:stretch/>
        </p:blipFill>
        <p:spPr>
          <a:xfrm>
            <a:off x="4383000" y="1273320"/>
            <a:ext cx="41148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554508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4c600"/>
                </a:solidFill>
                <a:latin typeface="Century Gothic"/>
              </a:rPr>
              <a:t>Wczesne średniowiecze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84360" y="1628640"/>
            <a:ext cx="748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Wielka wędrówka ludów u schyłku starożytności i na początku wieków średnich doprowadziła do zderzenia się dwóch zupełnie odmiennych kultur: rzymsko – chrześcijańskiej i pogańskiej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Wraz z upadkiem miast przestały  istnieć rzymskie szkoły publiczne , zanikała umiejętność czytania i pisania wśród ludzi świeckich. Władcom, podobnie jak wojownikom wykształcenie nie było potrzebne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7770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4c600"/>
                </a:solidFill>
                <a:latin typeface="Century Gothic"/>
              </a:rPr>
              <a:t>Gdzie odbywało się kształcenie i nauczanie w pierwszych średniowiecznych monarchiach?</a:t>
            </a:r>
            <a:br>
              <a:rPr sz="2400"/>
            </a:b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360" y="1557360"/>
            <a:ext cx="4176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KLASZTORY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Szkoły klasztorne są dziełem Benedyktów, zakonu założonego przez Św. Benedykta z Nursji. Pierwszy wzorowy klasztor został założony na Monte Cassino w 529 roku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W szkołach klasztornych kształcono tylko mnichów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6" name="Obraz 3" descr="http://upload.wikimedia.org/wikipedia/commons/thumb/4/48/Monte_Cassino_Fasada_Kosciol.JPG/200px-Monte_Cassino_Fasada_Kosciol.JPG"/>
          <p:cNvPicPr/>
          <p:nvPr/>
        </p:nvPicPr>
        <p:blipFill>
          <a:blip r:embed="rId1"/>
          <a:stretch/>
        </p:blipFill>
        <p:spPr>
          <a:xfrm>
            <a:off x="4716360" y="2000160"/>
            <a:ext cx="2481480" cy="2005200"/>
          </a:xfrm>
          <a:prstGeom prst="rect">
            <a:avLst/>
          </a:prstGeom>
          <a:ln w="0">
            <a:noFill/>
          </a:ln>
        </p:spPr>
      </p:pic>
      <p:sp>
        <p:nvSpPr>
          <p:cNvPr id="357" name="Prostokąt 4"/>
          <p:cNvSpPr/>
          <p:nvPr/>
        </p:nvSpPr>
        <p:spPr>
          <a:xfrm>
            <a:off x="4932360" y="400536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lasztor Benedyktynów na Monte Cassino www.wikipedia.p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94c600"/>
                </a:solidFill>
                <a:latin typeface="Century Gothic"/>
              </a:rPr>
              <a:t>Przełom – reformy Karola Wielkiego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9" name="Symbol zastępczy zawartości 3" descr="http://radtrap.files.wordpress.com/2012/02/srednn1.jpg"/>
          <p:cNvPicPr/>
          <p:nvPr/>
        </p:nvPicPr>
        <p:blipFill>
          <a:blip r:embed="rId1"/>
          <a:stretch/>
        </p:blipFill>
        <p:spPr>
          <a:xfrm>
            <a:off x="1258920" y="2133720"/>
            <a:ext cx="2808360" cy="3743280"/>
          </a:xfrm>
          <a:prstGeom prst="rect">
            <a:avLst/>
          </a:prstGeom>
          <a:ln w="0">
            <a:noFill/>
          </a:ln>
        </p:spPr>
      </p:pic>
      <p:sp>
        <p:nvSpPr>
          <p:cNvPr id="360" name="Prostokąt 4"/>
          <p:cNvSpPr/>
          <p:nvPr/>
        </p:nvSpPr>
        <p:spPr>
          <a:xfrm>
            <a:off x="4067280" y="324468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e68200"/>
                </a:solidFill>
                <a:uFillTx/>
                <a:latin typeface="Calibri"/>
                <a:hlinkClick r:id="rId2"/>
              </a:rPr>
              <a:t>radtrap.wordpress.co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68000" y="620280"/>
            <a:ext cx="4103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Reforma karolińska w dziedzinie nauki i oświaty </a:t>
            </a:r>
            <a:r>
              <a:rPr b="0" lang="pl-PL" sz="2200" spc="-1" strike="noStrike">
                <a:solidFill>
                  <a:srgbClr val="000000"/>
                </a:solidFill>
                <a:latin typeface="Century Gothic"/>
              </a:rPr>
              <a:t>opierała   się na trzech elementach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na tradycji germańskiej,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na antycznej kulturze rzymskiej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na chrześcijaństwie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Podstawową nauczania w szkole pałacowej było </a:t>
            </a:r>
            <a:r>
              <a:rPr b="1" lang="pl-PL" sz="2200" spc="-1" strike="noStrike">
                <a:solidFill>
                  <a:srgbClr val="3e3d2d"/>
                </a:solidFill>
                <a:latin typeface="Century Gothic"/>
              </a:rPr>
              <a:t>siedem sztuk wyzwolonych 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wzbogaconych o naukę o </a:t>
            </a:r>
            <a:r>
              <a:rPr b="1" lang="pl-PL" sz="2200" spc="-1" strike="noStrike">
                <a:solidFill>
                  <a:srgbClr val="3e3d2d"/>
                </a:solidFill>
                <a:latin typeface="Century Gothic"/>
              </a:rPr>
              <a:t>Piśmie Świętym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W szkole nauczano także zasad </a:t>
            </a:r>
            <a:r>
              <a:rPr b="1" lang="pl-PL" sz="2200" spc="-1" strike="noStrike">
                <a:solidFill>
                  <a:srgbClr val="3e3d2d"/>
                </a:solidFill>
                <a:latin typeface="Century Gothic"/>
              </a:rPr>
              <a:t>kancelaryjnych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, czyli umiejętności redagowania dekretów królewskich i cesarskich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2" name="Symbol zastępczy zawartości 4" descr="http://histmag.org/grafika/articles5/uniwersytety-sredniowiecze/uniwersytety1.jpg"/>
          <p:cNvPicPr/>
          <p:nvPr/>
        </p:nvPicPr>
        <p:blipFill>
          <a:blip r:embed="rId1"/>
          <a:stretch/>
        </p:blipFill>
        <p:spPr>
          <a:xfrm>
            <a:off x="4643280" y="981000"/>
            <a:ext cx="3241800" cy="3743280"/>
          </a:xfrm>
          <a:prstGeom prst="rect">
            <a:avLst/>
          </a:prstGeom>
          <a:ln w="0">
            <a:noFill/>
          </a:ln>
        </p:spPr>
      </p:pic>
      <p:sp>
        <p:nvSpPr>
          <p:cNvPr id="363" name="Prostokąt 5"/>
          <p:cNvSpPr/>
          <p:nvPr/>
        </p:nvSpPr>
        <p:spPr>
          <a:xfrm>
            <a:off x="4572000" y="4724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ykład z filozofii </a:t>
            </a:r>
            <a:r>
              <a:rPr b="0" lang="pl-PL" sz="1100" spc="-1" strike="noStrike" u="sng">
                <a:solidFill>
                  <a:srgbClr val="e68200"/>
                </a:solidFill>
                <a:uFillTx/>
                <a:latin typeface="Calibri"/>
                <a:hlinkClick r:id="rId2"/>
              </a:rPr>
              <a:t>histmag.or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94c600"/>
                </a:solidFill>
                <a:latin typeface="Century Gothic"/>
              </a:rPr>
              <a:t>XI wiek – rozkwit średniowiecza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Językiem obowiązującym w Europie była łacina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Na mocy IV soboru laterańskiego, papież </a:t>
            </a:r>
            <a:r>
              <a:rPr b="1" lang="pl-PL" sz="2400" spc="-1" strike="noStrike">
                <a:solidFill>
                  <a:srgbClr val="3e3d2d"/>
                </a:solidFill>
                <a:latin typeface="Century Gothic"/>
              </a:rPr>
              <a:t>Innocenty III </a:t>
            </a: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w </a:t>
            </a:r>
            <a:r>
              <a:rPr b="1" lang="pl-PL" sz="2400" spc="-1" strike="noStrike">
                <a:solidFill>
                  <a:srgbClr val="3e3d2d"/>
                </a:solidFill>
                <a:latin typeface="Century Gothic"/>
              </a:rPr>
              <a:t>1215 roku </a:t>
            </a: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nakazał przy każdej parafii i katedrze zakładać szkoły, aby przygotowywały one młodych chłopców do służby Bogu. Z czasem jednak oprócz duchownych kształcono w nich urzędników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1042560" y="1557000"/>
            <a:ext cx="676908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W Europie zachodniej nastąpiło ożywienie gospodarcze a co za tym idzie rozwój kultury miejskiej. Intensywny rozwój zainteresowań filozoficznych i naukowych doprowadził do tego, że było trzeba otworzyć takie szkoły, gdzie uczniowie mogliby wypowiadać własne myśli i poglądy w różnych sprawach. Tą nową formę nauki nazwano </a:t>
            </a:r>
            <a:r>
              <a:rPr b="1" lang="pl-PL" sz="2400" spc="-1" strike="noStrike">
                <a:solidFill>
                  <a:srgbClr val="3e3d2d"/>
                </a:solidFill>
                <a:latin typeface="Century Gothic"/>
              </a:rPr>
              <a:t>uniwersytetem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94c600"/>
                </a:solidFill>
                <a:latin typeface="Century Gothic"/>
              </a:rPr>
              <a:t>struktura szkół w średniowieczu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8436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Szkoły parafialn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Był to najniższy stopień szkół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Uczono w nich przede wszystkim łaciny: gramatyki, czytania i pisania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Szkoły klasztorn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Szkoły te powstawały w pierwszych wiekach średniowiecza, głównie przy klasztorach benedyktynów (np. w Tyńcu) i cystersów (np. w Mogile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Dbały głównie o wychowanie religijne, większość wychowanków trafiała do stanu duchownego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Szkoły katedraln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Były to szkoły pod patronatem biskupów diecezjalnych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Zaczęły powstawać już w XI wieku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6:24:23Z</dcterms:created>
  <dc:creator>Iwona</dc:creator>
  <dc:description/>
  <dc:language>en-US</dc:language>
  <cp:lastModifiedBy>iwona</cp:lastModifiedBy>
  <dcterms:modified xsi:type="dcterms:W3CDTF">2013-09-18T20:03:12Z</dcterms:modified>
  <cp:revision>25</cp:revision>
  <dc:subject>szablon prezentacji KPW</dc:subject>
  <dc:title>Zrównoważony rozwój</dc:title>
</cp:coreProperties>
</file>