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4640-12C1-40F1-97FD-ACE25A1A49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9F45-295F-458D-A40E-DA49ABD528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EDF2-8FA7-446D-9E92-6F3BC13ADE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843-9155-4C6F-AF73-22A035F9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77C-C3DB-4DBE-A0B2-9098702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69E-6851-4FEE-9D3F-AE44ECE8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67B-4171-4BD4-8D66-21559F10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DBD-46C4-4973-AB20-FFEC90E7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848F-23D0-455C-95D5-616AF1D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B8CF-68E6-46C5-A0D0-4E887D2A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0AC-9792-4679-A80C-8C30A658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9FEE-83A6-458E-849F-AEFA42A8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1C2C-8624-4D3F-A36A-246073D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9D3-E94A-4AD5-B3EC-A8E876CA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38E-EB51-49E9-914D-6A622B60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442D-A595-4B02-817C-5EC931B0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FEE8-104F-4991-9EE4-8698910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3970-C50E-4C9D-9F33-D3897084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486-B23D-4CF2-B365-BD0DDFE7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EFC1-3E47-41C5-82CA-B5EBA352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BC27D-974D-494A-9A3A-EACA56B0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6B07F-9CEA-47B6-98D7-413D82EF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A3515-83BB-423F-A5C8-3E2A372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42289-7353-40B2-9FB0-9F487339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3D3CC-F293-4986-86D7-1180146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836-73CE-42E0-BA10-34E56C50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8C12A-FF3B-419A-8C34-9B2E6414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DDA2A-D6D9-4F06-8AB3-694EBE6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584F7-9E9D-4FAA-B99D-15ACC40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C76FB-D149-4936-AF69-81D3949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56446-32A5-4964-ACF7-7683BCB1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DCD91-379D-4346-8E5F-0A0EF0F1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038CE-5F82-440D-9160-0C842417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49AE-9004-4C2B-85E5-1C673E18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625F-E285-4640-B75D-D4E12FA4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F570-36D7-4C24-BDD9-E6906F23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528-B54B-4F24-BE9F-6F97B18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DA53-F8C5-4563-B9C6-0283D545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3F58-B92D-4116-AA99-22C9E76B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1B27-8DA9-4309-93FE-B8FCD0C6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ACA8-B699-4DF5-9751-52D843C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6BB5-ECAD-40A2-A007-A98B9BB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6D10-03B1-4CB0-9985-19BB068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8D04-800F-413D-ACE9-1A496BC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D75E2-728A-46E4-A52F-030B5D5B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BC99-02A5-40FC-A645-196889BF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CE2-575D-482C-8A7E-54A6F87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EE6-59EB-4ED0-BE4B-A1FC5456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FDF-99BE-41D9-937F-1AD3F22F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7C4-35A4-4737-B4B8-6681503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0C5-6904-4B09-8E4E-73B5B87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F2BC-BA3F-46B9-A129-C58B064BE359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6723-6BE0-485C-A507-7110CBDC5A88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A054-26B9-4530-9DF7-7C14DF94C372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6D53-BEBA-478F-BFC3-26421A4256DB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Akademia Krakowska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http://us.123rf.com/400wm/400/400/michaeldb/michaeldb0901/michaeldb090100023/4228044-a-happy-usmiechnietej-buzki-absolwentow-w-graduacyjnej-dni-zaprawy-pokladzie-cap.jpg"/>
          <p:cNvPicPr/>
          <p:nvPr/>
        </p:nvPicPr>
        <p:blipFill>
          <a:blip r:embed="rId1"/>
          <a:stretch/>
        </p:blipFill>
        <p:spPr>
          <a:xfrm>
            <a:off x="5867280" y="321300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651672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6" descr="http://static4.depositphotos.com/1002188/321/i/950/depositphotos_3211039-Graduate-Smile.jpg"/>
          <p:cNvPicPr/>
          <p:nvPr/>
        </p:nvPicPr>
        <p:blipFill>
          <a:blip r:embed="rId1"/>
          <a:stretch/>
        </p:blipFill>
        <p:spPr>
          <a:xfrm>
            <a:off x="5796000" y="3059280"/>
            <a:ext cx="23479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903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Założenie Akademii Krakowskiej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280" y="1557000"/>
            <a:ext cx="5040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2 maja 1364 Kazimierz Wielki założył Akademię Krakowską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Był to drugi, po powstałym w 1348 r. w Pradze, uniwersytet w środkowej Europi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krótce powstaną uniwersytety w Wiedniu (1365), Peczu (1367) oraz w Heidelbergu (1386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Obraz 3" descr="http://www.wiw.pl/historia/poczet/pict/zoom/kazimierz_wielki.gif"/>
          <p:cNvPicPr/>
          <p:nvPr/>
        </p:nvPicPr>
        <p:blipFill>
          <a:blip r:embed="rId1"/>
          <a:stretch/>
        </p:blipFill>
        <p:spPr>
          <a:xfrm>
            <a:off x="5796000" y="476280"/>
            <a:ext cx="2730600" cy="3486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newsweek.pl/bins/Media/Pictures/8f/8fe1/8fe154c100df4152bd89681e57578456_thb14.jpg"/>
          <p:cNvPicPr/>
          <p:nvPr/>
        </p:nvPicPr>
        <p:blipFill>
          <a:blip r:embed="rId2"/>
          <a:stretch/>
        </p:blipFill>
        <p:spPr>
          <a:xfrm>
            <a:off x="5508720" y="39625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48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Studium General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1280" y="1557000"/>
            <a:ext cx="3889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tudium Generale - taka była oficjalna nazwa uniwersytetu w Krakowie - rozpoczęło działalność faktycznie nie wcześniej niż w 1367 r. i składało się z trzech tylko wydziałów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tuk wyzwolonych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edycyn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praw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Na utworzenie czwartego, najbardziej prestiżowego - teologii, papież Urban V nie wyraził zgod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Obraz 4" descr="http://studente.pl/krakow/_cache/_thumbs/12/12958467e30d53fca411b418c037f358.jpg"/>
          <p:cNvPicPr/>
          <p:nvPr/>
        </p:nvPicPr>
        <p:blipFill>
          <a:blip r:embed="rId1"/>
          <a:stretch/>
        </p:blipFill>
        <p:spPr>
          <a:xfrm>
            <a:off x="8172360" y="476280"/>
            <a:ext cx="822240" cy="151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ks27729.kimsufi.com/p3/200911/1C/52673335.jpg"/>
          <p:cNvPicPr/>
          <p:nvPr/>
        </p:nvPicPr>
        <p:blipFill>
          <a:blip r:embed="rId2"/>
          <a:stretch/>
        </p:blipFill>
        <p:spPr>
          <a:xfrm>
            <a:off x="5219640" y="836640"/>
            <a:ext cx="261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84360" y="1413000"/>
            <a:ext cx="4535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rektora wybierano spośród ogółu studiujących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tudenci mogli wybierać sobie mistrzów, u których pobierali naukę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d egzaminami i nadaniami stopni naukowych czuwał kanclerz królewski on też pilnował wypełniania praktyk w sądach przez studentów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az 5" descr="http://upload.wikimedia.org/wikipedia/commons/b/bd/Krak%C3%B3w.Uniwersytet_Jagiello%C5%84ski.Collegium_Maius.Stuba_Communis%28Schody%29.jpg"/>
          <p:cNvPicPr/>
          <p:nvPr/>
        </p:nvPicPr>
        <p:blipFill>
          <a:blip r:embed="rId1"/>
          <a:stretch/>
        </p:blipFill>
        <p:spPr>
          <a:xfrm>
            <a:off x="5564160" y="1111320"/>
            <a:ext cx="3057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84360" y="1413000"/>
            <a:ext cx="42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istrzowie byli wynagradzani ze skarbu państwa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cholarzy wybierali rektora, któremu przyrzekali posłuszeństwo i poddaństwo wobec jego jurysdykcj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równo rektor, jak i profesorowie byli opłacani ze skarbu państwa, przez urzędników króla, a źródłem tego dochodu były żupy solne w Wieliczce i Bochn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Kazimierz Wielki wyznaczył jednego Żyda w Krakowie, który mógł udzielać pożyczek studentom i profesorom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Obraz 4" descr="http://static.lovetotravel.pl/galery/th/th1_9611_collegium_maius.jpg"/>
          <p:cNvPicPr/>
          <p:nvPr/>
        </p:nvPicPr>
        <p:blipFill>
          <a:blip r:embed="rId1"/>
          <a:stretch/>
        </p:blipFill>
        <p:spPr>
          <a:xfrm>
            <a:off x="4859280" y="1154160"/>
            <a:ext cx="39607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38324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W Akademii Krakowskiej funkcjonowały następujące wydziały:</a:t>
            </a: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920" y="1844280"/>
            <a:ext cx="39607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Prawo – 5 katedr prawa rzymskiego i 3 kanoniczeg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2 katedry medycyn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 katedra sztuk wyzwolonyc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4000" y="69228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 śmierci 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zimierza Wielkiego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70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podupadła lub została zupełnie zawieszona. Dopiero dzięki staraniom królowej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Jadwigi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która zabiegała o utworzenie na uniwersytecie katedry teologii (na co zezwolił papież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Bonifacy IX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swojej bulli z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97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) oraz przekazała w swoim testamencie znaczne środki finansowe na rozwój uczelni, krakowska szkoła mogła podjąć swoją działalność.  W 1401 roku naukę w zreformowanej uczelni podjęło 203 studentów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Obraz 3" descr="http://upload.wikimedia.org/wikipedia/commons/thumb/5/52/Matejko_UJ.JPG/220px-Matejko_UJ.JPG"/>
          <p:cNvPicPr/>
          <p:nvPr/>
        </p:nvPicPr>
        <p:blipFill>
          <a:blip r:embed="rId1"/>
          <a:stretch/>
        </p:blipFill>
        <p:spPr>
          <a:xfrm>
            <a:off x="5724360" y="692280"/>
            <a:ext cx="2311560" cy="2952720"/>
          </a:xfrm>
          <a:prstGeom prst="rect">
            <a:avLst/>
          </a:prstGeom>
          <a:ln w="0">
            <a:noFill/>
          </a:ln>
        </p:spPr>
      </p:pic>
      <p:pic>
        <p:nvPicPr>
          <p:cNvPr id="367" name="Obraz 4" descr="http://upload.wikimedia.org/wikipedia/commons/f/fc/Krak%C3%B3w_-_Collegium_Maius_-_Dziedziniec_01.JPG"/>
          <p:cNvPicPr/>
          <p:nvPr/>
        </p:nvPicPr>
        <p:blipFill>
          <a:blip r:embed="rId2"/>
          <a:stretch/>
        </p:blipFill>
        <p:spPr>
          <a:xfrm>
            <a:off x="5392800" y="3860640"/>
            <a:ext cx="2911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4360" y="1197000"/>
            <a:ext cx="446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opiero zabiegi królowej Jadwigi na dworze papieskim w Awinionie, a potem zapis w testamencie jej majątku osobistego na rzecz uniwersytetu sprawiły, że wznowił on działalność w roku 1400, w rok po śmierci donatorki. Tym razem powstał już pełny uniwersytet średniowieczny, z wszystkimi czterema wydziałami, zorganizowany na wzór paryski. Odtąd rektora wybierało grono profesorskie; powstały kolegia, w których zamieszkiwali profesorowie, oraz bursy dla żakó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9" name="Picture 2" descr="http://th.interia.pl/40,oiobywatel,e79b3738228032/546996_600.jpg"/>
          <p:cNvPicPr/>
          <p:nvPr/>
        </p:nvPicPr>
        <p:blipFill>
          <a:blip r:embed="rId1"/>
          <a:stretch/>
        </p:blipFill>
        <p:spPr>
          <a:xfrm>
            <a:off x="5580000" y="404640"/>
            <a:ext cx="28098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4248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360" y="1268280"/>
            <a:ext cx="45352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entury Gothic"/>
              </a:rPr>
              <a:t>Założenie Szkoły Głównej przeniesieniem do Krakowa ugruntowane. R.P. 1361-1399-1400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, obraz Jana Matejk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commons.wikimedia.org/wiki/File:Krak%C3%B3w.Uniwersytet_Jagiello%C5%84ski.Collegium_Maius.Aula_Jagiello%C5%84ska.jpg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www.maius.uj.edu.pl/collections.pl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historia.newsweek.pl/krol-kazimierz--wielki-budowniczy,98812,1,1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interia360.pl/galeria/bez%20nazwy,4334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www.photoblog.pl/cyfrowy/52673335/zak-krakowski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2" name="Picture 2" descr="http://1.bp.blogspot.com/_tgpOC3-kllQ/STaexUXnGVI/AAAAAAAAABs/PbX2hUWnQH0/s400/Jagiellonian.JPG"/>
          <p:cNvPicPr/>
          <p:nvPr/>
        </p:nvPicPr>
        <p:blipFill>
          <a:blip r:embed="rId1"/>
          <a:stretch/>
        </p:blipFill>
        <p:spPr>
          <a:xfrm>
            <a:off x="5724360" y="907920"/>
            <a:ext cx="30290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9-16T18:36:22Z</dcterms:modified>
  <cp:revision>17</cp:revision>
  <dc:subject>szablon prezentacji KPW</dc:subject>
  <dc:title>Zrównoważony rozwój</dc:title>
</cp:coreProperties>
</file>