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AF47-AE15-4846-8745-21E80D457A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B6CB-3EBC-4711-A0A6-283A60F66A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2EA3-A571-41C0-A7BA-402609CFBD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F81-B937-4DD0-B7C1-131EAA5EF1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6701-2B6A-48F8-8F37-4A3F059D6E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066-EB73-4F4C-9F31-5B3FF76789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F78B-4EAD-40C1-980E-E00D456DFE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BBA-CC3E-45E3-89C9-5AD2B95425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945F-A7E4-4667-A225-3DCE35E48A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736-E136-463D-9A4E-1F9261D64F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3FA-D117-40DC-A2A2-B0C43AA3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9C6-1114-458F-904F-609C956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4A5-9714-4FE3-A80B-55F7416A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EDB-CF76-4914-AE28-6A5803EC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E5FD-F047-4CD2-811D-61B862C1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1FC-D458-42BC-B1FA-3C37A93F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6E32-19CE-4E67-9FBF-B1A615C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71B-C110-4369-B264-FD3DB5E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A32-38E3-4234-B04D-21708829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EE91-774F-4A59-8BA8-E281270F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6BF-08D8-415E-ABA9-EA70A60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747-CD9D-4D2A-9C9A-A946AF2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9BD-7D78-4DB6-8398-719BCF5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3D61-8658-45B6-A23D-EDDA963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38C7-5084-40AF-847D-354B7AB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C2A0-54D2-4F9B-B47C-05C6A16D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5211-82AB-458E-B87D-13F4CB07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848-4886-452B-ACE5-D551922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E60-28A6-4520-94D4-A476447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754-BE09-4316-A82F-FF65AACC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226-12CB-4A96-A900-FAA41EE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6FD-09B9-4963-AFE4-545B8C97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4B7-2FCD-4CAE-98A0-E6C6187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DAB-410A-4488-AA7A-0F2D672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266-65AC-477E-9250-8037F2360B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5AB-5095-4794-BE61-DCF4F4159E7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ohn Locke"/>
          <p:cNvPicPr/>
          <p:nvPr/>
        </p:nvPicPr>
        <p:blipFill>
          <a:blip r:embed="rId3"/>
          <a:stretch/>
        </p:blipFill>
        <p:spPr>
          <a:xfrm>
            <a:off x="6372360" y="1197000"/>
            <a:ext cx="22096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7"/>
          <p:cNvSpPr/>
          <p:nvPr/>
        </p:nvSpPr>
        <p:spPr>
          <a:xfrm>
            <a:off x="3132000" y="1628640"/>
            <a:ext cx="27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órcą liberalizmu, czyli ideologii, w której najważniejsza jest wolność był Anglik John Lock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ekonomii przeniósł ideę wolności Szkot Adam Smith (1723 – 1790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Łącznik prosty ze strzałką 9"/>
          <p:cNvCxnSpPr/>
          <p:nvPr/>
        </p:nvCxnSpPr>
        <p:spPr>
          <a:xfrm>
            <a:off x="5435640" y="263664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Łącznik prosty ze strzałką 11"/>
          <p:cNvCxnSpPr/>
          <p:nvPr/>
        </p:nvCxnSpPr>
        <p:spPr>
          <a:xfrm flipH="1">
            <a:off x="2483640" y="321264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będą więc produkować to, co się opłaca! Podstawą rozwoju jest wymiana. Wyróżniał trzy przeliczniki wartości – kruszce, zboże i pracę. Kruszce liczyły się w bieżącej wymianie, zboże było przelicznikiem wieloletnim, a ludzka praca – najważniejszym i uniwersalny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http://www.youtube.com/watch?v=B8U3ruH8MF0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5"/>
          <p:cNvSpPr/>
          <p:nvPr/>
        </p:nvSpPr>
        <p:spPr>
          <a:xfrm>
            <a:off x="2556000" y="1413000"/>
            <a:ext cx="62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Wybitny ekonomista, makler giełdowy, który na długoterminowym inwestowaniu dorobił się znacznego majątku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upload.wikimedia.org/wikipedia/commons/6/6f/David_Ricardo(1).jpg"/>
          <p:cNvPicPr/>
          <p:nvPr/>
        </p:nvPicPr>
        <p:blipFill>
          <a:blip r:embed="rId1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odel Ricardo - społeczeństw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cy właściciele ziemscy byli grupą próżniaczą – nic nie wytwarzali, uzyskując przy tym pieniądze kosztem pracy in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botnicy – uzyskiwali tylko płacę, która była na poziomie minimum utrzymania (całą więc konsumowali), ale wkładali pracę (wg Ricardo najważniejszy przelicznik dób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czom kapitału – uzyskiwali potrzebną nadwyżkę, składającą się z różnicy zysku i kosztów pracy . Mogli ją zainwestować, by uzyskać zwiększone zyski w przyszłości. To oni wg Ricardo napędzali gospodarkę. Należy im tylko nie przeszkadzać (tutaj rozwinął myśl Adama Smith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Istotna jest zasada subsydiarności – wsparcie przez najbliższą człowiekowi wspólnotę. Jeżeli wspólnoty te nie mogą pomóc, powinno pomóc państwo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Dwie zasady sprawiedliwośc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1.„Każda osoba ma mieć równe prawo do jak najszerszej podstawowej wolności możliwej do pogodzenia z podobną wolnością dla innych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2. „Nierówności społeczne i ekonomiczne mają być tak ułożone,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05:40Z</dcterms:modified>
  <cp:revision>41</cp:revision>
  <dc:subject/>
  <dc:title>Slajd 1</dc:title>
</cp:coreProperties>
</file>