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1126-485E-4824-ACE9-9FD28EF7613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29D2-861A-4C7B-84DB-C7150618C0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1ED0-CF90-44E8-A7C5-844DA6EEEF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354-8E77-4101-8557-DA1A27F6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EE2-B61B-45CD-ACC1-8A93FE23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C64-1ACD-485F-A451-94850EDC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EFB-DCE6-48B0-8EE7-F227F9EB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FE40-C640-4C04-8824-A8065EA8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5724-574E-4BE4-8DE7-0CF1E45A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BFFF-17E1-4BD2-9029-A4E60757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1C3C-8BD5-42E3-86FB-94786B1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A5CC-9A69-4B18-AB19-D51F91AC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8601-44D2-469E-B4CD-5D856AB8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86E5-40E7-4C31-B60B-EEB8C7D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E63-FEE5-46C8-B0B1-DEFA4482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EC8D-A531-496C-AC16-A71A464E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D4B5-0828-4AAB-96B2-EC51DC0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9F3C-E782-43D0-B90A-FD247F29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0763-86C7-49C9-A81B-418AB24B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729D-3C9D-49D9-8493-24D053ED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3DA-356F-4A5B-AB08-62EDA19D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4A9-4ECF-4B0B-8017-F34BA9E6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F21-23F7-40B7-BBFC-0DEAD5C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8C0-1273-4386-96A5-C8D46CAC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5D9-06EC-4F93-B809-38CF60C1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B77-DE1E-49B0-A11E-709A12A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6F4-32B5-4EA9-90C2-EB158C9C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AFF2-A938-4B4D-879C-EAA4CAB2516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6065-6B9D-4F56-B702-7046B5F8E26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nkikredyt.nbp.pl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nf.gov.pl/szukaj_podmioty.jsp" TargetMode="External"/><Relationship Id="rId2" Type="http://schemas.openxmlformats.org/officeDocument/2006/relationships/hyperlink" Target="http://www.uokik.gov.pl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ankikredyt.nbp.pl/" TargetMode="External"/><Relationship Id="rId2" Type="http://schemas.openxmlformats.org/officeDocument/2006/relationships/hyperlink" Target="http://www.nbportal.pl/pl/np/artykuly/historia/historia_zycia_na_kredyt" TargetMode="External"/><Relationship Id="rId3" Type="http://schemas.openxmlformats.org/officeDocument/2006/relationships/hyperlink" Target="http://www.nbportal.pl/library/pub_auto_B_0002/KAT_B3205.PDF" TargetMode="External"/><Relationship Id="rId4" Type="http://schemas.openxmlformats.org/officeDocument/2006/relationships/hyperlink" Target="http://www.nbportal.pl/" TargetMode="External"/><Relationship Id="rId5" Type="http://schemas.openxmlformats.org/officeDocument/2006/relationships/hyperlink" Target="http://www.pwn.pl/" TargetMode="External"/><Relationship Id="rId6" Type="http://schemas.openxmlformats.org/officeDocument/2006/relationships/hyperlink" Target="http://www.biznes.pwn.pl/" TargetMode="External"/><Relationship Id="rId7" Type="http://schemas.openxmlformats.org/officeDocument/2006/relationships/hyperlink" Target="http://www.encyklopedia.pwn.pl/" TargetMode="External"/><Relationship Id="rId8" Type="http://schemas.openxmlformats.org/officeDocument/2006/relationships/hyperlink" Target="http://www.uokik.gov.pl/publikacje.php?tag=4" TargetMode="External"/><Relationship Id="rId9" Type="http://schemas.openxmlformats.org/officeDocument/2006/relationships/hyperlink" Target="http://www.zanim-podpiszesz.pl/" TargetMode="External"/><Relationship Id="rId10" Type="http://schemas.openxmlformats.org/officeDocument/2006/relationships/hyperlink" Target="http://www.zyciewkredycie.pl/" TargetMode="Externa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penclipart.org/detail/18034/piggybank-pink-by-gringer" TargetMode="External"/><Relationship Id="rId2" Type="http://schemas.openxmlformats.org/officeDocument/2006/relationships/hyperlink" Target="http://www.flickr.com/photos/amagill/3367543094/" TargetMode="External"/><Relationship Id="rId3" Type="http://schemas.openxmlformats.org/officeDocument/2006/relationships/hyperlink" Target="http://www.flickr.com/photos/76657755@N04/7027595009/in/photostream/" TargetMode="External"/><Relationship Id="rId4" Type="http://schemas.openxmlformats.org/officeDocument/2006/relationships/hyperlink" Target="http://www.flickr.com/photos/59937401@N07/5930026346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yklopedia.pwn.pl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wnbiznes.p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anim-podpiszesz.pl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Bez kredytu ani rusz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la kredytu w gospodarce rynkowej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5"/>
          <p:cNvSpPr/>
          <p:nvPr/>
        </p:nvSpPr>
        <p:spPr>
          <a:xfrm>
            <a:off x="539640" y="16286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ymuluje rozwój gospodarc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iębiorstwom pozwala na finansowanie bieżącej działaln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umożliwia zakup materiałów niezbędnych w procesie produkcji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na inwestycj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zakup nowoczesnych maszyn) –  daje im więc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zans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rozwój, który nie jest ograniczony brakiem własnych środków finans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ospodarstwom domowym pozw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ponoszenie wyższych wydatków na konsump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ż te wynikające z ich bieżącego poziomu dochod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8" descr="5929566423_f6b95feff9.jpg"/>
          <p:cNvPicPr/>
          <p:nvPr/>
        </p:nvPicPr>
        <p:blipFill>
          <a:blip r:embed="rId1"/>
          <a:stretch/>
        </p:blipFill>
        <p:spPr>
          <a:xfrm>
            <a:off x="5796000" y="3500280"/>
            <a:ext cx="334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ekonomi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5"/>
          <p:cNvSpPr/>
          <p:nvPr/>
        </p:nvSpPr>
        <p:spPr>
          <a:xfrm>
            <a:off x="250920" y="1125360"/>
            <a:ext cx="7920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lega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wałtownym zmniejszeniu się aktywnośc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i, zatrudnienia, inwestycji. Wśród jego objawów moż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ięc wymienić m.in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erinfla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czyli utrzymywanie się bardzo wysokiej stopy inflacji (szybko rosną cen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bezroboci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płac, dochodów i konsump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PKB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to jeden z podstawowych mierników dochodu narodowego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deficytu budżetow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ydatki państwa są wyższe, niż dochod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deficytu handlow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import przewyższa eksport, czyli mniej dóbr produkowanych w kraju sprzedaje się za granicę, a więcej dóbr produkowanych za granicą sprowadza do kraju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burzenia na rynkach walut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Obraz 12" descr="weather-storm.png"/>
          <p:cNvPicPr/>
          <p:nvPr/>
        </p:nvPicPr>
        <p:blipFill>
          <a:blip r:embed="rId1"/>
          <a:stretch/>
        </p:blipFill>
        <p:spPr>
          <a:xfrm>
            <a:off x="6651720" y="0"/>
            <a:ext cx="2492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starożytny w III w. 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5"/>
          <p:cNvSpPr/>
          <p:nvPr/>
        </p:nvSpPr>
        <p:spPr>
          <a:xfrm>
            <a:off x="539640" y="1413000"/>
            <a:ext cx="8136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sarstwo rzymskie było niestabilne polityczni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kolejni cesarze utrzymywali się przy władzy przez kilka miesięcy i ginęli, często z rąk swoich żołnierz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wały ciągłe działania wojenne związane z najazdami barbarzyńców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większała się więc liczebność i rola armi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załamał się przeciążony system opłacania i zaopatrywania żołnierz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zęto zmniejszać zawartość srebra w denarach, którymi płacono wojsku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ieniądz tracił na wartośc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żołd rósł;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zęł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wałtownie rosnąć ce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stąpił powrót do wymiany towarowej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datki znowu zaczęto ściągać w naturze, a nie w gotówce, żołd także w dużej części wypłacano w towara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 Cameron A., Późne cesarstwo rzymskie, Prószyński i S-ka, Warszawa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średniowieczny w XIV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5"/>
          <p:cNvSpPr/>
          <p:nvPr/>
        </p:nvSpPr>
        <p:spPr>
          <a:xfrm>
            <a:off x="539640" y="1197000"/>
            <a:ext cx="8136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zrost liczby ludności w XII i XIII w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 małym wzroście produkcji rolnej spowodował podwyżkę cen żywności i spadek płac, a co za tym idzie był przyczyną głodu i niedożywi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Europie wybuchały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epidem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najdramatyczniejsza była epidemia dżumy nazwana „czarną śmiercią”) – w ich wyniku następował spadek zaludnienia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ały miejsce powstania chłopskie 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ługotrwałe konflikty zbrojn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m.in. wojna stuletnia 1337–1453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ansakcje kredytowe był obciążone dużym ryzy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np. podróże handlowe były długie i niebezpieczne) – często dłużnicy okazywali się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wypłacaln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 kredytów korzystali m.in. monarchowie europejsc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 1342 r. król Anglii Edward III ogłosił niewypłacalność, co spowodowało upadek domów bankowych, którym był winien około 1,5 mln floren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nkierzy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żywali zdeponowanych pieniędzy do prowadzenia własnych interesów handlow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e często kończyły się niepowodzenie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ielki kryzys w latach 30. XX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5"/>
          <p:cNvSpPr/>
          <p:nvPr/>
        </p:nvSpPr>
        <p:spPr>
          <a:xfrm>
            <a:off x="539640" y="112536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zywany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wielką depresją”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tyczył wszystkich krajów i dziedzin gospodark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 jego symboliczny początek uznaje się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czarny czwartek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29 października 1929 r.), kiedy to ceny akcji na nowojorskiej giełdzie zaczęły gwałtownie spadać – pękła wte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bańka spekulacyj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iązana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dzielaniem przez banki kredytów pod zastaw przewartościowanych akcj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bardziej odczuły kraje przemysłowe – nastąpił w nic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ługotrwały spadek produkcji przemysłow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bezrobocia na masową skal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krajach rolniczych przede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ły ce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amatycz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ły dochody ludn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gorszyło się położenie całych grup społeczn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iębiorstwa miały problemy ze spłatą kredyt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co przełożyło się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yzys systemów bank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finansowy z 2007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5"/>
          <p:cNvSpPr/>
          <p:nvPr/>
        </p:nvSpPr>
        <p:spPr>
          <a:xfrm>
            <a:off x="395280" y="981000"/>
            <a:ext cx="8280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czął się latem 2007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amerykańskim rynku kredytów hipote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subprime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li  kredytów o podwyższonym ryzyku, których masowo udzielano osobom o niskiej zdolności kredytowej (np. nieposiadających stałego źródła dochodu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łamanie tego rynku stało się bezpośrednią przyczyną zaburzeń na innych rynka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tąpi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zaufania do instytucji kredyt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y rozszerzył się na inne instytucje finansow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naczącym wydarzeniem by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padek banku Lehman Brother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5.09.2008 r.), który miał prawie 3 tys. spółek zależnych prowadzących działalność na całym świecie, a wartość jego aktywów  wynosiła około 600 mld USD – to uświadomiło uczestnikom rynku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istnieją instytucje zbyt duże lub zbyt ważne, by upa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Konopczak M., Sieradzki R., Wiernicki M., Kryzys na światowych rynkach finansowych – wpływ na rynek finansowy w Polsce oraz implikacje dla sektora realnego, „Bank i Kredyt”, nr 41(6)/201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ankikredyt.nbp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bezpiecznie wziąć kredy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5"/>
          <p:cNvSpPr/>
          <p:nvPr/>
        </p:nvSpPr>
        <p:spPr>
          <a:xfrm>
            <a:off x="250920" y="981000"/>
            <a:ext cx="856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dź, z ja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duktem finansow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prawdę masz do czynienia (czy jest to kredyt bankowy czy pożyczka) i jakie jest j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rocent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dź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stytu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a udziela kredytu bankowego – zgodnie z ustawą mają do tego prawo tylko banki i spółdzielcze kasy oszczędnościowo-kredytowe; jeśli bierzesz pożyczkę, przejrzyj listę podmiotów objętych nadzorem finansowym na stronie: 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knf.gov.pl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jrzyj się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sztom dodatkow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dowiedz się, czy n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usisz np. wykupić jakiegoś ubezpiecz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kład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czytaj umow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poproś o wyjaśnienie niezrozumiał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pis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gólnie uważaj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arabanki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czyli instytucje, które oferują usługi 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ty finansowe podobne do usług bankowych, ale nie s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trolowane prze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misję Nadzoru Finansoweg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Przewodnik po usługach finansowych, UOKIK, Warszawa 2012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okik.gov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braz 7" descr="odplyw.jpg"/>
          <p:cNvPicPr/>
          <p:nvPr/>
        </p:nvPicPr>
        <p:blipFill>
          <a:blip r:embed="rId3"/>
          <a:stretch/>
        </p:blipFill>
        <p:spPr>
          <a:xfrm>
            <a:off x="7308720" y="3227400"/>
            <a:ext cx="1662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3"/>
          <p:cNvSpPr/>
          <p:nvPr/>
        </p:nvSpPr>
        <p:spPr>
          <a:xfrm>
            <a:off x="179280" y="907920"/>
            <a:ext cx="8785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ameron A., Późne cesarstwo rzymskie, Prószyński i S-ka, Warszawa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onopczak M., Sieradzki R., Wiernicki M., Kryzys na światowych rynkach finansowych – wpływ na rynek finansowy w Polsce oraz implikacje dla sektora realnego, „Bank i Kredyt”, nr 41(6)/201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ankikredyt.nbp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Landes D.S., Bogactwo i nędza narodów. Dlaczego jedni są tak bogaci, a inni tak ubodzy, Wydawnictwo MUZA S.A., Warszawa 20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arciniak S. (red.), Makro- i mikroekonomia. Podstawowe problemy współczesności, Wydawnictwo Naukowe PWN, Warszawa 201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wierz-Furtak J., Historyczne ujęcie kredytu w gospodarce, „Bank i Kredyt”,  nr 12/200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nbportal.pl/library/pub_auto_B_0002/KAT_B320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Wiedzy PWN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zewodnik po usługach finansowych, UOKIK, Warszawa 2012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uokik.gov.pl/publikacje.php?tag=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internetowa akcji społecznej „Zanim podpiszesz”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zanim-podpiszesz.pl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erwis internetowy „Życie w kredycie” prowadzony przez UOKIK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zyciewkredycie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179280" y="981000"/>
            <a:ext cx="871380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1. Świnka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piggybank-pink), obrazek w domenie publicznej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penclipart.org/detail/18034/piggybank-pink-by-grin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. Plik banknotó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money), fot. Andrew Magill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lickr.com/photos/amagill/3367543094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3. Pieniądze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money), autor: Tax Credits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lickr.com/photos/76657755@N04/7027595009/in/photostream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4. Kalkulator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calculator), autor: 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lickr.com/photos/59937401@N07/5930026346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5. Monety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stacks of pound coins), autor: Images Money, źródło: http://www.flickr.com/photos/59937401@N07/5930116778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6.  Monety2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5 pence coins), autor: Images Money, źródło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59937401@N07/5929566423/in/photostream/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7. Chmura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weather storm), autor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 Tango!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esktop Project, obrazek w domenie publicznej, źródło: http://commons.wikimedia.org/wiki/File:Weather-storm.sv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8. Odpływ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Throwing Money Away), autor: Images Money ,źródło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59937401@N07/5930043516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*licencja CC BY: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26828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ym jest kredyt (definicje, rodzaje kredytów, przydatne terminy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y kredytowania różnego typu przedsięwzięć w starożytności, średniowieczu i epoce nowożyt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odzowność kredytu dla funkcjonowania gospodarki rynkow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e kryzysy związane z kredytami (kryzys starożytny w III w. n.e., kryzys średniowieczny w XIV w., Wielki Kryzys z lat 30. XX w., globalny kryzys trwający od 2007 r.) – ich przyczyny i skutk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 bezpiecznie wziąć kredy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m jest kredy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5"/>
          <p:cNvSpPr/>
          <p:nvPr/>
        </p:nvSpPr>
        <p:spPr>
          <a:xfrm>
            <a:off x="539640" y="1557360"/>
            <a:ext cx="80647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ajprostszym ujęciu to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 odstąpie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z jedną ze stron (wierzyciela, kredytodawcę) drugiej stronie (dłużnikowi, kredytobiorcy)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kreślonej wartości w pieniądzu lub w towarach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arunka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wrotu równowartości w określonym terminie;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rzyciel żąda zwykl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nagrodzenia w postaci procent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wyróżnia się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pienięż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handl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nazywany też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warowy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alb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upiecki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, który polega na odroczeniu płatności przez dostawcę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5" descr="swinka2.png"/>
          <p:cNvPicPr/>
          <p:nvPr/>
        </p:nvPicPr>
        <p:blipFill>
          <a:blip r:embed="rId2"/>
          <a:stretch/>
        </p:blipFill>
        <p:spPr>
          <a:xfrm>
            <a:off x="6372360" y="4365720"/>
            <a:ext cx="2236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edyt ban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539640" y="1341360"/>
            <a:ext cx="806472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godnie z art. 69 pkt. 1 ustaw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wo bankow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umowę kredytu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bank zobowiązuje się oddać do dyspozycji kredytobiorcy na czas oznaczony w umowie kwotę środków pieniężnych z przeznaczeniem na ustalony cel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kredytobiorca zobowiązuje się do korzystania z niej na warunkach określonych w umowie,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zwrotu kwoty wykorzystanego kredytu wraz z odsetkam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w oznaczonych terminach spłaty o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apłaty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owizj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d udzielonego kredy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stawa z dnia 29 sierpnia 1997 r. Prawo bankowe 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z. U. z 2012 r. poz. 1376, z późn. z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Obraz 6" descr="money1.jpg"/>
          <p:cNvPicPr/>
          <p:nvPr/>
        </p:nvPicPr>
        <p:blipFill>
          <a:blip r:embed="rId1"/>
          <a:stretch/>
        </p:blipFill>
        <p:spPr>
          <a:xfrm>
            <a:off x="6012000" y="3716280"/>
            <a:ext cx="29350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kredyt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glą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5"/>
          <p:cNvSpPr/>
          <p:nvPr/>
        </p:nvSpPr>
        <p:spPr>
          <a:xfrm>
            <a:off x="539640" y="2349360"/>
            <a:ext cx="7993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czas, na jaki jest udzielany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ótkotermin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termin spłaty do ok. 1 roku) 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średnioterminow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ok. 1-3 lata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ługotermin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powyżej 3 la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przeznaczenie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westycyj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brot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sumpcyj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rodzaj waluty, w której jest udzielany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łot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wizowy;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wysokość oprocentowania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mercyj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eferencyj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sposób zabezpieczenia, m.in.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yskontow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ekslowy)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otecz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5" descr="rece.jpg"/>
          <p:cNvPicPr/>
          <p:nvPr/>
        </p:nvPicPr>
        <p:blipFill>
          <a:blip r:embed="rId2"/>
          <a:stretch/>
        </p:blipFill>
        <p:spPr>
          <a:xfrm>
            <a:off x="6659640" y="260280"/>
            <a:ext cx="24843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datne ter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6"/>
          <p:cNvSpPr/>
          <p:nvPr/>
        </p:nvSpPr>
        <p:spPr>
          <a:xfrm>
            <a:off x="395280" y="1341360"/>
            <a:ext cx="8209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ekse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pier wartościowy, na podstawie którego wystawiający weksel zobowiązuje się w określonym terminie do zapłaty określonej kwoty osobie wskazanej na weksl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otek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jedna z najczęstszych form zabezpieczenia kredytu albo pożyczki; może być ustanowiona na nieruchomości, która  należy do kredytobiorcy albo innej osob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pozyt bank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(lokata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ieniądze złożone w banku na pewien okres przez osobę prywatną albo przedsiębiorstw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cent składa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 sposób oprocentowania depozyt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tóry polega na tym, że odsetki są doliczane 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kładu i składają się na zysk w okresie następny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anim-podpiszesz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7" descr="kalkulatror.jpg"/>
          <p:cNvPicPr/>
          <p:nvPr/>
        </p:nvPicPr>
        <p:blipFill>
          <a:blip r:embed="rId2"/>
          <a:stretch/>
        </p:blipFill>
        <p:spPr>
          <a:xfrm>
            <a:off x="5565600" y="3716280"/>
            <a:ext cx="3578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kredytowania w starożyt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5"/>
          <p:cNvSpPr/>
          <p:nvPr/>
        </p:nvSpPr>
        <p:spPr>
          <a:xfrm>
            <a:off x="250920" y="1052640"/>
            <a:ext cx="8569080" cy="54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5 tys. lat temu w Uruk w Mezopotamii używan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glinianych żetonów w kształcie przedmiotów codziennego użytk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garnków, bochnów chleba i zwierząt; najprawdopodobniej symbolizowały prawdziwe pożyczone garnki, bochenki, owce i koz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ierwsze operacje bankowe polegały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ymianie monet bitych przez władców i udzielaniu oprocentowanych pożycze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przez bogatych kupców); dokumenty poświadczające takie działania pochodzą z III w. p.n.e. z Mezopotamii, gdzie wiek później powstała podstawowa forma bezgotówkowego obrotu pieniędzmi, czyl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ekse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jawiły się także prywatne domy bankowe i kredyty hipoteczne; tak samo pożyczano w starożytnym Rzymie, Grecji, a później te metody przejęło Bizancjum i Arabowie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la przykładu: w V wieku p.n.e. w Atenach oprocentowanie kredytów na zamorskie wyprawy wynosiło nawet 25 proc. – jednak udzielanie takich kredytów było bardzo ryzykowne , bo jeśli statek zatonął, dłużnik nie musiał zwracać pieniędz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kredytowania w średniowiecz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179280" y="1052640"/>
            <a:ext cx="8640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padek Imperium Rzymskiego był końcem rzymskiej i greckiej bankowości; w Europie rządzili barbarzyńcy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minowała gospodarka naturaln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gdzie nie było miejsca na oprocentowane kredyty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ierwszy ban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powstał w Wenecji w 1156 r., upowszechnił się także w tym stuleci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brót wekslam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rozwój bankowości był hamowany przez Kościół katolicki, który zakazywał pożyczek na procent, uważając je z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lichwę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w średniowieczu oprocentowanie kredytu konsumpcyjnego sięgało nawet 60 proc.!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XV w. centrum bankowości przeniosło się z Wło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Holandi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bankowcy z Amsterdamu znaleźli nowe źródło dochodu – zaczęl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życzać pieniądze państwom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m.in. Anglii, Szwecji, Polsce i Rosji; uznali, że rządy są bezpieczniejszym kredytobiorcą niż kupcy, którzy inwestują pieniądze w ryzykowne zamorskie podróż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Formy kredytowania w epoce nowożytn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179280" y="1268280"/>
            <a:ext cx="864072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lejna faza rozwoju banków była związana z wprowadzeniem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ieniędzy papierowych (XVII w.)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 rewolucją przemysłową i rodzącym się kapitalizme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ngielscy bankierzy pożyczali pieniądz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łaścicielom kopalni i manufaktu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to z powodu tego doinwestowania właśnie w Anglii i Szkocji zaczęła się rewolucja przemysłow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 przełomie XIX i XX w. pojawiły się mał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półdzielcze kasy pożyczkowo-depozytow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e nastawiły się na obsługę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olników i rzemieślników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w Galicji kasy zakładał je Franciszek Stefczyk); były one alternatywą dla banków, choć nie konkurowały z nimi pod względem skomplikowanych ofert finansowych; zazwyczaj jedynie przyjmowały depozyty i pożyczały pieniądze (dziś istnieją jako spółdzielcze kasy oszczędnościowo-kredytowe, w skrócie SKOK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az 5" descr="w stertach.jpg"/>
          <p:cNvPicPr/>
          <p:nvPr/>
        </p:nvPicPr>
        <p:blipFill>
          <a:blip r:embed="rId2"/>
          <a:stretch/>
        </p:blipFill>
        <p:spPr>
          <a:xfrm>
            <a:off x="5940360" y="4221000"/>
            <a:ext cx="28274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19T20:21:47Z</dcterms:modified>
  <cp:revision>770</cp:revision>
  <dc:subject/>
  <dc:title>Slajd 1</dc:title>
</cp:coreProperties>
</file>