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321D-BFC8-49EB-A7E5-1FDCF849788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D88-9E69-4224-8F3B-C199D0039E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D79-717C-45C8-A71E-82AC5E1A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374-9F72-49BF-9484-9C53630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B22-27A1-4CAD-8308-3141C497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94A-E75C-48BC-849A-E5917C5E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58E-09BC-4294-ACD0-2FD78BA0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B34-588C-439F-BD18-283357A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4F9-E0E3-4638-A1BC-C54B9649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892-03DB-45F6-B3E1-EFDBCA3F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19D-24F8-47BA-8E62-6CD5E31D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2F43-4C81-4595-A34A-F00088D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069B-4FC9-4EA3-8EE1-ABF75CB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D4A-0E50-43D3-88F9-5C00AF8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690-2493-4C11-8F24-B91F11D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32D-F963-44AB-8332-987B5F6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191-1FBF-4054-A0F4-EB71ED80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702-C638-4881-A7FE-CFAA999B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CA2-B43A-49BB-8661-C0328E3B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4D-1C1A-4C8F-9E18-3100989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E2D-A40D-4351-A746-BD56CCE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06E-E249-4241-98F1-9A26FA00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0BF-357C-4B60-B1FA-F2C0596C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976-266B-41F8-97B4-D8CC7BA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E4F-07B2-4386-856E-24B7C93D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FCC-A5B7-4208-B2A5-345F854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C2D-5D3F-41EF-9FAC-23B8A81A77B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267-0AE9-4351-A855-A26CB9B7A68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1"/>
          <p:cNvCxnSpPr>
            <a:endCxn id="14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6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Łącznik prosty ze strzałką 20"/>
          <p:cNvCxnSpPr>
            <a:stCxn id="16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4"/>
          <p:cNvCxnSpPr>
            <a:stCxn id="17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Przyspieszenie – wpływ transportu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zawartości 2"/>
          <p:cNvSpPr/>
          <p:nvPr/>
        </p:nvSpPr>
        <p:spPr>
          <a:xfrm>
            <a:off x="5364000" y="1413000"/>
            <a:ext cx="331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K:\Foto\2004\zdj5-04\HPIM0997.JPG"/>
          <p:cNvPicPr/>
          <p:nvPr/>
        </p:nvPicPr>
        <p:blipFill>
          <a:blip r:embed="rId1"/>
          <a:stretch/>
        </p:blipFill>
        <p:spPr>
          <a:xfrm>
            <a:off x="250920" y="1557360"/>
            <a:ext cx="51130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24000" y="2603520"/>
            <a:ext cx="64008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rger Peter L., Rewolucja kapitalistyczna, Oficyna Naukowa, Warszawa 199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lley Samuel,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Ludzie maszyny i historia, PWN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arszawa 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roule Anna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mes Watt. Jak rozw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maszyn parowych stworzył nasze społeczeństwo przemysł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zytelnik, Warszawa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71640" y="184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71640" y="242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2924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900000" y="486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58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219640" y="1700280"/>
            <a:ext cx="3548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Przełomem w produkcji była Spinning Jenny – przędzarka mechaniczna (1765-67). Zastępowała pracę prawie 100 prząd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lik:Spinning jenny.jpg"/>
          <p:cNvPicPr/>
          <p:nvPr/>
        </p:nvPicPr>
        <p:blipFill>
          <a:blip r:embed="rId1"/>
          <a:stretch/>
        </p:blipFill>
        <p:spPr>
          <a:xfrm>
            <a:off x="324000" y="1916280"/>
            <a:ext cx="46796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http://www.spartacus.schoolnet.co.uk/TEXrota.jpg"/>
          <p:cNvPicPr/>
          <p:nvPr/>
        </p:nvPicPr>
        <p:blipFill>
          <a:blip r:embed="rId1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5:37:36Z</dcterms:modified>
  <cp:revision>47</cp:revision>
  <dc:subject/>
  <dc:title>Slajd 1</dc:title>
</cp:coreProperties>
</file>