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BB3E-F901-4F8E-9319-73A929FFAFE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1214-5376-4828-84C8-27CDD61088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0460-8DF1-4418-99DD-89A0F0A28E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679-B3BD-4C70-A017-41FBFA93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B2D-3CE1-4B08-A5AD-25A9E4DE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331-F76E-4917-B796-3C9E9E5B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E4F-2F2B-4DCE-95C0-2E825B82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9FF1-8AA1-4D35-8C54-6C69FF11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EB65-2A9E-4317-9B6B-2CD29942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BEA1-A6F9-4FC5-BB24-FF8825AD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2C2B-FB54-467F-90A5-D90D32B4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5CC6-6B8C-4ED0-A210-1EC8DA5B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1DC0-6EFD-4A6C-8241-83EC6A85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7489-1C11-44C2-AD40-D3C1B924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E07-4BBF-4FE3-81EA-D1A83483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7908-613A-422D-A48A-437DFF2C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8841-C401-470D-9D08-0EAA0119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9843-5CB6-4B94-8015-3D2517A9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FE12-3D41-4BD3-AE2B-2EEF08A2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468A-2177-4EB6-82B7-F55BDE71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CB0-D56A-4678-BB04-A7D6EC15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DA1-5AD5-41FA-A124-22951191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659-4067-4505-A5B1-4C6C8E95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D06-45EB-4DA2-B01C-CF2A513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C02-688C-4298-9DB6-B1029100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AD1-463E-4662-9BEF-9BB27B7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D76-0B46-40A0-8BCB-2B371F1B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C6F5-2B8F-4BF0-824A-C33B12C3F09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4969-C5C2-4306-80D5-1E99005F849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Społeczne skutki XIX-wiecznego kapitalizm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2"/>
          <p:cNvSpPr/>
          <p:nvPr/>
        </p:nvSpPr>
        <p:spPr>
          <a:xfrm>
            <a:off x="0" y="1890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sekwencje zwiększania się liczebności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lasy robotnicz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4"/>
          <p:cNvSpPr/>
          <p:nvPr/>
        </p:nvSpPr>
        <p:spPr>
          <a:xfrm>
            <a:off x="611280" y="1579680"/>
            <a:ext cx="799308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kładanie partii politycznych i związków zawod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letariat staje się poważną siłą polityczną, świadomą celów ekonomicznych i społecznych swojej wal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ściół zwraca uwagę na robotników - w encyklice papieża Leona XIII „Rerum novarum” z 1891r. po raz pierwszy pojawia się temat prawa robotników do zrzeszania się i dążenia do sprawiedliwego podziału dób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II połowie XIX wieku poprawił się status robotników (m.in. ubezpieczenia społeczne, ograniczanie czasu pracy oraz wolne niedzie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2"/>
          <p:cNvSpPr/>
          <p:nvPr/>
        </p:nvSpPr>
        <p:spPr>
          <a:xfrm>
            <a:off x="0" y="47628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łówne cechy miasta przemysłowego w XIX wie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4"/>
          <p:cNvSpPr/>
          <p:nvPr/>
        </p:nvSpPr>
        <p:spPr>
          <a:xfrm>
            <a:off x="611280" y="1484280"/>
            <a:ext cx="799308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arunki determinujące powstanie miasta przemysłoweg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becność koniecznych do produkcji surowców naturaln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stęp do wody - napęd maszy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godna lokalizacja komunikacyj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becność tanich materiałów budowlan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XIX-wieczna Łód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4"/>
          <p:cNvSpPr/>
          <p:nvPr/>
        </p:nvSpPr>
        <p:spPr>
          <a:xfrm>
            <a:off x="611280" y="1341360"/>
            <a:ext cx="7993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ym przykładem miasta przemysłowego XIX wieku jest Łódź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ś niemal milionowe miasto położone w centralnej Pols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j charakter w tamtych czasach dobrze oddają słowa z popularnej piosenki „Walczyk o Łodzi” – „miasto fabryk i kominów, i rewolucyjnych burz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zasługi dla rozwoju przemysłowej Łodzi mieli trzej fabrykanci – Karol Scheibler, Izrael Poznański i Ludwik Geyer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budowali w Łodzi kompleksy fabryk włókienniczych. Aby móc przyciągnąć nowe ręce do pracy i zatrzymać wykwalifikowanych robotników budowali również przyfabryczne osiedla, domy, a także szkoły i szpita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476280"/>
            <a:ext cx="9144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abryka Izraela Poznań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budowana w latach 1872-1892 w Łodz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skład kompleksu wchodziły m.in. tkalnie, przędzalnie i farbiarn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fabryka izraela poznańskiego w łodzi"/>
          <p:cNvPicPr/>
          <p:nvPr/>
        </p:nvPicPr>
        <p:blipFill>
          <a:blip r:embed="rId1"/>
          <a:stretch/>
        </p:blipFill>
        <p:spPr>
          <a:xfrm>
            <a:off x="971640" y="2363760"/>
            <a:ext cx="7129440" cy="359892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1"/>
          <p:cNvSpPr/>
          <p:nvPr/>
        </p:nvSpPr>
        <p:spPr>
          <a:xfrm>
            <a:off x="952560" y="6033960"/>
            <a:ext cx="712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bi.gazeta.pl/im/8/5404/z5404438Q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ole tekstowe 2"/>
          <p:cNvSpPr/>
          <p:nvPr/>
        </p:nvSpPr>
        <p:spPr>
          <a:xfrm>
            <a:off x="0" y="4762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djęcie grupowe pracowników fabryki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zraela Poznańskiego w Łodz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robotnicy w fabryce poznańskiego"/>
          <p:cNvPicPr/>
          <p:nvPr/>
        </p:nvPicPr>
        <p:blipFill>
          <a:blip r:embed="rId1"/>
          <a:stretch/>
        </p:blipFill>
        <p:spPr>
          <a:xfrm>
            <a:off x="1258920" y="1876320"/>
            <a:ext cx="6626160" cy="46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zas p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611280" y="1052640"/>
            <a:ext cx="799308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jęcie to pojawiło się wraz z rozwojem miast przemysłow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standaryzacją produkcj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AS PRACY jest to liczba godzin w ciągu dnia, podczas których pracownik jest zobowiązany wykonywać pracę zleconą przez pracodawcę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czątkach kapitalizmu czas pracy nie był regulowany i trwał kilkanaście, do nawet 20 godzi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XIX wieku czas pracy stał się przedmiotem sporów pracownik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pracodawcami. W ciągu 100 lat (od połowy XIX wieku do połowy XX wieku) czas pracy skrócił się z 90-80 godzin tygodniowo do 40-48 godz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nagrodzenie akord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jęcie to pojawiło się ze wzrostem zatrudnie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fabryka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NAGRODZENIE AKORDOWE zależy od rezultatów pracy pracownika – im efektywniej pracuje, tym jego wynagrodzenie jest wyższe. Było stosowane tam, gdzie liczyły się ilościowe efekty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ieszkanie zakład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4"/>
          <p:cNvSpPr/>
          <p:nvPr/>
        </p:nvSpPr>
        <p:spPr>
          <a:xfrm>
            <a:off x="611280" y="1341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dowa kompleksów fabrycznych i otaczających fabryki zabudowań mieszkaniowych spowodowała powstanie pojęcia mieszkania zakład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ESZKANIE ZAKŁADOWE jest lokalem mieszkalnym, którego właścicielem pozostaje pracodawca i użycza go swojemu pracownikowi na cały czas zatrudnienia lub jego częś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dustrializ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611280" y="162864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tensywnie rozwijające się w XIX w. uprzemysłowienie (inaczej INDUSTRIALIZACJA) miało swoje społeczne skut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ludnianie się wsi i migracje ludności do mia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ybka urbanizacja (tworzenie się nowych miast i wzrost ludności w tych już istniejących) związana z tworzeniem się ośrodków przemysł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korzystywanie transportu kolejowego do przemieszczania się ludzi, a nie tylko do celów transport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4"/>
          <p:cNvSpPr/>
          <p:nvPr/>
        </p:nvSpPr>
        <p:spPr>
          <a:xfrm>
            <a:off x="611280" y="1341360"/>
            <a:ext cx="799308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Bazylow L., Historia Powszechna 1789-1918, Książka i Wiedza,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 Warszawa 198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Buszko J., Historia Polski 1984-1948, Państwowe Wydawnictwo Naukowe,     Warszawa 198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Chwalba A., Historia powszechna. XIX wiek, Wydawnictwo Naukowe PWN, Warszawa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Grabski A.F., Samuś P., Między Wschodem a Zachodem: Studia z dziejów polskiego ruchu i myśli socjalistycznej, Wydawnictwo Uniwersytetu Łódzkiego, Łódź 199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aliński J., Historia Gospodarcza XIX i XX wieku, Polskie Wydawnictwo Ekonomiczne, Warszawa 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arle E., Dzieje Europy 1871-1919, Książka i Wiedza, Warszawa 196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lan prezent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611280" y="907920"/>
            <a:ext cx="78483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. Wynalazki XVIII w. prowadzące do ukształtowania się kapitalizmu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. Przemiany gospodarcze prowadzące do powstania kapitalizmu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. Przemiany w obrocie pieniężn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4. Przemiany społeczne wynikające ze zmian gospodarcz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5. Główne przyczyny migracji ze wsi do mi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6. Warunki życiowe robotników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. Narodziny ruchów politycznych i organizacji związk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8. Konsekwencje rozrastania się warstwy robotnicz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9. Główne cechy miasta przemysłowego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0. XIX-wieczna Łód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1. Czas pra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2. Wynagrodzenie akordow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3. Mieszkanie zakładow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4. Industrializacj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5. Bibliograf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179280" y="333360"/>
            <a:ext cx="864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jważniejsze wynalazki XVIII w. prowadzą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o ukształtowania się kapitalizmu w XIX 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91628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technologie wytopu i obróbki żela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urządzenia tkackie – rewolucja technologiczn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rzemyśle włókiennicz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szyna parowa znajduje coraz bardziej skomplikowane zastosowanie, także w transporc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324000" y="26028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miany gospodarcze, które doprowadziły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powstania XIX-wiecznej gospodarki kapitalisty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700280"/>
            <a:ext cx="7993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nowocześnienie gospodarki rolnej - nowe narzędz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sposoby prowadzenia upraw rol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przemysłu wydobywczego – pozyskiwanie surowców naturalnych, zwiększenie eksploatacji złóż kopal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formy handlu (powstanie sklepó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zemiany w obrocie pienięż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611280" y="1484280"/>
            <a:ext cx="7993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handlu zagraniczn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kwit prywatnych ban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znaczenia papierów wartości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czątki strategicznego wykorzystania ceł jako bariery ochronnej dla przemys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le tekstowe 2"/>
          <p:cNvSpPr/>
          <p:nvPr/>
        </p:nvSpPr>
        <p:spPr>
          <a:xfrm>
            <a:off x="0" y="1890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zemiany społeczne wywołane zmianami gospodarczy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11280" y="1341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kierunki ekspansji ekonomicznej posiadaczy ziemskich w kierunku inwestycji przemysł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nowej klasy społecznej – kapitalis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raz z rozwojem przemysłu część najuboższych mieszkańców wsi zostaje wchłonięta jako siła robocza powstających fabry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łówne przyczyny migracji mieszkańców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si do miast przemysł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iana stosunków własnościowych na wsi (uwłaszczenie, oczynszowanie itd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dmiar rąk do pracy w związku ze stopniowym  zmechanizowaniem produkcji rol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padek dotychczasowych form rzemiosła pracujących na rzecz zaopatrzenia w towary i narzędz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arakterystyka warunków życia robotników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XIX- wiecznych ośrodków przemysł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regulacji prawnych dotyczących warunków pra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wynagradzania za nią (czas pracy od 12 do 16 godzin na dobę, brak przepisów gwarantujących bezpieczeństwo przy wykonywaniu pracy, brak opieki lekarskiej dla pracujących, zatrudnianie nieletnic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e wynagrodzenia za pracę spowodowane nadwyżką rąk do pra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iężkie warunki bytowe panujące w osiedlach mieszkaniowych dla robotników (niski standard kwater mieszkalnych, zagęszczenie, niska jakość pożywienia, złe warunki higieniczno-sanitar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rodziny ruchów politycznych i organizacji związkowych  występujących w obronie praw pracownicz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611280" y="141300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nty robotnic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ocjalistyczne programy utopi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wolucyjne programy lewic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podmiotowienie robotników w zakresie ich praw politycznych i obywatel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419640" y="400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B</cp:lastModifiedBy>
  <dcterms:modified xsi:type="dcterms:W3CDTF">2013-04-13T17:53:31Z</dcterms:modified>
  <cp:revision>50</cp:revision>
  <dc:subject/>
  <dc:title>Slajd 1</dc:title>
</cp:coreProperties>
</file>