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F16-536C-4106-89D7-92AE57E2883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15E-E843-4AE0-A29C-835BB85A5C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CC2-7567-4959-AB6E-911E31A6E0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68A3-3F07-4733-BE95-09568DA119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B37-A93F-4466-8634-7227818337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A37-59A9-480C-951A-D2B45FCC65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33A-22EB-48C0-AEBB-6E90FC32BE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0A1-72E2-433F-BF44-CDD3BB9493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27E-1836-47AE-BEA0-63C3398440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50E1-7510-4AD7-8A60-EF7C5D0FB1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51F-9F26-4911-8CAD-E16B33F9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8DE-2A18-4F19-9772-FFAE306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938-6E2E-4B6B-BE1F-825B54EF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74E-6CC8-4945-A617-F13811A1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A9E0-F1DA-4CD7-B90A-79941F50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ED0C-DCFF-4185-817F-CB270FB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13D0-20CE-44E4-8251-1A57F93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1198-16B5-4C32-BB65-2A14A72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F3C6-1B90-490B-889E-FF2CCF7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AC24-429D-4DE5-AEC6-64C28C1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166B-6992-4889-8097-8BA346D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9FA-1149-4ACF-9D09-0FB5171A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EB0-33A9-4829-9DA7-3A52AF6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497-4CC8-4EC1-80A0-B568C3E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F8EA-9A3A-4D7B-869C-D96E348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4839-2F38-4D72-94C3-22B8BEDE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C7A2-4F7C-4352-8685-D21030D7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6B4-F83F-40FF-ACC9-99CC7A1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84F-A1E2-432D-8665-2D30BA0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1D9-139A-4103-8AC6-50CCAE0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9F3-344E-4A61-A89C-AC71B27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37C-FCA1-44CC-9433-81B2A6F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B44-2657-4573-B994-0D4D2D1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622-3463-4E75-93A8-67B644D4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C458-D2EC-469F-AA2D-40BB83217C1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7D73-1113-4766-B94A-5D0EC7684F4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8U3ruH8MF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7"/>
          <p:cNvSpPr/>
          <p:nvPr/>
        </p:nvSpPr>
        <p:spPr>
          <a:xfrm>
            <a:off x="3348000" y="1484280"/>
            <a:ext cx="52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waża się go za twórcę liberalizmu ekonomicz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problemy ekonomiczne rozwiąże mechanizm rynk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8U3ruH8MF0</a:t>
            </a: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5"/>
          <p:cNvSpPr/>
          <p:nvPr/>
        </p:nvSpPr>
        <p:spPr>
          <a:xfrm>
            <a:off x="2556000" y="1413000"/>
            <a:ext cx="62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http://upload.wikimedia.org/wikipedia/commons/6/6f/David_Ricardo(1).jpg"/>
          <p:cNvPicPr/>
          <p:nvPr/>
        </p:nvPicPr>
        <p:blipFill>
          <a:blip r:embed="rId2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szczędzać, czy wydawa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Adam Smith uważał, że oszczędności sprzyjają postępowi i inwestycjom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Obecny w gospodarce jest też inny model – wydawania dla rozruszania gospodar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4"/>
          <p:cNvSpPr/>
          <p:nvPr/>
        </p:nvSpPr>
        <p:spPr>
          <a:xfrm>
            <a:off x="2268360" y="443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 http://www.youtube.com/watch?v=-8QAW-r0nos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8920" y="1412640"/>
            <a:ext cx="8496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Nierówności społeczne i ekonomiczne mają być tak ułożone,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14:55Z</dcterms:modified>
  <cp:revision>42</cp:revision>
  <dc:subject/>
  <dc:title>Slajd 1</dc:title>
</cp:coreProperties>
</file>