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58C-650A-46EC-9D28-92836C3A19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C6C-8BB0-4966-895A-FEF51AA814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49F2-96F2-4F13-B0F8-8B2ED6939F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9AA-04AE-4A3B-9D2D-D05A0D4F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8E3-BD38-4F17-BD28-25D4A7BA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7B7-2938-43E2-96BB-4E14246D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847-0598-4A47-BACA-03A40ABA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009-A3BF-424F-9454-2776CBA6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475-4862-4367-AF4C-757BCD35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551E-46EC-4EAE-AEA2-84DAA41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9F9-DCDF-420B-92E5-10CFBD2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C23E-123F-4342-916E-3B29CDF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550D-1F7F-4FC4-ACE2-6A475A91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0737-FCAA-48FA-8475-DB40050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C0E-1E35-4C1E-A2E7-50B0D66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9C84-70D4-463A-8DCC-A55DA65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1F0-2F26-4F04-AA38-6762D1E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61E-38F0-471B-85CB-C44CFD7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9F7-6711-439F-BDF8-73B8E678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A58-56AA-40A6-BFE0-DB5C8295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07D-6468-4745-9533-CF6B4CFC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8AC-FA23-4CFD-B5DD-654032C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BB-0CB1-41C4-8760-7A25D56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987-0CFD-410C-98BE-E368AA0D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51E-DA1D-4E9E-927C-BD001A5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205-8C46-4DD7-A453-07C483F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E32-58F9-4FE4-9C96-A75A8A0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E579-C03D-4255-A840-84A5F28965E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B79A-0E89-44B2-8FF9-B4B2C69000B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ytuł 1" descr=""/>
          <p:cNvPicPr/>
          <p:nvPr/>
        </p:nvPicPr>
        <p:blipFill>
          <a:blip r:embed="rId1"/>
          <a:stretch/>
        </p:blipFill>
        <p:spPr>
          <a:xfrm>
            <a:off x="573120" y="1584360"/>
            <a:ext cx="7967520" cy="1884240"/>
          </a:xfrm>
          <a:prstGeom prst="rect">
            <a:avLst/>
          </a:prstGeom>
          <a:ln w="0">
            <a:noFill/>
          </a:ln>
        </p:spPr>
      </p:pic>
      <p:sp>
        <p:nvSpPr>
          <p:cNvPr id="96" name="Podtytuł 2"/>
          <p:cNvSpPr/>
          <p:nvPr/>
        </p:nvSpPr>
        <p:spPr>
          <a:xfrm>
            <a:off x="1133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549360"/>
            <a:ext cx="496872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iesienie własności prywat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połecznienie środków produk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ształcenie organizowan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nadzorowane przez państ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cjonalizację działań prowadzącą do powstania sprawnych struktur państwowych i eliminacji przestępcz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Robertowen"/>
          <p:cNvPicPr/>
          <p:nvPr/>
        </p:nvPicPr>
        <p:blipFill>
          <a:blip r:embed="rId1"/>
          <a:stretch/>
        </p:blipFill>
        <p:spPr>
          <a:xfrm>
            <a:off x="6227640" y="1052640"/>
            <a:ext cx="205128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084720" y="4076640"/>
            <a:ext cx="2770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Robertowe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39640" y="620640"/>
            <a:ext cx="4572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ktaturę fachowców – ludzi nau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ładzę państwową oparta o klasę pracując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nstrukcje społeczną opartą na trzech klasach ludzi nauki, warstwie regulującej procesy badawcze i ludzi p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esienie własności prywatnej środków produkcji i dziedziczenia dó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enri_de_Saint-simon_portrait"/>
          <p:cNvPicPr/>
          <p:nvPr/>
        </p:nvPicPr>
        <p:blipFill>
          <a:blip r:embed="rId1"/>
          <a:stretch/>
        </p:blipFill>
        <p:spPr>
          <a:xfrm>
            <a:off x="6218280" y="658800"/>
            <a:ext cx="19130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867280" y="3789360"/>
            <a:ext cx="29527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upload.wikimedia.org/wikipedia/commons/5/59/Henri_de_Saint-simon_portrai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438120" y="620640"/>
            <a:ext cx="4925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worzenie się grup społecznych tzw. Falansterów, które miały opierać się na kooperacji, współpracy i działaniu opartym o zainteresow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upodob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spólne wytwarzanie i podział dóbr wypracowanych przez falanste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likwidowanie sprzeczności wśród ludzi oraz innych organizmów żyw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w-fourier"/>
          <p:cNvPicPr/>
          <p:nvPr/>
        </p:nvPicPr>
        <p:blipFill>
          <a:blip r:embed="rId1"/>
          <a:stretch/>
        </p:blipFill>
        <p:spPr>
          <a:xfrm>
            <a:off x="6156360" y="765000"/>
            <a:ext cx="2271600" cy="2908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012000" y="4078440"/>
            <a:ext cx="2716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Hw-fouri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4360" y="620640"/>
            <a:ext cx="8208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udhonizm –Twórca Pierre Proudhon. Krytykował fundamenty systemu kapitalistycznego czyli własność prywatną środków produkcji, pieniądz jako podstawę obiegu dóbr (postulował powstanie ban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erowym oprocentowaniu). Postulował m.in. Anarchizm i Federaliz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lanquizm – Twórca Louis August Blanqui. Walczył o poszerzenie praw obywatelskich np. prawo wyborcze kobiet. Uważał, że droga do przemian społecznych wiedzie przez działalność spiskową bez konieczności zrywu 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ndykalizm – Ruch oparty o zrzeszenia związkowe robotników. Głosił prymat dążeń ekonomicznych nad politycznymi. Miał on dwa odłamy: reformacyjny i rewolucyjny. Reformacyjny odłam dążył do poprawy warunków życia robotników, celem rewolucyjnego było przekształcenie istniejącego systemu państwowo-politycznego i oparcie 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rzeszenia robot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1412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skutki społeczne przemian gospodarczych i polity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nowych teorii politycznych opartych o doktryny socjalistyczne zwane utopijny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postacie i nurty socjalizmu utopijnego: Robert Owen, Henri de Saint-Simon, Charles Four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84360" y="620640"/>
            <a:ext cx="777528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ka Rewolucj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Stanów Zjednoczonych Amery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jny Napoleoń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4360" y="620640"/>
            <a:ext cx="77752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ne wynalazki techniczne drugiej połowy XVIII wie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iany gospodarcze w produkcji rolnej i strukturze własnościowej na wsi, drobnej wytwórczości i rzemioś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y sposób kumulacji i przepływu kapitału pomiędzy państw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rodziny konkurencji i strategii ochrony celnej własnej produkcji przemysł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poleon"/>
          <p:cNvPicPr/>
          <p:nvPr/>
        </p:nvPicPr>
        <p:blipFill>
          <a:blip r:embed="rId1"/>
          <a:stretch/>
        </p:blipFill>
        <p:spPr>
          <a:xfrm>
            <a:off x="1655640" y="1052640"/>
            <a:ext cx="583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042920" y="35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pa XIX wiecznej Eur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30200" y="590868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historicus.pl/mapy/xix/napoleo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684360" y="692280"/>
            <a:ext cx="79200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skutki społeczne przemian gospodarcz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poli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wałtowny wzrost demograficzny lud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medycyny zmniejszający śmiertelność wśród najniższych warstw społecz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migracja dotychczasowych mieszkańców wsi do powstających ośrodków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owszechnienie edukacji na podstawowym poziom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620640"/>
            <a:ext cx="7848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stanie nowych klas społecznych jako efekt industrializ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nowych skupisk społecznych – mia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siedli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55640" y="620640"/>
            <a:ext cx="799308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nty i rozruc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uchy Luddystyczne (Anglia poczatek XIX 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unty robotników (Bunt robotników w Lyo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pierwszych oficjalnie działających organizacji robotnicz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iany polityczne umożliwiające powstanie organizac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k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 działalności organizacji robotniczych w Anglii na zmianę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a wyborczego oraz położenia ekonomicznego robotników (Ruch Czartystó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84360" y="422280"/>
            <a:ext cx="784836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topniowe uzyskiwanie podmiotowości przez masy robotnicze oraz świadomość położenia ekonomicznego robotników doprowadziły do narodzin nowych teorii politycznych opartych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o doktryny socjalistyczne zwane utopijny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ch cechy wspól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strzeganie sprzeczności systemu kapitalistyczne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osunek do robotników oparty o fundament socjalistycznych teorii utopijnych czyli altruizm i dobro wspólne, któremu przeciwstawiano egoizm i indywidualiz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ążenie do zlikwidowania własności prywatne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łagodzenie konfliktu pomiędzy produkcją przemysłową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roln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siągnięcie założonych celów przez reformy i kształtowanie świadomoś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6T13:52:30Z</dcterms:modified>
  <cp:revision>23</cp:revision>
  <dc:subject/>
  <dc:title>Slajd 1</dc:title>
</cp:coreProperties>
</file>