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BE45-5A41-4A28-82C6-DB656B19F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F1F8-4790-46E5-8AD4-689C950AE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7503-E793-4838-A9D8-11BC98F9A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301E-CC34-4E71-9B4E-831571D89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7A2C-8448-4AF8-ACF5-7708413EE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5CF8-FB72-4F82-9DB2-562F20A91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16FD-A00F-403B-B445-2520E6FEA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91B1-4F49-480A-9F0A-C3FD70FA7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6A73-CA63-443F-9344-C3B177107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89CF-341E-4A23-BA78-977AD8EE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1007-936C-4DD1-94BE-F83F22C4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D47A-F2A5-4ACE-9B6E-3EDB2E76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14399-3AC0-45B4-9097-F0CC5431842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44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ole tekstowe 7"/>
          <p:cNvSpPr/>
          <p:nvPr/>
        </p:nvSpPr>
        <p:spPr>
          <a:xfrm>
            <a:off x="1071720" y="2214720"/>
            <a:ext cx="7143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Czy państwo opiekuńcze jest sprawiedliw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ole tekstowe 8"/>
          <p:cNvSpPr/>
          <p:nvPr/>
        </p:nvSpPr>
        <p:spPr>
          <a:xfrm>
            <a:off x="1214280" y="37861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7f7f7f"/>
                </a:solidFill>
                <a:latin typeface="Tahoma"/>
                <a:ea typeface="Tahoma"/>
              </a:rPr>
              <a:t>Radosław Marzęck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113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ole tekstowe 10"/>
          <p:cNvSpPr/>
          <p:nvPr/>
        </p:nvSpPr>
        <p:spPr>
          <a:xfrm>
            <a:off x="357120" y="785880"/>
            <a:ext cx="842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Drugi model odwołuje się do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RÓWNOŚCI SZ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ole tekstowe 11"/>
          <p:cNvSpPr/>
          <p:nvPr/>
        </p:nvSpPr>
        <p:spPr>
          <a:xfrm>
            <a:off x="357120" y="1714680"/>
            <a:ext cx="842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Oznacza ona, że </a:t>
            </a:r>
            <a:r>
              <a:rPr b="1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każdy człowiek powinien mieć równe możliwości osiągania pozycji i dóbr, a nierówności są dopuszczalne tylko w tym stopniu, w jakim są rezultatem niejednakowego wysiłku, zdolności i własnych zasłu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ole tekstowe 12"/>
          <p:cNvSpPr/>
          <p:nvPr/>
        </p:nvSpPr>
        <p:spPr>
          <a:xfrm>
            <a:off x="357120" y="3143160"/>
            <a:ext cx="842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Rolę zasług podkreśla się w </a:t>
            </a:r>
            <a:r>
              <a:rPr b="1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teorii merytokracji – nagrody (których rozdział kształtuje nierówności społeczne) powinny być rozdzielane w odpowiedniej proporcji do zasłu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rostokąt 13"/>
          <p:cNvSpPr/>
          <p:nvPr/>
        </p:nvSpPr>
        <p:spPr>
          <a:xfrm>
            <a:off x="357120" y="4643280"/>
            <a:ext cx="8429760" cy="428760"/>
          </a:xfrm>
          <a:prstGeom prst="rect">
            <a:avLst/>
          </a:prstGeom>
          <a:solidFill>
            <a:srgbClr val="ffc000"/>
          </a:solidFill>
          <a:ln w="5724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Czy w Polsce działają zasady merytokracji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122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ole tekstowe 14"/>
          <p:cNvSpPr/>
          <p:nvPr/>
        </p:nvSpPr>
        <p:spPr>
          <a:xfrm>
            <a:off x="428760" y="642960"/>
            <a:ext cx="83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Trzeci model odwołuje się do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RÓWNOŚCI WARUNKÓ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ole tekstowe 15"/>
          <p:cNvSpPr/>
          <p:nvPr/>
        </p:nvSpPr>
        <p:spPr>
          <a:xfrm>
            <a:off x="428760" y="1143000"/>
            <a:ext cx="8358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Głównymi reprezentantami tego nurtu stali się teoretycy myśli socjalistycznej, a przede wszystkim marksiśc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Stwierdzają, że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wyrównywanie szans jest niesprawiedliwe, ponieważ nie gwarantuje najbiedniejszym zaspokojenia potrzeb na satysfakcjonującym poziom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NIERÓWNOŚCI TRZEBA NIWELOWAĆ, ALE NIE POPRZEZ WYRÓWNYWANIE SZANS NA STARCIE TYLKO CAŁY CZ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ole tekstowe 16"/>
          <p:cNvSpPr/>
          <p:nvPr/>
        </p:nvSpPr>
        <p:spPr>
          <a:xfrm>
            <a:off x="428760" y="4071960"/>
            <a:ext cx="8358120" cy="73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Oznacza to, że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każda jednostka powinna w tym samym stopniu uczestniczyć w podziale dóbr, niezależnie od wydatkowanych przez siebie nakładów oraz posiadanego talentu, zasług i własnych zdolnośc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rostokąt 17"/>
          <p:cNvSpPr/>
          <p:nvPr/>
        </p:nvSpPr>
        <p:spPr>
          <a:xfrm>
            <a:off x="500040" y="4929120"/>
            <a:ext cx="8358120" cy="714600"/>
          </a:xfrm>
          <a:prstGeom prst="rect">
            <a:avLst/>
          </a:prstGeom>
          <a:solidFill>
            <a:srgbClr val="ffc000"/>
          </a:solidFill>
          <a:ln w="5724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  <a:ea typeface="Tahoma"/>
              </a:rPr>
              <a:t>Który model jest bardziej SPRAWIEDLIW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chemat blokowy: dokument 18"/>
          <p:cNvSpPr/>
          <p:nvPr/>
        </p:nvSpPr>
        <p:spPr>
          <a:xfrm>
            <a:off x="428760" y="1143000"/>
            <a:ext cx="8286480" cy="3643200"/>
          </a:xfrm>
          <a:prstGeom prst="flowChartDocument">
            <a:avLst/>
          </a:prstGeom>
          <a:solidFill>
            <a:srgbClr val="436416"/>
          </a:solidFill>
          <a:ln w="57240">
            <a:solidFill>
              <a:srgbClr val="948a54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000"/>
                </a:solidFill>
                <a:latin typeface="Calibri"/>
              </a:rPr>
              <a:t>Peter Saunders dokonał obrazowego porównania nierówności warunków i szans, odwołując się do metafory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ffc000"/>
                </a:solidFill>
                <a:latin typeface="Calibri"/>
              </a:rPr>
              <a:t>Jeżeli </a:t>
            </a:r>
            <a:r>
              <a:rPr b="1" i="1" lang="pl-PL" sz="1800" spc="-1" strike="noStrike">
                <a:solidFill>
                  <a:srgbClr val="b7dee8"/>
                </a:solidFill>
                <a:latin typeface="Calibri"/>
              </a:rPr>
              <a:t>równość szans</a:t>
            </a:r>
            <a:r>
              <a:rPr b="1" i="1" lang="pl-PL" sz="1800" spc="-1" strike="noStrike">
                <a:solidFill>
                  <a:srgbClr val="ffc000"/>
                </a:solidFill>
                <a:latin typeface="Calibri"/>
              </a:rPr>
              <a:t> przypomina wyścig, w którym wszyscy zawodnicy zaczynają bieg z jednej linii startowej, to realizacja </a:t>
            </a:r>
            <a:r>
              <a:rPr b="1" i="1" lang="pl-PL" sz="1800" spc="-1" strike="noStrike">
                <a:solidFill>
                  <a:srgbClr val="b7dee8"/>
                </a:solidFill>
                <a:latin typeface="Calibri"/>
              </a:rPr>
              <a:t>równości warunków </a:t>
            </a:r>
            <a:r>
              <a:rPr b="1" i="1" lang="pl-PL" sz="1800" spc="-1" strike="noStrike">
                <a:solidFill>
                  <a:srgbClr val="ffc000"/>
                </a:solidFill>
                <a:latin typeface="Calibri"/>
              </a:rPr>
              <a:t>polega na wyrównaniu szans w trakcie biegu: wolniejszym zawodnikom się pomaga, a wobec szybszych stosuje się ograniczenia i w konsekwencji wszyscy razem dobiegają do met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132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ole tekstowe 11"/>
          <p:cNvSpPr/>
          <p:nvPr/>
        </p:nvSpPr>
        <p:spPr>
          <a:xfrm>
            <a:off x="1000080" y="452520"/>
            <a:ext cx="628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NIERÓWNOŚCI W ASPEKCIE MORALNY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ole tekstowe 12"/>
          <p:cNvSpPr/>
          <p:nvPr/>
        </p:nvSpPr>
        <p:spPr>
          <a:xfrm>
            <a:off x="571680" y="2214720"/>
            <a:ext cx="3357360" cy="307764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Jeżeli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celem powinno być ograniczanie nierówności, 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ponieważ najważniejsze jest maksymalne zaspokajanie potrzeb, wyeliminowanie wyzysku i biedy, to główny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koszt realizacji tych celów poniosą kategorie o wyższym statusie materialny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Zwolennicy lewicy uważają, że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liberałowie są niewrażliwi na krzywdę społeczną, 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gdyż dostrzegają tylko interesy ludzi bogaty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rostokąt 13"/>
          <p:cNvSpPr/>
          <p:nvPr/>
        </p:nvSpPr>
        <p:spPr>
          <a:xfrm>
            <a:off x="1143000" y="1143000"/>
            <a:ext cx="2000160" cy="428760"/>
          </a:xfrm>
          <a:prstGeom prst="rect">
            <a:avLst/>
          </a:prstGeom>
          <a:solidFill>
            <a:srgbClr val="436416"/>
          </a:solidFill>
          <a:ln w="57240">
            <a:solidFill>
              <a:srgbClr val="948a54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000"/>
                </a:solidFill>
                <a:latin typeface="Tahoma"/>
                <a:ea typeface="Tahoma"/>
              </a:rPr>
              <a:t>LEW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rostokąt 19"/>
          <p:cNvSpPr/>
          <p:nvPr/>
        </p:nvSpPr>
        <p:spPr>
          <a:xfrm>
            <a:off x="5643720" y="1119240"/>
            <a:ext cx="2000160" cy="428400"/>
          </a:xfrm>
          <a:prstGeom prst="rect">
            <a:avLst/>
          </a:prstGeom>
          <a:solidFill>
            <a:srgbClr val="436416"/>
          </a:solidFill>
          <a:ln w="57240">
            <a:solidFill>
              <a:srgbClr val="948a54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000"/>
                </a:solidFill>
                <a:latin typeface="Tahoma"/>
                <a:ea typeface="Tahoma"/>
              </a:rPr>
              <a:t>LIBERALIZ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ole tekstowe 21"/>
          <p:cNvSpPr/>
          <p:nvPr/>
        </p:nvSpPr>
        <p:spPr>
          <a:xfrm>
            <a:off x="4786200" y="2214720"/>
            <a:ext cx="3929040" cy="329076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Nierówności są konieczną ceną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, jaką należy zapłacić za utrzymanie właściwych proporcji ekonomicznych i przyzwoitego tempa wzrostu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Uważają, że na nierównościach korzysta nie tylko garstka ludzi bogatych, ale i kategorie o niskim statusie, ponieważ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zamożność przedsiębiorczych jednostek powoduje wzrost zamożności ogółu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Przyczynia się to do powstawania nowych firm, zwiększa szeregi dostawców, klientów i przedsiębiorców, co napędza koniunkturę i prowadzi do podniesienia stopy życiowej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ole tekstowe 22"/>
          <p:cNvSpPr/>
          <p:nvPr/>
        </p:nvSpPr>
        <p:spPr>
          <a:xfrm>
            <a:off x="285840" y="1643040"/>
            <a:ext cx="392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Zwolennicy państwa opiekuńczeg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ole tekstowe 23"/>
          <p:cNvSpPr/>
          <p:nvPr/>
        </p:nvSpPr>
        <p:spPr>
          <a:xfrm>
            <a:off x="4857840" y="1643040"/>
            <a:ext cx="392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Przeciwnicy państwa opiekuńczeg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144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ole tekstowe 7"/>
          <p:cNvSpPr/>
          <p:nvPr/>
        </p:nvSpPr>
        <p:spPr>
          <a:xfrm>
            <a:off x="1143000" y="857160"/>
            <a:ext cx="71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Bibliograf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ole tekstowe 8"/>
          <p:cNvSpPr/>
          <p:nvPr/>
        </p:nvSpPr>
        <p:spPr>
          <a:xfrm>
            <a:off x="285840" y="1928880"/>
            <a:ext cx="84294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H. Domański, Struktura społeczna, Warszawa 2007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L. Jodkowska, Państwo opiekuńcze w Polsce i w Niemczech, Warszawa 2009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G. Esping-Andersen, Trzy światy kapitalistycznego państwa dobrobytu, Warszawa 2010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http://biznes.pwn.p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http://www.prosperity.com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151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ole tekstowe 7"/>
          <p:cNvSpPr/>
          <p:nvPr/>
        </p:nvSpPr>
        <p:spPr>
          <a:xfrm>
            <a:off x="1071720" y="2214720"/>
            <a:ext cx="71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Dziękuję za uwagę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51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ole tekstowe 7"/>
          <p:cNvSpPr/>
          <p:nvPr/>
        </p:nvSpPr>
        <p:spPr>
          <a:xfrm>
            <a:off x="1071720" y="857160"/>
            <a:ext cx="71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Plan prezentacj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ole tekstowe 9"/>
          <p:cNvSpPr/>
          <p:nvPr/>
        </p:nvSpPr>
        <p:spPr>
          <a:xfrm>
            <a:off x="514440" y="1928880"/>
            <a:ext cx="6848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Państwo opiekuńcze – definicj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Obszary aktywności państwa opiekuńczeg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Wady i zalety opiekuńczego modelu państw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Mierzenie dobrobytu – czy w państwie opiekuńczym żyje się lepiej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Co to jest sprawiedliwość społeczna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Trzy modele równości – równość wobec praw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Trzy modele równości – równość sza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Trzy modele równości – równość warunkó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Czy opieka państwa jest moralna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58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ole tekstowe 7"/>
          <p:cNvSpPr/>
          <p:nvPr/>
        </p:nvSpPr>
        <p:spPr>
          <a:xfrm>
            <a:off x="1071720" y="857160"/>
            <a:ext cx="71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Państwo opiekuńcz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ole tekstowe 8"/>
          <p:cNvSpPr/>
          <p:nvPr/>
        </p:nvSpPr>
        <p:spPr>
          <a:xfrm>
            <a:off x="2669760" y="1571760"/>
            <a:ext cx="406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Państwo dobrobyt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Państwo bezpieczeństwa socjalne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ang. Welfare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rostokąt 9"/>
          <p:cNvSpPr/>
          <p:nvPr/>
        </p:nvSpPr>
        <p:spPr>
          <a:xfrm>
            <a:off x="928800" y="2857680"/>
            <a:ext cx="7429320" cy="222840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  <a:ea typeface="Tahoma"/>
              </a:rPr>
              <a:t>Państwo stawiające sobie za cel zabezpieczenie obywateli przed ryzykiem wiążącym się z działaniem gospodarki rynkowej, przede wszystkim z ryzykiem utraty pracy, zdrowia, a także przed ryzykiem wiążącym się ze starości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  <a:ea typeface="Tahoma"/>
              </a:rPr>
              <a:t>To także zespół instytucji państwowych dostarczających obywatelom świadczeń i usług społeczny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rostokąt 10"/>
          <p:cNvSpPr/>
          <p:nvPr/>
        </p:nvSpPr>
        <p:spPr>
          <a:xfrm>
            <a:off x="1500120" y="5286240"/>
            <a:ext cx="66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Celem państwa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– zapewnienie powszechnego dobrobyt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67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rostokąt 10"/>
          <p:cNvSpPr/>
          <p:nvPr/>
        </p:nvSpPr>
        <p:spPr>
          <a:xfrm>
            <a:off x="142920" y="928800"/>
            <a:ext cx="871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Podstawa polityczna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– obawa przed totalitaryzm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Podstawa ekonomiczna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– aktywna rola państwa w gospodarce (interwencjonizm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rostokąt 11"/>
          <p:cNvSpPr/>
          <p:nvPr/>
        </p:nvSpPr>
        <p:spPr>
          <a:xfrm>
            <a:off x="142920" y="2214720"/>
            <a:ext cx="87868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Trzy obszary działani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Sfera ekonomiczna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– państwo ingeruje w gospodarkę, zwalcza inflację i bezroboc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Sfera społeczna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– rozszerzanie systemu świadczeń i ochrony socjalnej, gwarantowanie obywatelom minimalnych równych praw w dostępie do usług socjalny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Sfera polityczna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– demokracja, likwidacja wszelkich form dyskryminacji (mniejszośc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74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42920" y="1000080"/>
          <a:ext cx="8858160" cy="3962520"/>
        </p:xfrm>
        <a:graphic>
          <a:graphicData uri="http://schemas.openxmlformats.org/drawingml/2006/table">
            <a:tbl>
              <a:tblPr/>
              <a:tblGrid>
                <a:gridCol w="4429080"/>
                <a:gridCol w="44290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Zale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Wa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ozbudowana sfera świadczeń socjalnych (np. zasiłki dla bezrobotnyc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Wysokie podatk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Niskie bezroboc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Wrażliwość na kryzysy gospodarc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Wysoki wzrost gospodarcz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Wrażliwość na zmiany społeczne (np. starzenie się społeczeństw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latywnie wysokie pł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Zmniejszenie bodźców do podejmowania pra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łace minimal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ozleniwienie ludz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Dotacje i subwenc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„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Wyuczona bezradność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nwestycje w edukacj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Nieefektywnoś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Bogaty kapitał ludzki (zaufanie, poczucie wspólnoty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„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Zabijanie” przedsiębiorczoś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80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rostokąt 10"/>
          <p:cNvSpPr/>
          <p:nvPr/>
        </p:nvSpPr>
        <p:spPr>
          <a:xfrm>
            <a:off x="642960" y="71424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Dobrobyt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 to nie tylko pieniądze, ale jakość życia i dobre samopoczuc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rostokąt 11"/>
          <p:cNvSpPr/>
          <p:nvPr/>
        </p:nvSpPr>
        <p:spPr>
          <a:xfrm>
            <a:off x="642960" y="1214280"/>
            <a:ext cx="78580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Wskaźnik Dobrobytu Legatum (Legatum Prosperity Index)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wykazał najbardziej i najmniej zamożne państwa w 2012 rok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Bierze się w nim pod uwagę jakość wielu czynników warunkujących poziom życia ludzi. Są to np.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wolność osobista, opieka zdrowotna, bezpieczeństwo, system edukacji, gospodarka, zarządzanie państwem oraz kapitał ludzk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1. Norwegia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2. Dania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3. Szwecja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4. Australia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5. Nowa Zelandia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… 32. Polska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6. Kanada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7. Finlandia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8. Niderlandy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9. Szwajcaria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10. Irland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87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rostokąt 11"/>
          <p:cNvSpPr/>
          <p:nvPr/>
        </p:nvSpPr>
        <p:spPr>
          <a:xfrm>
            <a:off x="642960" y="1214280"/>
            <a:ext cx="7858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Tahoma"/>
              </a:rPr>
              <a:t>Nie wszystkie państwa na świecie są opiekuńcze,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Tahoma"/>
              </a:rPr>
              <a:t>a wśród opiekuńczych występują 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Tahoma"/>
                <a:ea typeface="Tahoma"/>
              </a:rPr>
              <a:t>różnice w stopniu tej opiekuńczoś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  <a:ea typeface="Tahoma"/>
              </a:rPr>
              <a:t>Elementy państwa opiekuńczego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Tahoma"/>
              </a:rPr>
              <a:t>odnajdujemy w wielu różnych państwach, także w Pols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Tahoma"/>
              </a:rPr>
              <a:t>Poszczególne państwa 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  <a:ea typeface="Tahoma"/>
              </a:rPr>
              <a:t>lepiej lub gorzej radzą sobie z typowymi problemami </a:t>
            </a:r>
            <a:r>
              <a:rPr b="1" i="1" lang="pl-PL" sz="2400" spc="-1" strike="noStrike">
                <a:solidFill>
                  <a:srgbClr val="000000"/>
                </a:solidFill>
                <a:latin typeface="Tahoma"/>
                <a:ea typeface="Tahoma"/>
              </a:rPr>
              <a:t>welfare st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93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ole tekstowe 7"/>
          <p:cNvSpPr/>
          <p:nvPr/>
        </p:nvSpPr>
        <p:spPr>
          <a:xfrm>
            <a:off x="1071720" y="857160"/>
            <a:ext cx="71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Sprawiedliwość społecz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le tekstowe 9"/>
          <p:cNvSpPr/>
          <p:nvPr/>
        </p:nvSpPr>
        <p:spPr>
          <a:xfrm>
            <a:off x="214200" y="1714680"/>
            <a:ext cx="8715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Art. 2 Konstytucji R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Rzeczpospolita Polska jest demokratycznym państwem prawnym, urzeczywistniającym zasady </a:t>
            </a:r>
            <a:r>
              <a:rPr b="1" i="1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sprawiedliwości społecznej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ięciokąt 11"/>
          <p:cNvSpPr/>
          <p:nvPr/>
        </p:nvSpPr>
        <p:spPr>
          <a:xfrm>
            <a:off x="3429000" y="2714760"/>
            <a:ext cx="5214960" cy="500040"/>
          </a:xfrm>
          <a:custGeom>
            <a:avLst/>
            <a:gdLst>
              <a:gd name="textAreaLeft" fmla="*/ 0 w 5214960"/>
              <a:gd name="textAreaRight" fmla="*/ 5215320 w 5214960"/>
              <a:gd name="textAreaTop" fmla="*/ 0 h 500040"/>
              <a:gd name="textAreaBottom" fmla="*/ 50040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64" y="0"/>
                </a:lnTo>
                <a:lnTo>
                  <a:pt x="21600" y="10800"/>
                </a:lnTo>
                <a:lnTo>
                  <a:pt x="205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Wymóg tworzenia sprawiedliwego praw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ole tekstowe 12"/>
          <p:cNvSpPr/>
          <p:nvPr/>
        </p:nvSpPr>
        <p:spPr>
          <a:xfrm>
            <a:off x="571680" y="335772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Ale nie tylko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ole tekstowe 13"/>
          <p:cNvSpPr/>
          <p:nvPr/>
        </p:nvSpPr>
        <p:spPr>
          <a:xfrm>
            <a:off x="285840" y="3786120"/>
            <a:ext cx="8501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jednakowe wymagania wobec wszystkich obywate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przejrzyste kryteria nagradzania zasług i karania win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bezstronność organów państwowych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równouprawnienie jednostek lub grup społecznych (np. ze względu na płeć, wyznanie, język, narodowość itp.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ięciokąt 14"/>
          <p:cNvSpPr/>
          <p:nvPr/>
        </p:nvSpPr>
        <p:spPr>
          <a:xfrm>
            <a:off x="4286160" y="5143680"/>
            <a:ext cx="4429080" cy="500040"/>
          </a:xfrm>
          <a:custGeom>
            <a:avLst/>
            <a:gdLst>
              <a:gd name="textAreaLeft" fmla="*/ 0 w 4429080"/>
              <a:gd name="textAreaRight" fmla="*/ 4429440 w 4429080"/>
              <a:gd name="textAreaTop" fmla="*/ 0 h 500040"/>
              <a:gd name="textAreaBottom" fmla="*/ 50040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81" y="0"/>
                </a:lnTo>
                <a:lnTo>
                  <a:pt x="21600" y="10800"/>
                </a:lnTo>
                <a:lnTo>
                  <a:pt x="2038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Utopia czy rzeczywistość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104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ole tekstowe 15"/>
          <p:cNvSpPr/>
          <p:nvPr/>
        </p:nvSpPr>
        <p:spPr>
          <a:xfrm>
            <a:off x="571680" y="1000080"/>
            <a:ext cx="62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Trzy MODELE NIERÓWNOŚC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ole tekstowe 16"/>
          <p:cNvSpPr/>
          <p:nvPr/>
        </p:nvSpPr>
        <p:spPr>
          <a:xfrm>
            <a:off x="571680" y="150012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Pierwszy model odwołuje się do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RÓWNOŚCI WOBEC PRAW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ole tekstowe 17"/>
          <p:cNvSpPr/>
          <p:nvPr/>
        </p:nvSpPr>
        <p:spPr>
          <a:xfrm>
            <a:off x="571680" y="2286000"/>
            <a:ext cx="77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Oznacza ona, że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każdy człowiek podlega tym samym regułom i powinien być karany w ten sam sposób, niezależnie od pochodzenia społecznego, narodowości, wyznania czy płc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rostokąt 18"/>
          <p:cNvSpPr/>
          <p:nvPr/>
        </p:nvSpPr>
        <p:spPr>
          <a:xfrm>
            <a:off x="571680" y="4071960"/>
            <a:ext cx="7715160" cy="928800"/>
          </a:xfrm>
          <a:prstGeom prst="rect">
            <a:avLst/>
          </a:prstGeom>
          <a:solidFill>
            <a:srgbClr val="ffc000"/>
          </a:solidFill>
          <a:ln w="5724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  <a:ea typeface="Tahoma"/>
              </a:rPr>
              <a:t>Czy to oznacza, że np. w Polsce zawsze wszyscy są równi wobec praw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7T11:32:01Z</dcterms:created>
  <dc:creator>Łukasz</dc:creator>
  <dc:description/>
  <dc:language>en-US</dc:language>
  <cp:lastModifiedBy>iwona</cp:lastModifiedBy>
  <dcterms:modified xsi:type="dcterms:W3CDTF">2013-08-10T12:58:47Z</dcterms:modified>
  <cp:revision>88</cp:revision>
  <dc:subject/>
  <dc:title>Slajd 1</dc:title>
</cp:coreProperties>
</file>