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8A6-0992-44CF-9FD1-2074C33A82E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CB92-AEBC-45F3-9179-76392C1200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DFF2-EDAF-42FA-975E-0DB7972C5A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027-3A0E-414B-9490-A925698BC3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4FE6-32AA-4947-AB0D-64DF69E2E0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C75-6243-46E5-92B1-C2415329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3EC-CA34-4D74-A9FC-AD0643F4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5BA-B057-4E4C-8167-CCAC8241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A1A-3E48-4DB6-B1FB-59B6D480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18D0-0330-451A-A1D1-570F0812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993D-64CD-4A51-8F77-39C2A2EB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D742-11AB-4087-866A-4B691195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ACBE-1E20-4E93-B7FE-1A72CBDF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E8B4-D987-4CBE-8544-279B3FBB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5975-6D60-4762-890B-24F8531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54BA-8B34-4E2A-A5CB-E3F6E74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140-864F-4ED2-9BA0-AFED4297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A552-AB7C-40D3-9604-70E2282A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4EF6-66FE-41E4-8504-13888AB4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0400-FEB8-42AF-99E0-67CC193F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5482-D1C4-46D8-ADAF-7667A080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8F63-F2FA-47C3-89FA-F0A3B283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732-DA08-419A-A66F-FA6AA917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499-9D29-4A87-86E7-7F703093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5C9-9F56-464B-806E-EF55838B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C11-9243-462C-947F-0B114243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8E5-8AFA-4151-820A-04DD43D6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AF6-6F57-48D3-94B6-22F7B600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43A-2C9E-4756-B5B4-6344F84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6370-9E16-43E4-9551-15DD0F9FA62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59EA-7AE4-423D-9786-AAE345C0C37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rksizm w praktyc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obszarze własności i wolności gospodarcz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2707920"/>
            <a:ext cx="8218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liminacja własności prywatnej (nacjonalizacja przemysłu, tzw. „bitwa o handel”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óby kolektywizacji w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opolizacja przez państwo handlu zagraniczneg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trudnianie rozwoju (podatki, kontrole, koncesje)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zw.  jednostkom gospodarki nieuspołecznio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1(12) - IPN Styczeń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3(110) - IPN Marzec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12(23) - IPN Grudzień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9-10(118-119) - IPN Wrzesień-Październik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5-6(100-101) - IPN Maj-Czerwiec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3(86) - IPN Marzec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isler Jerzy - Zarys dziejów politycznych Polski 1944-1991, Oficyna BGW 1992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n sześcioletni - Warszawa 19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szkowski Wojciech - Najnowsza Historia Polski 1914-2011, Świat Książki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rksizm w praktyce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. 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paganda w PR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sekwencje gospodarki realnego socjaliz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3382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paganda w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3889440" cy="5556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395280" y="2133720"/>
            <a:ext cx="324000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lakat propagandow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okresu PRL gloryfikujący inwestycje w dziedzinie przemysłu cięż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www.komunizm.eu/Plakaty_PRL/budowle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lakaty propagandowe z okresu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168720" cy="452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4846680" y="1197000"/>
            <a:ext cx="3073320" cy="439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468360" y="595008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komunizm.eu/Plakaty_PRL/dobrobyt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643280" y="5934240"/>
            <a:ext cx="42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komunizm.eu/Plakaty_PRL/bumelant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nda w P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ształtowanie świadomości i przekonani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 wielkości i przewadze systemu socjalistycznego nad kapitalizm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pagowanie sukcesów ZSRR i krajów demokracji ludowej oraz partii robotniczej, itp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nda sukcesu w P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olbrzymianie dokonań partii robotniczej i ekipy rządzącej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uszowanie niepowodzeń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hasła: dynamiczny rozwój, cud gospodarczy, budowanie drugiej Polsk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sadnicze skutki wprowadzenia gospodarki planowej w PR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1412640"/>
            <a:ext cx="8351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budzenie przemian gospodarczych i społeczn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westycje prowadzące do rozbudowy przemysłu (głównie ciężkiego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doinwestowanie innych dziedzin gospodark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sztywnienie polityki gospodarczej poprzez konieczność realizacji plan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rnotrawstwo surowców i energi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ztuczne zawyżanie efektywności przedsiębiorst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ywołanie niedoboru towarów na rynku i ich reglamentac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oliczności prowadzące do zaistnie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raktyce, gospodarki socjalistycznej opartej o marksistowskie założenia ekonom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ówne cechy gospodarki realnego socjaliz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gospodarki PR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jemne skutki funkcjonowania gospodarki socjalistyczn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blemy z zaopatrzeniem w artykuły konsumpcyj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egatywne rezultaty sterowania procesami produkcj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 handl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dobory – kolejki – reglamentac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rugi obieg handlowy – tzw. „czarny rynek”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ecjalne przywileje w zakresie dystrybucji towarów dla wybranych grup społecznych (talony na dobra luksusowe, dodatki żywieniowe it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artki na mięso i mleko z okresu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3" descr="Kartka_na_mleko"/>
          <p:cNvPicPr/>
          <p:nvPr/>
        </p:nvPicPr>
        <p:blipFill>
          <a:blip r:embed="rId1"/>
          <a:stretch/>
        </p:blipFill>
        <p:spPr>
          <a:xfrm>
            <a:off x="468360" y="1484280"/>
            <a:ext cx="3527280" cy="25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4068720" cy="28191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826920" y="5516640"/>
            <a:ext cx="67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pl.wikipedia.org/wiki/Plik:Kartka_na_mleko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xxwiek.pl/images.php?type=medium&amp;p=2359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rochę humoru </a:t>
            </a:r>
            <a:r>
              <a:rPr b="1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98100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uda socjalizm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a bezrobocia, ale nikt nie pracuj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kt nie pracuje, a wszyscy otrzymują wynagrodzen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otrzymują wynagrodzenie, ale nic nie można za to kupi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c nie można kupić, ale wszyscy mają wszystk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mają wszystko, ale wszyscy są też niezadowolen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są niezadowoleni, ale podczas wyborów głosują za tym ustroj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jważniejsze wytyczne socjalis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yś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pomyślałeś, to nie m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powiedziałeś, to nie pisz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napisałeś, to nie podpisu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podpisałeś, to się nie dziw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dło: www.nonsensopedia.wikia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Okoliczności prowadzące do zaistnienia w praktyce gospodarki socjalistycznej opartej o marksistowskie założenia ekonomi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349000"/>
            <a:ext cx="829152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ewolucje społeczne prowadzące do objęcia władzy przez partie komunistyczne (np. Rewolucja Październikowa 1917 roku w Rosj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miany polityczne wywołane agresją, aneksją terytorialną, presją militarną (np. zmiany polityczne we wschodniej części Polski w 1939 i w Polsce po 1945 rok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realnego socjalizm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1915920"/>
            <a:ext cx="83516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obszarze zarządzania wprowadzono gospodarkę planową – nakazowo-rozdzielcz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planowanie produkcj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ustalanie cen produkt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sterowanie procesami społeczno-ekonomiczny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podejmowanie decyzji o inwestycjach gospodarcz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zakresie zatrudnie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2707920"/>
            <a:ext cx="828972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mniejszanie zaludnienia w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parte o ideologiczne względy tworzenie miejsc pracy – przerost zatrudnienia i brak powiązania pomiędzy wielkością zatrudnienia i wydajnością pra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kryte bezrobocie wynikające z koncentracji inwestycj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określonych rejonach przy ich braku w pozostał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rak elastyczności rynku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7056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ał ogłoszeń – pracownicy poszukiwan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rybuna Robotnicza z 1987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7" descr=""/>
          <p:cNvPicPr/>
          <p:nvPr/>
        </p:nvPicPr>
        <p:blipFill>
          <a:blip r:embed="rId1"/>
          <a:stretch/>
        </p:blipFill>
        <p:spPr>
          <a:xfrm>
            <a:off x="8236080" y="828720"/>
            <a:ext cx="755640" cy="5511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Placeholder 2" descr=""/>
          <p:cNvPicPr/>
          <p:nvPr/>
        </p:nvPicPr>
        <p:blipFill>
          <a:blip r:embed="rId2"/>
          <a:srcRect l="0" t="18307" r="0" b="18307"/>
          <a:stretch/>
        </p:blipFill>
        <p:spPr>
          <a:xfrm>
            <a:off x="684360" y="10587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ozwój przemysłu cięż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76280"/>
            <a:ext cx="80740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iorytetem w planach gospodarczych PRL, zwłaszcza w pierwszych latach powojennych, była industrializacja kraju na wzór radziecki – rozwój przemysłu ciężkiego i met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tandarową inwestycją była budowa kombinatu metalurgicznego w Nowej Hu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dobycie węgla w Polsce w latach 1950-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ęgiel kamienny 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ęgiel brunatny 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hart 6" descr=""/>
          <p:cNvPicPr/>
          <p:nvPr/>
        </p:nvPicPr>
        <p:blipFill>
          <a:blip r:embed="rId1"/>
          <a:stretch/>
        </p:blipFill>
        <p:spPr>
          <a:xfrm>
            <a:off x="-6480" y="0"/>
            <a:ext cx="8979120" cy="3505320"/>
          </a:xfrm>
          <a:prstGeom prst="rect">
            <a:avLst/>
          </a:prstGeom>
          <a:ln w="0">
            <a:noFill/>
          </a:ln>
        </p:spPr>
      </p:pic>
      <p:pic>
        <p:nvPicPr>
          <p:cNvPr id="112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8967960" cy="646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dukcja stali surowej w Polsce w latach 1950-2008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5450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755640" y="57736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www.wiking.edu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juraszczyk</cp:lastModifiedBy>
  <dcterms:modified xsi:type="dcterms:W3CDTF">2013-04-11T13:45:40Z</dcterms:modified>
  <cp:revision>38</cp:revision>
  <dc:subject/>
  <dc:title>Slajd 1</dc:title>
</cp:coreProperties>
</file>