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2B6E-0620-43A5-AB73-331A0F480F8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52EB-F121-427A-AA88-CEA831FA24F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A89B-B7FA-49ED-B71C-6D8EEFC7C55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FA06-020C-4202-B486-78B4E10662A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BB2C-8F0C-4F34-949D-D2545DE0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EE9B-1BD8-4B0B-A527-B93D0D53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29B3-279B-41C1-B37B-3B72D609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F31B-FEE2-44B4-B194-D2B77F3F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3331-4556-4BCD-B4D5-B810F2EA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7728-1677-45C9-A573-79406883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E330-335E-48BA-964A-1B0685C9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0290-5C7B-4EBE-95D4-95BE36D9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CAD4-B5D4-4B93-AF29-AB1CD3F3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A811-A285-4671-ABD7-54F20BAA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1F8C-C009-46B0-8713-642F77A7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D298-7D39-4A9C-9F8C-0577D496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EA95-FF66-4785-842A-8E49E655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6581-7488-40CC-B703-321BB3F5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FF08-E4E1-4156-A0FB-B01C1F01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D407-B4E7-482A-9EC1-8F1E0D67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78A6-62A5-465B-A630-B996178F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339-784B-454A-8FD7-5AD85343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EDA-7C92-49BE-96B3-5099273E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F3B8-EEDE-4F09-8109-022436B0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6826-ADFC-40BD-ACAD-5CFF0E0A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4212-B928-41CB-959C-EC842259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E06-CCE9-4C8A-9DC8-365B13C9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9E8E-6238-469D-A41C-CC7EAF9B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6678-9100-46BE-B4E3-B98D5A1254D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9D14-D296-4EF2-91E6-F72AED3738F2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anim-podpiszesz.pl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olskawue.gov.pl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mcik.blox.pl/" TargetMode="External"/><Relationship Id="rId2" Type="http://schemas.openxmlformats.org/officeDocument/2006/relationships/hyperlink" Target="http://www.nbportal.pl/" TargetMode="External"/><Relationship Id="rId3" Type="http://schemas.openxmlformats.org/officeDocument/2006/relationships/hyperlink" Target="http://www.mg.gov.pl/" TargetMode="External"/><Relationship Id="rId4" Type="http://schemas.openxmlformats.org/officeDocument/2006/relationships/hyperlink" Target="http://www.nbp.pl/" TargetMode="External"/><Relationship Id="rId5" Type="http://schemas.openxmlformats.org/officeDocument/2006/relationships/hyperlink" Target="http://www.zanim-podpiszesz.pl/" TargetMode="External"/><Relationship Id="rId6" Type="http://schemas.openxmlformats.org/officeDocument/2006/relationships/hyperlink" Target="http://www.polskawue.gov.pl/" TargetMode="External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AdamSmith.jpg" TargetMode="External"/><Relationship Id="rId2" Type="http://schemas.openxmlformats.org/officeDocument/2006/relationships/hyperlink" Target="http://openclipart.org/detail/169932/grenouille-by-mathafix" TargetMode="External"/><Relationship Id="rId3" Type="http://schemas.openxmlformats.org/officeDocument/2006/relationships/hyperlink" Target="http://openclipart.org/detail/18418/giraffe-sympa-by-martouf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Gospodarze i ekonomiśc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Gra rynkowa – cena równowag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Łącznik prosty ze strzałką 5"/>
          <p:cNvCxnSpPr/>
          <p:nvPr/>
        </p:nvCxnSpPr>
        <p:spPr>
          <a:xfrm flipV="1">
            <a:off x="1692000" y="1988640"/>
            <a:ext cx="1080" cy="288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Łącznik prosty ze strzałką 7"/>
          <p:cNvCxnSpPr/>
          <p:nvPr/>
        </p:nvCxnSpPr>
        <p:spPr>
          <a:xfrm>
            <a:off x="1692000" y="4868640"/>
            <a:ext cx="2880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pole tekstowe 9"/>
          <p:cNvSpPr/>
          <p:nvPr/>
        </p:nvSpPr>
        <p:spPr>
          <a:xfrm>
            <a:off x="324000" y="21337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10"/>
          <p:cNvSpPr/>
          <p:nvPr/>
        </p:nvSpPr>
        <p:spPr>
          <a:xfrm>
            <a:off x="1619280" y="515772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loś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Łącznik prosty 14"/>
          <p:cNvSpPr/>
          <p:nvPr/>
        </p:nvSpPr>
        <p:spPr>
          <a:xfrm>
            <a:off x="1547640" y="3429000"/>
            <a:ext cx="30243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8"/>
          <p:cNvSpPr/>
          <p:nvPr/>
        </p:nvSpPr>
        <p:spPr>
          <a:xfrm>
            <a:off x="0" y="314172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cena równowa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Łącznik prosty 10"/>
          <p:cNvSpPr/>
          <p:nvPr/>
        </p:nvSpPr>
        <p:spPr>
          <a:xfrm>
            <a:off x="2050920" y="2349360"/>
            <a:ext cx="2160720" cy="21592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Łącznik prosty 13"/>
          <p:cNvSpPr/>
          <p:nvPr/>
        </p:nvSpPr>
        <p:spPr>
          <a:xfrm flipV="1">
            <a:off x="2050920" y="2349360"/>
            <a:ext cx="2160720" cy="215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le tekstowe 16"/>
          <p:cNvSpPr/>
          <p:nvPr/>
        </p:nvSpPr>
        <p:spPr>
          <a:xfrm>
            <a:off x="3059280" y="1773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Calibri"/>
              </a:rPr>
              <a:t>poda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17"/>
          <p:cNvSpPr/>
          <p:nvPr/>
        </p:nvSpPr>
        <p:spPr>
          <a:xfrm>
            <a:off x="4284720" y="41497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50"/>
                </a:solidFill>
                <a:latin typeface="Calibri"/>
              </a:rPr>
              <a:t>popy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18"/>
          <p:cNvSpPr/>
          <p:nvPr/>
        </p:nvSpPr>
        <p:spPr>
          <a:xfrm>
            <a:off x="5724360" y="2276640"/>
            <a:ext cx="30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Cena równowagi </a:t>
            </a: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– przy tej cenie rozmiary zapotrzebowania na jakieś dobro (np. na truskawki) są równe ilości zaoferowa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daż i popyt – przykł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71640" y="1397160"/>
          <a:ext cx="7272360" cy="4192560"/>
        </p:xfrm>
        <a:graphic>
          <a:graphicData uri="http://schemas.openxmlformats.org/drawingml/2006/table">
            <a:tbl>
              <a:tblPr/>
              <a:tblGrid>
                <a:gridCol w="2423880"/>
                <a:gridCol w="2424240"/>
                <a:gridCol w="2424240"/>
              </a:tblGrid>
              <a:tr h="59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na (zł/sztuk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pyt  (tys./r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daż (tys. /r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8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życzka i lich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4"/>
          <p:cNvSpPr/>
          <p:nvPr/>
        </p:nvSpPr>
        <p:spPr>
          <a:xfrm>
            <a:off x="324000" y="134136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życzk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kwestię ich udzielania reguluj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art. 720 § 1 kodeksu cywilnego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który mówi: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przez umowę pożyczki dający pożyczkę zobowiązuje się przenieść na własność biorącego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określoną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ilość pieniędzy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albo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rzeczy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oznaczonych tylko co do gatunku, a biorący zobowiązuje się zwrócić tę samą ilość pieniędzy albo tę samą ilość rzeczy tego samego gatunku i tej samej jakośc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Pożyczkę pieniężną można przeznaczyć na wybrany przez siebie c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Lichwa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to forma wyzysku, polegająca na udzielaniu wysokooprocentowanych pożyczek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edyt bankow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4"/>
          <p:cNvSpPr/>
          <p:nvPr/>
        </p:nvSpPr>
        <p:spPr>
          <a:xfrm>
            <a:off x="324000" y="1268280"/>
            <a:ext cx="842472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redyt bankowy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o umowa, na podstawie której kredytodawca przekazuje do dyspozycji kredytobiorcy określoną kwotę pieniędzy z przeznaczeniem na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kretny cel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a kredytobiorca zobowiązuje się do spłaty kredytu wraz z odsetkami i ewentualnymi prowizjami w ustalonych w umowie termina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redyt podlega przepisom ustawy prawo bankowe i może być udzielany tylko przez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bank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lub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półdzielczą kasę oszczędnościowo-kredytow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anim-podpiszesz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Obraz 3" descr="swinka1.png"/>
          <p:cNvPicPr/>
          <p:nvPr/>
        </p:nvPicPr>
        <p:blipFill>
          <a:blip r:embed="rId2"/>
          <a:stretch/>
        </p:blipFill>
        <p:spPr>
          <a:xfrm>
            <a:off x="0" y="4581360"/>
            <a:ext cx="205092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Trójsektorowa struktura gospodark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4"/>
          <p:cNvSpPr/>
          <p:nvPr/>
        </p:nvSpPr>
        <p:spPr>
          <a:xfrm>
            <a:off x="324000" y="1484280"/>
            <a:ext cx="8424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ział I – rolnictwo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produkcja roślinna i zwierzęca oraz rybołówstwo śródlądow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ział II – przemys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górnictwo i przetwórstwo, które dzieli się m.in. na przemysł maszynowy, włókienniczy, budownictwo i hutnictwo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ział II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sług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komunikacja, transport, handel, bankowość i usługi finansowe, szkolnictwo, ochrona zdrowia, kultura i informatyk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Marciniak S., Makro- i mikroekonomia. Podstawowe problemy współczesności, Wydawnictwo Naukowe PWN, Warszawa 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ak zmieniały się formy gospodarowani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4"/>
          <p:cNvSpPr/>
          <p:nvPr/>
        </p:nvSpPr>
        <p:spPr>
          <a:xfrm>
            <a:off x="900000" y="1989000"/>
            <a:ext cx="62643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wolucja neolitycz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wolucja agra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wolucja przemysło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wolucja naukowo-technicz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neolitycz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4"/>
          <p:cNvSpPr/>
          <p:nvPr/>
        </p:nvSpPr>
        <p:spPr>
          <a:xfrm>
            <a:off x="468360" y="155736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ył to proces przechodzenia ludzkości od łowiectwa, zbieractwa i koczownictwa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o hodowli, rolnictwa i osiadłego trybu życi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iała miejsce w latach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10000-4000 p.n.e.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regionie Żyznego Półksiężyca (dziś to Bliski Wschód, a więc tereny obejmujące m.in. Egipt, Izrael, Palestynę i Jordanię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efektywne sposoby pozyskiwania żywności spowodowały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gromny wzrost liczby ludnośc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i pozwoliły części z niej zajmować się kwestiami niezwiązanymi bezpośrednio z przetrwanie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agra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4"/>
          <p:cNvSpPr/>
          <p:nvPr/>
        </p:nvSpPr>
        <p:spPr>
          <a:xfrm>
            <a:off x="468360" y="1557360"/>
            <a:ext cx="6983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ył to proces przemiany tradycyjnego rolnictwa w dużo wydajniejsz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lnictwo nowoczesn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miany te miały miejsc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XVI, XVII i XVIII wieku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zaczęły się od wprowadzenia płodozmianu oraz hodowli zwierząt domowych na terenach nienadających się do prowadzenia upraw, ale mogących wykarmić zwierzęta. Nadwyżki produkcji żywności były sprzedawane i stały się źródłem dochodów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yski z rolnictwa pozwalały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a inwestowani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p. w nowe maszyny rolnicze i hodowlę lepszych ras bydł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Obraz 3" descr="Cereal_plant.png"/>
          <p:cNvPicPr/>
          <p:nvPr/>
        </p:nvPicPr>
        <p:blipFill>
          <a:blip r:embed="rId1"/>
          <a:stretch/>
        </p:blipFill>
        <p:spPr>
          <a:xfrm>
            <a:off x="7321680" y="1628640"/>
            <a:ext cx="18223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przemysł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ole tekstowe 4"/>
          <p:cNvSpPr/>
          <p:nvPr/>
        </p:nvSpPr>
        <p:spPr>
          <a:xfrm>
            <a:off x="468360" y="1225440"/>
            <a:ext cx="813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ył t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oces zmian gospodarczych, technologicznych i społecznych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wiązanych z przejściem od gospodarki opartej na rolnictwie i rzemiośle d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gospodarki opartej na produkcji fabrycznej na skalę przemysłow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ymbolem rewolucji przemysłowej stała się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aszyna parow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wolucja przemysłowa zaczęła się w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XVIII wieku w Anglii i Szkocj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Jej przyczyną były: rewolucja agrarna i ogromny przyrost ludnoś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śród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sekwencj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tej rewolucji warto wymienić: industrializację, powstanie społeczeństwa przemysłowego, w którym przeważająca liczba ludności mieszka w miastach, powstanie związków zawodowych i prawa pracy, a także narodziny ruchu robotniczeg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naukowo-technicz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ole tekstowe 4"/>
          <p:cNvSpPr/>
          <p:nvPr/>
        </p:nvSpPr>
        <p:spPr>
          <a:xfrm>
            <a:off x="395280" y="1773360"/>
            <a:ext cx="8137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ą to procesy wielkich przemian i odkryć w technice, produkcji oraz nauce, które rozpoczęły się w latach 50. XX wieku i trwają do dziś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zywana jest czasem trzecią rewolucją przemysłową, a jej cechą charakterystyczną jest ścisła zależność między nauką, techniką i produkcj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jważniejszymi elementami tej rewolucji jest komputeryzacja, rozwój materiałów syntetycznych, wykorzystanie energetyki jądrowej i innych nowych źródeł energii oraz automatyzacja procesów prac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395280" y="981000"/>
            <a:ext cx="835344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konomia jako nauka społeczn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dam Smith – ojciec ekonomi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ikroekonomia i makroekonomia – od „perspektywy żaby” do „perspektywy żyrafy”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łowiek ekonomiczny” (homo oeconomicus) czyli działający racjonalnie, nastawiony na efektywność, egoistyczny bohater analiz ekonomiczny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ysk i strat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ra rynkowa – popyt i podaż, cena równowag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życzka, lichwa, kredyt bankow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rójsektorowa struktura gospodarki – trzy działy: rolnictwo, przemysł i usług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k zmieniały się formy gospodarowania (rewolucja neolityczna, agrarna, przemysłowa i naukowo-techniczna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ces ekonomiczny – na przykładzie integracji gospodarcz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ntegracja gospodarc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ole tekstowe 4"/>
          <p:cNvSpPr/>
          <p:nvPr/>
        </p:nvSpPr>
        <p:spPr>
          <a:xfrm>
            <a:off x="395280" y="177336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est to proces, który polega n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cieśnianiu współpracy gospodarczej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z co najmniej dwa kraje albo całą grupę (np. kraje należące do Unii Europejskiej) poprzez eliminację barier, które mogłyby taką współpracę ograniczać. W efekcie dochodzi do scalenia gospodarek narodowych poszczególnych krajów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Formy integracji gospodarcz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1125360"/>
          <a:ext cx="8353440" cy="4483440"/>
        </p:xfrm>
        <a:graphic>
          <a:graphicData uri="http://schemas.openxmlformats.org/drawingml/2006/table">
            <a:tbl>
              <a:tblPr/>
              <a:tblGrid>
                <a:gridCol w="3206880"/>
                <a:gridCol w="514656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fa wolnego hand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widacja ceł i ograniczeń ilościowych w obronie handlowy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 cel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spólna polityka handlowa i jednakowe taryfy cel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spólny ry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obodny przepływ usług i czynników produk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 gospodarcza i walutow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łkowita koordynacja polityki gospodarczej i walutowej, utworzenie nowych ponadpaństwowych instytu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 gospodarcza i politycz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łkowita koordynacja polityki wewnętrznej, zagranicznej i obronnej, powołanie ponadpaństwowych organów władz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0" name="pole tekstowe 4"/>
          <p:cNvSpPr/>
          <p:nvPr/>
        </p:nvSpPr>
        <p:spPr>
          <a:xfrm>
            <a:off x="539640" y="580536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polskawue.gov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le tekstowe 3"/>
          <p:cNvSpPr/>
          <p:nvPr/>
        </p:nvSpPr>
        <p:spPr>
          <a:xfrm>
            <a:off x="179280" y="1052640"/>
            <a:ext cx="8785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Warszawa 1998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egg D., Fischer S., Dornbusch R., Makroekonomia, Polskie Wydawnictwo Ekonomiczne, Warszawa 199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Frank R.H., Dlaczego piloci kamikadze zakładali hełmy? Czyli ekonomia bez tajemnic, Wydawnictwo Literackie, Kraków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arciniak S. (red.), Makro- i mikroekonomia. Podstawowe problemy współczesności, Wydawnictwo Naukowe PWN, Warszawa 20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orawski W., Socjologia ekonomiczna, Wydawnictwo Naukowe PWN, Warszawa 2001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mith A., Badania nad naturą i przyczynami bogactwa narodów, PWN, Warszawa 195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log Macieja Samcika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amcik.blox.pl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rtal Edukacji Ekonomicznej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nbportal.pl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trona internetowa Ministerstwa Gospodarki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mg.gov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trona internetowa Narodowego Banku Polskiego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nbp.pl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trona internetowa akcji społecznej „Zanim podpiszesz”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zanim-podpiszesz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trona internetowa prowadzona przez Ministerstwo Spraw Zagranicznych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polskawue.gov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ole tekstowe 3"/>
          <p:cNvSpPr/>
          <p:nvPr/>
        </p:nvSpPr>
        <p:spPr>
          <a:xfrm>
            <a:off x="395280" y="1133640"/>
            <a:ext cx="8353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1. Portre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dam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Smith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źródło: Wikimedia Commons,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ommons.wikimedia.org/wiki/File:AdamSmith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2. Żab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g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nouill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s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mathafix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źródło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penclipart.org/detail/169932/grenouille-by-mathafi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3. Żyraf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giraffe sympa), źródło: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openclipart.org/detail/18418/giraffe-sympa-by-martou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4. Kas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architetto – cassa d'epoca), rys.: Francesco Rollandin, źródło: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openclipart.org/detail/25412/architetto----cassa-depoca-by-anonymous-254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5. Pieniądze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money), autor: Tax Credits, źródło: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www.flickr.com/photos/76657755@N04/7027595009/in/photostream/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udostępnione na licencji CC BY, 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creativecommons.org/licenses/by/2.0/deed.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6. Śwink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piggy bank), autor: David García Garzón, źródło: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openclipart.org/detail/170058/piggy-bank-by-vokim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7. Zboże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real plant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s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gsagri04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http://openclipart.org/detail/139999/cereal-plant-by-gsagri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Ekonomia jako nauka społecz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trzałka w dół 5"/>
          <p:cNvSpPr/>
          <p:nvPr/>
        </p:nvSpPr>
        <p:spPr>
          <a:xfrm>
            <a:off x="4284720" y="1268280"/>
            <a:ext cx="647640" cy="25923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trzałka w dół 6"/>
          <p:cNvSpPr/>
          <p:nvPr/>
        </p:nvSpPr>
        <p:spPr>
          <a:xfrm rot="20646000">
            <a:off x="7291440" y="1236240"/>
            <a:ext cx="647640" cy="259092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trzałka w dół 7"/>
          <p:cNvSpPr/>
          <p:nvPr/>
        </p:nvSpPr>
        <p:spPr>
          <a:xfrm rot="1258200">
            <a:off x="1125000" y="1227240"/>
            <a:ext cx="649440" cy="25923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8"/>
          <p:cNvSpPr/>
          <p:nvPr/>
        </p:nvSpPr>
        <p:spPr>
          <a:xfrm>
            <a:off x="250920" y="3716280"/>
            <a:ext cx="216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(czyli jakie dobra i usługi) wytwarzać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10"/>
          <p:cNvSpPr/>
          <p:nvPr/>
        </p:nvSpPr>
        <p:spPr>
          <a:xfrm>
            <a:off x="3419640" y="386064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Jak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wytwarzać</a:t>
            </a: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dobra i usługi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11"/>
          <p:cNvSpPr/>
          <p:nvPr/>
        </p:nvSpPr>
        <p:spPr>
          <a:xfrm>
            <a:off x="6875640" y="3716280"/>
            <a:ext cx="208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la kogo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twarzać dobra i usług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Adam Smith – ojciec ekonom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3"/>
          <p:cNvSpPr/>
          <p:nvPr/>
        </p:nvSpPr>
        <p:spPr>
          <a:xfrm>
            <a:off x="2700360" y="1413000"/>
            <a:ext cx="611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zkocki filozof i myśliciel, żył w latach 1723-179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pisał przełomowe dzieł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Badania nad naturą i przyczynami bogactwa narodów”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dane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w 1776 r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autorem słynnej metafory 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iewidzialnej ręce rynk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raz 5" descr="AdamSmith.jpg"/>
          <p:cNvPicPr/>
          <p:nvPr/>
        </p:nvPicPr>
        <p:blipFill>
          <a:blip r:embed="rId1"/>
          <a:stretch/>
        </p:blipFill>
        <p:spPr>
          <a:xfrm>
            <a:off x="395280" y="981000"/>
            <a:ext cx="2016000" cy="3006720"/>
          </a:xfrm>
          <a:prstGeom prst="rect">
            <a:avLst/>
          </a:prstGeom>
          <a:ln w="0">
            <a:noFill/>
          </a:ln>
        </p:spPr>
      </p:pic>
      <p:sp>
        <p:nvSpPr>
          <p:cNvPr id="109" name="pole tekstowe 4"/>
          <p:cNvSpPr/>
          <p:nvPr/>
        </p:nvSpPr>
        <p:spPr>
          <a:xfrm>
            <a:off x="324000" y="4149720"/>
            <a:ext cx="849600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Nie od przychylności rzeźnika, piwowara czy piekarza oczekujemy naszego obiadu, lecz od ich dbałości o własny interes. Zwracamy się nie do ich humanitarności, lecz do egoizmu i nie mówimy im o naszych własnych potrzebach, lecz o ich korzyściach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mith A., Badania nad naturą i przyczynami bogactwa narodów, PWN, Warszawa 1954, t.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Mikroekono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Obraz 3" descr="zaba.png"/>
          <p:cNvPicPr/>
          <p:nvPr/>
        </p:nvPicPr>
        <p:blipFill>
          <a:blip r:embed="rId1"/>
          <a:stretch/>
        </p:blipFill>
        <p:spPr>
          <a:xfrm>
            <a:off x="324000" y="4581360"/>
            <a:ext cx="1903320" cy="1872000"/>
          </a:xfrm>
          <a:prstGeom prst="rect">
            <a:avLst/>
          </a:prstGeom>
          <a:ln w="0">
            <a:noFill/>
          </a:ln>
        </p:spPr>
      </p:pic>
      <p:sp>
        <p:nvSpPr>
          <p:cNvPr id="112" name="pole tekstowe 4"/>
          <p:cNvSpPr/>
          <p:nvPr/>
        </p:nvSpPr>
        <p:spPr>
          <a:xfrm>
            <a:off x="468360" y="1557360"/>
            <a:ext cx="8280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Analiza mikroekonomiczn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zajmuje się szczegółowo badaniem indywidualnych decyzji dotyczących pojedynczych towarów. Np. możemy badać, dlaczego poszczególne gospodarstwa domowe preferują samochody, a nie rowery oraz w jaki sposób producenci decydują o tym, czy wytwarzać samochody czy rowe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Makroekono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4"/>
          <p:cNvSpPr/>
          <p:nvPr/>
        </p:nvSpPr>
        <p:spPr>
          <a:xfrm>
            <a:off x="468360" y="1557360"/>
            <a:ext cx="82803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Makroekonomia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 kładzie nacisk na wzajemne związki zachodzące w gospodarce jako całości. W swojej metodzie celowo upraszcza ona analizę poszczególnych elementów badanej całości w trosce o przejrzystość obrazu działania całej gospodar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Obraz 5" descr="zyrafa.png"/>
          <p:cNvPicPr/>
          <p:nvPr/>
        </p:nvPicPr>
        <p:blipFill>
          <a:blip r:embed="rId1"/>
          <a:stretch/>
        </p:blipFill>
        <p:spPr>
          <a:xfrm>
            <a:off x="7000920" y="3500280"/>
            <a:ext cx="17874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łowiek ekonomicz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(homo oeconomicu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3"/>
          <p:cNvSpPr/>
          <p:nvPr/>
        </p:nvSpPr>
        <p:spPr>
          <a:xfrm>
            <a:off x="395280" y="1916280"/>
            <a:ext cx="799308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działaniach kieruje się interesem własnym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tylko na samym sobie skupia uwagę, dąży do celu, chłodno kalkulując i posługując się kryteriami zysku i strat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wsz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ziała racjonaln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korzystuje kapitał / zasoby: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nansowe, ludzkie (np. wykształcenie), społeczne (np. znajomośc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st nastawiony n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efektywność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st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egoistą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a głowę, ale nie ma serca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Morawski W., Socjologia ekonomiczna, Wydawnictwo Naukowe PWN, Warszawa 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raz 3" descr="kasa.png"/>
          <p:cNvPicPr/>
          <p:nvPr/>
        </p:nvPicPr>
        <p:blipFill>
          <a:blip r:embed="rId1"/>
          <a:stretch/>
        </p:blipFill>
        <p:spPr>
          <a:xfrm>
            <a:off x="6156360" y="3645000"/>
            <a:ext cx="20318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ysk i str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4"/>
          <p:cNvSpPr/>
          <p:nvPr/>
        </p:nvSpPr>
        <p:spPr>
          <a:xfrm>
            <a:off x="468360" y="1197000"/>
            <a:ext cx="748836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Zysk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– nadwyżka przychodu nad kosztami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dodatni wynik finansow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Strata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– ujemny wynik finansowy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Koszty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– wydatki poniesione na wytworzen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dóbr i usług w danym okresi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Przychód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– ilość pieniędzy uzyskana ze sprzedaży dóbr i usług w danym okresie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Obraz 5" descr="rece.jpg"/>
          <p:cNvPicPr/>
          <p:nvPr/>
        </p:nvPicPr>
        <p:blipFill>
          <a:blip r:embed="rId1"/>
          <a:stretch/>
        </p:blipFill>
        <p:spPr>
          <a:xfrm>
            <a:off x="5711760" y="189000"/>
            <a:ext cx="34322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Gra rynkowa – popyt i poda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4"/>
          <p:cNvSpPr/>
          <p:nvPr/>
        </p:nvSpPr>
        <p:spPr>
          <a:xfrm>
            <a:off x="395280" y="1052640"/>
            <a:ext cx="842472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Calibri"/>
              </a:rPr>
              <a:t>Popyt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 – ilość dobra, jaką nabywcy są gotowi zakupić przy różnym poziomie cen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Calibri"/>
              </a:rPr>
              <a:t>Podaż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 – ilość dobra, jaką sprzedawcy są gotowi zaoferować przy różnym poziomie cen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ajemna gra popytu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zachowania konsumentów)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 podaży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zachowania sprzedawców) na wolnym rynku decyduj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 ilości wytwarzanych dóbr i cen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po jakiej są one sprzedawan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śli założymy, że pozostałe czynniki (np. dochody konsumentów,  ich gusty czy ceny innych dóbr) pozostają niezmienne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m niższa jest cena jakiegoś dobr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np. telefonu komórkowego)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ym większe jest na niego zapotrzebowan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m wyższa jest jego cen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ym większa jest oferowana iloś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Begg D., Fischer S., Dornbusch R., Mikroekonomia, Polskie Wydawnictwo Ekonomiczne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Redaktor</cp:lastModifiedBy>
  <dcterms:modified xsi:type="dcterms:W3CDTF">2013-06-16T17:27:18Z</dcterms:modified>
  <cp:revision>566</cp:revision>
  <dc:subject/>
  <dc:title>Slajd 1</dc:title>
</cp:coreProperties>
</file>