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CD6C-A1F9-41FD-8FB0-A2817E9AAA8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6AB8-0BBA-4BB6-A314-CED66AE9435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61E3-8440-4110-BFBA-EAC73E14C25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AF34-895A-4752-A4D7-CDACA7C2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9FC-5941-41F6-9B42-67F0B8D3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88D3-8BDE-4FCE-A77D-AB1AE722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E3C0-2DD0-466D-8C4A-D0CCBB60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A4E4-DA06-4422-9099-D035B801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9982-4A1D-4C4E-B8C5-E35C0ABC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F028-41E2-4CAA-9B54-1366A0A3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7ED9-524B-488E-B5CC-0F9EB06E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17D1-4F15-4F71-BAC1-4813B208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F00C-F21B-4D36-AD25-4E7C01A9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DC8C-C36C-4E01-B847-63039711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340-4AB0-4B04-89F8-3A51BF1E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3342-AD2E-445B-8E25-B277F447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065A-25F6-4F0A-B597-B491D126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CC7A-EF3F-4DE1-A057-C9C76423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180A-173A-4C8F-8F73-D667A783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9B13-5F6E-47C8-875F-7A861EEB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072-BE8B-4483-8193-C5F96673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157-057F-49C9-9567-166B2D37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88C-F7BF-4ECD-99D0-EC41565D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1519-62F1-41EF-8E53-CB06EBB1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A7AA-F257-483D-B36A-2FDAB50D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B8D6-7D84-4F94-9032-E9669863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1B8-6D06-4587-A1E0-7E623B9D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F959-4FD7-4EDB-885A-6C9FAF160A1F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C9A0-9B3D-4AAB-845F-86984E99FBC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55700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Arial"/>
              </a:rPr>
              <a:t>Społeczne skutki XIX-wiecznego kapitalizmu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r 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le tekstowe 2"/>
          <p:cNvSpPr/>
          <p:nvPr/>
        </p:nvSpPr>
        <p:spPr>
          <a:xfrm>
            <a:off x="0" y="18900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onsekwencje zwiększania się liczebności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lasy robotnicz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4"/>
          <p:cNvSpPr/>
          <p:nvPr/>
        </p:nvSpPr>
        <p:spPr>
          <a:xfrm>
            <a:off x="611280" y="1579680"/>
            <a:ext cx="7993080" cy="49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kładanie partii politycznych i związków zawodow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letariat staje się poważną siłą polityczną, świadomą celów ekonomicznych i społecznych swojej wal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ściół zwraca uwagę na robotników - w encyklice papieża Leona XIII „Rerum novarum” z 1891r. po raz pierwszy pojawia się temat prawa robotników do zrzeszania się i dążenia do sprawiedliwego podziału dób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II połowie XIX wieku poprawił się status robotników (m.in. ubezpieczenia społeczne, ograniczanie czasu pracy oraz wolne niedziel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ole tekstowe 2"/>
          <p:cNvSpPr/>
          <p:nvPr/>
        </p:nvSpPr>
        <p:spPr>
          <a:xfrm>
            <a:off x="0" y="47628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łówne cechy miasta przemysłowego w XIX wie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4"/>
          <p:cNvSpPr/>
          <p:nvPr/>
        </p:nvSpPr>
        <p:spPr>
          <a:xfrm>
            <a:off x="611280" y="1484280"/>
            <a:ext cx="799308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arunki determinujące powstanie miasta przemysłoweg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becność koniecznych do produkcji surowców naturalny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stęp do wody - napęd maszy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godna lokalizacja komunikacyj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becność tanich materiałów budowlany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XIX-wieczna Łód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4"/>
          <p:cNvSpPr/>
          <p:nvPr/>
        </p:nvSpPr>
        <p:spPr>
          <a:xfrm>
            <a:off x="611280" y="1341360"/>
            <a:ext cx="7993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brym przykładem miasta przemysłowego XIX wieku jest Łódź –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ś niemal milionowe miasto położone w centralnej Pols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ej charakter w tamtych czasach dobrze oddają słowa z popularnej piosenki „Walczyk o Łodzi” – „miasto fabryk i kominów, i rewolucyjnych burz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e zasługi dla rozwoju przemysłowej Łodzi mieli trzej fabrykanci – Karol Scheibler, Izrael Poznański i Ludwik Geyer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budowali w Łodzi kompleksy fabryk włókienniczych. Aby móc przyciągnąć nowe ręce do pracy i zatrzymać wykwalifikowanych robotników budowali również przyfabryczne osiedla, domy, a także szkoły i szpita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2"/>
          <p:cNvSpPr/>
          <p:nvPr/>
        </p:nvSpPr>
        <p:spPr>
          <a:xfrm>
            <a:off x="0" y="476280"/>
            <a:ext cx="91440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Fabryka Izraela Poznań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budowana w latach 1872-1892 w Łodz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skład kompleksu wchodziły m.in. tkalnie, przędzalnie i farbiarn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fabryka izraela poznańskiego w łodzi"/>
          <p:cNvPicPr/>
          <p:nvPr/>
        </p:nvPicPr>
        <p:blipFill>
          <a:blip r:embed="rId1"/>
          <a:stretch/>
        </p:blipFill>
        <p:spPr>
          <a:xfrm>
            <a:off x="971640" y="2363760"/>
            <a:ext cx="7129440" cy="359892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1"/>
          <p:cNvSpPr/>
          <p:nvPr/>
        </p:nvSpPr>
        <p:spPr>
          <a:xfrm>
            <a:off x="952560" y="6033960"/>
            <a:ext cx="712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ttp://bi.gazeta.pl/im/8/5404/z5404438Q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ole tekstowe 2"/>
          <p:cNvSpPr/>
          <p:nvPr/>
        </p:nvSpPr>
        <p:spPr>
          <a:xfrm>
            <a:off x="0" y="47628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djęcie grupowe pracowników fabryki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zraela Poznańskiego w Łodz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robotnicy w fabryce poznańskiego"/>
          <p:cNvPicPr/>
          <p:nvPr/>
        </p:nvPicPr>
        <p:blipFill>
          <a:blip r:embed="rId1"/>
          <a:stretch/>
        </p:blipFill>
        <p:spPr>
          <a:xfrm>
            <a:off x="1258920" y="1876320"/>
            <a:ext cx="6626160" cy="46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zas p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4"/>
          <p:cNvSpPr/>
          <p:nvPr/>
        </p:nvSpPr>
        <p:spPr>
          <a:xfrm>
            <a:off x="611280" y="1052640"/>
            <a:ext cx="799308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jęcie to pojawiło się wraz z rozwojem miast przemysłow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standaryzacją produkcj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ZAS PRACY jest to liczba godzin w ciągu dnia, podczas których pracownik jest zobowiązany wykonywać pracę zleconą przez pracodawcę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oczątkach kapitalizmu czas pracy nie był regulowany i trwał kilkanaście, do nawet 20 godzin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XIX wieku czas pracy stał się przedmiotem sporów pracownik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 pracodawcami. W ciągu 100 lat (od połowy XIX wieku do połowy XX wieku) czas pracy skrócił się z 90-80 godzin tygodniowo do 40-48 godz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ynagrodzenie akord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4"/>
          <p:cNvSpPr/>
          <p:nvPr/>
        </p:nvSpPr>
        <p:spPr>
          <a:xfrm>
            <a:off x="611280" y="1341360"/>
            <a:ext cx="7993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jęcie to pojawiło się ze wzrostem zatrudnieni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fabryka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YNAGRODZENIE AKORDOWE zależy od rezultatów pracy pracownika – im efektywniej pracuje, tym jego wynagrodzenie jest wyższe. Było stosowane tam, gdzie liczyły się ilościowe efekty pra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ieszkanie zakład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4"/>
          <p:cNvSpPr/>
          <p:nvPr/>
        </p:nvSpPr>
        <p:spPr>
          <a:xfrm>
            <a:off x="611280" y="134136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dowa kompleksów fabrycznych i otaczających fabryki zabudowań mieszkaniowych spowodowała powstanie pojęcia mieszkania zakładow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IESZKANIE ZAKŁADOWE jest lokalem mieszkalnym, którego właścicielem pozostaje pracodawca i użycza go swojemu pracownikowi na cały czas zatrudnienia lub jego częś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ndustrializac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4"/>
          <p:cNvSpPr/>
          <p:nvPr/>
        </p:nvSpPr>
        <p:spPr>
          <a:xfrm>
            <a:off x="611280" y="162864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tensywnie rozwijające się w XIX w. uprzemysłowienie (inaczej INDUSTRIALIZACJA) miało swoje społeczne skut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ludnianie się wsi i migracje ludności do mia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ybka urbanizacja (tworzenie się nowych miast i wzrost ludności w tych już istniejących) związana z tworzeniem się ośrodków przemysłow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korzystywanie transportu kolejowego do przemieszczania się ludzi, a nie tylko do celów transportow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4"/>
          <p:cNvSpPr/>
          <p:nvPr/>
        </p:nvSpPr>
        <p:spPr>
          <a:xfrm>
            <a:off x="611280" y="1341360"/>
            <a:ext cx="799308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Bazylow L., Historia Powszechna 1789-1918, Książka i Wiedza,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 Warszawa 198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Buszko J., Historia Polski 1984-1948, Państwowe Wydawnictwo Naukowe,     Warszawa 198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Chwalba A., Historia powszechna. XIX wiek, Wydawnictwo Naukowe PWN, Warszawa 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Grabski A.F., Samuś P., Między Wschodem a Zachodem: Studia z dziejów polskiego ruchu i myśli socjalistycznej, Wydawnictwo Uniwersytetu Łódzkiego, Łódź 199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Kaliński J., Historia Gospodarcza XIX i XX wieku, Polskie Wydawnictwo Ekonomiczne, Warszawa 200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arle E., Dzieje Europy 1871-1919, Książka i Wiedza, Warszawa 196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lan prezent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611280" y="907920"/>
            <a:ext cx="784836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. Wynalazki XVIII w. prowadzące do ukształtowania się kapitalizmu XIX w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2. Przemiany gospodarcze prowadzące do powstania kapitalizmu w XIX w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. Przemiany w obrocie pieniężny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4. Przemiany społeczne wynikające ze zmian gospodarcz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5. Główne przyczyny migracji ze wsi do mia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6. Warunki życiowe robotników w XIX w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7. Narodziny ruchów politycznych i organizacji związkow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8. Konsekwencje rozrastania się warstwy robotnicze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9. Główne cechy miasta przemysłowego w XIX w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0. XIX-wieczna Łód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1. Czas pra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2. Wynagrodzenie akordow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3. Mieszkanie zakładow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4. Industrializacj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5. Bibliograf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179280" y="333360"/>
            <a:ext cx="8640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jważniejsze wynalazki XVIII w. prowadzą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o ukształtowania się kapitalizmu w XIX 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611280" y="191628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we technologie wytopu i obróbki żela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we urządzenia tkackie – rewolucja technologiczn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rzemyśle włókienniczy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szyna parowa znajduje coraz bardziej skomplikowane zastosowanie, także w transporc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le tekstowe 2"/>
          <p:cNvSpPr/>
          <p:nvPr/>
        </p:nvSpPr>
        <p:spPr>
          <a:xfrm>
            <a:off x="324000" y="260280"/>
            <a:ext cx="88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emiany gospodarcze, które doprowadziły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o powstania XIX-wiecznej gospodarki kapitalistycz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ole tekstowe 4"/>
          <p:cNvSpPr/>
          <p:nvPr/>
        </p:nvSpPr>
        <p:spPr>
          <a:xfrm>
            <a:off x="611280" y="1700280"/>
            <a:ext cx="7993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nowocześnienie gospodarki rolnej - nowe narzędzi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sposoby prowadzenia upraw rol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wój przemysłu wydobywczego – pozyskiwanie surowców naturalnych, zwiększenie eksploatacji złóż kopal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we formy handlu (powstanie sklepów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le tekstowe 2"/>
          <p:cNvSpPr/>
          <p:nvPr/>
        </p:nvSpPr>
        <p:spPr>
          <a:xfrm>
            <a:off x="468360" y="404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rzemiany w obrocie pieniężn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4"/>
          <p:cNvSpPr/>
          <p:nvPr/>
        </p:nvSpPr>
        <p:spPr>
          <a:xfrm>
            <a:off x="611280" y="1484280"/>
            <a:ext cx="7993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wój handlu zagraniczn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kwit prywatnych bank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wój znaczenia papierów wartościow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czątki strategicznego wykorzystania ceł jako bariery ochronnej dla przemysł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ole tekstowe 2"/>
          <p:cNvSpPr/>
          <p:nvPr/>
        </p:nvSpPr>
        <p:spPr>
          <a:xfrm>
            <a:off x="0" y="18900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rzemiany społeczne wywołane zmianami gospodarczy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4"/>
          <p:cNvSpPr/>
          <p:nvPr/>
        </p:nvSpPr>
        <p:spPr>
          <a:xfrm>
            <a:off x="611280" y="1341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we kierunki ekspansji ekonomicznej posiadaczy ziemskich w kierunku inwestycji przemysłow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stanie nowej klasy społecznej – kapitalist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raz z rozwojem przemysłu część najuboższych mieszkańców wsi zostaje wchłonięta jako siła robocza powstających fabry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le tekstowe 2"/>
          <p:cNvSpPr/>
          <p:nvPr/>
        </p:nvSpPr>
        <p:spPr>
          <a:xfrm>
            <a:off x="0" y="189000"/>
            <a:ext cx="9144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łówne przyczyny migracji mieszkańców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si do miast przemysł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4"/>
          <p:cNvSpPr/>
          <p:nvPr/>
        </p:nvSpPr>
        <p:spPr>
          <a:xfrm>
            <a:off x="611280" y="1341360"/>
            <a:ext cx="7993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miana stosunków własnościowych na wsi (uwłaszczenie, oczynszowanie itd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dmiar rąk do pracy w związku ze stopniowym  zmechanizowaniem produkcji rol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padek dotychczasowych form rzemiosła pracujących na rzecz zaopatrzenia w towary i narzędz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ole tekstowe 2"/>
          <p:cNvSpPr/>
          <p:nvPr/>
        </p:nvSpPr>
        <p:spPr>
          <a:xfrm>
            <a:off x="0" y="189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harakterystyka warunków życia robotników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XIX- wiecznych ośrodków przemysł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4"/>
          <p:cNvSpPr/>
          <p:nvPr/>
        </p:nvSpPr>
        <p:spPr>
          <a:xfrm>
            <a:off x="611280" y="1341360"/>
            <a:ext cx="7993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 regulacji prawnych dotyczących warunków prac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wynagradzania za nią (czas pracy od 12 do 16 godzin na dobę, brak przepisów gwarantujących bezpieczeństwo przy wykonywaniu pracy, brak opieki lekarskiej dla pracujących, zatrudnianie nieletnic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skie wynagrodzenia za pracę spowodowane nadwyżką rąk do pra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iężkie warunki bytowe panujące w osiedlach mieszkaniowych dla robotników (niski standard kwater mieszkalnych, zagęszczenie, niska jakość pożywienia, złe warunki higieniczno-sanitarn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0" y="189000"/>
            <a:ext cx="9144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rodziny ruchów politycznych i organizacji związkowych  występujących w obronie praw pracownicz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4"/>
          <p:cNvSpPr/>
          <p:nvPr/>
        </p:nvSpPr>
        <p:spPr>
          <a:xfrm>
            <a:off x="611280" y="1413000"/>
            <a:ext cx="79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nty robotnic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ocjalistyczne programy utopij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wolucyjne programy lewic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podmiotowienie robotników w zakresie ich praw politycznych i obywatelski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419640" y="4005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B</cp:lastModifiedBy>
  <dcterms:modified xsi:type="dcterms:W3CDTF">2013-04-13T17:53:31Z</dcterms:modified>
  <cp:revision>50</cp:revision>
  <dc:subject/>
  <dc:title>Slajd 1</dc:title>
</cp:coreProperties>
</file>