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DD8E-CAFD-4FAB-9EC7-6F7578BC347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0030-225F-4236-9B32-53638FFB3A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73AF-C535-4A84-B539-C5E3D01B4A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37D0-3354-4B3A-BE92-396D77DB7E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B54-962C-4C72-88FA-AD1343E0F8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2E50-5FDD-41C2-BA9B-74064279AC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2B86-D5E2-49C3-A581-0707CBFA763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A997-C92E-43DD-BF68-7231C40A23A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85CB-6E88-4FB0-9096-B434B635EC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37ED-CE17-409C-94C7-9932A875FD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483-C550-45F6-A240-4FE7EF96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7B5-4918-4DF4-8E7D-37362DEE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85A-9FC9-4ACE-9742-9022373E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742-8454-42A4-BDB3-58DB18BA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B9A2-373E-4167-84FD-81617626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4D31-41E4-41A6-826E-21F97D0F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1310-5517-4D58-968F-9D88A6E4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F4EF-A923-4765-813A-263C6384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8B78-6FAE-468F-8187-F767D68C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A94F-71F0-4C3F-81E9-289E307F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EC74-D0CB-45B0-81BC-47BEB62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CB1-632E-406B-AC6D-B3186C7D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9959-9908-4CE2-BD16-6D733D52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458-9450-4C1B-9D82-C9CCDDBE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1E39-B20E-4249-8B03-8281546D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2105-F8D6-4676-9489-D0A88514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505E-6E8D-46F8-BD0D-EE61BE3D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DA2-1DC5-4B08-8419-F6398CD0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DF7-9AE6-4685-8F2D-C93AE55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2BF-EE74-48FB-8915-3A96F14B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DDE-7AB9-455E-8731-8BA019DD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A03-71A9-4C2C-9B77-DD8D745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FEF-764D-448F-ADF7-0FE66D5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F40-C701-4CF0-AF9F-4B9C9DF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0B26-0D7C-49DC-8B83-C96999CCAF3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21D8-5A7B-4DC7-93E7-4FE960507F9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biografie.eu.interia.pl/biografie/adam_smith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thumb/c/cd/Cleric-Knight-Workman.jpg/250px-Cleric-Knight-Workman.jpg" TargetMode="External"/><Relationship Id="rId6" Type="http://schemas.openxmlformats.org/officeDocument/2006/relationships/hyperlink" Target="http://upload.wikimedia.org/wikipedia/commons/thumb/c/cd/Cleric-Knight-Workman.jpg/250px-Cleric-Knight-Workman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storion.pl/ideologie-polityczne-liberalizm-historia/adam-smith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8U3ruH8MF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1125000"/>
            <a:ext cx="34560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6. Gospodarka. 12. Wielcy teoretycy kapitalizmu. Od Adama Smitha do von Hayeka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iografie.eu.interia.pl/biografie/adam_smith.html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://biografie.eu.interia.pl/biografie/img/adam_smith.jpg"/>
          <p:cNvPicPr/>
          <p:nvPr/>
        </p:nvPicPr>
        <p:blipFill>
          <a:blip r:embed="rId3"/>
          <a:stretch/>
        </p:blipFill>
        <p:spPr>
          <a:xfrm>
            <a:off x="250920" y="1268280"/>
            <a:ext cx="2733480" cy="333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ON HAYEK"/>
          <p:cNvPicPr/>
          <p:nvPr/>
        </p:nvPicPr>
        <p:blipFill>
          <a:blip r:embed="rId4"/>
          <a:stretch/>
        </p:blipFill>
        <p:spPr>
          <a:xfrm>
            <a:off x="6588000" y="1125360"/>
            <a:ext cx="2087640" cy="281340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012000" y="4005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5"/>
          <p:cNvSpPr/>
          <p:nvPr/>
        </p:nvSpPr>
        <p:spPr>
          <a:xfrm>
            <a:off x="0" y="537372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storion.pl/ideologie-polityczne-liberalizm-historia/adam-smith/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583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odziny liberalizmu ekonomi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http://historion.pl/wp-content/uploads/2012/07/Adam-Smith.jpg"/>
          <p:cNvPicPr/>
          <p:nvPr/>
        </p:nvPicPr>
        <p:blipFill>
          <a:blip r:embed="rId2"/>
          <a:stretch/>
        </p:blipFill>
        <p:spPr>
          <a:xfrm>
            <a:off x="250920" y="1700280"/>
            <a:ext cx="2124000" cy="316872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7"/>
          <p:cNvSpPr/>
          <p:nvPr/>
        </p:nvSpPr>
        <p:spPr>
          <a:xfrm>
            <a:off x="3348000" y="1484280"/>
            <a:ext cx="52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konomiści dzielą dzieje ekonomii na przedklasyczny i klasyczny. Klasyczny zaczyna się od publikacji w 1776 roku książki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Badania nad naturą i przyczynami bogactwa narodów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dama Smit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waża się go za twórcę liberalizmu ekonomicz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411280" y="1628280"/>
            <a:ext cx="63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aństwo nie może wtrącać się do gospodarki. Trzeba pozwolić  ludziom działać! Ludzie dążą do zysku – problemy ekonomiczne rozwiąże mechanizm rynk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isez faire” – pozwólcie działa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stokąt 4"/>
          <p:cNvSpPr/>
          <p:nvPr/>
        </p:nvSpPr>
        <p:spPr>
          <a:xfrm>
            <a:off x="250920" y="3068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GSoIb_RulH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: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626920" y="5157720"/>
            <a:ext cx="4713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Obejrzyj 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8U3ruH8MF0</a:t>
            </a: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50560" y="-360"/>
            <a:ext cx="58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ada przewagi komparatyw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5"/>
          <p:cNvSpPr/>
          <p:nvPr/>
        </p:nvSpPr>
        <p:spPr>
          <a:xfrm>
            <a:off x="2556000" y="1413000"/>
            <a:ext cx="62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vid Ricardo (1772-1823). Stworzył tzw. model Ricardo, który prowadził do wniosku, że międzynarodowa wymiana, nieskrępowana żadnymi cłami, kontyngentami i ograniczeniami przynosi wszystkim korzyści.  Kluczem jest specjalizacja narodów w różnych produkt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http://upload.wikimedia.org/wikipedia/commons/6/6f/David_Ricardo(1).jpg"/>
          <p:cNvPicPr/>
          <p:nvPr/>
        </p:nvPicPr>
        <p:blipFill>
          <a:blip r:embed="rId2"/>
          <a:stretch/>
        </p:blipFill>
        <p:spPr>
          <a:xfrm>
            <a:off x="468360" y="1628640"/>
            <a:ext cx="1673280" cy="2376720"/>
          </a:xfrm>
          <a:prstGeom prst="rect">
            <a:avLst/>
          </a:prstGeom>
          <a:ln w="0">
            <a:noFill/>
          </a:ln>
        </p:spPr>
      </p:pic>
      <p:sp>
        <p:nvSpPr>
          <p:cNvPr id="112" name="Prostokąt 7"/>
          <p:cNvSpPr/>
          <p:nvPr/>
        </p:nvSpPr>
        <p:spPr>
          <a:xfrm>
            <a:off x="324000" y="4221000"/>
            <a:ext cx="158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ło: http://upload.wikimedia.org/wikipedia/commons/6/6f/David_Ricardo(1).jpg, dostęp 20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580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szczędzać, czy wydawać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Adam Smith uważał, że oszczędności sprzyjają postępowi i inwestycjom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Obecny w gospodarce jest też inny model – wydawania dla rozruszania gospodarki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rostokąt 4"/>
          <p:cNvSpPr/>
          <p:nvPr/>
        </p:nvSpPr>
        <p:spPr>
          <a:xfrm>
            <a:off x="2268360" y="443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 http://www.youtube.com/watch?v=-8QAW-r0nos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592280"/>
            <a:ext cx="532908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a społeczna Kościoła odrzuca zarówno rynek sterowany przez państwo, jak i całkowicie wolny. Państwo ma strzec sprawiedliwości pracy i wymiany. Pomoc powinna się ograniczać do takiego wsparcia, by człowiek sam zaczął sobie radzić. „Dajemy wędkę, a nie rybę”. 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rostokąt 3"/>
          <p:cNvSpPr/>
          <p:nvPr/>
        </p:nvSpPr>
        <p:spPr>
          <a:xfrm>
            <a:off x="39528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pl.wikipedia.org/wiki/Plik:Leo_XIII..jpg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5"/>
          <p:cNvSpPr/>
          <p:nvPr/>
        </p:nvSpPr>
        <p:spPr>
          <a:xfrm>
            <a:off x="53964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uka społeczna Kości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Plik:Leo XIII..jpg"/>
          <p:cNvPicPr/>
          <p:nvPr/>
        </p:nvPicPr>
        <p:blipFill>
          <a:blip r:embed="rId1"/>
          <a:stretch/>
        </p:blipFill>
        <p:spPr>
          <a:xfrm>
            <a:off x="468360" y="1557360"/>
            <a:ext cx="2554200" cy="3235320"/>
          </a:xfrm>
          <a:prstGeom prst="rect">
            <a:avLst/>
          </a:prstGeom>
          <a:ln w="0">
            <a:noFill/>
          </a:ln>
        </p:spPr>
      </p:pic>
      <p:sp>
        <p:nvSpPr>
          <p:cNvPr id="120" name="pole tekstowe 7"/>
          <p:cNvSpPr/>
          <p:nvPr/>
        </p:nvSpPr>
        <p:spPr>
          <a:xfrm>
            <a:off x="539640" y="486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on XIII – twórca N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8920" y="1412640"/>
            <a:ext cx="8496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„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Nierówności społeczne i ekonomiczne mają być tak ułożone,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(a) aby były z największą korzyścią dla najbardziej upośledzonych, pozostając w zgodzie z zasadą sprawiedliwego oszczędzania [zasada dyferencji];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i jednocześnie (b) aby były związane z dostępnością urzędów i stanowisk dla wszystkich, w warunkach autentycznej równości szans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5"/>
          <p:cNvSpPr/>
          <p:nvPr/>
        </p:nvSpPr>
        <p:spPr>
          <a:xfrm>
            <a:off x="539640" y="33336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Teoria sprawiedliwości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ohna Rawlsa, czyli nowocześni liberałowie w natarc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ryderyk August von Hayek – powrót do zasad Smit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9" descr="VON HAYEK"/>
          <p:cNvPicPr/>
          <p:nvPr/>
        </p:nvPicPr>
        <p:blipFill>
          <a:blip r:embed="rId1"/>
          <a:stretch/>
        </p:blipFill>
        <p:spPr>
          <a:xfrm>
            <a:off x="250920" y="1052640"/>
            <a:ext cx="2089080" cy="281448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7"/>
          <p:cNvSpPr/>
          <p:nvPr/>
        </p:nvSpPr>
        <p:spPr>
          <a:xfrm>
            <a:off x="2484360" y="1197000"/>
            <a:ext cx="62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wa porządk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en zorganizowany, celowy, ale ekonomicznie niewydol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 ostateczności prowadzący do totalitaryzm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ugi – tzw. porządek spontaniczny nie ma celu, ale jeżeli wszyscy stosują się w nim do reguł (a więc prawa), spełnia podstawową funkcję – organizuje sensowną ekonomicznie i dobrowolną  współprac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8"/>
          <p:cNvSpPr/>
          <p:nvPr/>
        </p:nvSpPr>
        <p:spPr>
          <a:xfrm>
            <a:off x="0" y="4076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7T04:14:55Z</dcterms:modified>
  <cp:revision>42</cp:revision>
  <dc:subject/>
  <dc:title>Slajd 1</dc:title>
</cp:coreProperties>
</file>