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825B-BC69-4B6E-A8D6-6CBEA437F05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DD55-5DEC-409B-9C17-DD613755720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5D6-543F-4CEE-915D-B3640569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E91-D681-4964-9477-444D7639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28D7-19A0-4ACF-9D6C-DBAA97D7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BF3-F2A9-4F30-8930-9A5FEDDD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64CE-FB5A-4262-9998-9C7746A4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FD01-3988-4622-8660-A568AC5E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A29D-983B-4C7C-B901-B69A3196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1475-8E18-41F7-9CBE-A5D1609F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7E6D-15EC-432B-9BB2-AC5BB13F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0A41-3F3F-491C-99F8-89CA5E2F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C10B-A56D-4A5F-80E2-876687E5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113-4E61-469E-885D-0625E1B6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C653-10AD-430E-85C1-43B806C1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0AD8-47E8-421D-BA86-2261AF93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145A-46DC-4A15-B1D1-DC284BC3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9B41-4B81-4365-A81F-5C7A7431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AFF0-0A6B-4394-B448-13C4E306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00B-9766-45D6-AC89-144064FF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257-CD06-45BC-9BDA-4BB670E8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63CF-AADF-4AAB-B0A9-0BF2FB2F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72BF-9ADF-4670-942F-422ED21A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AF2-B8FB-4ED4-87FE-E95DBD27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71F-A0A1-4B7C-B512-4B2928DC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313-4F44-4BB8-B188-6AA224C9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9D67-6D37-46E1-AEDF-8ADBDD5B92ED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93A5-2222-4640-8F70-9D55AC0AC0A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55640" y="836280"/>
            <a:ext cx="44593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przemysłowa i kapitaliz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7432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K:\Foto\2004\zdj5-04\HPIM1071.JPG"/>
          <p:cNvPicPr/>
          <p:nvPr/>
        </p:nvPicPr>
        <p:blipFill>
          <a:blip r:embed="rId1"/>
          <a:stretch/>
        </p:blipFill>
        <p:spPr>
          <a:xfrm>
            <a:off x="468360" y="1268280"/>
            <a:ext cx="42274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Photograph:The first successful locomotives were built in Britain. Richard Trevithick's engine of 1804 was the first to do actual work by pulling a short train of cars uphill in Wales."/>
          <p:cNvPicPr/>
          <p:nvPr/>
        </p:nvPicPr>
        <p:blipFill>
          <a:blip r:embed="rId1"/>
          <a:stretch/>
        </p:blipFill>
        <p:spPr>
          <a:xfrm>
            <a:off x="611280" y="1413000"/>
            <a:ext cx="3097080" cy="259380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4"/>
          <p:cNvSpPr/>
          <p:nvPr/>
        </p:nvSpPr>
        <p:spPr>
          <a:xfrm>
            <a:off x="395280" y="414972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erwsza lokomotywa Richarda Threvithicka  - 1801 i jej konstruk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kids.britannica.com/comptons/art-126065/The-first-successful-locomotives-were-built-in-Brit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6" descr="Plik:Richard Trevithick.jpg"/>
          <p:cNvPicPr/>
          <p:nvPr/>
        </p:nvPicPr>
        <p:blipFill>
          <a:blip r:embed="rId2"/>
          <a:stretch/>
        </p:blipFill>
        <p:spPr>
          <a:xfrm>
            <a:off x="6588000" y="1268280"/>
            <a:ext cx="2278080" cy="283068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6"/>
          <p:cNvSpPr/>
          <p:nvPr/>
        </p:nvSpPr>
        <p:spPr>
          <a:xfrm>
            <a:off x="6516720" y="42926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pl.wikipedia.org/wiki/Plik:Richard_Trevithick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ymbol zastępczy zawartości 2"/>
          <p:cNvSpPr/>
          <p:nvPr/>
        </p:nvSpPr>
        <p:spPr>
          <a:xfrm>
            <a:off x="3276720" y="1341360"/>
            <a:ext cx="3311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  <a:ea typeface="Arial"/>
              </a:rPr>
              <a:t>Zastosowanie pary i powstanie kolei żelaznej zrewolucjonizowało transport lądowy. Konie mogły ciągnąć ładunek 2-4 t. Kolej przewoziła w jednym wagonie nawet do 20 t, a wagony łączono. Jeden pociąg mógł zastąpić nawet 160 koni. Można było przewozić wielkie ładunki (produkcję kopalń i hut), co przyspieszało rozwój gospodarcz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G:\2013_06_02\IMG_2460.JPG"/>
          <p:cNvPicPr/>
          <p:nvPr/>
        </p:nvPicPr>
        <p:blipFill>
          <a:blip r:embed="rId1"/>
          <a:srcRect l="2188" t="1637" r="0" b="10666"/>
          <a:stretch/>
        </p:blipFill>
        <p:spPr>
          <a:xfrm>
            <a:off x="320760" y="1555920"/>
            <a:ext cx="6327720" cy="3781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111280" y="3644640"/>
            <a:ext cx="4032360" cy="2160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storia parowych kolei żelaznych w skrócie – na pierwszym planie Rocket Roberta i George’a Stephensonów z 1829 r. – pierwsza lokomotywa obsługująca regularną linię – w tle – lokomotywa z XX w. (modele w tej samej ska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Fot. 1888, bud. głównej przędzalni"/>
          <p:cNvPicPr/>
          <p:nvPr/>
        </p:nvPicPr>
        <p:blipFill>
          <a:blip r:embed="rId1"/>
          <a:stretch/>
        </p:blipFill>
        <p:spPr>
          <a:xfrm>
            <a:off x="395280" y="1341360"/>
            <a:ext cx="237636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Jak przemysł lekki wpływał na ciężki </a:t>
            </a:r>
            <a:br>
              <a:rPr sz="2900"/>
            </a:b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(i odwrotnie)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4"/>
          <p:cNvSpPr/>
          <p:nvPr/>
        </p:nvSpPr>
        <p:spPr>
          <a:xfrm>
            <a:off x="468360" y="134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Zapotrzebowanie na maszyny przędzalnicze i hale produkcyj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9" name="Łącznik prosty ze strzałką 6"/>
          <p:cNvCxnSpPr/>
          <p:nvPr/>
        </p:nvCxnSpPr>
        <p:spPr>
          <a:xfrm>
            <a:off x="2987280" y="191592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0" name="pole tekstowe 7"/>
          <p:cNvSpPr/>
          <p:nvPr/>
        </p:nvSpPr>
        <p:spPr>
          <a:xfrm>
            <a:off x="3780000" y="148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a maszyn przędzalnicz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9"/>
          <p:cNvSpPr/>
          <p:nvPr/>
        </p:nvSpPr>
        <p:spPr>
          <a:xfrm>
            <a:off x="3780000" y="234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a stali konstrukcyjn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Łącznik prosty ze strzałką 11"/>
          <p:cNvCxnSpPr>
            <a:endCxn id="141" idx="1"/>
          </p:cNvCxnSpPr>
          <p:nvPr/>
        </p:nvCxnSpPr>
        <p:spPr>
          <a:xfrm>
            <a:off x="2556000" y="2276640"/>
            <a:ext cx="1224720" cy="3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3" name="pole tekstowe 12"/>
          <p:cNvSpPr/>
          <p:nvPr/>
        </p:nvSpPr>
        <p:spPr>
          <a:xfrm>
            <a:off x="468360" y="31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Łącznik prosty ze strzałką 18"/>
          <p:cNvCxnSpPr/>
          <p:nvPr/>
        </p:nvCxnSpPr>
        <p:spPr>
          <a:xfrm>
            <a:off x="5508360" y="1915920"/>
            <a:ext cx="144036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Łącznik prosty ze strzałką 20"/>
          <p:cNvCxnSpPr/>
          <p:nvPr/>
        </p:nvCxnSpPr>
        <p:spPr>
          <a:xfrm>
            <a:off x="5579640" y="2781360"/>
            <a:ext cx="108036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6" name="pole tekstowe 21"/>
          <p:cNvSpPr/>
          <p:nvPr/>
        </p:nvSpPr>
        <p:spPr>
          <a:xfrm>
            <a:off x="6443640" y="306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22"/>
          <p:cNvSpPr/>
          <p:nvPr/>
        </p:nvSpPr>
        <p:spPr>
          <a:xfrm>
            <a:off x="324000" y="386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8" name="Łącznik prosty ze strzałką 24"/>
          <p:cNvCxnSpPr/>
          <p:nvPr/>
        </p:nvCxnSpPr>
        <p:spPr>
          <a:xfrm flipH="1">
            <a:off x="2916000" y="3212640"/>
            <a:ext cx="35280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Łącznik prosty ze strzałką 26"/>
          <p:cNvCxnSpPr/>
          <p:nvPr/>
        </p:nvCxnSpPr>
        <p:spPr>
          <a:xfrm>
            <a:off x="1834920" y="364500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0" name="Łącznik prosty ze strzałką 28"/>
          <p:cNvCxnSpPr/>
          <p:nvPr/>
        </p:nvCxnSpPr>
        <p:spPr>
          <a:xfrm>
            <a:off x="1115640" y="414936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1" name="Łącznik prosty ze strzałką 30"/>
          <p:cNvCxnSpPr/>
          <p:nvPr/>
        </p:nvCxnSpPr>
        <p:spPr>
          <a:xfrm>
            <a:off x="7451280" y="3357720"/>
            <a:ext cx="108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2" name="pole tekstowe 31"/>
          <p:cNvSpPr/>
          <p:nvPr/>
        </p:nvSpPr>
        <p:spPr>
          <a:xfrm>
            <a:off x="755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Zysk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32"/>
          <p:cNvSpPr/>
          <p:nvPr/>
        </p:nvSpPr>
        <p:spPr>
          <a:xfrm>
            <a:off x="7093080" y="39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ysk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Łącznik prosty ze strzałką 34"/>
          <p:cNvCxnSpPr/>
          <p:nvPr/>
        </p:nvCxnSpPr>
        <p:spPr>
          <a:xfrm>
            <a:off x="7596000" y="436536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5" name="pole tekstowe 35"/>
          <p:cNvSpPr/>
          <p:nvPr/>
        </p:nvSpPr>
        <p:spPr>
          <a:xfrm>
            <a:off x="601200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6" name="Łącznik prosty ze strzałką 37"/>
          <p:cNvCxnSpPr/>
          <p:nvPr/>
        </p:nvCxnSpPr>
        <p:spPr>
          <a:xfrm flipV="1">
            <a:off x="6659280" y="3357360"/>
            <a:ext cx="1080" cy="15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7" name="pole tekstowe 38"/>
          <p:cNvSpPr/>
          <p:nvPr/>
        </p:nvSpPr>
        <p:spPr>
          <a:xfrm>
            <a:off x="755640" y="508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libri"/>
              </a:rPr>
              <a:t>Nowe maszyny i h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8" name="Łącznik prosty ze strzałką 40"/>
          <p:cNvCxnSpPr/>
          <p:nvPr/>
        </p:nvCxnSpPr>
        <p:spPr>
          <a:xfrm>
            <a:off x="1042560" y="4868640"/>
            <a:ext cx="108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Łącznik prosty ze strzałką 42"/>
          <p:cNvCxnSpPr/>
          <p:nvPr/>
        </p:nvCxnSpPr>
        <p:spPr>
          <a:xfrm flipV="1">
            <a:off x="2700000" y="3428280"/>
            <a:ext cx="1080" cy="165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0" name="pole tekstowe 44"/>
          <p:cNvSpPr/>
          <p:nvPr/>
        </p:nvSpPr>
        <p:spPr>
          <a:xfrm>
            <a:off x="3564000" y="3573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Calibri"/>
              </a:rPr>
              <a:t>Kolor czerwony –przemysł lek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lor czarny – przemysł cięż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7020000" y="1052640"/>
            <a:ext cx="1512720" cy="2006640"/>
          </a:xfrm>
          <a:prstGeom prst="rect">
            <a:avLst/>
          </a:prstGeom>
          <a:ln w="0">
            <a:noFill/>
          </a:ln>
        </p:spPr>
      </p:pic>
      <p:sp>
        <p:nvSpPr>
          <p:cNvPr id="162" name="pole tekstowe 50"/>
          <p:cNvSpPr/>
          <p:nvPr/>
        </p:nvSpPr>
        <p:spPr>
          <a:xfrm>
            <a:off x="395280" y="551664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http://w4u.am.lodz.pl/~jkk/ld/Poznanski/p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87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pl-PL" sz="4400" spc="-1" strike="noStrike">
                <a:solidFill>
                  <a:srgbClr val="1f497d"/>
                </a:solidFill>
                <a:latin typeface="Calibri"/>
              </a:rPr>
              <a:t>Kryzys - prosperity-kryzys - prosperity.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4"/>
          <p:cNvSpPr/>
          <p:nvPr/>
        </p:nvSpPr>
        <p:spPr>
          <a:xfrm>
            <a:off x="468360" y="1773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zapotrzebowania na produkty przemysł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5" name="Łącznik prosty ze strzałką 6"/>
          <p:cNvCxnSpPr/>
          <p:nvPr/>
        </p:nvCxnSpPr>
        <p:spPr>
          <a:xfrm>
            <a:off x="3492000" y="2060280"/>
            <a:ext cx="575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6" name="pole tekstowe 7"/>
          <p:cNvSpPr/>
          <p:nvPr/>
        </p:nvSpPr>
        <p:spPr>
          <a:xfrm>
            <a:off x="4067280" y="184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westyc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Łącznik prosty ze strzałką 9"/>
          <p:cNvCxnSpPr/>
          <p:nvPr/>
        </p:nvCxnSpPr>
        <p:spPr>
          <a:xfrm>
            <a:off x="5292720" y="1988640"/>
            <a:ext cx="720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8" name="pole tekstowe 10"/>
          <p:cNvSpPr/>
          <p:nvPr/>
        </p:nvSpPr>
        <p:spPr>
          <a:xfrm>
            <a:off x="6012000" y="1773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ole tekstowe 11"/>
          <p:cNvSpPr/>
          <p:nvPr/>
        </p:nvSpPr>
        <p:spPr>
          <a:xfrm>
            <a:off x="6156360" y="26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sycenie ryn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ole tekstowe 12"/>
          <p:cNvSpPr/>
          <p:nvPr/>
        </p:nvSpPr>
        <p:spPr>
          <a:xfrm>
            <a:off x="3059280" y="2708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yzys nadproduk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15"/>
          <p:cNvSpPr/>
          <p:nvPr/>
        </p:nvSpPr>
        <p:spPr>
          <a:xfrm>
            <a:off x="611280" y="2708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adek c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16"/>
          <p:cNvSpPr/>
          <p:nvPr/>
        </p:nvSpPr>
        <p:spPr>
          <a:xfrm>
            <a:off x="250920" y="335772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owe zastosowania produktów przemysł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Łącznik prosty ze strzałką 20"/>
          <p:cNvCxnSpPr>
            <a:stCxn id="168" idx="2"/>
          </p:cNvCxnSpPr>
          <p:nvPr/>
        </p:nvCxnSpPr>
        <p:spPr>
          <a:xfrm flipH="1">
            <a:off x="7019280" y="2141640"/>
            <a:ext cx="37080" cy="49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4" name="Łącznik prosty ze strzałką 22"/>
          <p:cNvCxnSpPr/>
          <p:nvPr/>
        </p:nvCxnSpPr>
        <p:spPr>
          <a:xfrm flipH="1">
            <a:off x="5292360" y="2852280"/>
            <a:ext cx="79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Łącznik prosty ze strzałką 24"/>
          <p:cNvCxnSpPr>
            <a:stCxn id="170" idx="1"/>
          </p:cNvCxnSpPr>
          <p:nvPr/>
        </p:nvCxnSpPr>
        <p:spPr>
          <a:xfrm flipH="1" flipV="1">
            <a:off x="1907640" y="2852280"/>
            <a:ext cx="1152000" cy="4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6" name="Łącznik prosty ze strzałką 26"/>
          <p:cNvCxnSpPr/>
          <p:nvPr/>
        </p:nvCxnSpPr>
        <p:spPr>
          <a:xfrm>
            <a:off x="1115640" y="306828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7" name="Wygięta strzałka 31"/>
          <p:cNvSpPr/>
          <p:nvPr/>
        </p:nvSpPr>
        <p:spPr>
          <a:xfrm>
            <a:off x="324000" y="2060640"/>
            <a:ext cx="215640" cy="1297080"/>
          </a:xfrm>
          <a:custGeom>
            <a:avLst/>
            <a:gdLst/>
            <a:ahLst/>
            <a:rect l="l" t="t" r="r" b="b"/>
            <a:pathLst>
              <a:path w="215900" h="1296988">
                <a:moveTo>
                  <a:pt x="0" y="1296988"/>
                </a:moveTo>
                <a:lnTo>
                  <a:pt x="0" y="121444"/>
                </a:lnTo>
                <a:lnTo>
                  <a:pt x="0" y="121444"/>
                </a:lnTo>
                <a:arcTo wR="94456" hR="94456" stAng="10800000" swAng="5400000"/>
                <a:lnTo>
                  <a:pt x="161925" y="26988"/>
                </a:lnTo>
                <a:lnTo>
                  <a:pt x="161925" y="0"/>
                </a:lnTo>
                <a:lnTo>
                  <a:pt x="215900" y="53975"/>
                </a:lnTo>
                <a:lnTo>
                  <a:pt x="161925" y="107950"/>
                </a:lnTo>
                <a:lnTo>
                  <a:pt x="161925" y="80963"/>
                </a:lnTo>
                <a:lnTo>
                  <a:pt x="94456" y="80963"/>
                </a:lnTo>
                <a:lnTo>
                  <a:pt x="94456" y="80963"/>
                </a:lnTo>
                <a:arcTo wR="40481" hR="40481" stAng="-5400000" swAng="-5400000"/>
                <a:lnTo>
                  <a:pt x="53975" y="12969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786040" cy="2098800"/>
          </a:xfrm>
          <a:prstGeom prst="rect">
            <a:avLst/>
          </a:prstGeom>
          <a:ln w="0">
            <a:noFill/>
          </a:ln>
        </p:spPr>
      </p:pic>
      <p:sp>
        <p:nvSpPr>
          <p:cNvPr id="179" name="pole tekstowe 33"/>
          <p:cNvSpPr/>
          <p:nvPr/>
        </p:nvSpPr>
        <p:spPr>
          <a:xfrm>
            <a:off x="3924360" y="436572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nkructwa mniej konkurencyjnych przedsiębiorst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0" name="Łącznik prosty ze strzałką 35"/>
          <p:cNvCxnSpPr/>
          <p:nvPr/>
        </p:nvCxnSpPr>
        <p:spPr>
          <a:xfrm>
            <a:off x="4427280" y="3212640"/>
            <a:ext cx="1080" cy="108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Przyspieszenie – wpływ transportu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zawartości 2"/>
          <p:cNvSpPr/>
          <p:nvPr/>
        </p:nvSpPr>
        <p:spPr>
          <a:xfrm>
            <a:off x="5364000" y="1413000"/>
            <a:ext cx="33116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898989"/>
                </a:solidFill>
                <a:latin typeface="Calibri"/>
                <a:ea typeface="Arial"/>
              </a:rPr>
              <a:t>Zastosowanie pary i powstanie kolei żelaznej zrewolucjonizowało transport lądowy. Konie mogły ciągnąć ładunek 2-4 t. Kolej przewoziła w jednym wagonie nawet do 20 t, a wagony łączono. Jeden pociąg mógł zastąpić nawet 160 koni. Można było przewozić wielkie ładunki (produkcję kopalń i hut), co przyspieszało rozwój gospodarcz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K:\Foto\2004\zdj5-04\HPIM0997.JPG"/>
          <p:cNvPicPr/>
          <p:nvPr/>
        </p:nvPicPr>
        <p:blipFill>
          <a:blip r:embed="rId1"/>
          <a:stretch/>
        </p:blipFill>
        <p:spPr>
          <a:xfrm>
            <a:off x="250920" y="1557360"/>
            <a:ext cx="51130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810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24000" y="2603520"/>
            <a:ext cx="6400800" cy="23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erger Peter L., Rewolucja kapitalistyczna, Oficyna Naukowa, Warszawa 199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illey Samuel,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Ludzie maszyny i historia, PWN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arszawa 196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roule Anna,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ames Watt. Jak rozw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ó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 maszyn parowych stworzył nasze społeczeństwo przemysłow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Czytelnik, Warszawa 199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Calibri"/>
              </a:rPr>
              <a:t>http://pl.wikipedia.org/wiki/Rewolucja_przemys%C5%82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Kapitaliz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rewolucj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przemysł lekki ciężki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kolej żelazn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fabryk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898989"/>
                </a:solidFill>
                <a:latin typeface="Calibri"/>
              </a:rPr>
              <a:t>inwestyc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>
            <a:hlinkClick r:id="rId1" action="ppaction://hlinksldjump"/>
          </p:cNvPr>
          <p:cNvSpPr/>
          <p:nvPr/>
        </p:nvSpPr>
        <p:spPr>
          <a:xfrm>
            <a:off x="971640" y="126828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1. Skąd nazwa „rewolucja przemysłowa”?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971640" y="184464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2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Maszyna i fabry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971640" y="2421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3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Maszyna parowa – rewolucja w świecie napędu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00000" y="2924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4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Jak przemysł lekki wpływał na ciężki (i odwrotni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971640" y="364500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5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Przyspieszenie – wpływ transportu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971640" y="4221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6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3" action="ppaction://hlinksldjump"/>
              </a:rPr>
              <a:t>Kryzys –prosperity –kryzys - prosperity.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4" action="ppaction://hlinksldjump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900000" y="4869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Bibliograf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W dziejach ludzkości postęp techniczny następował powoli i stopniowo – udoskonalano istniejące wynalazki, lub wprowadzano wcześniejsze pomysły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Zdarza się, że dokonano wynalazków o takim znaczeniu, że jeden wynalazek powodował następne itd. Nazywamy to rewolucją techniczn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311200" cy="173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6012000" y="4005360"/>
            <a:ext cx="25970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 –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Pierwszą rewolucją był neolit  (pocz. ok. 8-9 tys. lat. p.n.e., w naszej części Europy 5200 p.n.e.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Wynalazki okresu neolitu (hodowla zwierząt, rolnictwo, osiadłe życie) miały wpływ na szybkie wynalezienie innych – koło, żagiel, wiosło sterowe, wóz zaprzęgowy, metalurgia, szkł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 Skąd nazwa „rewolucja przemysłowa”? –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Drugą rewolucją była rewolucja przemysłowa (XVIII-XIX w.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- Zakończono konsumowanie wynalazków z okresu neolitu i wprowadzono dwa, które spowodowały gwałtowny postęp – produkcję fabryczną i silnik parow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Maszyna i fabry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445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Wprowadzenie fabryk zmieniło świat. Fabryka (czyli miejsce, gdzie masowo produkuje się wyroby, których wytwarzanie podzielone jest na proste czynności) pozostałaby jednak manufakturą, gdyby nie maszy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9640" y="3075120"/>
            <a:ext cx="35276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6588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Maszyna i fabryka c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219640" y="1700280"/>
            <a:ext cx="3548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98989"/>
                </a:solidFill>
                <a:latin typeface="Calibri"/>
              </a:rPr>
              <a:t>Przełomem w produkcji była Spinning Jenny – przędzarka mechaniczna (1765-67). Zastępowała pracę prawie 100 prząd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98989"/>
                </a:solidFill>
                <a:latin typeface="Calibri"/>
              </a:rPr>
              <a:t>Źródło: http://pl.wikipedia.org/wiki/Plik:Spinning_jenny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Plik:Spinning jenny.jpg"/>
          <p:cNvPicPr/>
          <p:nvPr/>
        </p:nvPicPr>
        <p:blipFill>
          <a:blip r:embed="rId1"/>
          <a:stretch/>
        </p:blipFill>
        <p:spPr>
          <a:xfrm>
            <a:off x="324000" y="1916280"/>
            <a:ext cx="467964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0" y="1599840"/>
            <a:ext cx="4572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Wynaleziona przez Roberta Newcomena, usprawniona przez Jamesa Watta (prototyp 1753 r., działanie na skalę przemysłową – 1776). Napęd wind, pomp, urządzeń przemysłow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Źródło: http://www.spartacus.schoolnet.co.uk/TEXrotary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http://www.spartacus.schoolnet.co.uk/TEXrota.jpg"/>
          <p:cNvPicPr/>
          <p:nvPr/>
        </p:nvPicPr>
        <p:blipFill>
          <a:blip r:embed="rId1"/>
          <a:stretch/>
        </p:blipFill>
        <p:spPr>
          <a:xfrm>
            <a:off x="395280" y="1557360"/>
            <a:ext cx="44956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61200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2900" spc="-1" strike="noStrike">
                <a:solidFill>
                  <a:srgbClr val="1f497d"/>
                </a:solidFill>
                <a:latin typeface="Calibri"/>
              </a:rPr>
              <a:t>Maszyna parowa – rewolucja w świecie napędu c.d.</a:t>
            </a:r>
            <a:r>
              <a:rPr b="0" lang="pl-PL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284720" y="1600200"/>
            <a:ext cx="44020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Przekonstruowana ok. 1800 r. – zwiększono sprężanie i zmniejszono </a:t>
            </a:r>
            <a:r>
              <a:rPr b="0" lang="pl-PL" sz="2700" spc="-1" strike="noStrike">
                <a:solidFill>
                  <a:srgbClr val="898989"/>
                </a:solidFill>
                <a:latin typeface="Calibri"/>
              </a:rPr>
              <a:t>rozmiary. W takiej formie znalazła zastosowanie do napędu statków, co uniezależniło je od wiatru. Pierwszym w pełni praktycznym parowcem był holownik Charlotte Dund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http://www.histarmar.com.ar/Planos/JaimeGrau/Ilustr/Ilustraciones_03+.jpg"/>
          <p:cNvPicPr/>
          <p:nvPr/>
        </p:nvPicPr>
        <p:blipFill>
          <a:blip r:embed="rId1"/>
          <a:stretch/>
        </p:blipFill>
        <p:spPr>
          <a:xfrm>
            <a:off x="179280" y="1557360"/>
            <a:ext cx="4600800" cy="3384360"/>
          </a:xfrm>
          <a:prstGeom prst="rect">
            <a:avLst/>
          </a:prstGeom>
          <a:ln w="0">
            <a:noFill/>
          </a:ln>
        </p:spPr>
      </p:pic>
      <p:sp>
        <p:nvSpPr>
          <p:cNvPr id="126" name="pole tekstowe 5"/>
          <p:cNvSpPr/>
          <p:nvPr/>
        </p:nvSpPr>
        <p:spPr>
          <a:xfrm>
            <a:off x="468360" y="50133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histarmar.com.ar/Planos/JaimeGrau/Ilustr/Ilustraciones_03+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4T05:37:36Z</dcterms:modified>
  <cp:revision>47</cp:revision>
  <dc:subject/>
  <dc:title>Slajd 1</dc:title>
</cp:coreProperties>
</file>