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FA06-8D5D-48C9-B01F-C53BD17854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02E7-258B-4F2E-877D-2305C8619A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42A0-657A-491E-AF15-CC2B81ED6D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489-B55E-496D-B6CB-C6B52581F0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4BA-35A8-478C-B3A5-87C04573D1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030-CE7E-474E-A120-CB7C1CE9B3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E461-1D83-4791-8434-7FFC975A84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7A9-6F44-410E-9883-ADBBE00647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37A-8308-4B4C-9180-DE8817DB61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00B-52A9-4082-812B-06C994EAC9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D40-BB03-4D18-8D95-39395BFF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B14-B450-4DF4-B49E-FCB39DA6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A97-BB09-42D3-A6EF-B3768F07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2F9-14A8-4E3C-BB1F-D4D5DE4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7E00-0683-45BD-8DB7-D1A65D98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70C7-0F45-4A46-8AD9-68758371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E00-355C-41C1-923F-07471D4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F671-8DD4-4AC9-A096-F5B3728D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A7F6-9174-42DA-8E89-64F7F05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3FCB-14E0-4A17-962C-121F092E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F72-427D-407C-B503-4AA0653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A0-AE8B-4018-92CC-CD54670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54C-A096-4FDB-A7FC-0423377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AC0-95ED-4C71-97F0-82E2561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9F0-B203-4289-BA1F-EC016E9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936-047C-41B3-A1E0-5A2796BF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3EA5-D277-4D09-A095-F9B4360F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00F-540E-47CD-A65B-1371E6AD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026-B8B6-46C4-847F-0080B9F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294-6416-43FD-B12C-D5B1515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B3-517C-4F3C-A88F-AFCFA2F8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87A-9DE1-4C24-8A8F-64F9041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0E4-C2CA-4226-9D84-4B418F7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A73-A45B-45C2-A779-C7764F8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779-D811-4733-ACCD-78A54D752CA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A493-3C7E-4835-8530-7370CFA8F29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ohn Locke"/>
          <p:cNvPicPr/>
          <p:nvPr/>
        </p:nvPicPr>
        <p:blipFill>
          <a:blip r:embed="rId3"/>
          <a:stretch/>
        </p:blipFill>
        <p:spPr>
          <a:xfrm>
            <a:off x="6372360" y="1197000"/>
            <a:ext cx="22096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7"/>
          <p:cNvSpPr/>
          <p:nvPr/>
        </p:nvSpPr>
        <p:spPr>
          <a:xfrm>
            <a:off x="3132000" y="1628640"/>
            <a:ext cx="27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órcą liberalizmu, czyli ideologii, w której najważniejsza jest wolność był Anglik John Lock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ekonomii przeniósł ideę wolności Szkot Adam Smith (1723 – 1790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Łącznik prosty ze strzałką 9"/>
          <p:cNvCxnSpPr/>
          <p:nvPr/>
        </p:nvCxnSpPr>
        <p:spPr>
          <a:xfrm>
            <a:off x="5435640" y="263664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Łącznik prosty ze strzałką 11"/>
          <p:cNvCxnSpPr/>
          <p:nvPr/>
        </p:nvCxnSpPr>
        <p:spPr>
          <a:xfrm flipH="1">
            <a:off x="2483640" y="321264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będą więc produkować to, co się opłaca! Podstawą rozwoju jest wymiana. Wyróżniał trzy przeliczniki wartości – kruszce, zboże i pracę. Kruszce liczyły się w bieżącej wymianie, zboże było przelicznikiem wieloletnim, a ludzka praca – najważniejszym i uniwersalny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http://www.youtube.com/watch?v=B8U3ruH8MF0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5"/>
          <p:cNvSpPr/>
          <p:nvPr/>
        </p:nvSpPr>
        <p:spPr>
          <a:xfrm>
            <a:off x="2556000" y="1413000"/>
            <a:ext cx="62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Wybitny ekonomista, makler giełdowy, który na długoterminowym inwestowaniu dorobił się znacznego majątku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upload.wikimedia.org/wikipedia/commons/6/6f/David_Ricardo(1).jpg"/>
          <p:cNvPicPr/>
          <p:nvPr/>
        </p:nvPicPr>
        <p:blipFill>
          <a:blip r:embed="rId1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odel Ricardo - społeczeństw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cy właściciele ziemscy byli grupą próżniaczą – nic nie wytwarzali, uzyskując przy tym pieniądze kosztem pracy in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botnicy – uzyskiwali tylko płacę, która była na poziomie minimum utrzymania (całą więc konsumowali), ale wkładali pracę (wg Ricardo najważniejszy przelicznik dób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czom kapitału – uzyskiwali potrzebną nadwyżkę, składającą się z różnicy zysku i kosztów pracy . Mogli ją zainwestować, by uzyskać zwiększone zyski w przyszłości. To oni wg Ricardo napędzali gospodarkę. Należy im tylko nie przeszkadzać (tutaj rozwinął myśl Adama Smith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Istotna jest zasada subsydiarności – wsparcie przez najbliższą człowiekowi wspólnotę. Jeżeli wspólnoty te nie mogą pomóc, powinno pomóc państwo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Dwie zasady sprawiedliwośc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1.„Każda osoba ma mieć równe prawo do jak najszerszej podstawowej wolności możliwej do pogodzenia z podobną wolnością dla innych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2. „Nierówności społeczne i ekonomiczne mają być tak ułożone,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05:40Z</dcterms:modified>
  <cp:revision>41</cp:revision>
  <dc:subject/>
  <dc:title>Slajd 1</dc:title>
</cp:coreProperties>
</file>