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9650-1A8C-422C-A56C-52DA4610D29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FF64-C2CF-4AA7-9E92-E3719A8B17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959-BF04-4EC7-B645-67C6503F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082-72C4-4A14-9EEB-7BBF7EB7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FC3-5DD6-4D49-9FC8-FE751359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B60-279F-48E3-A4C9-FB21E8B1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B835-F389-4D76-A8F0-B7D8FCB9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A6F2-A374-43BE-BE30-5DFDBBD7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0C83-61A7-4E50-A81E-51941634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472F-E1B3-437F-8AE6-24F64F2A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63A9-FE63-4966-B98C-19F5260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82C6-9C97-4DC0-8313-A970BEE2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16E8-2634-4437-9B98-AE185868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A35-EB0F-4693-9CBF-382F168E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939F-FE78-4869-BFC5-125A732B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0464-613A-45EE-8DB9-E6088CF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597A-CE77-4D1A-BB39-FB7611DE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999-F1FB-4BEE-A84D-9A7D87BC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FFB4-276C-4794-BDD6-55F8258B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AD7-73E8-4C9F-AF34-8D42FB7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816-E43B-4AF0-919D-105ADD2D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2BE-FB47-4392-A318-18ECD0CF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6AA-B8B8-4598-AAC4-E43664E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435-2479-43BA-AC27-812CF0F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AD6-E702-4B7D-AA8E-9FE5BE2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47C-346B-4103-BC6C-F615437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2455-C1AC-49A0-A087-2E9211221E0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17C4-1F9D-470F-A514-050E67D2BFE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 i kapital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:\Foto\2004\zdj5-04\HPIM1071.JPG"/>
          <p:cNvPicPr/>
          <p:nvPr/>
        </p:nvPicPr>
        <p:blipFill>
          <a:blip r:embed="rId1"/>
          <a:stretch/>
        </p:blipFill>
        <p:spPr>
          <a:xfrm>
            <a:off x="468360" y="1268280"/>
            <a:ext cx="4227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Photograph:The first successful locomotives were built in Britain. Richard Trevithick's engine of 1804 was the first to do actual work by pulling a short train of cars uphill in Wales.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259380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4"/>
          <p:cNvSpPr/>
          <p:nvPr/>
        </p:nvSpPr>
        <p:spPr>
          <a:xfrm>
            <a:off x="395280" y="4149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lokomotywa Richarda Threvithicka  - 1801 i jej konstruk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kids.britannica.com/comptons/art-126065/The-first-successful-locomotives-were-built-in-Bri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Plik:Richard Trevithick.jpg"/>
          <p:cNvPicPr/>
          <p:nvPr/>
        </p:nvPicPr>
        <p:blipFill>
          <a:blip r:embed="rId2"/>
          <a:stretch/>
        </p:blipFill>
        <p:spPr>
          <a:xfrm>
            <a:off x="6588000" y="1268280"/>
            <a:ext cx="2278080" cy="283068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6"/>
          <p:cNvSpPr/>
          <p:nvPr/>
        </p:nvSpPr>
        <p:spPr>
          <a:xfrm>
            <a:off x="6516720" y="429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Richard_Trevithick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zawartości 2"/>
          <p:cNvSpPr/>
          <p:nvPr/>
        </p:nvSpPr>
        <p:spPr>
          <a:xfrm>
            <a:off x="3276720" y="1341360"/>
            <a:ext cx="3311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G:\2013_06_02\IMG_2460.JPG"/>
          <p:cNvPicPr/>
          <p:nvPr/>
        </p:nvPicPr>
        <p:blipFill>
          <a:blip r:embed="rId1"/>
          <a:srcRect l="2188" t="1637" r="0" b="10666"/>
          <a:stretch/>
        </p:blipFill>
        <p:spPr>
          <a:xfrm>
            <a:off x="320760" y="1555920"/>
            <a:ext cx="6327720" cy="3781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111280" y="3644640"/>
            <a:ext cx="4032360" cy="216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storia parowych kolei żelaznych w skrócie – na pierwszym planie Rocket Roberta i George’a Stephensonów z 1829 r. – pierwsza lokomotywa obsługująca regularną linię – w tle – lokomotywa z XX w. (modele w tej samej ska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Fot. 1888, bud. głównej przędzalni"/>
          <p:cNvPicPr/>
          <p:nvPr/>
        </p:nvPicPr>
        <p:blipFill>
          <a:blip r:embed="rId1"/>
          <a:stretch/>
        </p:blipFill>
        <p:spPr>
          <a:xfrm>
            <a:off x="395280" y="1341360"/>
            <a:ext cx="237636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Jak przemysł lekki wpływał na ciężki </a:t>
            </a:r>
            <a:br>
              <a:rPr sz="2900"/>
            </a:b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(i odwrotnie)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4"/>
          <p:cNvSpPr/>
          <p:nvPr/>
        </p:nvSpPr>
        <p:spPr>
          <a:xfrm>
            <a:off x="46836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apotrzebowanie na maszyny przędzalnicze i hale produk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Łącznik prosty ze strzałką 6"/>
          <p:cNvCxnSpPr/>
          <p:nvPr/>
        </p:nvCxnSpPr>
        <p:spPr>
          <a:xfrm>
            <a:off x="2987280" y="191592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0" name="pole tekstowe 7"/>
          <p:cNvSpPr/>
          <p:nvPr/>
        </p:nvSpPr>
        <p:spPr>
          <a:xfrm>
            <a:off x="3780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maszyn przędzalnicz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9"/>
          <p:cNvSpPr/>
          <p:nvPr/>
        </p:nvSpPr>
        <p:spPr>
          <a:xfrm>
            <a:off x="3780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stali konstrukcyj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Łącznik prosty ze strzałką 11"/>
          <p:cNvCxnSpPr>
            <a:endCxn id="141" idx="1"/>
          </p:cNvCxnSpPr>
          <p:nvPr/>
        </p:nvCxnSpPr>
        <p:spPr>
          <a:xfrm>
            <a:off x="2556000" y="2276640"/>
            <a:ext cx="12247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3" name="pole tekstowe 12"/>
          <p:cNvSpPr/>
          <p:nvPr/>
        </p:nvSpPr>
        <p:spPr>
          <a:xfrm>
            <a:off x="46836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Łącznik prosty ze strzałką 18"/>
          <p:cNvCxnSpPr/>
          <p:nvPr/>
        </p:nvCxnSpPr>
        <p:spPr>
          <a:xfrm>
            <a:off x="5508360" y="1915920"/>
            <a:ext cx="144036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Łącznik prosty ze strzałką 20"/>
          <p:cNvCxnSpPr/>
          <p:nvPr/>
        </p:nvCxnSpPr>
        <p:spPr>
          <a:xfrm>
            <a:off x="5579640" y="2781360"/>
            <a:ext cx="108036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6" name="pole tekstowe 21"/>
          <p:cNvSpPr/>
          <p:nvPr/>
        </p:nvSpPr>
        <p:spPr>
          <a:xfrm>
            <a:off x="6443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22"/>
          <p:cNvSpPr/>
          <p:nvPr/>
        </p:nvSpPr>
        <p:spPr>
          <a:xfrm>
            <a:off x="32400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Łącznik prosty ze strzałką 24"/>
          <p:cNvCxnSpPr/>
          <p:nvPr/>
        </p:nvCxnSpPr>
        <p:spPr>
          <a:xfrm flipH="1">
            <a:off x="2916000" y="3212640"/>
            <a:ext cx="35280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Łącznik prosty ze strzałką 26"/>
          <p:cNvCxnSpPr/>
          <p:nvPr/>
        </p:nvCxnSpPr>
        <p:spPr>
          <a:xfrm>
            <a:off x="1834920" y="364500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0" name="Łącznik prosty ze strzałką 28"/>
          <p:cNvCxnSpPr/>
          <p:nvPr/>
        </p:nvCxnSpPr>
        <p:spPr>
          <a:xfrm>
            <a:off x="1115640" y="4149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1" name="Łącznik prosty ze strzałką 30"/>
          <p:cNvCxnSpPr/>
          <p:nvPr/>
        </p:nvCxnSpPr>
        <p:spPr>
          <a:xfrm>
            <a:off x="7451280" y="335772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2" name="pole tekstowe 31"/>
          <p:cNvSpPr/>
          <p:nvPr/>
        </p:nvSpPr>
        <p:spPr>
          <a:xfrm>
            <a:off x="755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y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32"/>
          <p:cNvSpPr/>
          <p:nvPr/>
        </p:nvSpPr>
        <p:spPr>
          <a:xfrm>
            <a:off x="709308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Łącznik prosty ze strzałką 34"/>
          <p:cNvCxnSpPr/>
          <p:nvPr/>
        </p:nvCxnSpPr>
        <p:spPr>
          <a:xfrm>
            <a:off x="7596000" y="4365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pole tekstowe 35"/>
          <p:cNvSpPr/>
          <p:nvPr/>
        </p:nvSpPr>
        <p:spPr>
          <a:xfrm>
            <a:off x="601200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6" name="Łącznik prosty ze strzałką 37"/>
          <p:cNvCxnSpPr/>
          <p:nvPr/>
        </p:nvCxnSpPr>
        <p:spPr>
          <a:xfrm flipV="1">
            <a:off x="6659280" y="3357360"/>
            <a:ext cx="108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7" name="pole tekstowe 38"/>
          <p:cNvSpPr/>
          <p:nvPr/>
        </p:nvSpPr>
        <p:spPr>
          <a:xfrm>
            <a:off x="755640" y="50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Łącznik prosty ze strzałką 40"/>
          <p:cNvCxnSpPr/>
          <p:nvPr/>
        </p:nvCxnSpPr>
        <p:spPr>
          <a:xfrm>
            <a:off x="1042560" y="486864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Łącznik prosty ze strzałką 42"/>
          <p:cNvCxnSpPr/>
          <p:nvPr/>
        </p:nvCxnSpPr>
        <p:spPr>
          <a:xfrm flipV="1">
            <a:off x="2700000" y="3428280"/>
            <a:ext cx="108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0" name="pole tekstowe 44"/>
          <p:cNvSpPr/>
          <p:nvPr/>
        </p:nvSpPr>
        <p:spPr>
          <a:xfrm>
            <a:off x="3564000" y="3573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Kolor czerwony –przemysł lek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lor czarny – przemysł cięż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512720" cy="2006640"/>
          </a:xfrm>
          <a:prstGeom prst="rect">
            <a:avLst/>
          </a:prstGeom>
          <a:ln w="0">
            <a:noFill/>
          </a:ln>
        </p:spPr>
      </p:pic>
      <p:sp>
        <p:nvSpPr>
          <p:cNvPr id="162" name="pole tekstowe 50"/>
          <p:cNvSpPr/>
          <p:nvPr/>
        </p:nvSpPr>
        <p:spPr>
          <a:xfrm>
            <a:off x="395280" y="55166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w4u.am.lodz.pl/~jkk/ld/Poznanski/p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Kryzys - prosperity-kryzys - prosperity.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4"/>
          <p:cNvSpPr/>
          <p:nvPr/>
        </p:nvSpPr>
        <p:spPr>
          <a:xfrm>
            <a:off x="46836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zapotrzebowania na produkty przemysł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Łącznik prosty ze strzałką 6"/>
          <p:cNvCxnSpPr/>
          <p:nvPr/>
        </p:nvCxnSpPr>
        <p:spPr>
          <a:xfrm>
            <a:off x="3492000" y="2060280"/>
            <a:ext cx="575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6" name="pole tekstowe 7"/>
          <p:cNvSpPr/>
          <p:nvPr/>
        </p:nvSpPr>
        <p:spPr>
          <a:xfrm>
            <a:off x="4067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Łącznik prosty ze strzałką 9"/>
          <p:cNvCxnSpPr/>
          <p:nvPr/>
        </p:nvCxnSpPr>
        <p:spPr>
          <a:xfrm>
            <a:off x="5292720" y="198864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pole tekstowe 10"/>
          <p:cNvSpPr/>
          <p:nvPr/>
        </p:nvSpPr>
        <p:spPr>
          <a:xfrm>
            <a:off x="6012000" y="177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11"/>
          <p:cNvSpPr/>
          <p:nvPr/>
        </p:nvSpPr>
        <p:spPr>
          <a:xfrm>
            <a:off x="615636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ycenie ry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12"/>
          <p:cNvSpPr/>
          <p:nvPr/>
        </p:nvSpPr>
        <p:spPr>
          <a:xfrm>
            <a:off x="305928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nad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5"/>
          <p:cNvSpPr/>
          <p:nvPr/>
        </p:nvSpPr>
        <p:spPr>
          <a:xfrm>
            <a:off x="61128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adek c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16"/>
          <p:cNvSpPr/>
          <p:nvPr/>
        </p:nvSpPr>
        <p:spPr>
          <a:xfrm>
            <a:off x="250920" y="3357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zastosowania produktów przemysł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Łącznik prosty ze strzałką 20"/>
          <p:cNvCxnSpPr>
            <a:stCxn id="168" idx="2"/>
          </p:cNvCxnSpPr>
          <p:nvPr/>
        </p:nvCxnSpPr>
        <p:spPr>
          <a:xfrm flipH="1">
            <a:off x="7019280" y="2141640"/>
            <a:ext cx="370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Łącznik prosty ze strzałką 22"/>
          <p:cNvCxnSpPr/>
          <p:nvPr/>
        </p:nvCxnSpPr>
        <p:spPr>
          <a:xfrm flipH="1">
            <a:off x="5292360" y="285228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Łącznik prosty ze strzałką 24"/>
          <p:cNvCxnSpPr>
            <a:stCxn id="170" idx="1"/>
          </p:cNvCxnSpPr>
          <p:nvPr/>
        </p:nvCxnSpPr>
        <p:spPr>
          <a:xfrm flipH="1" flipV="1">
            <a:off x="1907640" y="2852280"/>
            <a:ext cx="1152000" cy="4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Łącznik prosty ze strzałką 26"/>
          <p:cNvCxnSpPr/>
          <p:nvPr/>
        </p:nvCxnSpPr>
        <p:spPr>
          <a:xfrm>
            <a:off x="1115640" y="3068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7" name="Wygięta strzałka 31"/>
          <p:cNvSpPr/>
          <p:nvPr/>
        </p:nvSpPr>
        <p:spPr>
          <a:xfrm>
            <a:off x="324000" y="2060640"/>
            <a:ext cx="215640" cy="1297080"/>
          </a:xfrm>
          <a:custGeom>
            <a:avLst/>
            <a:gdLst/>
            <a:ahLst/>
            <a:rect l="l" t="t" r="r" b="b"/>
            <a:pathLst>
              <a:path w="215900" h="1296988">
                <a:moveTo>
                  <a:pt x="0" y="1296988"/>
                </a:moveTo>
                <a:lnTo>
                  <a:pt x="0" y="121444"/>
                </a:lnTo>
                <a:lnTo>
                  <a:pt x="0" y="121444"/>
                </a:lnTo>
                <a:arcTo wR="94456" hR="94456" stAng="10800000" swAng="5400000"/>
                <a:lnTo>
                  <a:pt x="161925" y="26988"/>
                </a:lnTo>
                <a:lnTo>
                  <a:pt x="161925" y="0"/>
                </a:lnTo>
                <a:lnTo>
                  <a:pt x="215900" y="53975"/>
                </a:lnTo>
                <a:lnTo>
                  <a:pt x="161925" y="107950"/>
                </a:lnTo>
                <a:lnTo>
                  <a:pt x="161925" y="80963"/>
                </a:lnTo>
                <a:lnTo>
                  <a:pt x="94456" y="80963"/>
                </a:lnTo>
                <a:lnTo>
                  <a:pt x="94456" y="80963"/>
                </a:lnTo>
                <a:arcTo wR="40481" hR="40481" stAng="-5400000" swAng="-5400000"/>
                <a:lnTo>
                  <a:pt x="53975" y="12969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786040" cy="209880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33"/>
          <p:cNvSpPr/>
          <p:nvPr/>
        </p:nvSpPr>
        <p:spPr>
          <a:xfrm>
            <a:off x="3924360" y="4365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nkructwa mniej konkurencyjnych przedsiębiorst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Łącznik prosty ze strzałką 35"/>
          <p:cNvCxnSpPr/>
          <p:nvPr/>
        </p:nvCxnSpPr>
        <p:spPr>
          <a:xfrm>
            <a:off x="4427280" y="3212640"/>
            <a:ext cx="108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Przyspieszenie – wpływ transportu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zawartości 2"/>
          <p:cNvSpPr/>
          <p:nvPr/>
        </p:nvSpPr>
        <p:spPr>
          <a:xfrm>
            <a:off x="5364000" y="1413000"/>
            <a:ext cx="331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K:\Foto\2004\zdj5-04\HPIM0997.JPG"/>
          <p:cNvPicPr/>
          <p:nvPr/>
        </p:nvPicPr>
        <p:blipFill>
          <a:blip r:embed="rId1"/>
          <a:stretch/>
        </p:blipFill>
        <p:spPr>
          <a:xfrm>
            <a:off x="250920" y="1557360"/>
            <a:ext cx="51130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24000" y="2603520"/>
            <a:ext cx="640080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erger Peter L., Rewolucja kapitalistyczna, Oficyna Naukowa, Warszawa 199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illey Samuel,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Ludzie maszyny i historia, PWN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arszawa 19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roule Anna,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mes Watt. Jak rozw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 maszyn parowych stworzył nasze społeczeństwo przemysłow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Czytelnik, Warszawa 19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http://pl.wikipedia.org/wiki/Rewolucja_przemys%C5%82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Kapitaliz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rewolucj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przemysł lekki ciężk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kolej żelazn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fabryk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inwestyc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Skąd nazwa „rewolucja przemysłowa”?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71640" y="1844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Maszyna i fabry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71640" y="2421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Maszyna parowa – rewolucja w świecie napędu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2924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Jak przemysł lekki wpływał na ciężki (i odwrotni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Przyspieszenie – wpływ transportu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Kryzys –prosperity –kryzys - prosperity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900000" y="486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 dziejach ludzkości postęp techniczny następował powoli i stopniowo – udoskonalano istniejące wynalazki, lub wprowadzano wcześniejsze pomysł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Zdarza się, że dokonano wynalazków o takim znaczeniu, że jeden wynalazek powodował następne itd. Nazywamy to rewolucją techniczn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311200" cy="173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597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Pierwszą rewolucją był neolit  (pocz. ok. 8-9 tys. lat. p.n.e., w naszej części Europy 5200 p.n.e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Wynalazki okresu neolitu (hodowla zwierząt, rolnictwo, osiadłe życie) miały wpływ na szybkie wynalezienie innych – koło, żagiel, wiosło sterowe, wóz zaprzęgowy, metalurgia, szk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Drugą rewolucją była rewolucja przemysłowa (XVIII-XIX w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Zakończono konsumowanie wynalazków z okresu neolitu i wprowadzono dwa, które spowodowały gwałtowny postęp – produkcję fabryczną i silnik par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Maszyna i fabr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445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prowadzenie fabryk zmieniło świat. Fabryka (czyli miejsce, gdzie masowo produkuje się wyroby, których wytwarzanie podzielone jest na proste czynności) pozostałaby jednak manufakturą, gdyby nie masz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9640" y="3075120"/>
            <a:ext cx="3527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6588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Maszyna i fabryka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219640" y="1700280"/>
            <a:ext cx="3548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98989"/>
                </a:solidFill>
                <a:latin typeface="Calibri"/>
              </a:rPr>
              <a:t>Przełomem w produkcji była Spinning Jenny – przędzarka mechaniczna (1765-67). Zastępowała pracę prawie 100 prząd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98989"/>
                </a:solidFill>
                <a:latin typeface="Calibri"/>
              </a:rPr>
              <a:t>Źródło: 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Plik:Spinning jenny.jpg"/>
          <p:cNvPicPr/>
          <p:nvPr/>
        </p:nvPicPr>
        <p:blipFill>
          <a:blip r:embed="rId1"/>
          <a:stretch/>
        </p:blipFill>
        <p:spPr>
          <a:xfrm>
            <a:off x="324000" y="1916280"/>
            <a:ext cx="46796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Wynaleziona przez Roberta Newcomena, usprawniona przez Jamesa Watta (prototyp 1753 r., działanie na skalę przemysłową – 1776). Napęd wind, pomp, urządzeń przemysł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Źródło: http://www.spartacus.schoolnet.co.uk/TEXrotary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http://www.spartacus.schoolnet.co.uk/TEXrota.jpg"/>
          <p:cNvPicPr/>
          <p:nvPr/>
        </p:nvPicPr>
        <p:blipFill>
          <a:blip r:embed="rId1"/>
          <a:stretch/>
        </p:blipFill>
        <p:spPr>
          <a:xfrm>
            <a:off x="395280" y="1557360"/>
            <a:ext cx="4495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84720" y="1600200"/>
            <a:ext cx="4402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Przekonstruowana ok. 1800 r. – zwiększono sprężanie i zmniejszono </a:t>
            </a: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rozmiary. W takiej formie znalazła zastosowanie do napędu statków, co uniezależniło je od wiatru. Pierwszym w pełni praktycznym parowcem był holownik Charlotte Dund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http://www.histarmar.com.ar/Planos/JaimeGrau/Ilustr/Ilustraciones_03+.jpg"/>
          <p:cNvPicPr/>
          <p:nvPr/>
        </p:nvPicPr>
        <p:blipFill>
          <a:blip r:embed="rId1"/>
          <a:stretch/>
        </p:blipFill>
        <p:spPr>
          <a:xfrm>
            <a:off x="179280" y="1557360"/>
            <a:ext cx="460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5"/>
          <p:cNvSpPr/>
          <p:nvPr/>
        </p:nvSpPr>
        <p:spPr>
          <a:xfrm>
            <a:off x="468360" y="501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histarmar.com.ar/Planos/JaimeGrau/Ilustr/Ilustraciones_03+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4T05:37:36Z</dcterms:modified>
  <cp:revision>47</cp:revision>
  <dc:subject/>
  <dc:title>Slajd 1</dc:title>
</cp:coreProperties>
</file>