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7E23-F900-4A37-9D20-FCA9976960A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70F2-D079-4FA5-BD6A-B63B1244FD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81F-985C-4F10-864B-CE5F7840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F12-3AF4-4058-8B0F-02FF8D86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D00-9858-4055-A693-24A6429D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78F-BE86-49E6-8E39-31E4D454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D05E-624A-4FDF-9332-2E1E4E40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594E-8DF0-4E8D-AECD-C6E6A93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69BC-BB90-48DF-B709-643BD784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1989-8A85-41D0-934F-D5B5070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8C0-4BB5-4C46-9067-580DBED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33E0-5804-4442-9E57-AC48A2CC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D848-A82E-40A1-8918-C94EA3C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F15-2785-4228-AE26-E1B1CC9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927-06A3-4C82-9A73-739AC6E6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B151-8FC4-4180-A18F-D9E2942D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2074-1E28-4FD3-B923-23D08E0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CE3B-3FAC-41DC-8F68-814903DF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1035-92F4-49A8-953E-8D187AFD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876-FE18-4786-B867-950098F1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DD0-964D-4239-8AD7-C57C077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923-D9A7-4ECB-8AC6-EAE8E32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596-5205-4235-BF13-7B45B0F9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5C5-EB8B-4D15-A1DD-A8BA939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59F-085C-49B7-A803-64E6CC0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1C6-B583-4502-AC5E-D116200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8811-9BC9-4202-A67C-CD87A7E5FC2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3C66-A85C-40D9-B887-09BBED080D1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9.xml"/><Relationship Id="rId2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topbankowiec.pl/historia-bankowosci-od-templariuszy-do-dominacji-amsterdamu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pl.wikipedia.org/wiki/Plik:Spinning_jenny.jpg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TEXrotary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aszyna parowa jest inwestycją. Dużo kosztuje, ale potem nakłady zwracają się bardzo szybko. Stąd maszyny parowe wymagają zarówno koncentracji kapitału (w celu zakupu i napraw) jak i przyspieszają jego koncentrację – zapewniając szybszą produkcję oraz transport gotowych towarów na duże odegł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Łącznik prosty ze strzałką 11"/>
          <p:cNvCxnSpPr>
            <a:endCxn id="17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9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Łącznik prosty ze strzałką 20"/>
          <p:cNvCxnSpPr>
            <a:stCxn id="19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24"/>
          <p:cNvCxnSpPr>
            <a:stCxn id="20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1"/>
          <p:cNvSpPr/>
          <p:nvPr/>
        </p:nvSpPr>
        <p:spPr>
          <a:xfrm>
            <a:off x="75564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4"/>
          <p:cNvSpPr/>
          <p:nvPr/>
        </p:nvSpPr>
        <p:spPr>
          <a:xfrm>
            <a:off x="2268360" y="157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" name="Łącznik prosty ze strzałką 3"/>
          <p:cNvCxnSpPr/>
          <p:nvPr/>
        </p:nvCxnSpPr>
        <p:spPr>
          <a:xfrm>
            <a:off x="1547280" y="176328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Łącznik prosty ze strzałką 6"/>
          <p:cNvCxnSpPr/>
          <p:nvPr/>
        </p:nvCxnSpPr>
        <p:spPr>
          <a:xfrm>
            <a:off x="3691080" y="1740960"/>
            <a:ext cx="1224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Łącznik prosty ze strzałką 8"/>
          <p:cNvCxnSpPr/>
          <p:nvPr/>
        </p:nvCxnSpPr>
        <p:spPr>
          <a:xfrm>
            <a:off x="3348000" y="1949040"/>
            <a:ext cx="1008720" cy="61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Łącznik prosty ze strzałką 10"/>
          <p:cNvCxnSpPr/>
          <p:nvPr/>
        </p:nvCxnSpPr>
        <p:spPr>
          <a:xfrm flipH="1" flipV="1">
            <a:off x="1258200" y="3152520"/>
            <a:ext cx="2809080" cy="1113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8" name="pole tekstowe 13"/>
          <p:cNvSpPr/>
          <p:nvPr/>
        </p:nvSpPr>
        <p:spPr>
          <a:xfrm>
            <a:off x="646200" y="2747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kumul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ole tekstowe 14"/>
          <p:cNvSpPr/>
          <p:nvPr/>
        </p:nvSpPr>
        <p:spPr>
          <a:xfrm>
            <a:off x="4067280" y="2565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ruc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ole tekstowe 15"/>
          <p:cNvSpPr/>
          <p:nvPr/>
        </p:nvSpPr>
        <p:spPr>
          <a:xfrm>
            <a:off x="4788000" y="15796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stał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Łącznik prosty ze strzałką 12"/>
          <p:cNvCxnSpPr/>
          <p:nvPr/>
        </p:nvCxnSpPr>
        <p:spPr>
          <a:xfrm>
            <a:off x="5796000" y="1741320"/>
            <a:ext cx="937440" cy="2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2" name="pole tekstowe 18"/>
          <p:cNvSpPr/>
          <p:nvPr/>
        </p:nvSpPr>
        <p:spPr>
          <a:xfrm>
            <a:off x="6732720" y="1619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maszy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Łącznik prosty ze strzałką 17"/>
          <p:cNvCxnSpPr/>
          <p:nvPr/>
        </p:nvCxnSpPr>
        <p:spPr>
          <a:xfrm>
            <a:off x="5508360" y="2060640"/>
            <a:ext cx="756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4" name="pole tekstowe 22"/>
          <p:cNvSpPr/>
          <p:nvPr/>
        </p:nvSpPr>
        <p:spPr>
          <a:xfrm>
            <a:off x="6372360" y="2379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 obsłu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Łącznik prosty ze strzałką 21"/>
          <p:cNvCxnSpPr/>
          <p:nvPr/>
        </p:nvCxnSpPr>
        <p:spPr>
          <a:xfrm>
            <a:off x="5292360" y="2257200"/>
            <a:ext cx="648360" cy="710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6" name="pole tekstowe 23"/>
          <p:cNvSpPr/>
          <p:nvPr/>
        </p:nvSpPr>
        <p:spPr>
          <a:xfrm>
            <a:off x="5940360" y="2967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mortyz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Łącznik prosty ze strzałką 25"/>
          <p:cNvCxnSpPr/>
          <p:nvPr/>
        </p:nvCxnSpPr>
        <p:spPr>
          <a:xfrm>
            <a:off x="2700000" y="1949400"/>
            <a:ext cx="432360" cy="107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ole tekstowe 28"/>
          <p:cNvSpPr/>
          <p:nvPr/>
        </p:nvSpPr>
        <p:spPr>
          <a:xfrm>
            <a:off x="2843280" y="3116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chó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Łącznik prosty ze strzałką 27"/>
          <p:cNvCxnSpPr/>
          <p:nvPr/>
        </p:nvCxnSpPr>
        <p:spPr>
          <a:xfrm>
            <a:off x="3564000" y="3573360"/>
            <a:ext cx="79272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Łącznik prosty ze strzałką 30"/>
          <p:cNvCxnSpPr>
            <a:stCxn id="219" idx="2"/>
          </p:cNvCxnSpPr>
          <p:nvPr/>
        </p:nvCxnSpPr>
        <p:spPr>
          <a:xfrm flipH="1">
            <a:off x="4500360" y="3211200"/>
            <a:ext cx="180000" cy="794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Łącznik prosty ze strzałką 13312"/>
          <p:cNvCxnSpPr/>
          <p:nvPr/>
        </p:nvCxnSpPr>
        <p:spPr>
          <a:xfrm flipH="1">
            <a:off x="4914720" y="3336480"/>
            <a:ext cx="1458000" cy="66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Łącznik prosty ze strzałką 13315"/>
          <p:cNvCxnSpPr/>
          <p:nvPr/>
        </p:nvCxnSpPr>
        <p:spPr>
          <a:xfrm flipH="1">
            <a:off x="4679280" y="2931840"/>
            <a:ext cx="1693080" cy="107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Łącznik prosty ze strzałką 13317"/>
          <p:cNvCxnSpPr/>
          <p:nvPr/>
        </p:nvCxnSpPr>
        <p:spPr>
          <a:xfrm flipH="1">
            <a:off x="4588920" y="2060640"/>
            <a:ext cx="214380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4" name="pole tekstowe 13318"/>
          <p:cNvSpPr/>
          <p:nvPr/>
        </p:nvSpPr>
        <p:spPr>
          <a:xfrm>
            <a:off x="4067280" y="40813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Łącznik prosty ze strzałką 13321"/>
          <p:cNvCxnSpPr>
            <a:stCxn id="234" idx="1"/>
          </p:cNvCxnSpPr>
          <p:nvPr/>
        </p:nvCxnSpPr>
        <p:spPr>
          <a:xfrm flipH="1" flipV="1">
            <a:off x="1546920" y="1949040"/>
            <a:ext cx="2520360" cy="231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pole tekstowe 13322"/>
          <p:cNvSpPr/>
          <p:nvPr/>
        </p:nvSpPr>
        <p:spPr>
          <a:xfrm>
            <a:off x="1116000" y="44496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żeli zysk jest wystarczający na akumulację i co najmniej zwrot kapitału, można pokusić się o nową inwestycj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ole tekstowe 2"/>
          <p:cNvSpPr/>
          <p:nvPr/>
        </p:nvSpPr>
        <p:spPr>
          <a:xfrm>
            <a:off x="755640" y="1557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yskusyjne filmy o kapitalizm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mE_buCxAoP0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TUZPBws9pGE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Rekiny i płotki czyli fazy kapitalizmu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3527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Kapitalizm wolnokonkurencyjny (liber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Łącznik prosty ze strzałką 2"/>
          <p:cNvCxnSpPr/>
          <p:nvPr/>
        </p:nvCxnSpPr>
        <p:spPr>
          <a:xfrm>
            <a:off x="3850920" y="2349360"/>
            <a:ext cx="280908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2" name="Symbol zastępczy zawartości 2"/>
          <p:cNvSpPr/>
          <p:nvPr/>
        </p:nvSpPr>
        <p:spPr>
          <a:xfrm>
            <a:off x="5262480" y="3807000"/>
            <a:ext cx="3125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  <a:ea typeface="Arial"/>
              </a:rPr>
              <a:t>Kapitalizm monopolistyczny (imperi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Łącznik prosty ze strzałką 4"/>
          <p:cNvCxnSpPr>
            <a:stCxn id="242" idx="1"/>
          </p:cNvCxnSpPr>
          <p:nvPr/>
        </p:nvCxnSpPr>
        <p:spPr>
          <a:xfrm flipH="1">
            <a:off x="3634920" y="4382640"/>
            <a:ext cx="162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ole tekstowe 6"/>
          <p:cNvSpPr/>
          <p:nvPr/>
        </p:nvSpPr>
        <p:spPr>
          <a:xfrm>
            <a:off x="1835280" y="380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lub woj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Łącznik prosty ze strzałką 8"/>
          <p:cNvCxnSpPr/>
          <p:nvPr/>
        </p:nvCxnSpPr>
        <p:spPr>
          <a:xfrm flipH="1" flipV="1">
            <a:off x="2195280" y="2707560"/>
            <a:ext cx="14472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6" name="pole tekstowe 9"/>
          <p:cNvSpPr/>
          <p:nvPr/>
        </p:nvSpPr>
        <p:spPr>
          <a:xfrm>
            <a:off x="6824520" y="14605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a z teorii przemian kapitaliz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ole tekstowe 12"/>
          <p:cNvSpPr/>
          <p:nvPr/>
        </p:nvSpPr>
        <p:spPr>
          <a:xfrm>
            <a:off x="4643280" y="23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ole tekstowe 15"/>
          <p:cNvSpPr/>
          <p:nvPr/>
        </p:nvSpPr>
        <p:spPr>
          <a:xfrm>
            <a:off x="4089240" y="3946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ole tekstowe 16"/>
          <p:cNvSpPr/>
          <p:nvPr/>
        </p:nvSpPr>
        <p:spPr>
          <a:xfrm>
            <a:off x="2328840" y="2908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Łącznik prosty ze strzałką 14"/>
          <p:cNvCxnSpPr/>
          <p:nvPr/>
        </p:nvCxnSpPr>
        <p:spPr>
          <a:xfrm flipH="1">
            <a:off x="1042560" y="2708280"/>
            <a:ext cx="21672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1" name="pole tekstowe 17"/>
          <p:cNvSpPr/>
          <p:nvPr/>
        </p:nvSpPr>
        <p:spPr>
          <a:xfrm>
            <a:off x="468360" y="465300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lizm global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ole tekstowe 20"/>
          <p:cNvSpPr/>
          <p:nvPr/>
        </p:nvSpPr>
        <p:spPr>
          <a:xfrm>
            <a:off x="1158840" y="32367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Łącznik prosty ze strzałką 19"/>
          <p:cNvCxnSpPr/>
          <p:nvPr/>
        </p:nvCxnSpPr>
        <p:spPr>
          <a:xfrm>
            <a:off x="1150560" y="4959000"/>
            <a:ext cx="108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4" name="pole tekstowe 21"/>
          <p:cNvSpPr/>
          <p:nvPr/>
        </p:nvSpPr>
        <p:spPr>
          <a:xfrm>
            <a:off x="1022400" y="58053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10. Robotn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rostokąt 5"/>
          <p:cNvSpPr/>
          <p:nvPr/>
        </p:nvSpPr>
        <p:spPr>
          <a:xfrm>
            <a:off x="601560" y="465300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uedwatch.de/blog/wp-content/uploads/2012/05/arbeiter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2" descr="C:\Users\Grześ\Downloads\arbeiter3.jpg"/>
          <p:cNvPicPr/>
          <p:nvPr/>
        </p:nvPicPr>
        <p:blipFill>
          <a:blip r:embed="rId1"/>
          <a:stretch/>
        </p:blipFill>
        <p:spPr>
          <a:xfrm>
            <a:off x="839880" y="1150920"/>
            <a:ext cx="2363760" cy="3519360"/>
          </a:xfrm>
          <a:prstGeom prst="rect">
            <a:avLst/>
          </a:prstGeom>
          <a:ln w="0">
            <a:noFill/>
          </a:ln>
        </p:spPr>
      </p:pic>
      <p:sp>
        <p:nvSpPr>
          <p:cNvPr id="261" name="pole tekstowe 6"/>
          <p:cNvSpPr/>
          <p:nvPr/>
        </p:nvSpPr>
        <p:spPr>
          <a:xfrm>
            <a:off x="3203640" y="1700280"/>
            <a:ext cx="511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jawiskiem społecznym nieodmiennie związanym z kapitalizmem byli (i są ) robotnicy. Stanowili niezbędny składnik rozwoju kapitału, jakim była praca, ale jednocześnie rezerwę prostą. Inaczej mówiąc, łatwiej zwolnić robotnika, niż sprzedać maszynę. Dlatego przeciwnicy kapitalizmu zakładali jego obalenie rękami robotników i stworzenie systemu, który byłby robotniczym rajem. Kiedy jednak system taki powstał, sytuacja robotników poprawiła się niezauważalnie (poza wizerunkiem propagandowy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Pochodzenie nazwy kapitalizm – czyli skąd wziąć pieniądze i gdzie je ulokowa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276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Pieniądz robi pieniądz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9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Rekiny i płotki czyli fazy kapitalizmu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10. Robotn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ll Daniel, Kulturowe sprzeczności kapitalizmu, PWN, Warszawa 1998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rger Peter L., Rewolucja kapitalistyczna, Oficyna Naukowa, Warszawa 1995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Lilley Samuel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Ludzie maszyny i historia, PWN, 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 Warszawa 196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Michalkiewicz Stanisław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Dobry „zły” liberalizm.,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 Wydawnictwo von Borowiecky, Radzymin 200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Sproule Anna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James Watt. Jak rozwój maszyn parowych stworzył nasze społeczeństwo przemysłowe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Czytelnik, Warszawa 199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Weber M.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Etyka protestancka a duch kapitalizmu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tł. Dorota Lachowska, Wydawnictwa Uniwersytetu Warszawskiego Warszawa 201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obot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zerwa pr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Pochodzenie nazwy kapitalizm – czyli skąd wziąć pieniądze i gdzie je ulokow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708000" y="1600200"/>
            <a:ext cx="4978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W okresie średniowiecza i nowożytności rozwija się bankowoś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Bankierzy mają pieniądze, szukają jednak takich źródeł ich inwestowania, by w razie kryzysu nie traci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Inwestują  w produkcję – pożyczają rzemieślnikom, w końcu sami organizują system nakładczy i manufaktu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http://topbankowiec.pl/wp-content/uploads/2010/10/4.jpg"/>
          <p:cNvPicPr/>
          <p:nvPr/>
        </p:nvPicPr>
        <p:blipFill>
          <a:blip r:embed="rId1"/>
          <a:stretch/>
        </p:blipFill>
        <p:spPr>
          <a:xfrm>
            <a:off x="395280" y="1700280"/>
            <a:ext cx="3240000" cy="2563920"/>
          </a:xfrm>
          <a:prstGeom prst="rect">
            <a:avLst/>
          </a:prstGeom>
          <a:ln w="0">
            <a:noFill/>
          </a:ln>
        </p:spPr>
      </p:pic>
      <p:sp>
        <p:nvSpPr>
          <p:cNvPr id="121" name="pole tekstowe 4"/>
          <p:cNvSpPr/>
          <p:nvPr/>
        </p:nvSpPr>
        <p:spPr>
          <a:xfrm>
            <a:off x="684360" y="429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opbankowiec.pl/historia-bankowosci-od-templariuszy-do-dominacji-amsterdam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2. Pochodzenie nazwy kapitalizm? – czyli skąd wziąć pieniądze i gdzie je ulokować? c.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059280" y="3141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6"/>
          <p:cNvSpPr/>
          <p:nvPr/>
        </p:nvSpPr>
        <p:spPr>
          <a:xfrm>
            <a:off x="250920" y="1773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dsetki od udzielonych pożycz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7"/>
          <p:cNvSpPr/>
          <p:nvPr/>
        </p:nvSpPr>
        <p:spPr>
          <a:xfrm>
            <a:off x="324000" y="28526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od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8"/>
          <p:cNvSpPr/>
          <p:nvPr/>
        </p:nvSpPr>
        <p:spPr>
          <a:xfrm>
            <a:off x="395280" y="3645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produk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manufaktur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9"/>
          <p:cNvSpPr/>
          <p:nvPr/>
        </p:nvSpPr>
        <p:spPr>
          <a:xfrm>
            <a:off x="395280" y="4797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z ziemi (wynajmu nieruchom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rolnictw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5292720" y="184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pożyc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1"/>
          <p:cNvSpPr/>
          <p:nvPr/>
        </p:nvSpPr>
        <p:spPr>
          <a:xfrm>
            <a:off x="5364000" y="256536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owanie w wyprawy odkryw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eksploatacje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12"/>
          <p:cNvSpPr/>
          <p:nvPr/>
        </p:nvSpPr>
        <p:spPr>
          <a:xfrm>
            <a:off x="5435640" y="378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nowych urządzeń i masz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3"/>
          <p:cNvSpPr/>
          <p:nvPr/>
        </p:nvSpPr>
        <p:spPr>
          <a:xfrm>
            <a:off x="5435640" y="47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kata  w ziemi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Łącznik prosty ze strzałką 15"/>
          <p:cNvCxnSpPr/>
          <p:nvPr/>
        </p:nvCxnSpPr>
        <p:spPr>
          <a:xfrm>
            <a:off x="1547640" y="2491920"/>
            <a:ext cx="1440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Łącznik prosty ze strzałką 17"/>
          <p:cNvCxnSpPr/>
          <p:nvPr/>
        </p:nvCxnSpPr>
        <p:spPr>
          <a:xfrm>
            <a:off x="1403280" y="3357720"/>
            <a:ext cx="144036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Łącznik prosty ze strzałką 19"/>
          <p:cNvCxnSpPr/>
          <p:nvPr/>
        </p:nvCxnSpPr>
        <p:spPr>
          <a:xfrm flipV="1">
            <a:off x="1834920" y="3644640"/>
            <a:ext cx="1369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Łącznik prosty ze strzałką 21"/>
          <p:cNvCxnSpPr/>
          <p:nvPr/>
        </p:nvCxnSpPr>
        <p:spPr>
          <a:xfrm flipV="1">
            <a:off x="2268000" y="3788640"/>
            <a:ext cx="108036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Łącznik prosty ze strzałką 30"/>
          <p:cNvCxnSpPr/>
          <p:nvPr/>
        </p:nvCxnSpPr>
        <p:spPr>
          <a:xfrm>
            <a:off x="3708360" y="3789360"/>
            <a:ext cx="1512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Łącznik prosty ze strzałką 32"/>
          <p:cNvCxnSpPr/>
          <p:nvPr/>
        </p:nvCxnSpPr>
        <p:spPr>
          <a:xfrm flipH="1">
            <a:off x="2195280" y="4005000"/>
            <a:ext cx="295344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Łącznik prosty ze strzałką 39"/>
          <p:cNvCxnSpPr/>
          <p:nvPr/>
        </p:nvCxnSpPr>
        <p:spPr>
          <a:xfrm flipH="1">
            <a:off x="1618560" y="2133720"/>
            <a:ext cx="3529800" cy="27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Łącznik prosty ze strzałką 40"/>
          <p:cNvCxnSpPr>
            <a:endCxn id="125" idx="3"/>
          </p:cNvCxnSpPr>
          <p:nvPr/>
        </p:nvCxnSpPr>
        <p:spPr>
          <a:xfrm flipH="1">
            <a:off x="1907640" y="3068640"/>
            <a:ext cx="3385440" cy="108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0" name="Łącznik prosty ze strzałką 41"/>
          <p:cNvCxnSpPr/>
          <p:nvPr/>
        </p:nvCxnSpPr>
        <p:spPr>
          <a:xfrm flipH="1">
            <a:off x="2484000" y="4981320"/>
            <a:ext cx="295200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1" name="Łącznik prosty ze strzałką 44"/>
          <p:cNvCxnSpPr/>
          <p:nvPr/>
        </p:nvCxnSpPr>
        <p:spPr>
          <a:xfrm flipV="1">
            <a:off x="3924360" y="2276280"/>
            <a:ext cx="108000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Łącznik prosty ze strzałką 45"/>
          <p:cNvCxnSpPr/>
          <p:nvPr/>
        </p:nvCxnSpPr>
        <p:spPr>
          <a:xfrm flipV="1">
            <a:off x="4140000" y="3284280"/>
            <a:ext cx="1152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lik:Spinning jenny.jpg"/>
          <p:cNvPicPr/>
          <p:nvPr/>
        </p:nvPicPr>
        <p:blipFill>
          <a:blip r:embed="rId2"/>
          <a:stretch/>
        </p:blipFill>
        <p:spPr>
          <a:xfrm>
            <a:off x="4265640" y="3218040"/>
            <a:ext cx="2871720" cy="23716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"/>
          <p:cNvSpPr/>
          <p:nvPr/>
        </p:nvSpPr>
        <p:spPr>
          <a:xfrm>
            <a:off x="7164360" y="327348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://www.spartacus.schoolnet.co.uk/TEXrota.jpg"/>
          <p:cNvPicPr/>
          <p:nvPr/>
        </p:nvPicPr>
        <p:blipFill>
          <a:blip r:embed="rId2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9:49:55Z</dcterms:modified>
  <cp:revision>50</cp:revision>
  <dc:subject/>
  <dc:title>Slajd 1</dc:title>
</cp:coreProperties>
</file>