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A61-C4B1-4800-A013-2CD0228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3F6-3A84-4D4C-88E5-3C42FEB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B10-ADD2-43DD-BD69-2F21EDD9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798-CE52-4A6A-BBDD-48E93C32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E1C-9A83-4489-AE26-2F00B03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360-947D-4E93-B391-D523539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B51-6192-4B2B-92A4-EC2B105B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EB4-CA2C-4EC1-814D-C24DBB8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411-001C-42D1-9580-02D4090E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707-DC29-407B-88E6-918C024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824-AADC-4031-A891-C65933C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176-6EE6-4D8A-A4A0-6FDFAC2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682-1DE4-435C-B05D-047A75CE17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dstawy europejskiej potęgi gospodarcz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3714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Przemysł źródłem potęgi Eu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9"/>
          <p:cNvSpPr/>
          <p:nvPr/>
        </p:nvSpPr>
        <p:spPr>
          <a:xfrm>
            <a:off x="5286240" y="1428840"/>
            <a:ext cx="38577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stęp techniczny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nalazek druk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tosowanie broni palnej i masowa produkcja proch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tęp w produkcji żelaz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czątek wydobycia i wykorzystania węgla kamiennego (Anglia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korzystanie energii wodnej (młyny): dzięki temu wykorzystanie pracy mechanicznej (folusze, papiernie, szlifiernie, kieraty w kopalni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  <a:ea typeface="Tahoma"/>
              </a:rPr>
              <a:t>Ewolucja form organizacji przemysł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nie manufaktur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dukcja nakładc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-166680" y="5072040"/>
            <a:ext cx="62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Jan Gutenberg ogląda pierwszą stronę wydrukowaną na swojej maszynie drukarski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11"/>
          <p:cNvSpPr/>
          <p:nvPr/>
        </p:nvSpPr>
        <p:spPr>
          <a:xfrm>
            <a:off x="-14400" y="5500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britannic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Gutenberg, Johannes: in his workshop"/>
          <p:cNvPicPr/>
          <p:nvPr/>
        </p:nvPicPr>
        <p:blipFill>
          <a:blip r:embed="rId3"/>
          <a:stretch/>
        </p:blipFill>
        <p:spPr>
          <a:xfrm>
            <a:off x="-23760" y="1182600"/>
            <a:ext cx="5400720" cy="412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10"/>
          <p:cNvSpPr/>
          <p:nvPr/>
        </p:nvSpPr>
        <p:spPr>
          <a:xfrm>
            <a:off x="285840" y="1928880"/>
            <a:ext cx="84294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. Camer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świata. Od paleolitu do czasów najnowsz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Kowalczy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lobalizacja i regionalizacja w stosunkach międzynarodowych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ww.sgh.waw.pl/katedry/karik/oferta/materialy/Wyklad_2.pd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zpa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powszechn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91400" y="1928880"/>
            <a:ext cx="642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uktura społeczeństwa feudal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a społeczeństwa kapitalistycz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kapitalizm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pitalizm w XIX wieku a dzisiejsza globaliza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czątki kapitalizmu w Europ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Źródła potęgi gospodarczej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ielkie odkrycia geograficzne a kondycja gospodarcza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ysł jako źródło potęgi gospodarcz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feud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writedesignonline.com/history-culture/Feudal.jpg"/>
          <p:cNvPicPr/>
          <p:nvPr/>
        </p:nvPicPr>
        <p:blipFill>
          <a:blip r:embed="rId3"/>
          <a:stretch/>
        </p:blipFill>
        <p:spPr>
          <a:xfrm>
            <a:off x="214200" y="642960"/>
            <a:ext cx="178128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9"/>
          <p:cNvSpPr/>
          <p:nvPr/>
        </p:nvSpPr>
        <p:spPr>
          <a:xfrm>
            <a:off x="2143080" y="142884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lasa rządząca posiadaczy ziemskich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dstawą ich władzy było posiadanie ziemi, co umożliwiało im „szlachetne” życie bez wykonywania ciężkiej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ższa klasa średnia – wielk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wielcy kupcy, wyżsi urzędnicy państwowi, wolne zawody, np. adwokaci, notariusze) – podstawą ich pozycji była wiedza i umiejętności, nieruchomości, udziały w handlu, osobiste kontakty z arystokrac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ższa klasa średnia – drobn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rzemieślnicy, rękodzielnicy, handlarze detaliczni, osoby pracujące w usługach, drobni dzierżaw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chałupnicy w przemyśle bawełnianym, biedacy i żeb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06560" y="5500800"/>
            <a:ext cx="189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eachers.saschina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kapitalist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0" y="1643040"/>
            <a:ext cx="2928960" cy="366876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10"/>
          <p:cNvSpPr/>
          <p:nvPr/>
        </p:nvSpPr>
        <p:spPr>
          <a:xfrm>
            <a:off x="2286000" y="2357280"/>
            <a:ext cx="407196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zykład: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OBOTNICY MIEJS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9"/>
          <p:cNvSpPr/>
          <p:nvPr/>
        </p:nvSpPr>
        <p:spPr>
          <a:xfrm>
            <a:off x="2143080" y="142884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jści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d rolnictwa do nowych form przemysł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ra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zwój miast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owodowały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powstanie nowych klas społe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rostokąt 11"/>
          <p:cNvSpPr/>
          <p:nvPr/>
        </p:nvSpPr>
        <p:spPr>
          <a:xfrm>
            <a:off x="2857680" y="3000240"/>
            <a:ext cx="6000480" cy="2500560"/>
          </a:xfrm>
          <a:prstGeom prst="rect">
            <a:avLst/>
          </a:prstGeom>
          <a:solidFill>
            <a:srgbClr val="ddd9c3"/>
          </a:solidFill>
          <a:ln w="2556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 można ich nazwać klasą robotniczą, gdyż byli bardzo zróżnicowan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botnicy fabryczni, górnicy, służba domowa, rzemieślnicy, rękodzielnicy i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mieli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wspólną cechę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trzymywanie sie ze sprzedawania swojej siły roboczej w zamian za wynagrodzenie dzienne lub tygodni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13"/>
          <p:cNvSpPr/>
          <p:nvPr/>
        </p:nvSpPr>
        <p:spPr>
          <a:xfrm>
            <a:off x="763920" y="542916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hewei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Co to jest ten KAPITALIZ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9"/>
          <p:cNvSpPr/>
          <p:nvPr/>
        </p:nvSpPr>
        <p:spPr>
          <a:xfrm>
            <a:off x="357120" y="142884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eden 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tapów rozwoju gospodarczego cywilizacji ludzki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Cech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4"/>
          <p:cNvSpPr/>
          <p:nvPr/>
        </p:nvSpPr>
        <p:spPr>
          <a:xfrm>
            <a:off x="285840" y="22860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pitał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 postaci środków produkcji (ziemia, narzędzia pracy, bogactwa naturalne) oraz środków na opłacanie cudzej siły roboczej – służy do osiągania i pomnażania zys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dukcja towarów na zbyt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 istnienie przedsiębiorstw produkujących w ten sposób (fabry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ca jest również towarem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o pozwala na zatrudnianie najemnej siły roboczej (pracownik najemny jest wolny osobiście, w przeciwieństwie od poddanego chłopa w feudalizm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ziałalność gospodarcza podporządkowana osiąganiu zysk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(powszechna staje się zaradność i konkurenc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siadacze środków produkcji dążąc do pomnażania zysków, dokonują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westy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przez co przyczyniają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zrostu gospodarczego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: na drodze ku globaliz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357120" y="1428840"/>
            <a:ext cx="857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wstanie kapitalizm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znawane jest za jeden z etapów w rozwoju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globaliz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III eta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XVIII - początek XX w.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— rozwój stosunków kapitalistycznych i stworzenie światowego systemu kapitalistycznego na zasadach internacjonalizacji kapita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49120" y="3260880"/>
            <a:ext cx="8680680" cy="186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amka 12"/>
          <p:cNvSpPr/>
          <p:nvPr/>
        </p:nvSpPr>
        <p:spPr>
          <a:xfrm>
            <a:off x="5286240" y="4643280"/>
            <a:ext cx="1643040" cy="571680"/>
          </a:xfrm>
          <a:custGeom>
            <a:avLst/>
            <a:gdLst>
              <a:gd name="textAreaLeft" fmla="*/ 38520 w 1643040"/>
              <a:gd name="textAreaRight" fmla="*/ 1604520 w 1643040"/>
              <a:gd name="textAreaTop" fmla="*/ 38520 h 571680"/>
              <a:gd name="textAreaBottom" fmla="*/ 533160 h 571680"/>
            </a:gdLst>
            <a:ahLst/>
            <a:rect l="textAreaLeft" t="textAreaTop" r="textAreaRight" b="textAreaBottom"/>
            <a:pathLst>
              <a:path w="1643074" h="571504">
                <a:moveTo>
                  <a:pt x="0" y="0"/>
                </a:moveTo>
                <a:lnTo>
                  <a:pt x="1643074" y="0"/>
                </a:lnTo>
                <a:lnTo>
                  <a:pt x="1643074" y="571504"/>
                </a:lnTo>
                <a:lnTo>
                  <a:pt x="0" y="571504"/>
                </a:lnTo>
                <a:close/>
                <a:moveTo>
                  <a:pt x="38685" y="38685"/>
                </a:moveTo>
                <a:lnTo>
                  <a:pt x="38685" y="532819"/>
                </a:lnTo>
                <a:lnTo>
                  <a:pt x="1604389" y="532819"/>
                </a:lnTo>
                <a:lnTo>
                  <a:pt x="1604389" y="386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rostokąt 13"/>
          <p:cNvSpPr/>
          <p:nvPr/>
        </p:nvSpPr>
        <p:spPr>
          <a:xfrm>
            <a:off x="118440" y="5214960"/>
            <a:ext cx="23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S. Kowalczyk, http://www.sgh.waw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iedy się zaczęł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9"/>
          <p:cNvSpPr/>
          <p:nvPr/>
        </p:nvSpPr>
        <p:spPr>
          <a:xfrm>
            <a:off x="357120" y="14288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Historycy zajmujący się gospodarką nie są zgodni, co do momentu, który należy uznać za początek kapital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którzy szukają wymienionych wcześniej cech kapitalizmu (np. produkcja towarowa, obrót towarowy)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 Starożyt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ni, datują początek kapitalizmu 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XVII wi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szcze inni badacze uważają, że nie należy mylić pojęcia gospodarki towarowej ze stosunkami kapitalistycznymi i proponują za początek uzn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res lat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450-1750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tym dwa podokres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450-1600 – charakteryzujące się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ilną ekspansją gospodarki europej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600-1750 – charakteryzujące się zmienną koniunkturą gospodarcz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3" name="Łącznik prosty 20"/>
          <p:cNvSpPr/>
          <p:nvPr/>
        </p:nvSpPr>
        <p:spPr>
          <a:xfrm>
            <a:off x="1643040" y="55720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64296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Od czego się zaczę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9"/>
          <p:cNvSpPr/>
          <p:nvPr/>
        </p:nvSpPr>
        <p:spPr>
          <a:xfrm>
            <a:off x="142920" y="1500120"/>
            <a:ext cx="4357800" cy="179892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XV/XVI w. – przełom w kontaktach z innymi kontynentam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rtugalczycy, Hiszpanie, później Holendrzy, Anglicy i Francuzi dokonują wielkich odkryć geograficzn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ch istotą była trwała kolonizacja nowych obszarów i poddanie ich ekonomicznej eksploatacj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8"/>
          <p:cNvSpPr/>
          <p:nvPr/>
        </p:nvSpPr>
        <p:spPr>
          <a:xfrm>
            <a:off x="2286000" y="1785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Otwarcie Europy na zewnątr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rostokąt 10"/>
          <p:cNvSpPr/>
          <p:nvPr/>
        </p:nvSpPr>
        <p:spPr>
          <a:xfrm>
            <a:off x="2286000" y="2357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ne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1"/>
          <p:cNvSpPr/>
          <p:nvPr/>
        </p:nvSpPr>
        <p:spPr>
          <a:xfrm>
            <a:off x="2286000" y="2928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12"/>
          <p:cNvSpPr/>
          <p:nvPr/>
        </p:nvSpPr>
        <p:spPr>
          <a:xfrm>
            <a:off x="2286000" y="3500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owstanie państw narod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4643280" y="1500120"/>
            <a:ext cx="4357800" cy="201204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drodzenie przyniosło zmiany w mentalności ludz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umanizm: zainteresowanie człowiekiem, otaczającym go światem i życiem doczesny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zukiwano bogactwa jako środka luksusowego życia oraz sposobu finansowania mecenatu nad sztuką i kultur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iększały się potrzeby ludzi: popyt wpływał na sferę produkcyjną (poda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5"/>
          <p:cNvSpPr/>
          <p:nvPr/>
        </p:nvSpPr>
        <p:spPr>
          <a:xfrm>
            <a:off x="142920" y="4071960"/>
            <a:ext cx="4357800" cy="158580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iała olbrzymi wpływ na życie społeczno-ekonomiczne; rehabilitacja pomyślności materialnej jako znaku łaski Boskiej; dopuszczenie przez Kalwina zysku z kapitału (pożyczania na procen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chwalano: pracowitość, oszczędność, solidność, przedsiębiorcz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6"/>
          <p:cNvSpPr/>
          <p:nvPr/>
        </p:nvSpPr>
        <p:spPr>
          <a:xfrm>
            <a:off x="4643280" y="4071960"/>
            <a:ext cx="4357800" cy="137268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cesy zjednoczeniowe miały poparcie średniej szlachty i mieszczaństw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ły monarchie absolutne (Francja, Anglia, monarchia Habsburgów); w celu utrzymania władzy monarchowie potrzebowali olbrzymich środków pienięż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9898E-006 L -0.24045 -0.1269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56799E-007 L 0.30295 -0.21022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1258E-006 L -0.24045 0.08418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3164E-006 L 0.30295 0.00093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 a odkrycia geograf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9"/>
          <p:cNvSpPr/>
          <p:nvPr/>
        </p:nvSpPr>
        <p:spPr>
          <a:xfrm>
            <a:off x="5643720" y="142884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Ekonomiczne konsekwencje odkryć geografi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mperia kolonialne Portugalii i Hiszpanii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handlow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flacja monetarn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wożytne niewolnic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 Dioscoro Teofilo Puebla Tolin - The First Landing of Christopher Columbus (1450-1506) in America"/>
          <p:cNvPicPr/>
          <p:nvPr/>
        </p:nvPicPr>
        <p:blipFill>
          <a:blip r:embed="rId3"/>
          <a:stretch/>
        </p:blipFill>
        <p:spPr>
          <a:xfrm>
            <a:off x="49320" y="1225440"/>
            <a:ext cx="5797440" cy="4078440"/>
          </a:xfrm>
          <a:prstGeom prst="rect">
            <a:avLst/>
          </a:prstGeom>
          <a:ln w="0">
            <a:noFill/>
          </a:ln>
        </p:spPr>
      </p:pic>
      <p:sp>
        <p:nvSpPr>
          <p:cNvPr id="122" name="Prostokąt 10"/>
          <p:cNvSpPr/>
          <p:nvPr/>
        </p:nvSpPr>
        <p:spPr>
          <a:xfrm>
            <a:off x="72720" y="5143680"/>
            <a:ext cx="54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Dioscoro Teofilo Puebla Tolin – „Pierwsze lądowanie Kolumba w Amery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11"/>
          <p:cNvSpPr/>
          <p:nvPr/>
        </p:nvSpPr>
        <p:spPr>
          <a:xfrm>
            <a:off x="-51120" y="550080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art-prints-on-deman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07T22:27:48Z</dcterms:modified>
  <cp:revision>155</cp:revision>
  <dc:subject/>
  <dc:title>Slajd 1</dc:title>
</cp:coreProperties>
</file>