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37EA0-77FF-4008-AEAD-886D8EFAC006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ABDB1-BD15-458A-9726-785BB68D04B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DAE99-E1CB-44A7-8B3A-16F863E2274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48D7A-00C5-4912-80FD-AA4D8777B2B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70DE-9E6F-40D1-9B38-BE2F785D2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36B2-4824-4D52-88E0-06B5909EE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D129-A107-4476-8054-CE387EA42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53E7-71F7-4420-890D-BAD1142AC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5A471-A180-46D8-8C55-39704356B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D5846-B65B-4C76-B317-78D200080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DF374-7D1D-4157-9A19-05A0FDF56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E43D1-E7F4-4696-8748-01DE3B2F4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D06FD-C20D-4E5B-8A68-38297FE01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1D4AF-61DD-41DB-A392-BE8F63C0D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335E2-2E8F-4B2C-B8F4-D7811D26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3D49-277A-4A0E-96B9-2855C99F8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8141E-DEF2-48C7-9FA1-EEE69B46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666FA-421C-47AB-9E40-45976FDF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EA336-2663-44FF-9432-6BCE0897D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2DACF-1520-4C78-B2CD-A91D37E47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46C78-3D5D-49B5-93EC-4370090A5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05E8-E5EC-4C37-90EF-441758438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379D-A975-4503-A04F-133ED6E0D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23A1-B7B9-40D2-A39E-4251C9B8D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FBEF-19DF-49C6-97EF-150234CE1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40E8-288B-4AAC-BB1B-1476A496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51D5-AB04-4309-B89A-998A0404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51AF-2F3F-44C4-8625-02D96208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F8A27-DF16-46E4-B6C4-110ABEAD0110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3CA76-A855-47C9-A84A-B01758014831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zanim-podpiszesz.pl/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polskawue.gov.pl/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samcik.blox.pl/" TargetMode="External"/><Relationship Id="rId2" Type="http://schemas.openxmlformats.org/officeDocument/2006/relationships/hyperlink" Target="http://www.nbportal.pl/" TargetMode="External"/><Relationship Id="rId3" Type="http://schemas.openxmlformats.org/officeDocument/2006/relationships/hyperlink" Target="http://www.mg.gov.pl/" TargetMode="External"/><Relationship Id="rId4" Type="http://schemas.openxmlformats.org/officeDocument/2006/relationships/hyperlink" Target="http://www.nbp.pl/" TargetMode="External"/><Relationship Id="rId5" Type="http://schemas.openxmlformats.org/officeDocument/2006/relationships/hyperlink" Target="http://www.zanim-podpiszesz.pl/" TargetMode="External"/><Relationship Id="rId6" Type="http://schemas.openxmlformats.org/officeDocument/2006/relationships/hyperlink" Target="http://www.polskawue.gov.pl/" TargetMode="External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File:AdamSmith.jpg" TargetMode="External"/><Relationship Id="rId2" Type="http://schemas.openxmlformats.org/officeDocument/2006/relationships/hyperlink" Target="http://openclipart.org/detail/169932/grenouille-by-mathafix" TargetMode="External"/><Relationship Id="rId3" Type="http://schemas.openxmlformats.org/officeDocument/2006/relationships/hyperlink" Target="http://openclipart.org/detail/18418/giraffe-sympa-by-martouf" TargetMode="Externa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Gospodarze i ekonomiści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nna Błaszkiewi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Gra rynkowa – cena równowag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5" name="Łącznik prosty ze strzałką 5"/>
          <p:cNvCxnSpPr/>
          <p:nvPr/>
        </p:nvCxnSpPr>
        <p:spPr>
          <a:xfrm flipV="1">
            <a:off x="1692000" y="1988640"/>
            <a:ext cx="1080" cy="2880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6" name="Łącznik prosty ze strzałką 7"/>
          <p:cNvCxnSpPr/>
          <p:nvPr/>
        </p:nvCxnSpPr>
        <p:spPr>
          <a:xfrm>
            <a:off x="1692000" y="4868640"/>
            <a:ext cx="2880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7" name="pole tekstowe 9"/>
          <p:cNvSpPr/>
          <p:nvPr/>
        </p:nvSpPr>
        <p:spPr>
          <a:xfrm>
            <a:off x="324000" y="213372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ce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ole tekstowe 10"/>
          <p:cNvSpPr/>
          <p:nvPr/>
        </p:nvSpPr>
        <p:spPr>
          <a:xfrm>
            <a:off x="1619280" y="515772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loś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Łącznik prosty 14"/>
          <p:cNvSpPr/>
          <p:nvPr/>
        </p:nvSpPr>
        <p:spPr>
          <a:xfrm>
            <a:off x="1547640" y="3429000"/>
            <a:ext cx="302436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ole tekstowe 8"/>
          <p:cNvSpPr/>
          <p:nvPr/>
        </p:nvSpPr>
        <p:spPr>
          <a:xfrm>
            <a:off x="0" y="3141720"/>
            <a:ext cx="161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70c0"/>
                </a:solidFill>
                <a:latin typeface="Calibri"/>
              </a:rPr>
              <a:t>cena równowag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Łącznik prosty 10"/>
          <p:cNvSpPr/>
          <p:nvPr/>
        </p:nvSpPr>
        <p:spPr>
          <a:xfrm>
            <a:off x="2050920" y="2349360"/>
            <a:ext cx="2160720" cy="215928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Łącznik prosty 13"/>
          <p:cNvSpPr/>
          <p:nvPr/>
        </p:nvSpPr>
        <p:spPr>
          <a:xfrm flipV="1">
            <a:off x="2050920" y="2349360"/>
            <a:ext cx="2160720" cy="2159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ole tekstowe 16"/>
          <p:cNvSpPr/>
          <p:nvPr/>
        </p:nvSpPr>
        <p:spPr>
          <a:xfrm>
            <a:off x="3059280" y="177336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Calibri"/>
              </a:rPr>
              <a:t>poda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ole tekstowe 17"/>
          <p:cNvSpPr/>
          <p:nvPr/>
        </p:nvSpPr>
        <p:spPr>
          <a:xfrm>
            <a:off x="4284720" y="414972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50"/>
                </a:solidFill>
                <a:latin typeface="Calibri"/>
              </a:rPr>
              <a:t>popy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ole tekstowe 18"/>
          <p:cNvSpPr/>
          <p:nvPr/>
        </p:nvSpPr>
        <p:spPr>
          <a:xfrm>
            <a:off x="5724360" y="2276640"/>
            <a:ext cx="309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70c0"/>
                </a:solidFill>
                <a:latin typeface="Calibri"/>
              </a:rPr>
              <a:t>Cena równowagi </a:t>
            </a:r>
            <a:r>
              <a:rPr b="0" lang="pl-PL" sz="2400" spc="-1" strike="noStrike">
                <a:solidFill>
                  <a:srgbClr val="0070c0"/>
                </a:solidFill>
                <a:latin typeface="Calibri"/>
              </a:rPr>
              <a:t>– przy tej cenie rozmiary zapotrzebowania na jakieś dobro (np. na truskawki) są równe ilości zaoferowanej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odaż i popyt – przykł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971640" y="1397160"/>
          <a:ext cx="7272360" cy="4192560"/>
        </p:xfrm>
        <a:graphic>
          <a:graphicData uri="http://schemas.openxmlformats.org/drawingml/2006/table">
            <a:tbl>
              <a:tblPr/>
              <a:tblGrid>
                <a:gridCol w="2423880"/>
                <a:gridCol w="2424240"/>
                <a:gridCol w="2424240"/>
              </a:tblGrid>
              <a:tr h="598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ena (zł/sztuk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pyt  (tys./ro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daż (tys. /ro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00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98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98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98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00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98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ożyczka i lichw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ole tekstowe 4"/>
          <p:cNvSpPr/>
          <p:nvPr/>
        </p:nvSpPr>
        <p:spPr>
          <a:xfrm>
            <a:off x="324000" y="1341360"/>
            <a:ext cx="8424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Pożyczka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– kwestię ich udzielania reguluje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art. 720 § 1 kodeksu cywilnego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który mówi: 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przez umowę pożyczki dający pożyczkę zobowiązuje się przenieść na własność biorącego </a:t>
            </a:r>
            <a:r>
              <a:rPr b="1" i="1" lang="pl-PL" sz="2000" spc="-1" strike="noStrike">
                <a:solidFill>
                  <a:srgbClr val="000000"/>
                </a:solidFill>
                <a:latin typeface="Calibri"/>
              </a:rPr>
              <a:t>określoną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pl-PL" sz="2000" spc="-1" strike="noStrike">
                <a:solidFill>
                  <a:srgbClr val="000000"/>
                </a:solidFill>
                <a:latin typeface="Calibri"/>
              </a:rPr>
              <a:t>ilość pieniędzy 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albo </a:t>
            </a:r>
            <a:r>
              <a:rPr b="1" i="1" lang="pl-PL" sz="2000" spc="-1" strike="noStrike">
                <a:solidFill>
                  <a:srgbClr val="000000"/>
                </a:solidFill>
                <a:latin typeface="Calibri"/>
              </a:rPr>
              <a:t>rzeczy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 oznaczonych tylko co do gatunku, a biorący zobowiązuje się zwrócić tę samą ilość pieniędzy albo tę samą ilość rzeczy tego samego gatunku i tej samej jakości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. Pożyczkę pieniężną można przeznaczyć na wybrany przez siebie ce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Lichwa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– to forma wyzysku, polegająca na udzielaniu wysokooprocentowanych pożyczek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Kredyt bankow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ole tekstowe 4"/>
          <p:cNvSpPr/>
          <p:nvPr/>
        </p:nvSpPr>
        <p:spPr>
          <a:xfrm>
            <a:off x="324000" y="1268280"/>
            <a:ext cx="8424720" cy="34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Kredyt bankowy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to umowa, na podstawie której kredytodawca przekazuje do dyspozycji kredytobiorcy określoną kwotę pieniędzy z przeznaczeniem na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konkretny cel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a kredytobiorca zobowiązuje się do spłaty kredytu wraz z odsetkami i ewentualnymi prowizjami w ustalonych w umowie terminac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Kredyt podlega przepisom ustawy prawo bankowe i może być udzielany tylko przez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bank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lub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spółdzielczą kasę oszczędnościowo-kredytową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Na podstawie: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zanim-podpiszesz.p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Obraz 3" descr="swinka1.png"/>
          <p:cNvPicPr/>
          <p:nvPr/>
        </p:nvPicPr>
        <p:blipFill>
          <a:blip r:embed="rId2"/>
          <a:stretch/>
        </p:blipFill>
        <p:spPr>
          <a:xfrm>
            <a:off x="0" y="4581360"/>
            <a:ext cx="2050920" cy="20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Trójsektorowa struktura gospodarki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ole tekstowe 4"/>
          <p:cNvSpPr/>
          <p:nvPr/>
        </p:nvSpPr>
        <p:spPr>
          <a:xfrm>
            <a:off x="324000" y="1484280"/>
            <a:ext cx="842472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Dział I – rolnictwo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(produkcja roślinna i zwierzęca oraz rybołówstwo śródlądowe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Dział II – przemysł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(górnictwo i przetwórstwo, które dzieli się m.in. na przemysł maszynowy, włókienniczy, budownictwo i hutnictwo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Dział III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usługi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(komunikacja, transport, handel, bankowość i usługi finansowe, szkolnictwo, ochrona zdrowia, kultura i informatyka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Na podstawie: Marciniak S., Makro- i mikroekonomia. Podstawowe problemy współczesności, Wydawnictwo Naukowe PWN, Warszawa 20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ole tekstowe 2"/>
          <p:cNvSpPr/>
          <p:nvPr/>
        </p:nvSpPr>
        <p:spPr>
          <a:xfrm>
            <a:off x="0" y="1890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Jak zmieniały się formy gospodarowani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ole tekstowe 4"/>
          <p:cNvSpPr/>
          <p:nvPr/>
        </p:nvSpPr>
        <p:spPr>
          <a:xfrm>
            <a:off x="900000" y="1989000"/>
            <a:ext cx="62643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rewolucja neolitycz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rewolucja agrar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rewolucja przemysłow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rewolucja naukowo-technicz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Rewolucja neolitycz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ole tekstowe 4"/>
          <p:cNvSpPr/>
          <p:nvPr/>
        </p:nvSpPr>
        <p:spPr>
          <a:xfrm>
            <a:off x="468360" y="155736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był to proces przechodzenia ludzkości od łowiectwa, zbieractwa i koczownictwa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do hodowli, rolnictwa i osiadłego trybu życia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miała miejsce w latach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10000-4000 p.n.e.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regionie Żyznego Półksiężyca (dziś to Bliski Wschód, a więc tereny obejmujące m.in. Egipt, Izrael, Palestynę i Jordanię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efektywne sposoby pozyskiwania żywności spowodowały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ogromny wzrost liczby ludności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i pozwoliły części z niej zajmować się kwestiami niezwiązanymi bezpośrednio z przetrwaniem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0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Rewolucja agra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ole tekstowe 4"/>
          <p:cNvSpPr/>
          <p:nvPr/>
        </p:nvSpPr>
        <p:spPr>
          <a:xfrm>
            <a:off x="468360" y="1557360"/>
            <a:ext cx="69832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był to proces przemiany tradycyjnego rolnictwa w dużo wydajniejsze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rolnictwo nowoczesne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miany te miały miejsce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 XVI, XVII i XVIII wieku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i zaczęły się od wprowadzenia płodozmianu oraz hodowli zwierząt domowych na terenach nienadających się do prowadzenia upraw, ale mogących wykarmić zwierzęta. Nadwyżki produkcji żywności były sprzedawane i stały się źródłem dochodów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yski z rolnictwa pozwalały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na inwestowanie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p. w nowe maszyny rolnicze i hodowlę lepszych ras bydła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Obraz 3" descr="Cereal_plant.png"/>
          <p:cNvPicPr/>
          <p:nvPr/>
        </p:nvPicPr>
        <p:blipFill>
          <a:blip r:embed="rId1"/>
          <a:stretch/>
        </p:blipFill>
        <p:spPr>
          <a:xfrm>
            <a:off x="7321680" y="1628640"/>
            <a:ext cx="1822320" cy="47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Rewolucja przemysłow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ole tekstowe 4"/>
          <p:cNvSpPr/>
          <p:nvPr/>
        </p:nvSpPr>
        <p:spPr>
          <a:xfrm>
            <a:off x="468360" y="1225440"/>
            <a:ext cx="8136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był to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proces zmian gospodarczych, technologicznych i społecznych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wiązanych z przejściem od gospodarki opartej na rolnictwie i rzemiośle do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gospodarki opartej na produkcji fabrycznej na skalę przemysłową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ymbolem rewolucji przemysłowej stała się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maszyna parowa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rewolucja przemysłowa zaczęła się w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XVIII wieku w Anglii i Szkocji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. Jej przyczyną były: rewolucja agrarna i ogromny przyrost ludnośc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śród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konsekwencji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tej rewolucji warto wymienić: industrializację, powstanie społeczeństwa przemysłowego, w którym przeważająca liczba ludności mieszka w miastach, powstanie związków zawodowych i prawa pracy, a także narodziny ruchu robotniczego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Rewolucja naukowo-technicz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ole tekstowe 4"/>
          <p:cNvSpPr/>
          <p:nvPr/>
        </p:nvSpPr>
        <p:spPr>
          <a:xfrm>
            <a:off x="395280" y="1773360"/>
            <a:ext cx="813744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ą to procesy wielkich przemian i odkryć w technice, produkcji oraz nauce, które rozpoczęły się w latach 50. XX wieku i trwają do dziś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azywana jest czasem trzecią rewolucją przemysłową, a jej cechą charakterystyczną jest ścisła zależność między nauką, techniką i produkcją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ajważniejszymi elementami tej rewolucji jest komputeryzacja, rozwój materiałów syntetycznych, wykorzystanie energetyki jądrowej i innych nowych źródeł energii oraz automatyzacja procesów pracy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0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lan prezentac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ole tekstowe 4"/>
          <p:cNvSpPr/>
          <p:nvPr/>
        </p:nvSpPr>
        <p:spPr>
          <a:xfrm>
            <a:off x="395280" y="981000"/>
            <a:ext cx="835344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ekonomia jako nauka społeczna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Adam Smith – ojciec ekonomii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mikroekonomia i makroekonomia – od „perspektywy żaby” do „perspektywy żyrafy”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„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złowiek ekonomiczny” (homo oeconomicus) czyli działający racjonalnie, nastawiony na efektywność, egoistyczny bohater analiz ekonomicznych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ysk i strata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gra rynkowa – popyt i podaż, cena równowagi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życzka, lichwa, kredyt bankowy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trójsektorowa struktura gospodarki – trzy działy: rolnictwo, przemysł i usługi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jak zmieniały się formy gospodarowania (rewolucja neolityczna, agrarna, przemysłowa i naukowo-techniczna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roces ekonomiczny – na przykładzie integracji gospodarczej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ibliografia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Integracja gospodarcz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ole tekstowe 4"/>
          <p:cNvSpPr/>
          <p:nvPr/>
        </p:nvSpPr>
        <p:spPr>
          <a:xfrm>
            <a:off x="395280" y="1773360"/>
            <a:ext cx="813744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Jest to proces, który polega na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zacieśnianiu współpracy gospodarczej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zez co najmniej dwa kraje albo całą grupę (np. kraje należące do Unii Europejskiej) poprzez eliminację barier, które mogłyby taką współpracę ograniczać. W efekcie dochodzi do scalenia gospodarek narodowych poszczególnych krajów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0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Formy integracji gospodarczej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68360" y="1125360"/>
          <a:ext cx="8353440" cy="4483440"/>
        </p:xfrm>
        <a:graphic>
          <a:graphicData uri="http://schemas.openxmlformats.org/drawingml/2006/table">
            <a:tbl>
              <a:tblPr/>
              <a:tblGrid>
                <a:gridCol w="3206880"/>
                <a:gridCol w="5146560"/>
              </a:tblGrid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efa wolnego hand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kwidacja ceł i ograniczeń ilościowych w obronie handlowy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a cel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spólna polityka handlowa i jednakowe taryfy cel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spólny ryn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wobodny przepływ usług i czynników produkcj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a gospodarcza i walutow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łkowita koordynacja polityki gospodarczej i walutowej, utworzenie nowych ponadpaństwowych instytucj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a gospodarcza i politycz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łkowita koordynacja polityki wewnętrznej, zagranicznej i obronnej, powołanie ponadpaństwowych organów władz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60" name="pole tekstowe 4"/>
          <p:cNvSpPr/>
          <p:nvPr/>
        </p:nvSpPr>
        <p:spPr>
          <a:xfrm>
            <a:off x="539640" y="5805360"/>
            <a:ext cx="47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Na podstawie: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polskawue.gov.p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0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Bibliograf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ole tekstowe 3"/>
          <p:cNvSpPr/>
          <p:nvPr/>
        </p:nvSpPr>
        <p:spPr>
          <a:xfrm>
            <a:off x="179280" y="1052640"/>
            <a:ext cx="878544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Begg D., Fischer S., Dornbusch R., Mikroekonomia, Polskie Wydawnictwo Ekonomiczne, Warszawa 1998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Begg D., Fischer S., Dornbusch R., Makroekonomia, Polskie Wydawnictwo Ekonomiczne, Warszawa 199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Frank R.H., Dlaczego piloci kamikadze zakładali hełmy? Czyli ekonomia bez tajemnic, Wydawnictwo Literackie, Kraków 200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Marciniak S. (red.), Makro- i mikroekonomia. Podstawowe problemy współczesności, Wydawnictwo Naukowe PWN, Warszawa 20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Morawski W., Socjologia ekonomiczna, Wydawnictwo Naukowe PWN, Warszawa 2001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Smith A., Badania nad naturą i przyczynami bogactwa narodów, PWN, Warszawa 195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Blog Macieja Samcika, </a:t>
            </a:r>
            <a:r>
              <a:rPr b="0" lang="pl-PL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samcik.blox.pl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ortal Edukacji Ekonomicznej, </a:t>
            </a:r>
            <a:r>
              <a:rPr b="0" lang="pl-PL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nbportal.pl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Strona internetowa Ministerstwa Gospodarki, </a:t>
            </a:r>
            <a:r>
              <a:rPr b="0" lang="pl-PL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mg.gov.p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Strona internetowa Narodowego Banku Polskiego, </a:t>
            </a:r>
            <a:r>
              <a:rPr b="0" lang="pl-PL" sz="16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nbp.pl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Strona internetowa akcji społecznej „Zanim podpiszesz”, </a:t>
            </a:r>
            <a:r>
              <a:rPr b="0" lang="pl-PL" sz="16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zanim-podpiszesz.p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Strona internetowa prowadzona przez Ministerstwo Spraw Zagranicznych, </a:t>
            </a:r>
            <a:r>
              <a:rPr b="0" lang="pl-PL" sz="16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polskawue.gov.p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Wykorzystane zdjęcia i graf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ole tekstowe 3"/>
          <p:cNvSpPr/>
          <p:nvPr/>
        </p:nvSpPr>
        <p:spPr>
          <a:xfrm>
            <a:off x="395280" y="1133640"/>
            <a:ext cx="835344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1. Portret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dam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Smith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źródło: Wikimedia Commons,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commons.wikimedia.org/wiki/File:AdamSmith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2. Żaba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(g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nouille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rys.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mathafix,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źródło: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openclipart.org/detail/169932/grenouille-by-mathafi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3. Żyrafa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(giraffe sympa), źródło: </a:t>
            </a:r>
            <a:r>
              <a:rPr b="0" lang="pl-PL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openclipart.org/detail/18418/giraffe-sympa-by-martouf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4. Kasa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(architetto – cassa d'epoca), rys.: Francesco Rollandin, źródło: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Calibri"/>
              </a:rPr>
              <a:t>http://openclipart.org/detail/25412/architetto----cassa-depoca-by-anonymous-2541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5. Pieniądze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(money), autor: Tax Credits, źródło: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Calibri"/>
              </a:rPr>
              <a:t>http://www.flickr.com/photos/76657755@N04/7027595009/in/photostream/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, udostępnione na licencji CC BY, 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Calibri"/>
              </a:rPr>
              <a:t>http://creativecommons.org/licenses/by/2.0/deed.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6. Świnka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(piggy bank), autor: David García Garzón, źródło: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Calibri"/>
              </a:rPr>
              <a:t>http://openclipart.org/detail/170058/piggy-bank-by-vokim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7. Zboże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(c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real plant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rys.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gsagri04,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http://openclipart.org/detail/139999/cereal-plant-by-gsagri0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Ekonomia jako nauka społecz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trzałka w dół 5"/>
          <p:cNvSpPr/>
          <p:nvPr/>
        </p:nvSpPr>
        <p:spPr>
          <a:xfrm>
            <a:off x="4284720" y="1268280"/>
            <a:ext cx="647640" cy="259236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trzałka w dół 6"/>
          <p:cNvSpPr/>
          <p:nvPr/>
        </p:nvSpPr>
        <p:spPr>
          <a:xfrm rot="20646000">
            <a:off x="7291440" y="1236240"/>
            <a:ext cx="647640" cy="259092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trzałka w dół 7"/>
          <p:cNvSpPr/>
          <p:nvPr/>
        </p:nvSpPr>
        <p:spPr>
          <a:xfrm rot="1258200">
            <a:off x="1125000" y="1227240"/>
            <a:ext cx="649440" cy="25923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ole tekstowe 8"/>
          <p:cNvSpPr/>
          <p:nvPr/>
        </p:nvSpPr>
        <p:spPr>
          <a:xfrm>
            <a:off x="250920" y="3716280"/>
            <a:ext cx="2160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(czyli jakie dobra i usługi) wytwarzać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ole tekstowe 10"/>
          <p:cNvSpPr/>
          <p:nvPr/>
        </p:nvSpPr>
        <p:spPr>
          <a:xfrm>
            <a:off x="3419640" y="3860640"/>
            <a:ext cx="30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Calibri"/>
              </a:rPr>
              <a:t>Jak </a:t>
            </a: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wytwarzać</a:t>
            </a:r>
            <a:r>
              <a:rPr b="1" lang="pl-PL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dobra i usługi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ole tekstowe 11"/>
          <p:cNvSpPr/>
          <p:nvPr/>
        </p:nvSpPr>
        <p:spPr>
          <a:xfrm>
            <a:off x="6875640" y="3716280"/>
            <a:ext cx="2089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Dla kogo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ytwarzać dobra i usług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Adam Smith – ojciec ekonom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ole tekstowe 3"/>
          <p:cNvSpPr/>
          <p:nvPr/>
        </p:nvSpPr>
        <p:spPr>
          <a:xfrm>
            <a:off x="2700360" y="1413000"/>
            <a:ext cx="6119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zkocki filozof i myśliciel, żył w latach 1723-1790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apisał przełomowe dzieło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„Badania nad naturą i przyczynami bogactwa narodów”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ydane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 w 1776 r.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Jest autorem słynnej metafory o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niewidzialnej ręce rynku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Obraz 5" descr="AdamSmith.jpg"/>
          <p:cNvPicPr/>
          <p:nvPr/>
        </p:nvPicPr>
        <p:blipFill>
          <a:blip r:embed="rId1"/>
          <a:stretch/>
        </p:blipFill>
        <p:spPr>
          <a:xfrm>
            <a:off x="395280" y="981000"/>
            <a:ext cx="2016000" cy="3006720"/>
          </a:xfrm>
          <a:prstGeom prst="rect">
            <a:avLst/>
          </a:prstGeom>
          <a:ln w="0">
            <a:noFill/>
          </a:ln>
        </p:spPr>
      </p:pic>
      <p:sp>
        <p:nvSpPr>
          <p:cNvPr id="109" name="pole tekstowe 4"/>
          <p:cNvSpPr/>
          <p:nvPr/>
        </p:nvSpPr>
        <p:spPr>
          <a:xfrm>
            <a:off x="324000" y="4149720"/>
            <a:ext cx="8496000" cy="22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Nie od przychylności rzeźnika, piwowara czy piekarza oczekujemy naszego obiadu, lecz od ich dbałości o własny interes. Zwracamy się nie do ich humanitarności, lecz do egoizmu i nie mówimy im o naszych własnych potrzebach, lecz o ich korzyściach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Smith A., Badania nad naturą i przyczynami bogactwa narodów, PWN, Warszawa 1954, t.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Mikroekonom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Obraz 3" descr="zaba.png"/>
          <p:cNvPicPr/>
          <p:nvPr/>
        </p:nvPicPr>
        <p:blipFill>
          <a:blip r:embed="rId1"/>
          <a:stretch/>
        </p:blipFill>
        <p:spPr>
          <a:xfrm>
            <a:off x="324000" y="4581360"/>
            <a:ext cx="1903320" cy="1872000"/>
          </a:xfrm>
          <a:prstGeom prst="rect">
            <a:avLst/>
          </a:prstGeom>
          <a:ln w="0">
            <a:noFill/>
          </a:ln>
        </p:spPr>
      </p:pic>
      <p:sp>
        <p:nvSpPr>
          <p:cNvPr id="112" name="pole tekstowe 4"/>
          <p:cNvSpPr/>
          <p:nvPr/>
        </p:nvSpPr>
        <p:spPr>
          <a:xfrm>
            <a:off x="468360" y="1557360"/>
            <a:ext cx="8280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Calibri"/>
              </a:rPr>
              <a:t>Analiza mikroekonomiczna 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zajmuje się szczegółowo badaniem indywidualnych decyzji dotyczących pojedynczych towarów. Np. możemy badać, dlaczego poszczególne gospodarstwa domowe preferują samochody, a nie rowery oraz w jaki sposób producenci decydują o tym, czy wytwarzać samochody czy rower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Begg D., Fischer S., Dornbusch R., Mikroekonomia, Polskie Wydawnictwo Ekonomiczne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Warszawa 199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Makroekonom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ole tekstowe 4"/>
          <p:cNvSpPr/>
          <p:nvPr/>
        </p:nvSpPr>
        <p:spPr>
          <a:xfrm>
            <a:off x="468360" y="1557360"/>
            <a:ext cx="828036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Calibri"/>
              </a:rPr>
              <a:t>Makroekonomia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 kładzie nacisk na wzajemne związki zachodzące w gospodarce jako całości. W swojej metodzie celowo upraszcza ona analizę poszczególnych elementów badanej całości w trosce o przejrzystość obrazu działania całej gospodark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Begg D., Fischer S., Dornbusch R., Mikroekonomia, Polskie Wydawnictwo Ekonomiczne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Warszawa 199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Obraz 5" descr="zyrafa.png"/>
          <p:cNvPicPr/>
          <p:nvPr/>
        </p:nvPicPr>
        <p:blipFill>
          <a:blip r:embed="rId1"/>
          <a:stretch/>
        </p:blipFill>
        <p:spPr>
          <a:xfrm>
            <a:off x="7000920" y="3500280"/>
            <a:ext cx="178740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ole tekstowe 2"/>
          <p:cNvSpPr/>
          <p:nvPr/>
        </p:nvSpPr>
        <p:spPr>
          <a:xfrm>
            <a:off x="0" y="1890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Człowiek ekonomiczn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(homo oeconomicu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ole tekstowe 3"/>
          <p:cNvSpPr/>
          <p:nvPr/>
        </p:nvSpPr>
        <p:spPr>
          <a:xfrm>
            <a:off x="395280" y="1916280"/>
            <a:ext cx="799308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 działaniach kieruje się interesem własnym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– tylko na samym sobie skupia uwagę, dąży do celu, chłodno kalkulując i posługując się kryteriami zysku i straty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awsze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działa racjonalnie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ykorzystuje kapitał / zasoby: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finansowe, ludzkie (np. wykształcenie), społeczne (np. znajomośc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jest nastawiony na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efektywność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jest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egoistą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 „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ma głowę, ale nie ma serca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Na podstawie: Morawski W., Socjologia ekonomiczna, Wydawnictwo Naukowe PWN, Warszawa 20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Obraz 3" descr="kasa.png"/>
          <p:cNvPicPr/>
          <p:nvPr/>
        </p:nvPicPr>
        <p:blipFill>
          <a:blip r:embed="rId1"/>
          <a:stretch/>
        </p:blipFill>
        <p:spPr>
          <a:xfrm>
            <a:off x="6156360" y="3645000"/>
            <a:ext cx="2031840" cy="21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Zysk i str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ole tekstowe 4"/>
          <p:cNvSpPr/>
          <p:nvPr/>
        </p:nvSpPr>
        <p:spPr>
          <a:xfrm>
            <a:off x="468360" y="1197000"/>
            <a:ext cx="748836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Calibri"/>
              </a:rPr>
              <a:t>Zysk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 – nadwyżka przychodu nad kosztami,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dodatni wynik finansowy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Calibri"/>
              </a:rPr>
              <a:t>Strata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 – ujemny wynik finansowy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Calibri"/>
              </a:rPr>
              <a:t>Koszty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 – wydatki poniesione na wytworzeni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dóbr i usług w danym okresi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Calibri"/>
              </a:rPr>
              <a:t>Przychód 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– ilość pieniędzy uzyskana ze sprzedaży dóbr i usług w danym okresie;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Begg D., Fischer S., Dornbusch R., Mikroekonomia, Polskie Wydawnictwo Ekonomiczne, Warszawa 199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Obraz 5" descr="rece.jpg"/>
          <p:cNvPicPr/>
          <p:nvPr/>
        </p:nvPicPr>
        <p:blipFill>
          <a:blip r:embed="rId1"/>
          <a:stretch/>
        </p:blipFill>
        <p:spPr>
          <a:xfrm>
            <a:off x="5711760" y="189000"/>
            <a:ext cx="34322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Gra rynkowa – popyt i poda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ole tekstowe 4"/>
          <p:cNvSpPr/>
          <p:nvPr/>
        </p:nvSpPr>
        <p:spPr>
          <a:xfrm>
            <a:off x="395280" y="1052640"/>
            <a:ext cx="842472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Calibri"/>
              </a:rPr>
              <a:t>Popyt</a:t>
            </a: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 – ilość dobra, jaką nabywcy są gotowi zakupić przy różnym poziomie ceny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Calibri"/>
              </a:rPr>
              <a:t>Podaż</a:t>
            </a: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 – ilość dobra, jaką sprzedawcy są gotowi zaoferować przy różnym poziomie ceny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zajemna gra popytu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zachowania konsumentów)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i podaży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zachowania sprzedawców) na wolnym rynku decyduje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o ilości wytwarzanych dóbr i cenie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po jakiej są one sprzedawane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Jeśli założymy, że pozostałe czynniki (np. dochody konsumentów,  ich gusty czy ceny innych dóbr) pozostają niezmienne 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im niższa jest cena jakiegoś dobra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np. telefonu komórkowego),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tym większe jest na niego zapotrzebowanie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a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im wyższa jest jego cena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tym większa jest oferowana ilość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Na podstawie: Begg D., Fischer S., Dornbusch R., Mikroekonomia, Polskie Wydawnictwo Ekonomiczne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Warszawa 199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nia</dc:creator>
  <dc:description/>
  <dc:language>en-US</dc:language>
  <cp:lastModifiedBy>Redaktor</cp:lastModifiedBy>
  <dcterms:modified xsi:type="dcterms:W3CDTF">2013-06-16T17:27:18Z</dcterms:modified>
  <cp:revision>566</cp:revision>
  <dc:subject/>
  <dc:title>Slajd 1</dc:title>
</cp:coreProperties>
</file>