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12F2-5477-4BF8-BA20-A0E108CD82D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B349-6DE8-4A5A-BFC2-DC6797EBFE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E88-857F-40DF-BBD3-234EA75D08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B9A-A259-4ED1-A3A9-6D5D0CCC17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BDB-5A85-43A1-B6C2-7658A69407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389-54A0-408B-818F-949958E1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744-42F0-47BA-A3F9-237DFC55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8BC-4790-43A6-991E-A00DC7C9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BA7-49E4-4794-B3D4-E27E7A84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9ECB-B659-47D1-AEBB-36587C03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0743-0958-4A0C-83FA-6EAF2B34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1846-5125-4DB9-9B7E-934C424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0F25-FE61-4197-B024-C7D81DAA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DAD-B217-4844-B689-E61467E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81CD-CE11-4C6A-A72D-7432B57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DEF-9774-44A9-B5B0-9E23CC6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16C-1EED-4FB1-B669-E861CBE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96E-5187-4CE5-A294-EC4CC93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F37-A062-4D7F-A0D4-AFAAEA7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D554-66E2-4764-AD32-CE6802E6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CDB6-6088-4EC0-8071-F16585E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F3B-ACC3-4E4B-A08E-9E7DCB6F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FAC-C4F0-4A3F-B5AA-96AB64D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2B6-7859-42BB-AE3B-6C6F0DF2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02C-034C-49A3-B19F-C7A7C308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2B7-38E8-4AF8-A773-F2F9AEA7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872-5182-405D-AA9D-C269031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80E-267C-4831-95EB-DFEB2AD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4C4-028F-4C0D-9FC5-0D2DD05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D0FC-BF27-4C2D-9B6C-83BA3737818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93ED-59EB-4A43-B211-A965844514C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obszarze własności i wolności gospodarcz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270792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liminacja własności prywatnej (nacjonalizacja przemysłu, tzw. „bitwa o handel”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óby kolektywizacji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opolizacja przez państwo handlu zagraniczneg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trudnianie rozwoju (podatki, kontrole, koncesje)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zw.  jednostkom gospodarki nieuspołecznio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(12) - IPN Stycz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110) - IPN Marzec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2(23) - IPN Grudzi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9-10(118-119) - IPN Wrzesień-Październik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5-6(100-101) - IPN Maj-Czerwiec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86) - IPN Marzec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isler Jerzy - Zarys dziejów politycznych Polski 1944-1991, Oficyna BGW 1992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 sześcioletni - Warszawa 19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szkowski Wojciech - Najnowsza Historia Polski 1914-2011, Świat Książki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.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anda w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sekwencje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3889440" cy="5556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395280" y="2133720"/>
            <a:ext cx="324000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kat propagando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okresu PRL gloryfikujący inwestycje w dziedzinie przemysłu cięż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komunizm.eu/Plakaty_PRL/budowl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lakaty propagandowe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168720" cy="452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4846680" y="1197000"/>
            <a:ext cx="3073320" cy="439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468360" y="595008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dobroby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643280" y="5934240"/>
            <a:ext cx="42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bumelant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ształtowanie świadomości i przekonani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wielkości i przewadze systemu socjalistycznego nad kapitalizm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owanie sukcesów ZSRR i krajów demokracji ludowej oraz partii robotniczej, itp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sukcesu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olbrzymianie dokonań partii robotniczej i ekipy rządzącej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uszowanie niepowodzeń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hasła: dynamiczny rozwój, cud gospodarczy, budowanie drugiej Pols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adnicze skutki wprowadzenia gospodarki planowej w PR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41264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budzenie przemian gospodarczych i społeczn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westycje prowadzące do rozbudowy przemysłu (głównie ciężkiego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inwestowanie innych dziedzin gospodark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sztywnienie polityki gospodarczej poprzez konieczność realizacji plan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rnotrawstwo surowców i energ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ztuczne zawyżanie efektywności przedsiębiorst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ywołanie niedoboru towarów na rynku i ich reglamentac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oliczności prowadzące do zaistnie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aktyce, gospodarki socjalistycznej opartej o marksistowskie założenia ekono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gospodarki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jemne skutki funkcjonowania gospodarki socjalistyczn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blemy z zaopatrzeniem w artykuły konsumpcyj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egatywne rezultaty sterowania procesami produk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handl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bory – kolejki – reglamentac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rugi obieg handlowy – tzw. „czarny rynek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ecjalne przywileje w zakresie dystrybucji towarów dla wybranych grup społecznych (talony na dobra luksusowe, dodatki żywieniowe it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artki na mięso i mleko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Kartka_na_mleko"/>
          <p:cNvPicPr/>
          <p:nvPr/>
        </p:nvPicPr>
        <p:blipFill>
          <a:blip r:embed="rId1"/>
          <a:stretch/>
        </p:blipFill>
        <p:spPr>
          <a:xfrm>
            <a:off x="468360" y="148428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068720" cy="2819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826920" y="5516640"/>
            <a:ext cx="67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pl.wikipedia.org/wiki/Plik:Kartka_na_mleko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xxwiek.pl/images.php?type=medium&amp;p=2359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rochę humoru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981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uda socjalizm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a bezrobocia, ale nikt nie pracuj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kt nie pracuje, a wszyscy otrzymują wynagrodzen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otrzymują wynagrodzenie, ale nic nie można za to kupi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c nie można kupić, ale wszyscy mają wszystk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mają wszystko, ale wszyscy są też niezadowolen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są niezadowoleni, ale podczas wyborów głosują za tym ustroj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wytyczne socjalis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yś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myślałeś, to nie m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wiedziałeś, to nie pisz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napisałeś, to nie podpisu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podpisałeś, to się nie dziw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dło: www.nonsensopedia.wikia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koliczności prowadzące do zaistnienia w praktyce gospodarki socjalistycznej opartej o marksistowskie założenia ekono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34900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wolucje społeczne prowadzące do objęcia władzy przez partie komunistyczne (np. Rewolucja Październikowa 1917 roku w Rosj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iany polityczne wywołane agresją, aneksją terytorialną, presją militarną (np. zmiany polityczne we wschodniej części Polski w 1939 i w Polsce po 1945 rok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15920"/>
            <a:ext cx="8351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bszarze zarządzania wprowadzono gospodarkę planową – nakazowo-rozdzielcz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lanowanie produkcj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ustalanie cen produkt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sterowanie procesami społeczno-ekonomiczny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odejmowanie decyzji o inwestycjach gospodarc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zakresie zatrudni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707920"/>
            <a:ext cx="828972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niejszanie zaludnienia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parte o ideologiczne względy tworzenie miejsc pracy – przerost zatrudnienia i brak powiązania pomiędzy wielkością zatrudnienia i wydajnością pra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kryte bezrobocie wynikające z koncentracji inwesty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kreślonych rejonach przy ich braku w pozostał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rak elastyczności rynku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 ogłoszeń – pracownicy poszukiwan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ybuna Robotnicza z 1987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7" descr=""/>
          <p:cNvPicPr/>
          <p:nvPr/>
        </p:nvPicPr>
        <p:blipFill>
          <a:blip r:embed="rId1"/>
          <a:stretch/>
        </p:blipFill>
        <p:spPr>
          <a:xfrm>
            <a:off x="8236080" y="828720"/>
            <a:ext cx="755640" cy="551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Placeholder 2" descr=""/>
          <p:cNvPicPr/>
          <p:nvPr/>
        </p:nvPicPr>
        <p:blipFill>
          <a:blip r:embed="rId2"/>
          <a:srcRect l="0" t="18307" r="0" b="18307"/>
          <a:stretch/>
        </p:blipFill>
        <p:spPr>
          <a:xfrm>
            <a:off x="684360" y="10587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wój przemysłu cięż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280"/>
            <a:ext cx="80740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iorytetem w planach gospodarczych PRL, zwłaszcza w pierwszych latach powojennych, była industrializacja kraju na wzór radziecki – rozwój przemysłu ciężkiego i met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tandarową inwestycją była budowa kombinatu metalurgicznego w Nowej Hu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dobycie węgla w Polsce w latach 1950-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kamien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brunat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hart 6" descr=""/>
          <p:cNvPicPr/>
          <p:nvPr/>
        </p:nvPicPr>
        <p:blipFill>
          <a:blip r:embed="rId1"/>
          <a:stretch/>
        </p:blipFill>
        <p:spPr>
          <a:xfrm>
            <a:off x="-6480" y="0"/>
            <a:ext cx="897912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8967960" cy="646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dukcja stali surowej w Polsce w latach 1950-2008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450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755640" y="57736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www.wiking.edu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1T13:45:40Z</dcterms:modified>
  <cp:revision>38</cp:revision>
  <dc:subject/>
  <dc:title>Slajd 1</dc:title>
</cp:coreProperties>
</file>