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52D8-4DEA-4366-B55C-550734654D2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C739-85A3-4E4C-BD28-018A27CE62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845-FB25-4FEE-82B5-1737897B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3D3-F8FA-4E5A-BB05-871C88B3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44A-7269-492A-9ABC-FE99D975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597-244C-431D-8308-7828D64F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4D07-F744-417D-A632-BEC3A61C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14E8-F80F-4879-9D26-86155ACB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ABEF-D717-4B5F-8F5B-FAB03419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BA64-595A-4CE5-9C61-F8289A3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ACF0-9BCF-47CD-8A62-FF802CD1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8674-5DFC-4094-B611-8F1DF6CB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9F70-7FD4-4BEE-83DB-B8BE1FC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8A8-731D-4202-895A-8BF2A21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B955-D924-4E1F-A8C4-239C7E1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3E3B-B8C9-4FC1-8E38-1715FA4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B146-0AB6-46D3-A108-5148982E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AB4C-FF13-4AAB-92AD-055DAE99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546E-022A-4508-906D-8730B605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E3D-047D-4F63-BF15-3DBF1022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B8C-1E7A-4AC6-9950-F0D42B9B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51A-EB85-4630-90AA-DD2BEDED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A55-C7E6-4EF9-B322-C05F6D5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1E7-7A90-423E-A12C-05F6B5A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8E6-D5D0-48B3-A0DF-B08CBBE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0B9-0EAA-438B-BF30-1277864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4D09-759E-49DA-86A5-F0D50541023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DA38-87D3-4303-A2DF-7D3B9A5244F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1"/>
          <p:cNvCxnSpPr>
            <a:endCxn id="14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6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Łącznik prosty ze strzałką 20"/>
          <p:cNvCxnSpPr>
            <a:stCxn id="16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4"/>
          <p:cNvCxnSpPr>
            <a:stCxn id="17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Przyspieszenie – wpływ transportu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zawartości 2"/>
          <p:cNvSpPr/>
          <p:nvPr/>
        </p:nvSpPr>
        <p:spPr>
          <a:xfrm>
            <a:off x="5364000" y="1413000"/>
            <a:ext cx="331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K:\Foto\2004\zdj5-04\HPIM0997.JPG"/>
          <p:cNvPicPr/>
          <p:nvPr/>
        </p:nvPicPr>
        <p:blipFill>
          <a:blip r:embed="rId1"/>
          <a:stretch/>
        </p:blipFill>
        <p:spPr>
          <a:xfrm>
            <a:off x="250920" y="1557360"/>
            <a:ext cx="51130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24000" y="2603520"/>
            <a:ext cx="640080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rger Peter L., Rewolucja kapitalistyczna, Oficyna Naukowa, Warszawa 199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lley Samuel,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Ludzie maszyny i historia, PWN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arszawa 19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roule Anna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mes Watt. Jak rozw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 maszyn parowych stworzył nasze społeczeństwo przemysł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Czytelnik, Warszawa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71640" y="1844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71640" y="2421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2924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900000" y="486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6588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219640" y="1700280"/>
            <a:ext cx="3548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Przełomem w produkcji była Spinning Jenny – przędzarka mechaniczna (1765-67). Zastępowała pracę prawie 100 prząd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lik:Spinning jenny.jpg"/>
          <p:cNvPicPr/>
          <p:nvPr/>
        </p:nvPicPr>
        <p:blipFill>
          <a:blip r:embed="rId1"/>
          <a:stretch/>
        </p:blipFill>
        <p:spPr>
          <a:xfrm>
            <a:off x="324000" y="1916280"/>
            <a:ext cx="46796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http://www.spartacus.schoolnet.co.uk/TEXrota.jpg"/>
          <p:cNvPicPr/>
          <p:nvPr/>
        </p:nvPicPr>
        <p:blipFill>
          <a:blip r:embed="rId1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5:37:36Z</dcterms:modified>
  <cp:revision>47</cp:revision>
  <dc:subject/>
  <dc:title>Slajd 1</dc:title>
</cp:coreProperties>
</file>