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D94DD-1435-47A9-B028-E88EA74574F2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496BD-8B0D-4A37-977A-6B345D0E39E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F3A65-6106-4E86-A097-B9E3DB26D20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4EC6-6181-48C1-A214-D886F6814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805D-EF3E-4EF6-B899-65F2287B9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1C9D-FA7E-46E8-9259-13CBA1FE2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DBE3-7525-418E-8BC3-A4A9B2C9E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47658-B52A-4BFA-92C4-C4E9FCF6D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F825C-56BD-4A29-8511-4729ABD13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63718-62D8-461C-9264-9ED90B733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5CEC5-2B01-4189-9EDA-0D9595E78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FBA86-D83D-4AA8-83F6-56C4927A0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BBD40-FF96-42D1-8E22-8D6A45D9C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942E2-52D6-4308-B5FF-A9223ABB8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ACB2-A1D5-44AE-899B-272FDD84D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9267C-D9CB-475B-A8AB-D407B1C5D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33F3A-510E-4EFC-B72B-8AD41E11E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ED567-33E6-4C5C-AF37-495500959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A417B-8943-45AB-97AA-07673C74D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FB823-3496-4683-9CC7-7892CEA7D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A859-51A4-4B2F-AE7B-B95C53A8B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4EC0-D5E2-47C0-8294-797BB325D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363B-0190-43F7-9B8E-13B02D595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9D55-4590-4BE0-9151-091C7D5DC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EA98-7C1B-465C-AD57-950B082A5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4EDD-5754-4C27-9E31-A649FAA40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2387-2677-4223-8F5D-86FDDF5C3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2D802-B69C-4572-BCF6-233DBF31ECCF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1C8C9-BED2-4136-A9D2-91E10CD5BC0F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Tytuł 1" descr=""/>
          <p:cNvPicPr/>
          <p:nvPr/>
        </p:nvPicPr>
        <p:blipFill>
          <a:blip r:embed="rId1"/>
          <a:stretch/>
        </p:blipFill>
        <p:spPr>
          <a:xfrm>
            <a:off x="573120" y="1584360"/>
            <a:ext cx="7967520" cy="1884240"/>
          </a:xfrm>
          <a:prstGeom prst="rect">
            <a:avLst/>
          </a:prstGeom>
          <a:ln w="0">
            <a:noFill/>
          </a:ln>
        </p:spPr>
      </p:pic>
      <p:sp>
        <p:nvSpPr>
          <p:cNvPr id="96" name="Podtytuł 2"/>
          <p:cNvSpPr/>
          <p:nvPr/>
        </p:nvSpPr>
        <p:spPr>
          <a:xfrm>
            <a:off x="1133640" y="33577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dr Igor Bartosi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"/>
          <p:cNvSpPr/>
          <p:nvPr/>
        </p:nvSpPr>
        <p:spPr>
          <a:xfrm>
            <a:off x="395280" y="549360"/>
            <a:ext cx="4968720" cy="53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Główne postacie i nurty socjalizmu utopijneg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Robert Owen postulował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niesienie własności prywatnej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Uspołecznienie środków produkcj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Kształcenie organizowane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 nadzorowane przez państw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Racjonalizację działań prowadzącą do powstania sprawnych struktur państwowych i eliminacji przestępczośc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3" descr="Robertowen"/>
          <p:cNvPicPr/>
          <p:nvPr/>
        </p:nvPicPr>
        <p:blipFill>
          <a:blip r:embed="rId1"/>
          <a:stretch/>
        </p:blipFill>
        <p:spPr>
          <a:xfrm>
            <a:off x="6227640" y="1052640"/>
            <a:ext cx="2051280" cy="259236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3"/>
          <p:cNvSpPr/>
          <p:nvPr/>
        </p:nvSpPr>
        <p:spPr>
          <a:xfrm>
            <a:off x="6084720" y="4076640"/>
            <a:ext cx="2770200" cy="15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Robert Ow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Źródło: http://pl.wikipedia.org/wiki/Plik:Robertowen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"/>
          <p:cNvSpPr/>
          <p:nvPr/>
        </p:nvSpPr>
        <p:spPr>
          <a:xfrm>
            <a:off x="539640" y="620640"/>
            <a:ext cx="4572000" cy="53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Główne postacie i nurty socjalizmu utopijneg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Henri de Saint-Simon postulował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Dyktaturę fachowców – ludzi nauk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Władzę państwową oparta o klasę pracującą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Konstrukcje społeczną opartą na trzech klasach ludzi nauki, warstwie regulującej procesy badawcze i ludzi prac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Zniesienie własności prywatnej środków produkcji i dziedziczenia dób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5" descr="Henri_de_Saint-simon_portrait"/>
          <p:cNvPicPr/>
          <p:nvPr/>
        </p:nvPicPr>
        <p:blipFill>
          <a:blip r:embed="rId1"/>
          <a:stretch/>
        </p:blipFill>
        <p:spPr>
          <a:xfrm>
            <a:off x="6218280" y="658800"/>
            <a:ext cx="1913040" cy="251928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3"/>
          <p:cNvSpPr/>
          <p:nvPr/>
        </p:nvSpPr>
        <p:spPr>
          <a:xfrm>
            <a:off x="5867280" y="3789360"/>
            <a:ext cx="2952720" cy="18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Henri de Saint-Sim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Źródło: http://upload.wikimedia.org/wikipedia/commons/5/59/Henri_de_Saint-simon_portrait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438120" y="620640"/>
            <a:ext cx="4925880" cy="51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Główne postacie i nurty socjalizmu utopijneg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Charles Fourier postulował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Tworzenie się grup społecznych tzw. Falansterów, które miały opierać się na kooperacji, współpracy i działaniu opartym o zainteresowania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i upodobani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Wspólne wytwarzanie i podział dóbr wypracowanych przez falanstery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Zlikwidowanie sprzeczności wśród ludzi oraz innych organizmów żywy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5" descr="Hw-fourier"/>
          <p:cNvPicPr/>
          <p:nvPr/>
        </p:nvPicPr>
        <p:blipFill>
          <a:blip r:embed="rId1"/>
          <a:stretch/>
        </p:blipFill>
        <p:spPr>
          <a:xfrm>
            <a:off x="6156360" y="765000"/>
            <a:ext cx="2271600" cy="290844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3"/>
          <p:cNvSpPr/>
          <p:nvPr/>
        </p:nvSpPr>
        <p:spPr>
          <a:xfrm>
            <a:off x="6012000" y="4078440"/>
            <a:ext cx="2716200" cy="15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Charles Fouri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Źródło: http://pl.wikipedia.org/wiki/Plik:Hw-fourier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"/>
          <p:cNvSpPr/>
          <p:nvPr/>
        </p:nvSpPr>
        <p:spPr>
          <a:xfrm>
            <a:off x="684360" y="620640"/>
            <a:ext cx="8208720" cy="54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Inne koncepcje polityczno-społeczne oparte o doktrynę socjalistyczną powstałe w XIX wieku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1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roudhonizm –Twórca Pierre Proudhon. Krytykował fundamenty systemu kapitalistycznego czyli własność prywatną środków produkcji, pieniądz jako podstawę obiegu dóbr (postulował powstanie banków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o zerowym oprocentowaniu). Postulował m.in. Anarchizm i Federaliz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1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Blanquizm – Twórca Louis August Blanqui. Walczył o poszerzenie praw obywatelskich np. prawo wyborcze kobiet. Uważał, że droga do przemian społecznych wiedzie przez działalność spiskową bez konieczności zrywu ma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1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Syndykalizm – Ruch oparty o zrzeszenia związkowe robotników. Głosił prymat dążeń ekonomicznych nad politycznymi. Miał on dwa odłamy: reformacyjny i rewolucyjny. Reformacyjny odłam dążył do poprawy warunków życia robotników, celem rewolucyjnego było przekształcenie istniejącego systemu państwowo-politycznego i oparcie go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o zrzeszenia robotników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Spis treś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4000" y="1412640"/>
            <a:ext cx="8064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ażniejsze wydarzenia polityczne prowadzące do powstania modelu gospodarczego XIX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Najważniejsze przemiany gospodarcze prowadzące do powstania kapitalistycznego modelu społecznego XIX wiek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Główne skutki społeczne przemian gospodarczych i politycznych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Skutki przemian społeczno-gospodarczych jako podstawa dla narodzin nowych ruchów politycznych oraz doktryn ekonomiczno-społecznych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Narodziny zorganizowanych ruchów robotniczych walczących o swoje praw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Narodziny nowych teorii politycznych opartych o doktryny socjalistyczne zwane utopijnymi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Główne postacie i nurty socjalizmu utopijnego: Robert Owen, Henri de Saint-Simon, Charles Fouri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Inne koncepcje polityczno-społeczne oparte o doktrynę socjalistyczną powstałe w XIX wiek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"/>
          <p:cNvSpPr/>
          <p:nvPr/>
        </p:nvSpPr>
        <p:spPr>
          <a:xfrm>
            <a:off x="684360" y="620640"/>
            <a:ext cx="7775280" cy="41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Ważniejsze wydarzenia polityczne prowadzące do powstania modelu gospodarczego X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1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ielka Rewolucja Francus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1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wstanie Stanów Zjednoczonych Ameryk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1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ojny Napoleońsk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"/>
          <p:cNvSpPr/>
          <p:nvPr/>
        </p:nvSpPr>
        <p:spPr>
          <a:xfrm>
            <a:off x="684360" y="620640"/>
            <a:ext cx="7775280" cy="51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Najważniejsze przemiany gospodarcze prowadzące do powstania kapitalistycznego modelu społecznego XIX wiek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1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Liczne wynalazki techniczne drugiej połowy XVIII wiek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1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rzemiany gospodarcze w produkcji rolnej i strukturze własnościowej na wsi, drobnej wytwórczości i rzemioś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1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owy sposób kumulacji i przepływu kapitału pomiędzy państwam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1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rodziny konkurencji i strategii ochrony celnej własnej produkcji przemysłowej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napoleon"/>
          <p:cNvPicPr/>
          <p:nvPr/>
        </p:nvPicPr>
        <p:blipFill>
          <a:blip r:embed="rId1"/>
          <a:stretch/>
        </p:blipFill>
        <p:spPr>
          <a:xfrm>
            <a:off x="1655640" y="1052640"/>
            <a:ext cx="5832720" cy="44956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2"/>
          <p:cNvSpPr/>
          <p:nvPr/>
        </p:nvSpPr>
        <p:spPr>
          <a:xfrm>
            <a:off x="1042920" y="35100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Mapa XIX wiecznej Europ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1330200" y="5908680"/>
            <a:ext cx="648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Źródło: http://www.historicus.pl/mapy/xix/napoleon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"/>
          <p:cNvSpPr/>
          <p:nvPr/>
        </p:nvSpPr>
        <p:spPr>
          <a:xfrm>
            <a:off x="684360" y="692280"/>
            <a:ext cx="7920000" cy="52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Główne skutki społeczne przemian gospodarczych </a:t>
            </a: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i polityczny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SzPct val="1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Gwałtowny wzrost demograficzny ludnośc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SzPct val="1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Rozwój medycyny zmniejszający śmiertelność wśród najniższych warstw społecznyc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SzPct val="1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Emigracja dotychczasowych mieszkańców wsi do powstających ośrodków przemysłowyc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SzPct val="1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Upowszechnienie edukacji na podstawowym poziomi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"/>
          <p:cNvSpPr/>
          <p:nvPr/>
        </p:nvSpPr>
        <p:spPr>
          <a:xfrm>
            <a:off x="611280" y="620640"/>
            <a:ext cx="7848360" cy="43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Skutki przemian społeczno-gospodarczych jako podstawa dla narodzin nowych ruchów politycznych oraz doktryn ekonomiczno-społeczny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SzPct val="1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owstanie nowych klas społecznych jako efekt industrializacj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SzPct val="1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Rozwój nowych skupisk społecznych – miast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i osiedli przemysłowyc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"/>
          <p:cNvSpPr/>
          <p:nvPr/>
        </p:nvSpPr>
        <p:spPr>
          <a:xfrm>
            <a:off x="755640" y="620640"/>
            <a:ext cx="7993080" cy="52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Narodziny zorganizowanych ruchów robotniczych walczących o swoje praw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1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Bunty i rozruch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1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Ruchy Luddystyczne (Anglia poczatek XIX w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1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Bunty robotników (Bunt robotników w Lyoni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1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wstanie pierwszych oficjalnie działających organizacji robotniczych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1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rzemiany polityczne umożliwiające powstanie organizacji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związkowy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1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pływ działalności organizacji robotniczych w Anglii na zmianę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rawa wyborczego oraz położenia ekonomicznego robotników (Ruch Czartystów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"/>
          <p:cNvSpPr/>
          <p:nvPr/>
        </p:nvSpPr>
        <p:spPr>
          <a:xfrm>
            <a:off x="684360" y="422280"/>
            <a:ext cx="7848360" cy="60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Calibri"/>
              </a:rPr>
              <a:t>Stopniowe uzyskiwanie podmiotowości przez masy robotnicze oraz świadomość położenia ekonomicznego robotników doprowadziły do narodzin nowych teorii politycznych opartych </a:t>
            </a:r>
            <a:br>
              <a:rPr sz="2200"/>
            </a:br>
            <a:r>
              <a:rPr b="1" lang="pl-PL" sz="2200" spc="-1" strike="noStrike">
                <a:solidFill>
                  <a:srgbClr val="000000"/>
                </a:solidFill>
                <a:latin typeface="Calibri"/>
              </a:rPr>
              <a:t>o doktryny socjalistyczne zwane utopijnymi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Calibri"/>
              </a:rPr>
              <a:t>Ich cechy wspóln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SzPct val="1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Dostrzeganie sprzeczności systemu kapitalistyczneg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SzPct val="1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Stosunek do robotników oparty o fundament socjalistycznych teorii utopijnych czyli altruizm i dobro wspólne, któremu przeciwstawiano egoizm i indywidualizm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SzPct val="1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Dążenie do zlikwidowania własności prywatnej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SzPct val="1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Złagodzenie konfliktu pomiędzy produkcją przemysłową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i rolną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SzPct val="1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Osiągnięcie założonych celów przez reformy i kształtowanie świadomości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rjuraszczyk</cp:lastModifiedBy>
  <dcterms:modified xsi:type="dcterms:W3CDTF">2013-04-16T13:52:30Z</dcterms:modified>
  <cp:revision>23</cp:revision>
  <dc:subject/>
  <dc:title>Slajd 1</dc:title>
</cp:coreProperties>
</file>