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13EB-7A10-4FBE-A8C7-262FCD1464D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9215-8635-45A8-9E34-0B8E69CFC81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FDC-966F-44C3-B782-2B16C3FF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94C-1A88-48EB-B38F-2672F5A2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C00-EBEC-4CFB-862A-39ED4E7F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328-BB90-4E58-9E2A-E256C020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C70F-2641-4275-BA4A-BD2B416F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874A-F9C2-4A78-B669-E1784AEF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53AD-5A7D-4A04-BDB3-EB6F2E5E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77A7-3194-41F9-A6B3-4C47AB32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3300-822B-4BF9-B447-5D84D91B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C208-96BC-4C86-B964-8470A745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DCD3-E5E3-40A1-9168-BD1BDC23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E17-D635-40EF-B5A1-66536854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D0D1-0E24-4494-9C0B-9450D4EA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CC3D-B2F0-45A2-AE91-5F13C908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628B-6AD5-46F9-9704-ED9A3FCE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A009-61D0-4636-948E-FB943152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D7D0-0EAE-4EF4-B570-FFA59FE7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012-F2CD-48B0-B154-46BD66E7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386-5329-4086-AFD7-473B336F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BC7-A98D-444A-8F8F-5E5FA218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13F-1A00-48FF-A742-D2925B62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A5E-DD5A-4094-9505-3C2C4BA5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D16-6ABE-4505-B499-6BB35626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7E3-FA32-4B33-9485-AEB59F35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C247-05C2-4169-ABA7-9C3E081400E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4B74-46F2-4FDE-8D39-9FEB12A5974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6.xml"/><Relationship Id="rId19" Type="http://schemas.openxmlformats.org/officeDocument/2006/relationships/slide" Target="slide16.xml"/><Relationship Id="rId20" Type="http://schemas.openxmlformats.org/officeDocument/2006/relationships/slide" Target="slide19.xml"/><Relationship Id="rId2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topbankowiec.pl/historia-bankowosci-od-templariuszy-do-dominacji-amsterdamu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pl.wikipedia.org/wiki/Plik:Spinning_jenny.jpg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rtacus.schoolnet.co.uk/TEXrotary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przemysłowa i kapitaliz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K:\Foto\2004\zdj5-04\HPIM1071.JPG"/>
          <p:cNvPicPr/>
          <p:nvPr/>
        </p:nvPicPr>
        <p:blipFill>
          <a:blip r:embed="rId1"/>
          <a:stretch/>
        </p:blipFill>
        <p:spPr>
          <a:xfrm>
            <a:off x="468360" y="1268280"/>
            <a:ext cx="42274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99640" y="1413000"/>
            <a:ext cx="748836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Maszyna parowa jest inwestycją. Dużo kosztuje, ale potem nakłady zwracają się bardzo szybko. Stąd maszyny parowe wymagają zarówno koncentracji kapitału (w celu zakupu i napraw) jak i przyspieszają jego koncentrację – zapewniając szybszą produkcję oraz transport gotowych towarów na duże odegł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284720" y="1600200"/>
            <a:ext cx="44020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Przekonstruowana ok. 1800 r. – zwiększono sprężanie i zmniejszono </a:t>
            </a: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rozmiary. W takiej formie znalazła zastosowanie do napędu statków, co uniezależniło je od wiatru. Pierwszym w pełni praktycznym parowcem był holownik Charlotte Dund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7" descr="http://www.histarmar.com.ar/Planos/JaimeGrau/Ilustr/Ilustraciones_03+.jpg"/>
          <p:cNvPicPr/>
          <p:nvPr/>
        </p:nvPicPr>
        <p:blipFill>
          <a:blip r:embed="rId1"/>
          <a:stretch/>
        </p:blipFill>
        <p:spPr>
          <a:xfrm>
            <a:off x="179280" y="1557360"/>
            <a:ext cx="4600800" cy="338436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5"/>
          <p:cNvSpPr/>
          <p:nvPr/>
        </p:nvSpPr>
        <p:spPr>
          <a:xfrm>
            <a:off x="468360" y="501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histarmar.com.ar/Planos/JaimeGrau/Ilustr/Ilustraciones_03+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Photograph:The first successful locomotives were built in Britain. Richard Trevithick's engine of 1804 was the first to do actual work by pulling a short train of cars uphill in Wales."/>
          <p:cNvPicPr/>
          <p:nvPr/>
        </p:nvPicPr>
        <p:blipFill>
          <a:blip r:embed="rId1"/>
          <a:stretch/>
        </p:blipFill>
        <p:spPr>
          <a:xfrm>
            <a:off x="611280" y="1413000"/>
            <a:ext cx="3097080" cy="2593800"/>
          </a:xfrm>
          <a:prstGeom prst="rect">
            <a:avLst/>
          </a:prstGeom>
          <a:ln w="0">
            <a:noFill/>
          </a:ln>
        </p:spPr>
      </p:pic>
      <p:sp>
        <p:nvSpPr>
          <p:cNvPr id="159" name="pole tekstowe 4"/>
          <p:cNvSpPr/>
          <p:nvPr/>
        </p:nvSpPr>
        <p:spPr>
          <a:xfrm>
            <a:off x="395280" y="414972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lokomotywa Richarda Threvithicka  - 1801 i jej konstruk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kids.britannica.com/comptons/art-126065/The-first-successful-locomotives-were-built-in-Brit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Plik:Richard Trevithick.jpg"/>
          <p:cNvPicPr/>
          <p:nvPr/>
        </p:nvPicPr>
        <p:blipFill>
          <a:blip r:embed="rId2"/>
          <a:stretch/>
        </p:blipFill>
        <p:spPr>
          <a:xfrm>
            <a:off x="6588000" y="1268280"/>
            <a:ext cx="2278080" cy="283068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6"/>
          <p:cNvSpPr/>
          <p:nvPr/>
        </p:nvSpPr>
        <p:spPr>
          <a:xfrm>
            <a:off x="6516720" y="4292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Richard_Trevithick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zawartości 2"/>
          <p:cNvSpPr/>
          <p:nvPr/>
        </p:nvSpPr>
        <p:spPr>
          <a:xfrm>
            <a:off x="3276720" y="1341360"/>
            <a:ext cx="3311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  <a:ea typeface="Arial"/>
              </a:rPr>
              <a:t>Zastosowanie pary i powstanie kolei żelaznej zrewolucjonizowało transport lądowy. Konie mogły ciągnąć ładunek 2-4 t. Kolej przewoziła w jednym wagonie nawet do 20 t, a wagony łączono. Jeden pociąg mógł zastąpić nawet 160 koni. Można było przewozić wielkie ładunki (produkcję kopalń i hut), co przyspieszało rozwój gospodarcz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G:\2013_06_02\IMG_2460.JPG"/>
          <p:cNvPicPr/>
          <p:nvPr/>
        </p:nvPicPr>
        <p:blipFill>
          <a:blip r:embed="rId1"/>
          <a:srcRect l="2188" t="1637" r="0" b="10666"/>
          <a:stretch/>
        </p:blipFill>
        <p:spPr>
          <a:xfrm>
            <a:off x="320760" y="1555920"/>
            <a:ext cx="6327720" cy="3781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111280" y="3644640"/>
            <a:ext cx="4032360" cy="2160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storia parowych kolei żelaznych w skrócie – na pierwszym planie Rocket Roberta i George’a Stephensonów z 1829 r. – pierwsza lokomotywa obsługująca regularną linię – w tle – lokomotywa z XX w. (modele w tej samej ska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Fot. 1888, bud. głównej przędzalni"/>
          <p:cNvPicPr/>
          <p:nvPr/>
        </p:nvPicPr>
        <p:blipFill>
          <a:blip r:embed="rId1"/>
          <a:stretch/>
        </p:blipFill>
        <p:spPr>
          <a:xfrm>
            <a:off x="395280" y="1341360"/>
            <a:ext cx="2376360" cy="1714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Jak przemysł lekki wpływał na ciężki </a:t>
            </a:r>
            <a:br>
              <a:rPr sz="2900"/>
            </a:b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(i odwrotnie)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ole tekstowe 4"/>
          <p:cNvSpPr/>
          <p:nvPr/>
        </p:nvSpPr>
        <p:spPr>
          <a:xfrm>
            <a:off x="468360" y="134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apotrzebowanie na maszyny przędzalnicze i hale produkcyj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Łącznik prosty ze strzałką 6"/>
          <p:cNvCxnSpPr/>
          <p:nvPr/>
        </p:nvCxnSpPr>
        <p:spPr>
          <a:xfrm>
            <a:off x="2987280" y="191592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0" name="pole tekstowe 7"/>
          <p:cNvSpPr/>
          <p:nvPr/>
        </p:nvSpPr>
        <p:spPr>
          <a:xfrm>
            <a:off x="378000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maszyn przędzalnicz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9"/>
          <p:cNvSpPr/>
          <p:nvPr/>
        </p:nvSpPr>
        <p:spPr>
          <a:xfrm>
            <a:off x="3780000" y="234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stali konstrukcyjn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Łącznik prosty ze strzałką 11"/>
          <p:cNvCxnSpPr>
            <a:endCxn id="171" idx="1"/>
          </p:cNvCxnSpPr>
          <p:nvPr/>
        </p:nvCxnSpPr>
        <p:spPr>
          <a:xfrm>
            <a:off x="2556000" y="2276640"/>
            <a:ext cx="122472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3" name="pole tekstowe 12"/>
          <p:cNvSpPr/>
          <p:nvPr/>
        </p:nvSpPr>
        <p:spPr>
          <a:xfrm>
            <a:off x="46836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Łącznik prosty ze strzałką 18"/>
          <p:cNvCxnSpPr/>
          <p:nvPr/>
        </p:nvCxnSpPr>
        <p:spPr>
          <a:xfrm>
            <a:off x="5508360" y="1915920"/>
            <a:ext cx="144036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Łącznik prosty ze strzałką 20"/>
          <p:cNvCxnSpPr/>
          <p:nvPr/>
        </p:nvCxnSpPr>
        <p:spPr>
          <a:xfrm>
            <a:off x="5579640" y="2781360"/>
            <a:ext cx="108036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6" name="pole tekstowe 21"/>
          <p:cNvSpPr/>
          <p:nvPr/>
        </p:nvSpPr>
        <p:spPr>
          <a:xfrm>
            <a:off x="644364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ole tekstowe 22"/>
          <p:cNvSpPr/>
          <p:nvPr/>
        </p:nvSpPr>
        <p:spPr>
          <a:xfrm>
            <a:off x="324000" y="386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Łącznik prosty ze strzałką 24"/>
          <p:cNvCxnSpPr/>
          <p:nvPr/>
        </p:nvCxnSpPr>
        <p:spPr>
          <a:xfrm flipH="1">
            <a:off x="2916000" y="3212640"/>
            <a:ext cx="35280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Łącznik prosty ze strzałką 26"/>
          <p:cNvCxnSpPr/>
          <p:nvPr/>
        </p:nvCxnSpPr>
        <p:spPr>
          <a:xfrm>
            <a:off x="1834920" y="364500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0" name="Łącznik prosty ze strzałką 28"/>
          <p:cNvCxnSpPr/>
          <p:nvPr/>
        </p:nvCxnSpPr>
        <p:spPr>
          <a:xfrm>
            <a:off x="1115640" y="4149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" name="Łącznik prosty ze strzałką 30"/>
          <p:cNvCxnSpPr/>
          <p:nvPr/>
        </p:nvCxnSpPr>
        <p:spPr>
          <a:xfrm>
            <a:off x="7451280" y="3357720"/>
            <a:ext cx="10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2" name="pole tekstowe 31"/>
          <p:cNvSpPr/>
          <p:nvPr/>
        </p:nvSpPr>
        <p:spPr>
          <a:xfrm>
            <a:off x="755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ysk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ole tekstowe 32"/>
          <p:cNvSpPr/>
          <p:nvPr/>
        </p:nvSpPr>
        <p:spPr>
          <a:xfrm>
            <a:off x="709308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Łącznik prosty ze strzałką 34"/>
          <p:cNvCxnSpPr/>
          <p:nvPr/>
        </p:nvCxnSpPr>
        <p:spPr>
          <a:xfrm>
            <a:off x="7596000" y="4365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5" name="pole tekstowe 35"/>
          <p:cNvSpPr/>
          <p:nvPr/>
        </p:nvSpPr>
        <p:spPr>
          <a:xfrm>
            <a:off x="601200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Łącznik prosty ze strzałką 37"/>
          <p:cNvCxnSpPr/>
          <p:nvPr/>
        </p:nvCxnSpPr>
        <p:spPr>
          <a:xfrm flipV="1">
            <a:off x="6659280" y="3357360"/>
            <a:ext cx="108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7" name="pole tekstowe 38"/>
          <p:cNvSpPr/>
          <p:nvPr/>
        </p:nvSpPr>
        <p:spPr>
          <a:xfrm>
            <a:off x="755640" y="508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8" name="Łącznik prosty ze strzałką 40"/>
          <p:cNvCxnSpPr/>
          <p:nvPr/>
        </p:nvCxnSpPr>
        <p:spPr>
          <a:xfrm>
            <a:off x="1042560" y="4868640"/>
            <a:ext cx="108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9" name="Łącznik prosty ze strzałką 42"/>
          <p:cNvCxnSpPr/>
          <p:nvPr/>
        </p:nvCxnSpPr>
        <p:spPr>
          <a:xfrm flipV="1">
            <a:off x="2700000" y="3428280"/>
            <a:ext cx="1080" cy="165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0" name="pole tekstowe 44"/>
          <p:cNvSpPr/>
          <p:nvPr/>
        </p:nvSpPr>
        <p:spPr>
          <a:xfrm>
            <a:off x="3564000" y="3573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Calibri"/>
              </a:rPr>
              <a:t>Kolor czerwony –przemysł lek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lor czarny – przemysł cięż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7020000" y="1052640"/>
            <a:ext cx="1512720" cy="2006640"/>
          </a:xfrm>
          <a:prstGeom prst="rect">
            <a:avLst/>
          </a:prstGeom>
          <a:ln w="0">
            <a:noFill/>
          </a:ln>
        </p:spPr>
      </p:pic>
      <p:sp>
        <p:nvSpPr>
          <p:cNvPr id="192" name="pole tekstowe 50"/>
          <p:cNvSpPr/>
          <p:nvPr/>
        </p:nvSpPr>
        <p:spPr>
          <a:xfrm>
            <a:off x="395280" y="551664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w4u.am.lodz.pl/~jkk/ld/Poznanski/p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8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Kryzys - prosperity-kryzys - prosperity.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ole tekstowe 4"/>
          <p:cNvSpPr/>
          <p:nvPr/>
        </p:nvSpPr>
        <p:spPr>
          <a:xfrm>
            <a:off x="46836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zapotrzebowania na produkty przemysł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5" name="Łącznik prosty ze strzałką 6"/>
          <p:cNvCxnSpPr/>
          <p:nvPr/>
        </p:nvCxnSpPr>
        <p:spPr>
          <a:xfrm>
            <a:off x="3492000" y="2060280"/>
            <a:ext cx="575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6" name="pole tekstowe 7"/>
          <p:cNvSpPr/>
          <p:nvPr/>
        </p:nvSpPr>
        <p:spPr>
          <a:xfrm>
            <a:off x="4067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yc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7" name="Łącznik prosty ze strzałką 9"/>
          <p:cNvCxnSpPr/>
          <p:nvPr/>
        </p:nvCxnSpPr>
        <p:spPr>
          <a:xfrm>
            <a:off x="5292720" y="198864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8" name="pole tekstowe 10"/>
          <p:cNvSpPr/>
          <p:nvPr/>
        </p:nvSpPr>
        <p:spPr>
          <a:xfrm>
            <a:off x="6012000" y="1773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ole tekstowe 11"/>
          <p:cNvSpPr/>
          <p:nvPr/>
        </p:nvSpPr>
        <p:spPr>
          <a:xfrm>
            <a:off x="6156360" y="26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ycenie ryn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ole tekstowe 12"/>
          <p:cNvSpPr/>
          <p:nvPr/>
        </p:nvSpPr>
        <p:spPr>
          <a:xfrm>
            <a:off x="3059280" y="2708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nad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ole tekstowe 15"/>
          <p:cNvSpPr/>
          <p:nvPr/>
        </p:nvSpPr>
        <p:spPr>
          <a:xfrm>
            <a:off x="611280" y="2708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adek c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ole tekstowe 16"/>
          <p:cNvSpPr/>
          <p:nvPr/>
        </p:nvSpPr>
        <p:spPr>
          <a:xfrm>
            <a:off x="250920" y="3357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zastosowania produktów przemysł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3" name="Łącznik prosty ze strzałką 20"/>
          <p:cNvCxnSpPr>
            <a:stCxn id="198" idx="2"/>
          </p:cNvCxnSpPr>
          <p:nvPr/>
        </p:nvCxnSpPr>
        <p:spPr>
          <a:xfrm flipH="1">
            <a:off x="7019280" y="2141640"/>
            <a:ext cx="370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Łącznik prosty ze strzałką 22"/>
          <p:cNvCxnSpPr/>
          <p:nvPr/>
        </p:nvCxnSpPr>
        <p:spPr>
          <a:xfrm flipH="1">
            <a:off x="5292360" y="2852280"/>
            <a:ext cx="79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Łącznik prosty ze strzałką 24"/>
          <p:cNvCxnSpPr>
            <a:stCxn id="200" idx="1"/>
          </p:cNvCxnSpPr>
          <p:nvPr/>
        </p:nvCxnSpPr>
        <p:spPr>
          <a:xfrm flipH="1" flipV="1">
            <a:off x="1907640" y="2852280"/>
            <a:ext cx="1152000" cy="4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6" name="Łącznik prosty ze strzałką 26"/>
          <p:cNvCxnSpPr/>
          <p:nvPr/>
        </p:nvCxnSpPr>
        <p:spPr>
          <a:xfrm>
            <a:off x="1115640" y="306828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7" name="Wygięta strzałka 31"/>
          <p:cNvSpPr/>
          <p:nvPr/>
        </p:nvSpPr>
        <p:spPr>
          <a:xfrm>
            <a:off x="324000" y="2060640"/>
            <a:ext cx="215640" cy="1297080"/>
          </a:xfrm>
          <a:custGeom>
            <a:avLst/>
            <a:gdLst/>
            <a:ahLst/>
            <a:rect l="l" t="t" r="r" b="b"/>
            <a:pathLst>
              <a:path w="215900" h="1296988">
                <a:moveTo>
                  <a:pt x="0" y="1296988"/>
                </a:moveTo>
                <a:lnTo>
                  <a:pt x="0" y="121444"/>
                </a:lnTo>
                <a:lnTo>
                  <a:pt x="0" y="121444"/>
                </a:lnTo>
                <a:arcTo wR="94456" hR="94456" stAng="10800000" swAng="5400000"/>
                <a:lnTo>
                  <a:pt x="161925" y="26988"/>
                </a:lnTo>
                <a:lnTo>
                  <a:pt x="161925" y="0"/>
                </a:lnTo>
                <a:lnTo>
                  <a:pt x="215900" y="53975"/>
                </a:lnTo>
                <a:lnTo>
                  <a:pt x="161925" y="107950"/>
                </a:lnTo>
                <a:lnTo>
                  <a:pt x="161925" y="80963"/>
                </a:lnTo>
                <a:lnTo>
                  <a:pt x="94456" y="80963"/>
                </a:lnTo>
                <a:lnTo>
                  <a:pt x="94456" y="80963"/>
                </a:lnTo>
                <a:arcTo wR="40481" hR="40481" stAng="-5400000" swAng="-5400000"/>
                <a:lnTo>
                  <a:pt x="53975" y="12969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786040" cy="209880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33"/>
          <p:cNvSpPr/>
          <p:nvPr/>
        </p:nvSpPr>
        <p:spPr>
          <a:xfrm>
            <a:off x="3924360" y="43657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nkructwa mniej konkurencyjnych przedsiębiorst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0" name="Łącznik prosty ze strzałką 35"/>
          <p:cNvCxnSpPr/>
          <p:nvPr/>
        </p:nvCxnSpPr>
        <p:spPr>
          <a:xfrm>
            <a:off x="4427280" y="3212640"/>
            <a:ext cx="1080" cy="108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8. Pieniądz robi pieniądz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ole tekstowe 1"/>
          <p:cNvSpPr/>
          <p:nvPr/>
        </p:nvSpPr>
        <p:spPr>
          <a:xfrm>
            <a:off x="755640" y="148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pita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ole tekstowe 4"/>
          <p:cNvSpPr/>
          <p:nvPr/>
        </p:nvSpPr>
        <p:spPr>
          <a:xfrm>
            <a:off x="2268360" y="1579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y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4" name="Łącznik prosty ze strzałką 3"/>
          <p:cNvCxnSpPr/>
          <p:nvPr/>
        </p:nvCxnSpPr>
        <p:spPr>
          <a:xfrm>
            <a:off x="1547280" y="1763280"/>
            <a:ext cx="577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Łącznik prosty ze strzałką 6"/>
          <p:cNvCxnSpPr/>
          <p:nvPr/>
        </p:nvCxnSpPr>
        <p:spPr>
          <a:xfrm>
            <a:off x="3691080" y="1740960"/>
            <a:ext cx="1224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Łącznik prosty ze strzałką 8"/>
          <p:cNvCxnSpPr/>
          <p:nvPr/>
        </p:nvCxnSpPr>
        <p:spPr>
          <a:xfrm>
            <a:off x="3348000" y="1949040"/>
            <a:ext cx="1008720" cy="61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7" name="Łącznik prosty ze strzałką 10"/>
          <p:cNvCxnSpPr/>
          <p:nvPr/>
        </p:nvCxnSpPr>
        <p:spPr>
          <a:xfrm flipH="1" flipV="1">
            <a:off x="1258200" y="3152520"/>
            <a:ext cx="2809080" cy="1113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8" name="pole tekstowe 13"/>
          <p:cNvSpPr/>
          <p:nvPr/>
        </p:nvSpPr>
        <p:spPr>
          <a:xfrm>
            <a:off x="646200" y="27478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kumul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ole tekstowe 14"/>
          <p:cNvSpPr/>
          <p:nvPr/>
        </p:nvSpPr>
        <p:spPr>
          <a:xfrm>
            <a:off x="4067280" y="256536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y ruch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ole tekstowe 15"/>
          <p:cNvSpPr/>
          <p:nvPr/>
        </p:nvSpPr>
        <p:spPr>
          <a:xfrm>
            <a:off x="4788000" y="15796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y stał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1" name="Łącznik prosty ze strzałką 12"/>
          <p:cNvCxnSpPr/>
          <p:nvPr/>
        </p:nvCxnSpPr>
        <p:spPr>
          <a:xfrm>
            <a:off x="5796000" y="1741320"/>
            <a:ext cx="937440" cy="23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2" name="pole tekstowe 18"/>
          <p:cNvSpPr/>
          <p:nvPr/>
        </p:nvSpPr>
        <p:spPr>
          <a:xfrm>
            <a:off x="6732720" y="1619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kup maszy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Łącznik prosty ze strzałką 17"/>
          <p:cNvCxnSpPr/>
          <p:nvPr/>
        </p:nvCxnSpPr>
        <p:spPr>
          <a:xfrm>
            <a:off x="5508360" y="2060640"/>
            <a:ext cx="756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4" name="pole tekstowe 22"/>
          <p:cNvSpPr/>
          <p:nvPr/>
        </p:nvSpPr>
        <p:spPr>
          <a:xfrm>
            <a:off x="6372360" y="23796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 obsług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Łącznik prosty ze strzałką 21"/>
          <p:cNvCxnSpPr/>
          <p:nvPr/>
        </p:nvCxnSpPr>
        <p:spPr>
          <a:xfrm>
            <a:off x="5292360" y="2257200"/>
            <a:ext cx="648360" cy="710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6" name="pole tekstowe 23"/>
          <p:cNvSpPr/>
          <p:nvPr/>
        </p:nvSpPr>
        <p:spPr>
          <a:xfrm>
            <a:off x="5940360" y="29671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mortyz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7" name="Łącznik prosty ze strzałką 25"/>
          <p:cNvCxnSpPr/>
          <p:nvPr/>
        </p:nvCxnSpPr>
        <p:spPr>
          <a:xfrm>
            <a:off x="2700000" y="1949400"/>
            <a:ext cx="432360" cy="107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8" name="pole tekstowe 28"/>
          <p:cNvSpPr/>
          <p:nvPr/>
        </p:nvSpPr>
        <p:spPr>
          <a:xfrm>
            <a:off x="2843280" y="3116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ychó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9" name="Łącznik prosty ze strzałką 27"/>
          <p:cNvCxnSpPr/>
          <p:nvPr/>
        </p:nvCxnSpPr>
        <p:spPr>
          <a:xfrm>
            <a:off x="3564000" y="3573360"/>
            <a:ext cx="79272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Łącznik prosty ze strzałką 30"/>
          <p:cNvCxnSpPr>
            <a:stCxn id="219" idx="2"/>
          </p:cNvCxnSpPr>
          <p:nvPr/>
        </p:nvCxnSpPr>
        <p:spPr>
          <a:xfrm flipH="1">
            <a:off x="4500360" y="3211200"/>
            <a:ext cx="180000" cy="794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Łącznik prosty ze strzałką 13312"/>
          <p:cNvCxnSpPr/>
          <p:nvPr/>
        </p:nvCxnSpPr>
        <p:spPr>
          <a:xfrm flipH="1">
            <a:off x="4914720" y="3336480"/>
            <a:ext cx="1458000" cy="66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Łącznik prosty ze strzałką 13315"/>
          <p:cNvCxnSpPr/>
          <p:nvPr/>
        </p:nvCxnSpPr>
        <p:spPr>
          <a:xfrm flipH="1">
            <a:off x="4679280" y="2931840"/>
            <a:ext cx="1693080" cy="107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Łącznik prosty ze strzałką 13317"/>
          <p:cNvCxnSpPr/>
          <p:nvPr/>
        </p:nvCxnSpPr>
        <p:spPr>
          <a:xfrm flipH="1">
            <a:off x="4588920" y="2060640"/>
            <a:ext cx="214380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4" name="pole tekstowe 13318"/>
          <p:cNvSpPr/>
          <p:nvPr/>
        </p:nvSpPr>
        <p:spPr>
          <a:xfrm>
            <a:off x="4067280" y="40813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5" name="Łącznik prosty ze strzałką 13321"/>
          <p:cNvCxnSpPr>
            <a:stCxn id="234" idx="1"/>
          </p:cNvCxnSpPr>
          <p:nvPr/>
        </p:nvCxnSpPr>
        <p:spPr>
          <a:xfrm flipH="1" flipV="1">
            <a:off x="1546920" y="1949040"/>
            <a:ext cx="2520360" cy="231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6" name="pole tekstowe 13322"/>
          <p:cNvSpPr/>
          <p:nvPr/>
        </p:nvSpPr>
        <p:spPr>
          <a:xfrm>
            <a:off x="1116000" y="44496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żeli zysk jest wystarczający na akumulację i co najmniej zwrot kapitału, można pokusić się o nową inwestycj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8. Pieniądz robi pieniądz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ole tekstowe 2"/>
          <p:cNvSpPr/>
          <p:nvPr/>
        </p:nvSpPr>
        <p:spPr>
          <a:xfrm>
            <a:off x="755640" y="1557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yskusyjne filmy o kapitalizmi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mE_buCxAoP0 (dostęp 20.05.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TUZPBws9pGE (dostęp 20.05.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Rekiny i płotki czyli fazy kapitalizmu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3527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Kapitalizm wolnokonkurencyjny (liberal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1" name="Łącznik prosty ze strzałką 2"/>
          <p:cNvCxnSpPr/>
          <p:nvPr/>
        </p:nvCxnSpPr>
        <p:spPr>
          <a:xfrm>
            <a:off x="3850920" y="2349360"/>
            <a:ext cx="280908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2" name="Symbol zastępczy zawartości 2"/>
          <p:cNvSpPr/>
          <p:nvPr/>
        </p:nvSpPr>
        <p:spPr>
          <a:xfrm>
            <a:off x="5262480" y="3807000"/>
            <a:ext cx="3125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  <a:ea typeface="Arial"/>
              </a:rPr>
              <a:t>Kapitalizm monopolistyczny (imperial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Łącznik prosty ze strzałką 4"/>
          <p:cNvCxnSpPr>
            <a:stCxn id="242" idx="1"/>
          </p:cNvCxnSpPr>
          <p:nvPr/>
        </p:nvCxnSpPr>
        <p:spPr>
          <a:xfrm flipH="1">
            <a:off x="3634920" y="4382640"/>
            <a:ext cx="162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pole tekstowe 6"/>
          <p:cNvSpPr/>
          <p:nvPr/>
        </p:nvSpPr>
        <p:spPr>
          <a:xfrm>
            <a:off x="1835280" y="3807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lub woj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Łącznik prosty ze strzałką 8"/>
          <p:cNvCxnSpPr/>
          <p:nvPr/>
        </p:nvCxnSpPr>
        <p:spPr>
          <a:xfrm flipH="1" flipV="1">
            <a:off x="2195280" y="2707560"/>
            <a:ext cx="14472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6" name="pole tekstowe 9"/>
          <p:cNvSpPr/>
          <p:nvPr/>
        </p:nvSpPr>
        <p:spPr>
          <a:xfrm>
            <a:off x="6824520" y="14605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dna z teorii przemian kapitaliz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ole tekstowe 12"/>
          <p:cNvSpPr/>
          <p:nvPr/>
        </p:nvSpPr>
        <p:spPr>
          <a:xfrm>
            <a:off x="4643280" y="238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ole tekstowe 15"/>
          <p:cNvSpPr/>
          <p:nvPr/>
        </p:nvSpPr>
        <p:spPr>
          <a:xfrm>
            <a:off x="4089240" y="39466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ole tekstowe 16"/>
          <p:cNvSpPr/>
          <p:nvPr/>
        </p:nvSpPr>
        <p:spPr>
          <a:xfrm>
            <a:off x="2328840" y="2908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Łącznik prosty ze strzałką 14"/>
          <p:cNvCxnSpPr/>
          <p:nvPr/>
        </p:nvCxnSpPr>
        <p:spPr>
          <a:xfrm flipH="1">
            <a:off x="1042560" y="2708280"/>
            <a:ext cx="21672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1" name="pole tekstowe 17"/>
          <p:cNvSpPr/>
          <p:nvPr/>
        </p:nvSpPr>
        <p:spPr>
          <a:xfrm>
            <a:off x="468360" y="465300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pitalizm global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ole tekstowe 20"/>
          <p:cNvSpPr/>
          <p:nvPr/>
        </p:nvSpPr>
        <p:spPr>
          <a:xfrm>
            <a:off x="1158840" y="32367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Łącznik prosty ze strzałką 19"/>
          <p:cNvCxnSpPr/>
          <p:nvPr/>
        </p:nvCxnSpPr>
        <p:spPr>
          <a:xfrm>
            <a:off x="1150560" y="4959000"/>
            <a:ext cx="1080" cy="70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4" name="pole tekstowe 21"/>
          <p:cNvSpPr/>
          <p:nvPr/>
        </p:nvSpPr>
        <p:spPr>
          <a:xfrm>
            <a:off x="1022400" y="580536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10. Robotn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rostokąt 5"/>
          <p:cNvSpPr/>
          <p:nvPr/>
        </p:nvSpPr>
        <p:spPr>
          <a:xfrm>
            <a:off x="601560" y="465300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suedwatch.de/blog/wp-content/uploads/2012/05/arbeiter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2" descr="C:\Users\Grześ\Downloads\arbeiter3.jpg"/>
          <p:cNvPicPr/>
          <p:nvPr/>
        </p:nvPicPr>
        <p:blipFill>
          <a:blip r:embed="rId1"/>
          <a:stretch/>
        </p:blipFill>
        <p:spPr>
          <a:xfrm>
            <a:off x="839880" y="1150920"/>
            <a:ext cx="2363760" cy="3519360"/>
          </a:xfrm>
          <a:prstGeom prst="rect">
            <a:avLst/>
          </a:prstGeom>
          <a:ln w="0">
            <a:noFill/>
          </a:ln>
        </p:spPr>
      </p:pic>
      <p:sp>
        <p:nvSpPr>
          <p:cNvPr id="261" name="pole tekstowe 6"/>
          <p:cNvSpPr/>
          <p:nvPr/>
        </p:nvSpPr>
        <p:spPr>
          <a:xfrm>
            <a:off x="3203640" y="1700280"/>
            <a:ext cx="511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jawiskiem społecznym nieodmiennie związanym z kapitalizmem byli (i są ) robotnicy. Stanowili niezbędny składnik rozwoju kapitału, jakim była praca, ale jednocześnie rezerwę prostą. Inaczej mówiąc, łatwiej zwolnić robotnika, niż sprzedać maszynę. Dlatego przeciwnicy kapitalizmu zakładali jego obalenie rękami robotników i stworzenie systemu, który byłby robotniczym rajem. Kiedy jednak system taki powstał, sytuacja robotników poprawiła się niezauważalnie (poza wizerunkiem propagandowym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1268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Skąd nazwa „rewolucja przemysłowa”?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71640" y="1700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Pochodzenie nazwy kapitalizm – czyli skąd wziąć pieniądze i gdzie je ulokowa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2276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Maszyna i fabry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71640" y="2637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Maszyna parowa – rewolucja w świecie napędu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71640" y="3141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Jak przemysł lekki wpływał na ciężki (i odwrotni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71640" y="3645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Przyspieszenie – wpływ transportu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71640" y="422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7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Kryzys –prosperity –kryzys - prosperity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71640" y="4724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8. Pieniądz robi pieniądz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522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9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Rekiny i płotki czyli fazy kapitalizmu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97164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10. Robotni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13200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http://pl.wikipedia.org/wiki/Rewolucja_przemys%C5%82ow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Bell Daniel, Kulturowe sprzeczności kapitalizmu, PWN, Warszawa 1998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Berger Peter L., Rewolucja kapitalistyczna, Oficyna Naukowa, Warszawa 1995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Lilley Samuel,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 Ludzie maszyny i historia, PWN, 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 Warszawa 196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Michalkiewicz Stanisław, 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Dobry „zły” liberalizm.,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 Wydawnictwo von Borowiecky, Radzymin 200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Sproule Anna, 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James Watt. Jak rozwój maszyn parowych stworzył nasze społeczeństwo przemysłowe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, Czytelnik, Warszawa 1992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Weber M.,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 Etyka protestancka a duch kapitalizmu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, tł. Dorota Lachowska, Wydawnictwa Uniwersytetu Warszawskiego Warszawa 201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32000" y="184464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kapitaliz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rewoluc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przemysł lekki ciężk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kolej żelaz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fabry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inwestyc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robot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rezerwa pr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 dziejach ludzkości postęp techniczny następował powoli i stopniowo – udoskonalano istniejące wynalazki, lub wprowadzano wcześniejsze pomysł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Zdarza się, że dokonano wynalazków o takim znaczeniu, że jeden wynalazek powodował następne itd. Nazywamy to rewolucją techniczn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311200" cy="173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597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Pierwszą rewolucją był neolit  (pocz. ok. 8-9 tys. lat. p.n.e., w naszej części Europy 5200 p.n.e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Wynalazki okresu neolitu (hodowla zwierząt, rolnictwo, osiadłe życie) miały wpływ na szybkie wynalezienie innych – koło, żagiel, wiosło sterowe, wóz zaprzęgowy, metalurgia, szkł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Drugą rewolucją była rewolucja przemysłowa (XVIII-XIX w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Zakończono konsumowanie wynalazków z okresu neolitu i wprowadzono dwa, które spowodowały gwałtowny postęp – produkcję fabryczną i silnik parow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191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Pochodzenie nazwy kapitalizm – czyli skąd wziąć pieniądze i gdzie je ulokowa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708000" y="1600200"/>
            <a:ext cx="49784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898989"/>
                </a:solidFill>
                <a:latin typeface="Calibri"/>
              </a:rPr>
              <a:t>W okresie średniowiecza i nowożytności rozwija się bankowość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898989"/>
                </a:solidFill>
                <a:latin typeface="Calibri"/>
              </a:rPr>
              <a:t>Bankierzy mają pieniądze, szukają jednak takich źródeł ich inwestowania, by w razie kryzysu nie tracić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898989"/>
                </a:solidFill>
                <a:latin typeface="Calibri"/>
              </a:rPr>
              <a:t>Inwestują  w produkcję – pożyczają rzemieślnikom, w końcu sami organizują system nakładczy i manufaktu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http://topbankowiec.pl/wp-content/uploads/2010/10/4.jpg"/>
          <p:cNvPicPr/>
          <p:nvPr/>
        </p:nvPicPr>
        <p:blipFill>
          <a:blip r:embed="rId1"/>
          <a:stretch/>
        </p:blipFill>
        <p:spPr>
          <a:xfrm>
            <a:off x="395280" y="1700280"/>
            <a:ext cx="3240000" cy="2563920"/>
          </a:xfrm>
          <a:prstGeom prst="rect">
            <a:avLst/>
          </a:prstGeom>
          <a:ln w="0">
            <a:noFill/>
          </a:ln>
        </p:spPr>
      </p:pic>
      <p:sp>
        <p:nvSpPr>
          <p:cNvPr id="121" name="pole tekstowe 4"/>
          <p:cNvSpPr/>
          <p:nvPr/>
        </p:nvSpPr>
        <p:spPr>
          <a:xfrm>
            <a:off x="684360" y="4292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opbankowiec.pl/historia-bankowosci-od-templariuszy-do-dominacji-amsterdam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91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2. Pochodzenie nazwy kapitalizm? – czyli skąd wziąć pieniądze i gdzie je ulokować? c.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3059280" y="3141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apita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6"/>
          <p:cNvSpPr/>
          <p:nvPr/>
        </p:nvSpPr>
        <p:spPr>
          <a:xfrm>
            <a:off x="250920" y="177336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dsetki od udzielonych pożycz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7"/>
          <p:cNvSpPr/>
          <p:nvPr/>
        </p:nvSpPr>
        <p:spPr>
          <a:xfrm>
            <a:off x="324000" y="285264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chod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kolon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8"/>
          <p:cNvSpPr/>
          <p:nvPr/>
        </p:nvSpPr>
        <p:spPr>
          <a:xfrm>
            <a:off x="395280" y="3645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chó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produkcj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manufaktur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9"/>
          <p:cNvSpPr/>
          <p:nvPr/>
        </p:nvSpPr>
        <p:spPr>
          <a:xfrm>
            <a:off x="395280" y="4797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chód z ziemi (wynajmu nieruchomośc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rolnictw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10"/>
          <p:cNvSpPr/>
          <p:nvPr/>
        </p:nvSpPr>
        <p:spPr>
          <a:xfrm>
            <a:off x="5292720" y="1844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pożycz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11"/>
          <p:cNvSpPr/>
          <p:nvPr/>
        </p:nvSpPr>
        <p:spPr>
          <a:xfrm>
            <a:off x="5364000" y="256536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owanie w wyprawy odkrywcz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eksploatacje kolon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12"/>
          <p:cNvSpPr/>
          <p:nvPr/>
        </p:nvSpPr>
        <p:spPr>
          <a:xfrm>
            <a:off x="5435640" y="378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kup nowych urządzeń i masz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13"/>
          <p:cNvSpPr/>
          <p:nvPr/>
        </p:nvSpPr>
        <p:spPr>
          <a:xfrm>
            <a:off x="5435640" y="47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kata  w ziemi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Łącznik prosty ze strzałką 15"/>
          <p:cNvCxnSpPr/>
          <p:nvPr/>
        </p:nvCxnSpPr>
        <p:spPr>
          <a:xfrm>
            <a:off x="1547640" y="2491920"/>
            <a:ext cx="144036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Łącznik prosty ze strzałką 17"/>
          <p:cNvCxnSpPr/>
          <p:nvPr/>
        </p:nvCxnSpPr>
        <p:spPr>
          <a:xfrm>
            <a:off x="1403280" y="3357720"/>
            <a:ext cx="144036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Łącznik prosty ze strzałką 19"/>
          <p:cNvCxnSpPr/>
          <p:nvPr/>
        </p:nvCxnSpPr>
        <p:spPr>
          <a:xfrm flipV="1">
            <a:off x="1834920" y="3644640"/>
            <a:ext cx="1369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5" name="Łącznik prosty ze strzałką 21"/>
          <p:cNvCxnSpPr/>
          <p:nvPr/>
        </p:nvCxnSpPr>
        <p:spPr>
          <a:xfrm flipV="1">
            <a:off x="2268000" y="3788640"/>
            <a:ext cx="108036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Łącznik prosty ze strzałką 30"/>
          <p:cNvCxnSpPr/>
          <p:nvPr/>
        </p:nvCxnSpPr>
        <p:spPr>
          <a:xfrm>
            <a:off x="3708360" y="3789360"/>
            <a:ext cx="1512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Łącznik prosty ze strzałką 32"/>
          <p:cNvCxnSpPr/>
          <p:nvPr/>
        </p:nvCxnSpPr>
        <p:spPr>
          <a:xfrm flipH="1">
            <a:off x="2195280" y="4005000"/>
            <a:ext cx="2953440" cy="416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8" name="Łącznik prosty ze strzałką 39"/>
          <p:cNvCxnSpPr/>
          <p:nvPr/>
        </p:nvCxnSpPr>
        <p:spPr>
          <a:xfrm flipH="1">
            <a:off x="1618560" y="2133720"/>
            <a:ext cx="3529800" cy="272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9" name="Łącznik prosty ze strzałką 40"/>
          <p:cNvCxnSpPr>
            <a:endCxn id="125" idx="3"/>
          </p:cNvCxnSpPr>
          <p:nvPr/>
        </p:nvCxnSpPr>
        <p:spPr>
          <a:xfrm flipH="1">
            <a:off x="1907640" y="3068640"/>
            <a:ext cx="3385440" cy="1087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0" name="Łącznik prosty ze strzałką 41"/>
          <p:cNvCxnSpPr/>
          <p:nvPr/>
        </p:nvCxnSpPr>
        <p:spPr>
          <a:xfrm flipH="1">
            <a:off x="2484000" y="4981320"/>
            <a:ext cx="2952000" cy="416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1" name="Łącznik prosty ze strzałką 44"/>
          <p:cNvCxnSpPr/>
          <p:nvPr/>
        </p:nvCxnSpPr>
        <p:spPr>
          <a:xfrm flipV="1">
            <a:off x="3924360" y="2276280"/>
            <a:ext cx="108000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Łącznik prosty ze strzałką 45"/>
          <p:cNvCxnSpPr/>
          <p:nvPr/>
        </p:nvCxnSpPr>
        <p:spPr>
          <a:xfrm flipV="1">
            <a:off x="4140000" y="3284280"/>
            <a:ext cx="115272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3. Maszyna i fabry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445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prowadzenie fabryk zmieniło świat. Fabryka (czyli miejsce, gdzie masowo produkuje się wyroby, których wytwarzanie podzielone jest na proste czynności) pozostałaby jednak manufakturą, gdyby nie maszy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39640" y="3075120"/>
            <a:ext cx="3527640" cy="2657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lik:Spinning jenny.jpg"/>
          <p:cNvPicPr/>
          <p:nvPr/>
        </p:nvPicPr>
        <p:blipFill>
          <a:blip r:embed="rId2"/>
          <a:stretch/>
        </p:blipFill>
        <p:spPr>
          <a:xfrm>
            <a:off x="4265640" y="3218040"/>
            <a:ext cx="2871720" cy="237168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"/>
          <p:cNvSpPr/>
          <p:nvPr/>
        </p:nvSpPr>
        <p:spPr>
          <a:xfrm>
            <a:off x="7164360" y="327348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Źródło: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http://pl.wikipedia.org/wiki/Plik:Spinning_jenny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Wynaleziona przez Roberta Newcomena, usprawniona przez Jamesa Watta (prototyp 1753 r., działanie na skalę przemysłową – 1776). Napęd wind, pomp, urządzeń przemysłow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Źródło: 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partacus.schoolnet.co.uk/TEXrotary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http://www.spartacus.schoolnet.co.uk/TEXrota.jpg"/>
          <p:cNvPicPr/>
          <p:nvPr/>
        </p:nvPicPr>
        <p:blipFill>
          <a:blip r:embed="rId2"/>
          <a:stretch/>
        </p:blipFill>
        <p:spPr>
          <a:xfrm>
            <a:off x="395280" y="1557360"/>
            <a:ext cx="44956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4T09:49:55Z</dcterms:modified>
  <cp:revision>50</cp:revision>
  <dc:subject/>
  <dc:title>Slajd 1</dc:title>
</cp:coreProperties>
</file>