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6C2C-FABC-4B37-82FD-C4F263450BE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8354-DF47-4F90-BF20-8706F153BBE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B8A1-07DB-404C-A8A9-83F3BA0DDC5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3F5F-9CA7-43FD-A6B0-FD4CB6DC568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8079-342D-4476-B6D1-AC28A1D3141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DE17-6507-4D30-BE4E-4A9A7C9B31F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E8D5-7D0C-4BAD-BCAB-90862058D49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3F07-99EE-406C-B9FE-47527D8B5BB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921B-E815-48CB-A7DF-3601E4CE22F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EF03-2685-4D15-BC2C-779B694B937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FCB-5444-429E-A321-133107FC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4CE-6C15-482E-9FDD-458FC262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CFC-C479-477E-8833-9BBD12E3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F8B-FAE7-4186-9386-DD7FA566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9D9A-3B82-45C7-8148-CEE9C8FF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2259-2706-4904-9F39-4E34196C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5723-EECD-4253-8ADA-7916BFCE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9E34-072F-4B3A-A609-CB632AC4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B225-F8CC-4E29-B4FD-E30D3653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D138-B5C1-410D-A347-4A68E191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4578-B567-4802-B820-9C0AED7E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83D-76C0-4350-922B-4A26120B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F61A-ACF8-4A27-AD2F-4A69C711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A13C-4FB4-4E68-B3CD-69D1F209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10A8-828B-4A94-BEBA-6E501A8F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9D1B-B6E0-4172-9147-DE6F70CD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9F3F-0D77-4638-A2A0-6D6A18E9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1AF-2B2E-497D-9FFF-63B60007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ABD5-E304-48C3-A533-F15E378A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57E-F704-4B89-B708-894655FC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1300-930A-4006-A890-06887D66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B91-2385-443D-B05E-DE0E0283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93C9-1F7B-4992-A3C3-C542E8E2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A306-BFB7-484A-9D5B-F2DE95B2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B2A5-0C6F-4848-8D59-AF4591A2996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3EEB-11BA-42A7-AA85-DE37E2B6C5C2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c/cd/Cleric-Knight-Workman.jpg/250px-Cleric-Knight-Workman.jpg" TargetMode="External"/><Relationship Id="rId2" Type="http://schemas.openxmlformats.org/officeDocument/2006/relationships/hyperlink" Target="http://biografie.eu.interia.pl/biografie/adam_smith.html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hyperlink" Target="http://upload.wikimedia.org/wikipedia/commons/thumb/c/cd/Cleric-Knight-Workman.jpg/250px-Cleric-Knight-Workman.jpg" TargetMode="External"/><Relationship Id="rId6" Type="http://schemas.openxmlformats.org/officeDocument/2006/relationships/hyperlink" Target="http://upload.wikimedia.org/wikipedia/commons/thumb/c/cd/Cleric-Knight-Workman.jpg/250px-Cleric-Knight-Workman.jpg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istorion.pl/ideologie-polityczne-liberalizm-historia/adam-smith/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87640" y="1125000"/>
            <a:ext cx="345600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6. Gospodarka. 12. Wielcy teoretycy kapitalizmu. Od Adama Smitha do von Hayeka.</a:t>
            </a: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556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3"/>
          <p:cNvSpPr/>
          <p:nvPr/>
        </p:nvSpPr>
        <p:spPr>
          <a:xfrm>
            <a:off x="324000" y="486900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iografie.eu.interia.pl/biografie/adam_smith.html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http://biografie.eu.interia.pl/biografie/img/adam_smith.jpg"/>
          <p:cNvPicPr/>
          <p:nvPr/>
        </p:nvPicPr>
        <p:blipFill>
          <a:blip r:embed="rId3"/>
          <a:stretch/>
        </p:blipFill>
        <p:spPr>
          <a:xfrm>
            <a:off x="250920" y="1268280"/>
            <a:ext cx="2733480" cy="3333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VON HAYEK"/>
          <p:cNvPicPr/>
          <p:nvPr/>
        </p:nvPicPr>
        <p:blipFill>
          <a:blip r:embed="rId4"/>
          <a:stretch/>
        </p:blipFill>
        <p:spPr>
          <a:xfrm>
            <a:off x="6588000" y="1125360"/>
            <a:ext cx="2087640" cy="2813400"/>
          </a:xfrm>
          <a:prstGeom prst="rect">
            <a:avLst/>
          </a:prstGeom>
          <a:ln w="0">
            <a:noFill/>
          </a:ln>
        </p:spPr>
      </p:pic>
      <p:sp>
        <p:nvSpPr>
          <p:cNvPr id="100" name="Prostokąt 7"/>
          <p:cNvSpPr/>
          <p:nvPr/>
        </p:nvSpPr>
        <p:spPr>
          <a:xfrm>
            <a:off x="6012000" y="400536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Źródło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filosofico.net/hayek.htm 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rostokąt 5"/>
          <p:cNvSpPr/>
          <p:nvPr/>
        </p:nvSpPr>
        <p:spPr>
          <a:xfrm>
            <a:off x="0" y="5373720"/>
            <a:ext cx="201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istorion.pl/ideologie-polityczne-liberalizm-historia/adam-smith/ </a:t>
            </a: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Dostęp 19.05.201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5832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rodziny liberalizmu ekonomiczn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http://historion.pl/wp-content/uploads/2012/07/Adam-Smith.jpg"/>
          <p:cNvPicPr/>
          <p:nvPr/>
        </p:nvPicPr>
        <p:blipFill>
          <a:blip r:embed="rId2"/>
          <a:stretch/>
        </p:blipFill>
        <p:spPr>
          <a:xfrm>
            <a:off x="250920" y="1700280"/>
            <a:ext cx="2124000" cy="316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John Locke"/>
          <p:cNvPicPr/>
          <p:nvPr/>
        </p:nvPicPr>
        <p:blipFill>
          <a:blip r:embed="rId3"/>
          <a:stretch/>
        </p:blipFill>
        <p:spPr>
          <a:xfrm>
            <a:off x="6372360" y="1197000"/>
            <a:ext cx="2209680" cy="2857320"/>
          </a:xfrm>
          <a:prstGeom prst="rect">
            <a:avLst/>
          </a:prstGeom>
          <a:ln w="0">
            <a:noFill/>
          </a:ln>
        </p:spPr>
      </p:pic>
      <p:sp>
        <p:nvSpPr>
          <p:cNvPr id="105" name="pole tekstowe 7"/>
          <p:cNvSpPr/>
          <p:nvPr/>
        </p:nvSpPr>
        <p:spPr>
          <a:xfrm>
            <a:off x="3132000" y="1628640"/>
            <a:ext cx="273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wórcą liberalizmu, czyli ideologii, w której najważniejsza jest wolność był Anglik John Lock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 ekonomii przeniósł ideę wolności Szkot Adam Smith (1723 – 1790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konomiści dzielą dzieje ekonomii na przedklasyczny i klasyczny. Klasyczny zaczyna się od publikacji w 1776 roku książki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Badania nad naturą i przyczynami bogactwa narodów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dama Smith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Łącznik prosty ze strzałką 9"/>
          <p:cNvCxnSpPr/>
          <p:nvPr/>
        </p:nvCxnSpPr>
        <p:spPr>
          <a:xfrm>
            <a:off x="5435640" y="2636640"/>
            <a:ext cx="79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Łącznik prosty ze strzałką 11"/>
          <p:cNvCxnSpPr/>
          <p:nvPr/>
        </p:nvCxnSpPr>
        <p:spPr>
          <a:xfrm flipH="1">
            <a:off x="2483640" y="3212640"/>
            <a:ext cx="648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411280" y="1628280"/>
            <a:ext cx="6337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898989"/>
                </a:solidFill>
                <a:latin typeface="Calibri"/>
              </a:rPr>
              <a:t>Państwo nie może wtrącać się do gospodarki. Trzeba pozwolić  ludziom działać! Ludzie dążą do zysku – będą więc produkować to, co się opłaca! Podstawą rozwoju jest wymiana. Wyróżniał trzy przeliczniki wartości – kruszce, zboże i pracę. Kruszce liczyły się w bieżącej wymianie, zboże było przelicznikiem wieloletnim, a ludzka praca – najważniejszym i uniwersalny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79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Laisez faire” – pozwólcie działać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rostokąt 4"/>
          <p:cNvSpPr/>
          <p:nvPr/>
        </p:nvSpPr>
        <p:spPr>
          <a:xfrm>
            <a:off x="250920" y="3068640"/>
            <a:ext cx="208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bejrzyj fil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GSoIb_RulH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dostęp: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626920" y="5157720"/>
            <a:ext cx="47134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98989"/>
                </a:solidFill>
                <a:latin typeface="Calibri"/>
              </a:rPr>
              <a:t>Obejrzyj film: http://www.youtube.com/watch?v=B8U3ruH8MF0, dostęp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50560" y="-360"/>
            <a:ext cx="583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sada przewagi komparatywn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ole tekstowe 5"/>
          <p:cNvSpPr/>
          <p:nvPr/>
        </p:nvSpPr>
        <p:spPr>
          <a:xfrm>
            <a:off x="2556000" y="1413000"/>
            <a:ext cx="626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avid Ricardo (1772-1823). Wybitny ekonomista, makler giełdowy, który na długoterminowym inwestowaniu dorobił się znacznego majątku. Stworzył tzw. model Ricardo, który prowadził do wniosku, że międzynarodowa wymiana, nieskrępowana żadnymi cłami, kontyngentami i ograniczeniami przynosi wszystkim korzyści.  Kluczem jest specjalizacja narodów w różnych produkta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http://upload.wikimedia.org/wikipedia/commons/6/6f/David_Ricardo(1).jpg"/>
          <p:cNvPicPr/>
          <p:nvPr/>
        </p:nvPicPr>
        <p:blipFill>
          <a:blip r:embed="rId1"/>
          <a:stretch/>
        </p:blipFill>
        <p:spPr>
          <a:xfrm>
            <a:off x="468360" y="1628640"/>
            <a:ext cx="1673280" cy="2376720"/>
          </a:xfrm>
          <a:prstGeom prst="rect">
            <a:avLst/>
          </a:prstGeom>
          <a:ln w="0">
            <a:noFill/>
          </a:ln>
        </p:spPr>
      </p:pic>
      <p:sp>
        <p:nvSpPr>
          <p:cNvPr id="115" name="Prostokąt 7"/>
          <p:cNvSpPr/>
          <p:nvPr/>
        </p:nvSpPr>
        <p:spPr>
          <a:xfrm>
            <a:off x="324000" y="4221000"/>
            <a:ext cx="1584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Źróło: http://upload.wikimedia.org/wikipedia/commons/6/6f/David_Ricardo(1).jpg, dostęp 20.05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5580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Model Ricardo - społeczeństwo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9912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ielcy właściciele ziemscy byli grupą próżniaczą – nic nie wytwarzali, uzyskując przy tym pieniądze kosztem pracy inny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botnicy – uzyskiwali tylko płacę, która była na poziomie minimum utrzymania (całą więc konsumowali), ale wkładali pracę (wg Ricardo najważniejszy przelicznik dóbr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czom kapitału – uzyskiwali potrzebną nadwyżkę, składającą się z różnicy zysku i kosztów pracy . Mogli ją zainwestować, by uzyskać zwiększone zyski w przyszłości. To oni wg Ricardo napędzali gospodarkę. Należy im tylko nie przeszkadzać (tutaj rozwinął myśl Adama Smitha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03280" y="1592280"/>
            <a:ext cx="5329080" cy="39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uka społeczna Kościoła odrzuca zarówno rynek sterowany przez państwo, jak i całkowicie wolny. Państwo ma strzec sprawiedliwości pracy i wymiany. Istotna jest zasada subsydiarności – wsparcie przez najbliższą człowiekowi wspólnotę. Jeżeli wspólnoty te nie mogą pomóc, powinno pomóc państwo. Pomoc powinna się ograniczać do takiego wsparcia, by człowiek sam zaczął sobie radzić. „Dajemy wędkę, a nie rybę”. </a:t>
            </a:r>
            <a:br>
              <a:rPr sz="5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rostokąt 3"/>
          <p:cNvSpPr/>
          <p:nvPr/>
        </p:nvSpPr>
        <p:spPr>
          <a:xfrm>
            <a:off x="395280" y="5445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http://pl.wikipedia.org/wiki/Plik:Leo_XIII..jpg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5"/>
          <p:cNvSpPr/>
          <p:nvPr/>
        </p:nvSpPr>
        <p:spPr>
          <a:xfrm>
            <a:off x="539640" y="476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Nauka społeczna Kościoł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7" descr="Plik:Leo XIII..jpg"/>
          <p:cNvPicPr/>
          <p:nvPr/>
        </p:nvPicPr>
        <p:blipFill>
          <a:blip r:embed="rId1"/>
          <a:stretch/>
        </p:blipFill>
        <p:spPr>
          <a:xfrm>
            <a:off x="468360" y="1557360"/>
            <a:ext cx="2554200" cy="323532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7"/>
          <p:cNvSpPr/>
          <p:nvPr/>
        </p:nvSpPr>
        <p:spPr>
          <a:xfrm>
            <a:off x="539640" y="4869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eon XIII – twórca N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78920" y="2060640"/>
            <a:ext cx="8496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500" spc="-1" strike="noStrike">
                <a:solidFill>
                  <a:srgbClr val="898989"/>
                </a:solidFill>
                <a:latin typeface="Calibri"/>
              </a:rPr>
              <a:t>Dwie zasady sprawiedliwości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500" spc="-1" strike="noStrike">
                <a:solidFill>
                  <a:srgbClr val="898989"/>
                </a:solidFill>
                <a:latin typeface="Calibri"/>
              </a:rPr>
              <a:t>1.„Każda osoba ma mieć równe prawo do jak najszerszej podstawowej wolności możliwej do pogodzenia z podobną wolnością dla innych.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500" spc="-1" strike="noStrike">
                <a:solidFill>
                  <a:srgbClr val="898989"/>
                </a:solidFill>
                <a:latin typeface="Calibri"/>
              </a:rPr>
              <a:t>2. „Nierówności społeczne i ekonomiczne mają być tak ułożone,</a:t>
            </a:r>
            <a:r>
              <a:rPr b="0" lang="pl-PL" sz="25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i="1" lang="pl-PL" sz="2500" spc="-1" strike="noStrike">
                <a:solidFill>
                  <a:srgbClr val="898989"/>
                </a:solidFill>
                <a:latin typeface="Calibri"/>
              </a:rPr>
              <a:t>(a) aby były z największą korzyścią dla najbardziej upośledzonych, pozostając w zgodzie z zasadą sprawiedliwego oszczędzania [zasada dyferencji];</a:t>
            </a:r>
            <a:r>
              <a:rPr b="0" lang="pl-PL" sz="25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i="1" lang="pl-PL" sz="2500" spc="-1" strike="noStrike">
                <a:solidFill>
                  <a:srgbClr val="898989"/>
                </a:solidFill>
                <a:latin typeface="Calibri"/>
              </a:rPr>
              <a:t>i jednocześnie (b) aby były związane z dostępnością urzędów i stanowisk dla wszystkich, w warunkach autentycznej równości szans.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5"/>
          <p:cNvSpPr/>
          <p:nvPr/>
        </p:nvSpPr>
        <p:spPr>
          <a:xfrm>
            <a:off x="539640" y="33336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Calibri"/>
              </a:rPr>
              <a:t>Teoria sprawiedliwości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Johna Rawlsa, czyli nowocześni liberałowie w natarci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50920" y="-36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Fryderyk August von Hayek – powrót do zasad Smit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9" descr="VON HAYEK"/>
          <p:cNvPicPr/>
          <p:nvPr/>
        </p:nvPicPr>
        <p:blipFill>
          <a:blip r:embed="rId1"/>
          <a:stretch/>
        </p:blipFill>
        <p:spPr>
          <a:xfrm>
            <a:off x="250920" y="1052640"/>
            <a:ext cx="2089080" cy="2814480"/>
          </a:xfrm>
          <a:prstGeom prst="rect">
            <a:avLst/>
          </a:prstGeom>
          <a:ln w="0">
            <a:noFill/>
          </a:ln>
        </p:spPr>
      </p:pic>
      <p:sp>
        <p:nvSpPr>
          <p:cNvPr id="127" name="pole tekstowe 7"/>
          <p:cNvSpPr/>
          <p:nvPr/>
        </p:nvSpPr>
        <p:spPr>
          <a:xfrm>
            <a:off x="2484360" y="1197000"/>
            <a:ext cx="62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dwa porządk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den zorganizowany, celowy, ale ekonomicznie niewydol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w ostateczności prowadzący do totalitaryzmu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rugi – tzw. porządek spontaniczny nie ma celu, ale jeżeli wszyscy stosują się w nim do reguł (a więc prawa), spełnia podstawową funkcję – organizuje sensowną ekonomicznie i dobrowolną  współprac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rostokąt 8"/>
          <p:cNvSpPr/>
          <p:nvPr/>
        </p:nvSpPr>
        <p:spPr>
          <a:xfrm>
            <a:off x="0" y="407664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http://www.filosofico.net/hayek.htm 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6-07T04:05:40Z</dcterms:modified>
  <cp:revision>41</cp:revision>
  <dc:subject/>
  <dc:title>Slajd 1</dc:title>
</cp:coreProperties>
</file>