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931-CB33-408A-9B08-F5AC3AE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F67-C583-43A9-BAC3-3A879CB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055-4D05-45E1-BCAC-929E402F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2F7-F9E8-4210-B245-DC65CC65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669-5AF0-436C-ABFE-5F010951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49D-0038-470F-9C99-9CD5F6D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449-55ED-4EA7-A8FF-19872E78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E79-5566-42B7-B0D9-F3B6414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184-1760-41FA-AC8E-F8CE7F17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1CB-B368-4607-AD49-AA625F8B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639-82F0-4E55-B9B0-D980F91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761-4B74-456B-921B-149F23E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7984-9D1C-45E6-A7D2-7406BA7EFF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państwo opiekuńcze jest sprawiedli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357120" y="7858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rug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SZ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357120" y="171468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winien mieć równe możliwości osiągania pozycji i dóbr, a nierówności są dopuszczalne tylko w tym stopniu, w jakim są rezultatem niejednakowego wysiłku, zdolności i własnych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2"/>
          <p:cNvSpPr/>
          <p:nvPr/>
        </p:nvSpPr>
        <p:spPr>
          <a:xfrm>
            <a:off x="357120" y="314316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lę zasług podkreśla się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i merytokracji – nagrody (których rozdział kształtuje nierówności społeczne) powinny być rozdzielane w odpowiedniej proporcji do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3"/>
          <p:cNvSpPr/>
          <p:nvPr/>
        </p:nvSpPr>
        <p:spPr>
          <a:xfrm>
            <a:off x="357120" y="4643280"/>
            <a:ext cx="8429760" cy="42876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 w Polsce działają zasady merytokracj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4"/>
          <p:cNvSpPr/>
          <p:nvPr/>
        </p:nvSpPr>
        <p:spPr>
          <a:xfrm>
            <a:off x="428760" y="642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ec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ARU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5"/>
          <p:cNvSpPr/>
          <p:nvPr/>
        </p:nvSpPr>
        <p:spPr>
          <a:xfrm>
            <a:off x="428760" y="114300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Głównymi reprezentantami tego nurtu stali się teoretycy myśli socjalistycznej, a przede wszystkim marksi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twierdzają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równywanie szans jest niesprawiedliwe, ponieważ nie gwarantuje najbiedniejszym zaspokojenia potrzeb na satysfakcjonując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TRZEBA NIWELOWAĆ, ALE NIE POPRZEZ WYRÓWNYWANIE SZANS NA STARCIE TYLKO CAŁY C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428760" y="4071960"/>
            <a:ext cx="8358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znacza to, ż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żda jednostka powinna w tym samym stopniu uczestniczyć w podziale dóbr, niezależnie od wydatkowanych przez siebie nakładów oraz posiadanego talentu, zasług i własnych zdoln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500040" y="4929120"/>
            <a:ext cx="8358120" cy="7146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Który model jest bardziej SPRAWIEDLI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chemat blokowy: dokument 18"/>
          <p:cNvSpPr/>
          <p:nvPr/>
        </p:nvSpPr>
        <p:spPr>
          <a:xfrm>
            <a:off x="428760" y="1143000"/>
            <a:ext cx="8286480" cy="3643200"/>
          </a:xfrm>
          <a:prstGeom prst="flowChartDocumen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Calibri"/>
              </a:rPr>
              <a:t>Peter Saunders dokonał obrazowego porównania nierówności warunków i szans, odwołując się do metafo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Jeżeli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ć szans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 przypomina wyścig, w którym wszyscy zawodnicy zaczynają bieg z jednej linii startowej, to realizacja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ci warunków 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polega na wyrównaniu szans w trakcie biegu: wolniejszym zawodnikom się pomaga, a wobec szybszych stosuje się ograniczenia i w konsekwencji wszyscy razem dobiegają do m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1"/>
          <p:cNvSpPr/>
          <p:nvPr/>
        </p:nvSpPr>
        <p:spPr>
          <a:xfrm>
            <a:off x="1000080" y="45252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W ASPEKCIE MORAL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2"/>
          <p:cNvSpPr/>
          <p:nvPr/>
        </p:nvSpPr>
        <p:spPr>
          <a:xfrm>
            <a:off x="571680" y="2214720"/>
            <a:ext cx="3357360" cy="3077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żel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lem powinno być ograniczanie nierówności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nieważ najważniejsze jest maksymalne zaspokajanie potrzeb, wyeliminowanie wyzysku i biedy, to główn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oszt realizacji tych celów poniosą kategorie o wyższym statusie material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olennicy lewicy uważają, że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liberałowie są niewrażliwi na krzywdę społeczną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dyż dostrzegają tylko interesy ludzi bogat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rostokąt 13"/>
          <p:cNvSpPr/>
          <p:nvPr/>
        </p:nvSpPr>
        <p:spPr>
          <a:xfrm>
            <a:off x="1143000" y="1143000"/>
            <a:ext cx="2000160" cy="42876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EW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19"/>
          <p:cNvSpPr/>
          <p:nvPr/>
        </p:nvSpPr>
        <p:spPr>
          <a:xfrm>
            <a:off x="5643720" y="1119240"/>
            <a:ext cx="2000160" cy="42840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IBERALI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21"/>
          <p:cNvSpPr/>
          <p:nvPr/>
        </p:nvSpPr>
        <p:spPr>
          <a:xfrm>
            <a:off x="4786200" y="2214720"/>
            <a:ext cx="3929040" cy="3290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są konieczną ceną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jaką należy zapłacić za utrzymanie właściwych proporcji ekonomicznych i przyzwoitego tempa wzros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Uważają, że na nierównościach korzysta nie tylko garstka ludzi bogatych, ale i kategorie o niskim statusie, poniew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możność przedsiębiorczych jednostek powoduje wzrost zamożności ogół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czynia się to do powstawania nowych firm, zwiększa szeregi dostawców, klientów i przedsiębiorców, co napędza koniunkturę i prowadzi do podniesienia stopy życiow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22"/>
          <p:cNvSpPr/>
          <p:nvPr/>
        </p:nvSpPr>
        <p:spPr>
          <a:xfrm>
            <a:off x="285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Zwolen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3"/>
          <p:cNvSpPr/>
          <p:nvPr/>
        </p:nvSpPr>
        <p:spPr>
          <a:xfrm>
            <a:off x="4857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ciw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285840" y="192888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. Domański, Struktura społeczna, Warszawa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L. Jodkowska, Państwo opiekuńcze w Polsce i w Niemczech, Warszawa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Esping-Andersen, Trzy światy kapitalistycznego państwa dobrobytu, Warszawa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biznes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prosperity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514440" y="1928880"/>
            <a:ext cx="6848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aństwo opiekuńcze – defini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zary aktywności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dy i zalety opiekuńczego modelu państ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ierzenie dobrobytu – czy w państwie opiekuńczym żyje się lepiej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prawiedliwość społecz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obec pr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sz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arunk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opieka państwa jest moral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aństwo opiekuńc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2669760" y="157176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bezpieczeństwa socj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. Welfare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928800" y="2857680"/>
            <a:ext cx="742932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aństwo stawiające sobie za cel zabezpieczenie obywateli przed ryzykiem wiążącym się z działaniem gospodarki rynkowej, przede wszystkim z ryzykiem utraty pracy, zdrowia, a także przed ryzykiem wiążącym się ze starośc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To także zespół instytucji państwowych dostarczających obywatelom świadczeń i usług społe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500120" y="52862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em państw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zapewnienie powszechneg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0"/>
          <p:cNvSpPr/>
          <p:nvPr/>
        </p:nvSpPr>
        <p:spPr>
          <a:xfrm>
            <a:off x="142920" y="9288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obawa przed totalitaryzm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aktywna rola państwa w gospodarce (interwencjoniz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1"/>
          <p:cNvSpPr/>
          <p:nvPr/>
        </p:nvSpPr>
        <p:spPr>
          <a:xfrm>
            <a:off x="142920" y="221472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obszary działa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ństwo ingeruje w gospodarkę, zwalcza inflację i bezrobo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społe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rozszerzanie systemu świadczeń i ochrony socjalnej, gwarantowanie obywatelom minimalnych równych praw w dostępie do usług socj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demokracja, likwidacja wszelkich form dyskryminacji (mniejszoś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2920" y="1000080"/>
          <a:ext cx="8858160" cy="396252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l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budowana sfera świadczeń socjalnych (np. zasiłki dla bezrobot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e podat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skie bezrobo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kryzysy gospodarc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 wzrost gospodar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zmiany społeczne (np. starzenie się społeczeństw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latywnie wysokie pł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niejszenie bodźców do podejmowania p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łace minimal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leniwienie lu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tacje i subwenc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uczona bezradność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westycje w eduk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eefekty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ogaty kapitał ludzki (zaufanie, poczucie wspólnot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ijanie” przedsiębiorcz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0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broby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to nie tylko pieniądze, ale jakość życia i dobre samopoczu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rostokąt 11"/>
          <p:cNvSpPr/>
          <p:nvPr/>
        </p:nvSpPr>
        <p:spPr>
          <a:xfrm>
            <a:off x="642960" y="1214280"/>
            <a:ext cx="7858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skaźnik Dobrobytu Legatum (Legatum Prosperity Index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kazał najbardziej i najmniej zamożne państwa w 2012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ierze się w nim pod uwagę jakość wielu czynników warunkujących poziom życia ludzi. Są to np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lność osobista, opieka zdrowotna, bezpieczeństwo, system edukacji, gospodarka, zarządzanie państwem oraz kapitał ludz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 Norweg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 Dan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3. Szwecj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4. Austral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5. Nowa Zelandi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… 32. Pols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6. Kanad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7. Finland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8. Niderland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9. Szwajcar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0. Irlan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rostokąt 11"/>
          <p:cNvSpPr/>
          <p:nvPr/>
        </p:nvSpPr>
        <p:spPr>
          <a:xfrm>
            <a:off x="642960" y="121428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Nie wszystkie państwa na świecie są opiekuńcze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a wśród opiekuńczych występują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óżnice w stopniu tej opiekuńcz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Elementy państwa opiekuńczeg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odnajdujemy w wielu różnych państwach, także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szczególne państwa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lepiej lub gorzej radzą sobie z typowymi problemami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welfar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Sprawiedliwość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214200" y="171468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Art. 2 Konstytucji 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 jest demokratycznym państwem prawnym, urzeczywistniającym zasady </a:t>
            </a:r>
            <a:r>
              <a:rPr b="1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rawiedliwośc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ęciokąt 11"/>
          <p:cNvSpPr/>
          <p:nvPr/>
        </p:nvSpPr>
        <p:spPr>
          <a:xfrm>
            <a:off x="3429000" y="271476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64" y="0"/>
                </a:lnTo>
                <a:lnTo>
                  <a:pt x="21600" y="10800"/>
                </a:lnTo>
                <a:lnTo>
                  <a:pt x="205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móg tworzenia sprawiedliwego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12"/>
          <p:cNvSpPr/>
          <p:nvPr/>
        </p:nvSpPr>
        <p:spPr>
          <a:xfrm>
            <a:off x="5716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le nie tylko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3"/>
          <p:cNvSpPr/>
          <p:nvPr/>
        </p:nvSpPr>
        <p:spPr>
          <a:xfrm>
            <a:off x="285840" y="3786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dnakowe wymagania wobec wszystkich obywate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jrzyste kryteria nagradzania zasług i karania wi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ezstronność organów państw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uprawnienie jednostek lub grup społecznych (np. ze względu na płeć, wyznanie, język, narodowość itp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ięciokąt 14"/>
          <p:cNvSpPr/>
          <p:nvPr/>
        </p:nvSpPr>
        <p:spPr>
          <a:xfrm>
            <a:off x="4286160" y="5143680"/>
            <a:ext cx="4429080" cy="500040"/>
          </a:xfrm>
          <a:custGeom>
            <a:avLst/>
            <a:gdLst>
              <a:gd name="textAreaLeft" fmla="*/ 0 w 4429080"/>
              <a:gd name="textAreaRight" fmla="*/ 4429440 w 4429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1" y="0"/>
                </a:lnTo>
                <a:lnTo>
                  <a:pt x="21600" y="10800"/>
                </a:lnTo>
                <a:lnTo>
                  <a:pt x="20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topia czy rzeczywist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5"/>
          <p:cNvSpPr/>
          <p:nvPr/>
        </p:nvSpPr>
        <p:spPr>
          <a:xfrm>
            <a:off x="571680" y="10000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MODELE NIERÓW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6"/>
          <p:cNvSpPr/>
          <p:nvPr/>
        </p:nvSpPr>
        <p:spPr>
          <a:xfrm>
            <a:off x="571680" y="1500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ierwszy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7"/>
          <p:cNvSpPr/>
          <p:nvPr/>
        </p:nvSpPr>
        <p:spPr>
          <a:xfrm>
            <a:off x="571680" y="2286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dlega tym samym regułom i powinien być karany w ten sam sposób, niezależnie od pochodzenia społecznego, narodowości, wyznania czy pł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8"/>
          <p:cNvSpPr/>
          <p:nvPr/>
        </p:nvSpPr>
        <p:spPr>
          <a:xfrm>
            <a:off x="571680" y="4071960"/>
            <a:ext cx="7715160" cy="9288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Czy to oznacza, że np. w Polsce zawsze wszyscy są równi wobec praw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0T12:58:47Z</dcterms:modified>
  <cp:revision>88</cp:revision>
  <dc:subject/>
  <dc:title>Slajd 1</dc:title>
</cp:coreProperties>
</file>