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5321-15E5-4BEA-A9BE-61E63FEE88D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B368-390A-448C-88D8-51076BD90C0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E920-DE7D-49DA-A977-EC5A3B6508F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2526-7CEE-4616-8481-2FF94E1E4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6B0A-65DB-4D30-910B-7FBA165C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68F6-16AA-46A8-8328-DCF5DFF50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7AAF-C89C-4723-AB25-159DC19C3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7D95-A2F1-4DC5-A33B-156D24A55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8F06-F18E-45F9-B268-1A872060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912A-1396-449D-AC5A-1E9B10F1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8861-7CBE-4302-980A-54ECC801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259A-7F5D-4E4D-AE52-83409127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6F37-53F8-413E-9C4D-35ECCAAE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2464-484D-4E81-8AF8-2ADF3E1D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0624-C766-438C-83D9-1DE30676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BF47-9731-477E-A321-A3C68607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CEC1-38D5-42CA-ABD0-BAC84CD6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7EFC-D817-4B93-98C0-2C5B5A92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465B-CF5A-437E-8061-5EE7130C9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2239-A141-4CDB-9A3C-48B3B0C80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049A-0EA4-45B8-A259-9D091D16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0DD9-8326-4C9E-A88B-EBCC45C6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E26D-190C-4A88-86B9-2B8BC22D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F112-6B01-4D11-84B2-4A09066A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98D7-DD29-4A04-977C-8AA320A6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2EC0-E58F-4E3C-9BC9-594C6EBA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825B-F636-4F85-9D44-41F2A375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84AC-FE6F-4BE2-9567-DA42E4DBC584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1249-C253-4E3F-AA2A-42CB2E6B6773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155700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Arial"/>
              </a:rPr>
              <a:t>Społeczne skutki XIX-wiecznego kapitalizmu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dr Igor Bartos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ole tekstowe 2"/>
          <p:cNvSpPr/>
          <p:nvPr/>
        </p:nvSpPr>
        <p:spPr>
          <a:xfrm>
            <a:off x="0" y="189000"/>
            <a:ext cx="914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Konsekwencje zwiększania się liczebności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klasy robotnicze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ole tekstowe 4"/>
          <p:cNvSpPr/>
          <p:nvPr/>
        </p:nvSpPr>
        <p:spPr>
          <a:xfrm>
            <a:off x="611280" y="1579680"/>
            <a:ext cx="7993080" cy="49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kładanie partii politycznych i związków zawodow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oletariat staje się poważną siłą polityczną, świadomą celów ekonomicznych i społecznych swojej walk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ościół zwraca uwagę na robotników - w encyklice papieża Leona XIII „Rerum novarum” z 1891r. po raz pierwszy pojawia się temat prawa robotników do zrzeszania się i dążenia do sprawiedliwego podziału dób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II połowie XIX wieku poprawił się status robotników (m.in. ubezpieczenia społeczne, ograniczanie czasu pracy oraz wolne niedziel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ole tekstowe 2"/>
          <p:cNvSpPr/>
          <p:nvPr/>
        </p:nvSpPr>
        <p:spPr>
          <a:xfrm>
            <a:off x="0" y="47628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Główne cechy miasta przemysłowego w XIX wiek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ole tekstowe 4"/>
          <p:cNvSpPr/>
          <p:nvPr/>
        </p:nvSpPr>
        <p:spPr>
          <a:xfrm>
            <a:off x="611280" y="1484280"/>
            <a:ext cx="7993080" cy="34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arunki determinujące powstanie miasta przemysłowego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becność koniecznych do produkcji surowców naturalny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stęp do wody - napęd maszy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godna lokalizacja komunikacyj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becność tanich materiałów budowlany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ole tekstowe 2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XIX-wieczna Łód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ole tekstowe 4"/>
          <p:cNvSpPr/>
          <p:nvPr/>
        </p:nvSpPr>
        <p:spPr>
          <a:xfrm>
            <a:off x="611280" y="1341360"/>
            <a:ext cx="799308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brym przykładem miasta przemysłowego XIX wieku jest Łódź –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ziś niemal milionowe miasto położone w centralnej Pols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ej charakter w tamtych czasach dobrze oddają słowa z popularnej piosenki „Walczyk o Łodzi” – „miasto fabryk i kominów, i rewolucyjnych burz”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ksze zasługi dla rozwoju przemysłowej Łodzi mieli trzej fabrykanci – Karol Scheibler, Izrael Poznański i Ludwik Geyer.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budowali w Łodzi kompleksy fabryk włókienniczych. Aby móc przyciągnąć nowe ręce do pracy i zatrzymać wykwalifikowanych robotników budowali również przyfabryczne osiedla, domy, a także szkoły i szpita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ole tekstowe 2"/>
          <p:cNvSpPr/>
          <p:nvPr/>
        </p:nvSpPr>
        <p:spPr>
          <a:xfrm>
            <a:off x="0" y="476280"/>
            <a:ext cx="914400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Fabryka Izraela Poznański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budowana w latach 1872-1892 w Łodz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 skład kompleksu wchodziły m.in. tkalnie, przędzalnie i farbiarn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4" descr="fabryka izraela poznańskiego w łodzi"/>
          <p:cNvPicPr/>
          <p:nvPr/>
        </p:nvPicPr>
        <p:blipFill>
          <a:blip r:embed="rId1"/>
          <a:stretch/>
        </p:blipFill>
        <p:spPr>
          <a:xfrm>
            <a:off x="971640" y="2363760"/>
            <a:ext cx="7129440" cy="3598920"/>
          </a:xfrm>
          <a:prstGeom prst="rect">
            <a:avLst/>
          </a:prstGeom>
          <a:ln w="0">
            <a:noFill/>
          </a:ln>
        </p:spPr>
      </p:pic>
      <p:sp>
        <p:nvSpPr>
          <p:cNvPr id="122" name="pole tekstowe 1"/>
          <p:cNvSpPr/>
          <p:nvPr/>
        </p:nvSpPr>
        <p:spPr>
          <a:xfrm>
            <a:off x="952560" y="6033960"/>
            <a:ext cx="712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http://bi.gazeta.pl/im/8/5404/z5404438Q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ole tekstowe 2"/>
          <p:cNvSpPr/>
          <p:nvPr/>
        </p:nvSpPr>
        <p:spPr>
          <a:xfrm>
            <a:off x="0" y="476280"/>
            <a:ext cx="914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djęcie grupowe pracowników fabryki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Izraela Poznańskiego w Łodz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4" descr="robotnicy w fabryce poznańskiego"/>
          <p:cNvPicPr/>
          <p:nvPr/>
        </p:nvPicPr>
        <p:blipFill>
          <a:blip r:embed="rId1"/>
          <a:stretch/>
        </p:blipFill>
        <p:spPr>
          <a:xfrm>
            <a:off x="1258920" y="1876320"/>
            <a:ext cx="6626160" cy="4600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ole tekstowe 2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zas pra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4"/>
          <p:cNvSpPr/>
          <p:nvPr/>
        </p:nvSpPr>
        <p:spPr>
          <a:xfrm>
            <a:off x="611280" y="1052640"/>
            <a:ext cx="799308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jęcie to pojawiło się wraz z rozwojem miast przemysłow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standaryzacją produkcj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ZAS PRACY jest to liczba godzin w ciągu dnia, podczas których pracownik jest zobowiązany wykonywać pracę zleconą przez pracodawcę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oczątkach kapitalizmu czas pracy nie był regulowany i trwał kilkanaście, do nawet 20 godzin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XIX wieku czas pracy stał się przedmiotem sporów pracownik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 pracodawcami. W ciągu 100 lat (od połowy XIX wieku do połowy XX wieku) czas pracy skrócił się z 90-80 godzin tygodniowo do 40-48 godzi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ole tekstowe 2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ynagrodzenie akordow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4"/>
          <p:cNvSpPr/>
          <p:nvPr/>
        </p:nvSpPr>
        <p:spPr>
          <a:xfrm>
            <a:off x="611280" y="1341360"/>
            <a:ext cx="7993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jęcie to pojawiło się ze wzrostem zatrudnieni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fabrykach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YNAGRODZENIE AKORDOWE zależy od rezultatów pracy pracownika – im efektywniej pracuje, tym jego wynagrodzenie jest wyższe. Było stosowane tam, gdzie liczyły się ilościowe efekty pra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ole tekstowe 2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Mieszkanie zakładow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ole tekstowe 4"/>
          <p:cNvSpPr/>
          <p:nvPr/>
        </p:nvSpPr>
        <p:spPr>
          <a:xfrm>
            <a:off x="611280" y="134136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dowa kompleksów fabrycznych i otaczających fabryki zabudowań mieszkaniowych spowodowała powstanie pojęcia mieszkania zakładow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MIESZKANIE ZAKŁADOWE jest lokalem mieszkalnym, którego właścicielem pozostaje pracodawca i użycza go swojemu pracownikowi na cały czas zatrudnienia lub jego częś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ole tekstowe 2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Industrializac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ole tekstowe 4"/>
          <p:cNvSpPr/>
          <p:nvPr/>
        </p:nvSpPr>
        <p:spPr>
          <a:xfrm>
            <a:off x="611280" y="1628640"/>
            <a:ext cx="799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tensywnie rozwijające się w XIX w. uprzemysłowienie (inaczej INDUSTRIALIZACJA) miało swoje społeczne skut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yludnianie się wsi i migracje ludności do mias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zybka urbanizacja (tworzenie się nowych miast i wzrost ludności w tych już istniejących) związana z tworzeniem się ośrodków przemysłow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ykorzystywanie transportu kolejowego do przemieszczania się ludzi, a nie tylko do celów transportow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ole tekstowe 2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ibliograf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ole tekstowe 4"/>
          <p:cNvSpPr/>
          <p:nvPr/>
        </p:nvSpPr>
        <p:spPr>
          <a:xfrm>
            <a:off x="611280" y="1341360"/>
            <a:ext cx="799308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Bazylow L., Historia Powszechna 1789-1918, Książka i Wiedza, </a:t>
            </a:r>
            <a:br>
              <a:rPr sz="1700"/>
            </a:b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  Warszawa 198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Buszko J., Historia Polski 1984-1948, Państwowe Wydawnictwo Naukowe,     Warszawa 198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Chwalba A., Historia powszechna. XIX wiek, Wydawnictwo Naukowe PWN, Warszawa 200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Grabski A.F., Samuś P., Między Wschodem a Zachodem: Studia z dziejów polskiego ruchu i myśli socjalistycznej, Wydawnictwo Uniwersytetu Łódzkiego, Łódź 199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Kaliński J., Historia Gospodarcza XIX i XX wieku, Polskie Wydawnictwo Ekonomiczne, Warszawa 200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Tarle E., Dzieje Europy 1871-1919, Książka i Wiedza, Warszawa 196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ole tekstowe 2"/>
          <p:cNvSpPr/>
          <p:nvPr/>
        </p:nvSpPr>
        <p:spPr>
          <a:xfrm>
            <a:off x="0" y="189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lan prezent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ole tekstowe 4"/>
          <p:cNvSpPr/>
          <p:nvPr/>
        </p:nvSpPr>
        <p:spPr>
          <a:xfrm>
            <a:off x="611280" y="907920"/>
            <a:ext cx="784836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. Wynalazki XVIII w. prowadzące do ukształtowania się kapitalizmu XIX w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2. Przemiany gospodarcze prowadzące do powstania kapitalizmu w XIX w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3. Przemiany w obrocie pieniężny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4. Przemiany społeczne wynikające ze zmian gospodarczy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5. Główne przyczyny migracji ze wsi do mia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6. Warunki życiowe robotników w XIX w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7. Narodziny ruchów politycznych i organizacji związkowy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8. Konsekwencje rozrastania się warstwy robotniczej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9. Główne cechy miasta przemysłowego w XIX w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0. XIX-wieczna Łód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1. Czas prac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2. Wynagrodzenie akordow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3. Mieszkanie zakładow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4. Industrializacj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5. Bibliograf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Arial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ole tekstowe 2"/>
          <p:cNvSpPr/>
          <p:nvPr/>
        </p:nvSpPr>
        <p:spPr>
          <a:xfrm>
            <a:off x="179280" y="333360"/>
            <a:ext cx="8640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Najważniejsze wynalazki XVIII w. prowadzą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o ukształtowania się kapitalizmu w XIX 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ole tekstowe 4"/>
          <p:cNvSpPr/>
          <p:nvPr/>
        </p:nvSpPr>
        <p:spPr>
          <a:xfrm>
            <a:off x="611280" y="191628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we technologie wytopu i obróbki żelaz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we urządzenia tkackie – rewolucja technologiczn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przemyśle włókienniczy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szyna parowa znajduje coraz bardziej skomplikowane zastosowanie, także w transporc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ole tekstowe 2"/>
          <p:cNvSpPr/>
          <p:nvPr/>
        </p:nvSpPr>
        <p:spPr>
          <a:xfrm>
            <a:off x="324000" y="260280"/>
            <a:ext cx="88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zemiany gospodarcze, które doprowadziły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o powstania XIX-wiecznej gospodarki kapitalistyczn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ole tekstowe 4"/>
          <p:cNvSpPr/>
          <p:nvPr/>
        </p:nvSpPr>
        <p:spPr>
          <a:xfrm>
            <a:off x="611280" y="1700280"/>
            <a:ext cx="79930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nowocześnienie gospodarki rolnej - nowe narzędzi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sposoby prowadzenia upraw rolny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wój przemysłu wydobywczego – pozyskiwanie surowców naturalnych, zwiększenie eksploatacji złóż kopal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we formy handlu (powstanie sklepów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ole tekstowe 2"/>
          <p:cNvSpPr/>
          <p:nvPr/>
        </p:nvSpPr>
        <p:spPr>
          <a:xfrm>
            <a:off x="468360" y="40464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rzemiany w obrocie pieniężny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ole tekstowe 4"/>
          <p:cNvSpPr/>
          <p:nvPr/>
        </p:nvSpPr>
        <p:spPr>
          <a:xfrm>
            <a:off x="611280" y="1484280"/>
            <a:ext cx="799308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wój handlu zagraniczn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kwit prywatnych bank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wój znaczenia papierów wartościowy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czątki strategicznego wykorzystania ceł jako bariery ochronnej dla przemysł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ole tekstowe 2"/>
          <p:cNvSpPr/>
          <p:nvPr/>
        </p:nvSpPr>
        <p:spPr>
          <a:xfrm>
            <a:off x="0" y="189000"/>
            <a:ext cx="914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rzemiany społeczne wywołane zmianami gospodarczy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ole tekstowe 4"/>
          <p:cNvSpPr/>
          <p:nvPr/>
        </p:nvSpPr>
        <p:spPr>
          <a:xfrm>
            <a:off x="611280" y="134136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we kierunki ekspansji ekonomicznej posiadaczy ziemskich w kierunku inwestycji przemysłowy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wstanie nowej klasy społecznej – kapitalist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raz z rozwojem przemysłu część najuboższych mieszkańców wsi zostaje wchłonięta jako siła robocza powstających fabry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ole tekstowe 2"/>
          <p:cNvSpPr/>
          <p:nvPr/>
        </p:nvSpPr>
        <p:spPr>
          <a:xfrm>
            <a:off x="0" y="189000"/>
            <a:ext cx="91440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Główne przyczyny migracji mieszkańców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si do miast przemysłow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ole tekstowe 4"/>
          <p:cNvSpPr/>
          <p:nvPr/>
        </p:nvSpPr>
        <p:spPr>
          <a:xfrm>
            <a:off x="611280" y="1341360"/>
            <a:ext cx="7993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miana stosunków własnościowych na wsi (uwłaszczenie, oczynszowanie itd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dmiar rąk do pracy w związku ze stopniowym  zmechanizowaniem produkcji rolne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padek dotychczasowych form rzemiosła pracujących na rzecz zaopatrzenia w towary i narzędz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ole tekstowe 2"/>
          <p:cNvSpPr/>
          <p:nvPr/>
        </p:nvSpPr>
        <p:spPr>
          <a:xfrm>
            <a:off x="0" y="189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harakterystyka warunków życia robotników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XIX- wiecznych ośrodków przemysłow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ole tekstowe 4"/>
          <p:cNvSpPr/>
          <p:nvPr/>
        </p:nvSpPr>
        <p:spPr>
          <a:xfrm>
            <a:off x="611280" y="1341360"/>
            <a:ext cx="7993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Brak regulacji prawnych dotyczących warunków prac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 wynagradzania za nią (czas pracy od 12 do 16 godzin na dobę, brak przepisów gwarantujących bezpieczeństwo przy wykonywaniu pracy, brak opieki lekarskiej dla pracujących, zatrudnianie nieletnic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skie wynagrodzenia za pracę spowodowane nadwyżką rąk do prac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iężkie warunki bytowe panujące w osiedlach mieszkaniowych dla robotników (niski standard kwater mieszkalnych, zagęszczenie, niska jakość pożywienia, złe warunki higieniczno-sanitarn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ole tekstowe 2"/>
          <p:cNvSpPr/>
          <p:nvPr/>
        </p:nvSpPr>
        <p:spPr>
          <a:xfrm>
            <a:off x="0" y="189000"/>
            <a:ext cx="9144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Narodziny ruchów politycznych i organizacji związkowych  występujących w obronie praw pracownicz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ole tekstowe 4"/>
          <p:cNvSpPr/>
          <p:nvPr/>
        </p:nvSpPr>
        <p:spPr>
          <a:xfrm>
            <a:off x="611280" y="1413000"/>
            <a:ext cx="7993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nty robotnic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ocjalistyczne programy utopij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wolucyjne programy lewicow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podmiotowienie robotników w zakresie ich praw politycznych i obywatelski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3419640" y="4005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IB</cp:lastModifiedBy>
  <dcterms:modified xsi:type="dcterms:W3CDTF">2013-04-13T17:53:31Z</dcterms:modified>
  <cp:revision>50</cp:revision>
  <dc:subject/>
  <dc:title>Slajd 1</dc:title>
</cp:coreProperties>
</file>