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AE4A-7216-4333-BB13-FC4BFF9C266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2D8A-1C71-4E7C-AB63-7DA78BF789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1FCB-0E28-42FA-9925-932BAEE1EE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172-185F-473B-AF69-6577565E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C77-024C-4DC6-ABA8-33A7FD87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B2A-1CC2-4FAE-950B-5747CE97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A07-86F1-40BA-91CE-6A5C83BB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EF26-66A5-4B45-B0F4-649429F0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2422-2FA9-48B1-B05E-753836AC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5285-6EAB-46C7-A338-0ED69AB4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D4B1-8745-4104-98E9-51C30102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34BB-212E-4238-B33E-65A5E8DD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E7A7-0CF0-4A4D-A614-8C9FB1FA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4B33-7419-4A06-8EB8-4E4E7C36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008-082D-4393-B3B7-0BB0F0C5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2AB7-0ED6-47F8-94C0-76FF1D5F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A7D-5E15-42CF-977E-E0AEFE34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D8B2-7017-44A0-B70C-DF764275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0262-8392-4803-A107-9AC4AC42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5502-697C-497A-953C-9E257AE9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72F-656D-47F1-94BA-43C0BAAE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225-3BAD-452B-ADF5-4698B907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363-E64F-4143-A10A-F6D290B9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387-DBED-4FED-9597-39ACEE33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A21-E977-4D7F-95CD-89AF8049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4C8-1263-4376-8B10-13247C21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8CA-67BE-4503-90CC-54A39C8E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143-C3FA-4B8A-8CC8-C043DFB1BFB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9F92-BBA3-48E8-A6F6-81CB61D4917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Społeczne skutki XIX-wiecznego kapitalizm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sekwencje zwiększania się liczebności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lasy robotnicz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4"/>
          <p:cNvSpPr/>
          <p:nvPr/>
        </p:nvSpPr>
        <p:spPr>
          <a:xfrm>
            <a:off x="611280" y="1579680"/>
            <a:ext cx="799308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kładanie partii politycznych i związków zawod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letariat staje się poważną siłą polityczną, świadomą celów ekonomicznych i społecznych swojej wal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ściół zwraca uwagę na robotników - w encyklice papieża Leona XIII „Rerum novarum” z 1891r. po raz pierwszy pojawia się temat prawa robotników do zrzeszania się i dążenia do sprawiedliwego podziału dób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II połowie XIX wieku poprawił się status robotników (m.in. ubezpieczenia społeczne, ograniczanie czasu pracy oraz wolne niedzie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47628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łówne cechy miasta przemysłowego w XIX wie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4"/>
          <p:cNvSpPr/>
          <p:nvPr/>
        </p:nvSpPr>
        <p:spPr>
          <a:xfrm>
            <a:off x="611280" y="1484280"/>
            <a:ext cx="799308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arunki determinujące powstanie miasta przemysłoweg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becność koniecznych do produkcji surowców naturaln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stęp do wody - napęd maszy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godna lokalizacja komunikacyj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becność tanich materiałów budowlan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XIX-wieczna Łód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611280" y="1341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ym przykładem miasta przemysłowego XIX wieku jest Łódź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ś niemal milionowe miasto położone w centralnej Pols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j charakter w tamtych czasach dobrze oddają słowa z popularnej piosenki „Walczyk o Łodzi” – „miasto fabryk i kominów, i rewolucyjnych burz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zasługi dla rozwoju przemysłowej Łodzi mieli trzej fabrykanci – Karol Scheibler, Izrael Poznański i Ludwik Geyer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budowali w Łodzi kompleksy fabryk włókienniczych. Aby móc przyciągnąć nowe ręce do pracy i zatrzymać wykwalifikowanych robotników budowali również przyfabryczne osiedla, domy, a także szkoły i szpita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476280"/>
            <a:ext cx="9144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abryka Izraela Poznań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budowana w latach 1872-1892 w Łodz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skład kompleksu wchodziły m.in. tkalnie, przędzalnie i farbiarn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fabryka izraela poznańskiego w łodzi"/>
          <p:cNvPicPr/>
          <p:nvPr/>
        </p:nvPicPr>
        <p:blipFill>
          <a:blip r:embed="rId1"/>
          <a:stretch/>
        </p:blipFill>
        <p:spPr>
          <a:xfrm>
            <a:off x="971640" y="2363760"/>
            <a:ext cx="7129440" cy="35989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1"/>
          <p:cNvSpPr/>
          <p:nvPr/>
        </p:nvSpPr>
        <p:spPr>
          <a:xfrm>
            <a:off x="952560" y="6033960"/>
            <a:ext cx="712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bi.gazeta.pl/im/8/5404/z5404438Q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4762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djęcie grupowe pracowników fabryki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zraela Poznańskiego w Łodz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robotnicy w fabryce poznańskiego"/>
          <p:cNvPicPr/>
          <p:nvPr/>
        </p:nvPicPr>
        <p:blipFill>
          <a:blip r:embed="rId1"/>
          <a:stretch/>
        </p:blipFill>
        <p:spPr>
          <a:xfrm>
            <a:off x="1258920" y="1876320"/>
            <a:ext cx="6626160" cy="46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zas p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611280" y="1052640"/>
            <a:ext cx="79930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jęcie to pojawiło się wraz z rozwojem miast przemysłow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standaryzacją produkcj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AS PRACY jest to liczba godzin w ciągu dnia, podczas których pracownik jest zobowiązany wykonywać pracę zleconą przez pracodawcę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czątkach kapitalizmu czas pracy nie był regulowany i trwał kilkanaście, do nawet 20 godzi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XIX wieku czas pracy stał się przedmiotem sporów pracownik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pracodawcami. W ciągu 100 lat (od połowy XIX wieku do połowy XX wieku) czas pracy skrócił się z 90-80 godzin tygodniowo do 40-48 godz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nagrodzenie akord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jęcie to pojawiło się ze wzrostem zatrudnie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fabryka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NAGRODZENIE AKORDOWE zależy od rezultatów pracy pracownika – im efektywniej pracuje, tym jego wynagrodzenie jest wyższe. Było stosowane tam, gdzie liczyły się ilościowe efekty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ieszkanie zakład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611280" y="1341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dowa kompleksów fabrycznych i otaczających fabryki zabudowań mieszkaniowych spowodowała powstanie pojęcia mieszkania zakład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ESZKANIE ZAKŁADOWE jest lokalem mieszkalnym, którego właścicielem pozostaje pracodawca i użycza go swojemu pracownikowi na cały czas zatrudnienia lub jego częś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dustrializ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611280" y="1628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tensywnie rozwijające się w XIX w. uprzemysłowienie (inaczej INDUSTRIALIZACJA) miało swoje społeczne skut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ludnianie się wsi i migracje ludności do mia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ybka urbanizacja (tworzenie się nowych miast i wzrost ludności w tych już istniejących) związana z tworzeniem się ośrodków przemysł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korzystywanie transportu kolejowego do przemieszczania się ludzi, a nie tylko do celów transport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611280" y="1341360"/>
            <a:ext cx="79930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Bazylow L., Historia Powszechna 1789-1918, Książka i Wiedza,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Warszawa 198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Buszko J., Historia Polski 1984-1948, Państwowe Wydawnictwo Naukowe,     Warszawa 198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Chwalba A., Historia powszechna. XIX wiek, Wydawnictwo Naukowe PWN, Warszawa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Grabski A.F., Samuś P., Między Wschodem a Zachodem: Studia z dziejów polskiego ruchu i myśli socjalistycznej, Wydawnictwo Uniwersytetu Łódzkiego, Łódź 199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aliński J., Historia Gospodarcza XIX i XX wieku, Polskie Wydawnictwo Ekonomiczne, Warszawa 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arle E., Dzieje Europy 1871-1919, Książka i Wiedza, Warszawa 196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611280" y="907920"/>
            <a:ext cx="78483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. Wynalazki XVIII w. prowadzące do ukształtowania się kapitalizmu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. Przemiany gospodarcze prowadzące do powstania kapitalizmu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. Przemiany w obrocie pieniężn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4. Przemiany społeczne wynikające ze zmian gospodarcz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5. Główne przyczyny migracji ze wsi do mi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6. Warunki życiowe robotników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. Narodziny ruchów politycznych i organizacji związk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8. Konsekwencje rozrastania się warstwy robotnicz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9. Główne cechy miasta przemysłowego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0. XIX-wieczna Łód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1. Czas pra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2. Wynagrodzenie akordow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3. Mieszkanie zakładow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4. Industrializac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5. Bibliograf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179280" y="333360"/>
            <a:ext cx="864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jważniejsze wynalazki XVIII w. prowadzą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o ukształtowania się kapitalizmu w XIX 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91628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technologie wytopu i obróbki żela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urządzenia tkackie – rewolucja technologiczn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zemyśle włókiennicz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szyna parowa znajduje coraz bardziej skomplikowane zastosowanie, także w transpor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324000" y="26028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miany gospodarcze, które doprowadziły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powstania XIX-wiecznej gospodarki kapitalisty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700280"/>
            <a:ext cx="79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nowocześnienie gospodarki rolnej - nowe narzędz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sposoby prowadzenia upraw rol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przemysłu wydobywczego – pozyskiwanie surowców naturalnych, zwiększenie eksploatacji złóż kopal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formy handlu (powstanie sklepó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zemiany w obrocie pienięż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611280" y="1484280"/>
            <a:ext cx="7993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handlu zagraniczn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kwit prywatnych ban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znaczenia papierów wartości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czątki strategicznego wykorzystania ceł jako bariery ochronnej dla przemys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zemiany społeczne wywołane zmianami gospodarczy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1341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kierunki ekspansji ekonomicznej posiadaczy ziemskich w kierunku inwestycji przemysł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nowej klasy społecznej – kapitalis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raz z rozwojem przemysłu część najuboższych mieszkańców wsi zostaje wchłonięta jako siła robocza powstających fabry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łówne przyczyny migracji mieszkańców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si do miast przemysł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ana stosunków własnościowych na wsi (uwłaszczenie, oczynszowanie itd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dmiar rąk do pracy w związku ze stopniowym  zmechanizowaniem produkcji rol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adek dotychczasowych form rzemiosła pracujących na rzecz zaopatrzenia w towary i narzędz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arakterystyka warunków życia robotników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XIX- wiecznych ośrodków przemysł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regulacji prawnych dotyczących warunków pra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wynagradzania za nią (czas pracy od 12 do 16 godzin na dobę, brak przepisów gwarantujących bezpieczeństwo przy wykonywaniu pracy, brak opieki lekarskiej dla pracujących, zatrudnianie nieletnic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e wynagrodzenia za pracę spowodowane nadwyżką rąk do pra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iężkie warunki bytowe panujące w osiedlach mieszkaniowych dla robotników (niski standard kwater mieszkalnych, zagęszczenie, niska jakość pożywienia, złe warunki higieniczno-sanitar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rodziny ruchów politycznych i organizacji związkowych  występujących w obronie praw pracownicz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611280" y="141300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nty robotnic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ocjalistyczne programy utopi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wolucyjne programy lewic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odmiotowienie robotników w zakresie ich praw politycznych i obywatel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419640" y="400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B</cp:lastModifiedBy>
  <dcterms:modified xsi:type="dcterms:W3CDTF">2013-04-13T17:53:31Z</dcterms:modified>
  <cp:revision>50</cp:revision>
  <dc:subject/>
  <dc:title>Slajd 1</dc:title>
</cp:coreProperties>
</file>