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F1F-628C-4461-847B-B557CC6DCFD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B7E-6958-4270-A848-04C6770D50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98C-367A-4A06-9652-B6100CD10E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307C-A872-4381-B876-A252996188D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AD91-A5FB-41A7-B413-C1D39E596C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47DA-75F3-4D8A-9647-D9DAE2D677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2FEA-EB96-4F8E-A927-FBF47CA9EF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6FC8-DAE3-4A88-9CD6-295E483DCB3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4943-D0B6-4B31-B100-CEEF0065D8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7879-337C-4154-9B72-F606A96C041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1C8-3894-43DF-AD83-9B8ECCCE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B24-B40E-4FE1-AB4B-0F4E6558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52B-B486-4DE9-8E98-F8678D09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DED-E96A-4D38-8645-5E433EC0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7654-E3D2-40C0-96BC-C9FE6D4C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D8A6-3E20-4581-A742-B7875D7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9795-B5F5-4FEF-92A0-CB5E4EAD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B23E-011D-48D6-B3A0-F3E8E623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4CC3-CA01-4B92-B7D6-832D459C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22A1-A41A-4652-B380-2C80232A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2E1E-3E16-4D48-941B-3F5BB38A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DC9-5C2D-4F08-8EB8-473436EF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E10D-581E-4ABC-95E0-17F8E1A1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8FC0-B104-46DF-8C47-53B530AE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89B7-0A19-450E-B62B-3AFB9AA9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E7A3-FBB6-40A3-ABEF-341C10E8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C2CA-7B76-4412-8AE9-B38D06B2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8E63-2623-494A-A27C-CFB4822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196-3FEB-408A-83F9-DA4953E7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43F-453B-48C5-BB1C-68241056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D8C6-4A53-4FE3-9632-698F1AA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E4B-A0E1-449E-ABF7-E7007650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084-D101-4070-AE6E-6669938D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7FF-8B45-4C09-A714-393FD7E0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FE63-8F8C-4854-91C6-D6C7E2D63DE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5AC1-C389-400B-AE5D-9493A25F6EB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biografie.eu.interia.pl/biografie/adam_smith.html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upload.wikimedia.org/wikipedia/commons/thumb/c/cd/Cleric-Knight-Workman.jpg/250px-Cleric-Knight-Workman.jpg" TargetMode="External"/><Relationship Id="rId6" Type="http://schemas.openxmlformats.org/officeDocument/2006/relationships/hyperlink" Target="http://upload.wikimedia.org/wikipedia/commons/thumb/c/cd/Cleric-Knight-Workman.jpg/250px-Cleric-Knight-Workman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istorion.pl/ideologie-polityczne-liberalizm-historia/adam-smith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8U3ruH8MF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87640" y="1125000"/>
            <a:ext cx="345600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6. Gospodarka. 12. Wielcy teoretycy kapitalizmu. Od Adama Smitha do von Hayeka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iografie.eu.interia.pl/biografie/adam_smith.html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http://biografie.eu.interia.pl/biografie/img/adam_smith.jpg"/>
          <p:cNvPicPr/>
          <p:nvPr/>
        </p:nvPicPr>
        <p:blipFill>
          <a:blip r:embed="rId3"/>
          <a:stretch/>
        </p:blipFill>
        <p:spPr>
          <a:xfrm>
            <a:off x="250920" y="1268280"/>
            <a:ext cx="2733480" cy="3333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VON HAYEK"/>
          <p:cNvPicPr/>
          <p:nvPr/>
        </p:nvPicPr>
        <p:blipFill>
          <a:blip r:embed="rId4"/>
          <a:stretch/>
        </p:blipFill>
        <p:spPr>
          <a:xfrm>
            <a:off x="6588000" y="1125360"/>
            <a:ext cx="2087640" cy="28134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7"/>
          <p:cNvSpPr/>
          <p:nvPr/>
        </p:nvSpPr>
        <p:spPr>
          <a:xfrm>
            <a:off x="6012000" y="4005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5"/>
          <p:cNvSpPr/>
          <p:nvPr/>
        </p:nvSpPr>
        <p:spPr>
          <a:xfrm>
            <a:off x="0" y="537372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istorion.pl/ideologie-polityczne-liberalizm-historia/adam-smith/ </a:t>
            </a: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583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arodziny liberalizmu ekonomiczn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http://historion.pl/wp-content/uploads/2012/07/Adam-Smith.jpg"/>
          <p:cNvPicPr/>
          <p:nvPr/>
        </p:nvPicPr>
        <p:blipFill>
          <a:blip r:embed="rId2"/>
          <a:stretch/>
        </p:blipFill>
        <p:spPr>
          <a:xfrm>
            <a:off x="250920" y="1700280"/>
            <a:ext cx="2124000" cy="316872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7"/>
          <p:cNvSpPr/>
          <p:nvPr/>
        </p:nvSpPr>
        <p:spPr>
          <a:xfrm>
            <a:off x="3348000" y="1484280"/>
            <a:ext cx="52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konomiści dzielą dzieje ekonomii na przedklasyczny i klasyczny. Klasyczny zaczyna się od publikacji w 1776 roku książki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Badania nad naturą i przyczynami bogactwa narodów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dama Smit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waża się go za twórcę liberalizmu ekonomicz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411280" y="1628280"/>
            <a:ext cx="63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aństwo nie może wtrącać się do gospodarki. Trzeba pozwolić  ludziom działać! Ludzie dążą do zysku – problemy ekonomiczne rozwiąże mechanizm rynk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isez faire” – pozwólcie działa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4"/>
          <p:cNvSpPr/>
          <p:nvPr/>
        </p:nvSpPr>
        <p:spPr>
          <a:xfrm>
            <a:off x="250920" y="306864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GSoIb_RulHE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dostęp: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626920" y="5157720"/>
            <a:ext cx="471348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Obejrzyj film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B8U3ruH8MF0</a:t>
            </a: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583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sada przewagi komparatyw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5"/>
          <p:cNvSpPr/>
          <p:nvPr/>
        </p:nvSpPr>
        <p:spPr>
          <a:xfrm>
            <a:off x="2556000" y="1413000"/>
            <a:ext cx="62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avid Ricardo (1772-1823). Stworzył tzw. model Ricardo, który prowadził do wniosku, że międzynarodowa wymiana, nieskrępowana żadnymi cłami, kontyngentami i ograniczeniami przynosi wszystkim korzyści.  Kluczem jest specjalizacja narodów w różnych produkt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http://upload.wikimedia.org/wikipedia/commons/6/6f/David_Ricardo(1).jpg"/>
          <p:cNvPicPr/>
          <p:nvPr/>
        </p:nvPicPr>
        <p:blipFill>
          <a:blip r:embed="rId2"/>
          <a:stretch/>
        </p:blipFill>
        <p:spPr>
          <a:xfrm>
            <a:off x="468360" y="1628640"/>
            <a:ext cx="1673280" cy="2376720"/>
          </a:xfrm>
          <a:prstGeom prst="rect">
            <a:avLst/>
          </a:prstGeom>
          <a:ln w="0">
            <a:noFill/>
          </a:ln>
        </p:spPr>
      </p:pic>
      <p:sp>
        <p:nvSpPr>
          <p:cNvPr id="112" name="Prostokąt 7"/>
          <p:cNvSpPr/>
          <p:nvPr/>
        </p:nvSpPr>
        <p:spPr>
          <a:xfrm>
            <a:off x="324000" y="4221000"/>
            <a:ext cx="1584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ło: http://upload.wikimedia.org/wikipedia/commons/6/6f/David_Ricardo(1).jpg, dostęp 20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5580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szczędzać, czy wydawać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Adam Smith uważał, że oszczędności sprzyjają postępowi i inwestycjom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Calibri"/>
              </a:rPr>
              <a:t>Obecny w gospodarce jest też inny model – wydawania dla rozruszania gospodarki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rostokąt 4"/>
          <p:cNvSpPr/>
          <p:nvPr/>
        </p:nvSpPr>
        <p:spPr>
          <a:xfrm>
            <a:off x="2268360" y="443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ejrzyj film: http://www.youtube.com/watch?v=-8QAW-r0nos, dostę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03280" y="1592280"/>
            <a:ext cx="532908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uka społeczna Kościoła odrzuca zarówno rynek sterowany przez państwo, jak i całkowicie wolny. Państwo ma strzec sprawiedliwości pracy i wymiany. Pomoc powinna się ograniczać do takiego wsparcia, by człowiek sam zaczął sobie radzić. „Dajemy wędkę, a nie rybę”. </a:t>
            </a:r>
            <a:br>
              <a:rPr sz="5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rostokąt 3"/>
          <p:cNvSpPr/>
          <p:nvPr/>
        </p:nvSpPr>
        <p:spPr>
          <a:xfrm>
            <a:off x="395280" y="5445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pl.wikipedia.org/wiki/Plik:Leo_XIII..jpg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5"/>
          <p:cNvSpPr/>
          <p:nvPr/>
        </p:nvSpPr>
        <p:spPr>
          <a:xfrm>
            <a:off x="539640" y="476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uka społeczna Kościoł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Plik:Leo XIII..jpg"/>
          <p:cNvPicPr/>
          <p:nvPr/>
        </p:nvPicPr>
        <p:blipFill>
          <a:blip r:embed="rId1"/>
          <a:stretch/>
        </p:blipFill>
        <p:spPr>
          <a:xfrm>
            <a:off x="468360" y="1557360"/>
            <a:ext cx="255420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pole tekstowe 7"/>
          <p:cNvSpPr/>
          <p:nvPr/>
        </p:nvSpPr>
        <p:spPr>
          <a:xfrm>
            <a:off x="539640" y="4869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on XIII – twórca N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8920" y="1412640"/>
            <a:ext cx="8496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„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Nierówności społeczne i ekonomiczne mają być tak ułożone,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(a) aby były z największą korzyścią dla najbardziej upośledzonych, pozostając w zgodzie z zasadą sprawiedliwego oszczędzania [zasada dyferencji];</a:t>
            </a: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0" i="1" lang="pl-PL" sz="3000" spc="-1" strike="noStrike">
                <a:solidFill>
                  <a:srgbClr val="898989"/>
                </a:solidFill>
                <a:latin typeface="Calibri"/>
              </a:rPr>
              <a:t>i jednocześnie (b) aby były związane z dostępnością urzędów i stanowisk dla wszystkich, w warunkach autentycznej równości szans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5"/>
          <p:cNvSpPr/>
          <p:nvPr/>
        </p:nvSpPr>
        <p:spPr>
          <a:xfrm>
            <a:off x="539640" y="33336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Teoria sprawiedliwośc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ohna Rawlsa, czyli nowocześni liberałowie w natarc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Fryderyk August von Hayek – powrót do zasad Smit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9" descr="VON HAYEK"/>
          <p:cNvPicPr/>
          <p:nvPr/>
        </p:nvPicPr>
        <p:blipFill>
          <a:blip r:embed="rId1"/>
          <a:stretch/>
        </p:blipFill>
        <p:spPr>
          <a:xfrm>
            <a:off x="250920" y="1052640"/>
            <a:ext cx="2089080" cy="2814480"/>
          </a:xfrm>
          <a:prstGeom prst="rect">
            <a:avLst/>
          </a:prstGeom>
          <a:ln w="0">
            <a:noFill/>
          </a:ln>
        </p:spPr>
      </p:pic>
      <p:sp>
        <p:nvSpPr>
          <p:cNvPr id="125" name="pole tekstowe 7"/>
          <p:cNvSpPr/>
          <p:nvPr/>
        </p:nvSpPr>
        <p:spPr>
          <a:xfrm>
            <a:off x="2484360" y="1197000"/>
            <a:ext cx="62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ą dwa porządk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organizowany, celowy, ale ekonomicznie niewydol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w ostateczności prowadzący do totalitaryzmu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ugi – tzw. porządek spontaniczny nie ma celu, ale jeżeli wszyscy stosują się w nim do reguł (a więc prawa), spełnia podstawową funkcję – organizuje sensowną ekonomicznie i dobrowolną  współprac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8"/>
          <p:cNvSpPr/>
          <p:nvPr/>
        </p:nvSpPr>
        <p:spPr>
          <a:xfrm>
            <a:off x="0" y="4076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www.filosofico.net/hayek.htm 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7T04:14:55Z</dcterms:modified>
  <cp:revision>42</cp:revision>
  <dc:subject/>
  <dc:title>Slajd 1</dc:title>
</cp:coreProperties>
</file>