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0BE3-7E71-4D06-A05F-0EC5622F27F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7641-2C93-48F5-A65E-41A0648FACF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A5E5-5B1C-4022-BED1-699A4C5B44B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914-8924-4FCC-B6C6-089FC5F9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1A64-1583-46F2-AFB4-3FCB3EF2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C41-2E9B-44F9-8EFD-6C6D81B8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71C2-0B0F-4558-B21F-F73C530A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410B-3700-4963-A117-DECB65A1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152B-995B-4119-A3E9-3FF0DB13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6158-C7C0-424E-866C-87711901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C8A8-4333-4B5D-9E2F-1F3C93D7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589E-3214-4737-A240-362E7DE0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9151-EDEE-4B64-94F0-37E02B48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85F1-E464-4289-B144-44EBC836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9C1-5529-43C4-8D73-E4656161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2ABA-F646-4328-8227-36D05C2C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DE8E-3CE6-4C2F-949C-D1DC5525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5F1B-FA66-4DCD-A8A3-26DBA4B2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18D7-63EA-4BB4-88B1-1BE5A5D6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BA67-657B-4FEA-974F-2FCEE405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820-054B-45A2-AB19-70E1F5FF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4C56-079C-469E-9924-9F4B06F7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ACF-EF6A-4EA2-AA8E-8BB154AE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FE0-A75E-4143-ACF6-2DAFF24B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DDE-7BE6-433D-AC64-BA59417C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828F-B146-40B1-ABD9-CA201D62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F12-D232-4B8D-8BB2-DAD5A820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DB97-BBA5-493F-BE08-95A555B697D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63FE-A1C4-4887-8BAD-7B61A9FAE819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ytuł 1" descr=""/>
          <p:cNvPicPr/>
          <p:nvPr/>
        </p:nvPicPr>
        <p:blipFill>
          <a:blip r:embed="rId1"/>
          <a:stretch/>
        </p:blipFill>
        <p:spPr>
          <a:xfrm>
            <a:off x="573120" y="1584360"/>
            <a:ext cx="7967520" cy="1884240"/>
          </a:xfrm>
          <a:prstGeom prst="rect">
            <a:avLst/>
          </a:prstGeom>
          <a:ln w="0">
            <a:noFill/>
          </a:ln>
        </p:spPr>
      </p:pic>
      <p:sp>
        <p:nvSpPr>
          <p:cNvPr id="96" name="Podtytuł 2"/>
          <p:cNvSpPr/>
          <p:nvPr/>
        </p:nvSpPr>
        <p:spPr>
          <a:xfrm>
            <a:off x="11336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dr 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395280" y="549360"/>
            <a:ext cx="496872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łówne postacie i nurty socjalizmu utopijn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Robert Owen postulowa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niesienie własności prywatn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społecznienie środków produkc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ształcenie organizowan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nadzorowane przez państw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acjonalizację działań prowadzącą do powstania sprawnych struktur państwowych i eliminacji przestępczoś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Robertowen"/>
          <p:cNvPicPr/>
          <p:nvPr/>
        </p:nvPicPr>
        <p:blipFill>
          <a:blip r:embed="rId1"/>
          <a:stretch/>
        </p:blipFill>
        <p:spPr>
          <a:xfrm>
            <a:off x="6227640" y="1052640"/>
            <a:ext cx="2051280" cy="2592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6084720" y="4076640"/>
            <a:ext cx="277020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Robert Ow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pl.wikipedia.org/wiki/Plik:Robertowen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539640" y="620640"/>
            <a:ext cx="457200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łówne postacie i nurty socjalizmu utopijn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Henri de Saint-Simon postulowa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yktaturę fachowców – ludzi nau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ładzę państwową oparta o klasę pracując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Konstrukcje społeczną opartą na trzech klasach ludzi nauki, warstwie regulującej procesy badawcze i ludzi pra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niesienie własności prywatnej środków produkcji i dziedziczenia dób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Henri_de_Saint-simon_portrait"/>
          <p:cNvPicPr/>
          <p:nvPr/>
        </p:nvPicPr>
        <p:blipFill>
          <a:blip r:embed="rId1"/>
          <a:stretch/>
        </p:blipFill>
        <p:spPr>
          <a:xfrm>
            <a:off x="6218280" y="658800"/>
            <a:ext cx="1913040" cy="2519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5867280" y="3789360"/>
            <a:ext cx="2952720" cy="18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Henri de Saint-Sim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upload.wikimedia.org/wikipedia/commons/5/59/Henri_de_Saint-simon_portrait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438120" y="620640"/>
            <a:ext cx="492588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łówne postacie i nurty socjalizmu utopijn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harles Fourier postulowa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Tworzenie się grup społecznych tzw. Falansterów, które miały opierać się na kooperacji, współpracy i działaniu opartym o zainteresowania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i upodoban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spólne wytwarzanie i podział dóbr wypracowanych przez falanster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likwidowanie sprzeczności wśród ludzi oraz innych organizmów żywy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Hw-fourier"/>
          <p:cNvPicPr/>
          <p:nvPr/>
        </p:nvPicPr>
        <p:blipFill>
          <a:blip r:embed="rId1"/>
          <a:stretch/>
        </p:blipFill>
        <p:spPr>
          <a:xfrm>
            <a:off x="6156360" y="765000"/>
            <a:ext cx="2271600" cy="29084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6012000" y="4078440"/>
            <a:ext cx="271620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harles Four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pl.wikipedia.org/wiki/Plik:Hw-fourier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684360" y="620640"/>
            <a:ext cx="820872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ne koncepcje polityczno-społeczne oparte o doktrynę socjalistyczną powstałe w XIX wieku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udhonizm –Twórca Pierre Proudhon. Krytykował fundamenty systemu kapitalistycznego czyli własność prywatną środków produkcji, pieniądz jako podstawę obiegu dóbr (postulował powstanie bank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 zerowym oprocentowaniu). Postulował m.in. Anarchizm i Federaliz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lanquizm – Twórca Louis August Blanqui. Walczył o poszerzenie praw obywatelskich np. prawo wyborcze kobiet. Uważał, że droga do przemian społecznych wiedzie przez działalność spiskową bez konieczności zrywu m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yndykalizm – Ruch oparty o zrzeszenia związkowe robotników. Głosił prymat dążeń ekonomicznych nad politycznymi. Miał on dwa odłamy: reformacyjny i rewolucyjny. Reformacyjny odłam dążył do poprawy warunków życia robotników, celem rewolucyjnego było przekształcenie istniejącego systemu państwowo-politycznego i oparcie g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 zrzeszenia robotnik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pis treś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4000" y="1412640"/>
            <a:ext cx="8064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ażniejsze wydarzenia polityczne prowadzące do powstania modelu gospodarczego XI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jważniejsze przemiany gospodarcze prowadzące do powstania kapitalistycznego modelu społecznego XIX wie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łówne skutki społeczne przemian gospodarczych i polityczny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kutki przemian społeczno-gospodarczych jako podstawa dla narodzin nowych ruchów politycznych oraz doktryn ekonomiczno-społeczny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rodziny zorganizowanych ruchów robotniczych walczących o swoje praw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rodziny nowych teorii politycznych opartych o doktryny socjalistyczne zwane utopijnym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łówne postacie i nurty socjalizmu utopijnego: Robert Owen, Henri de Saint-Simon, Charles Fouri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ne koncepcje polityczno-społeczne oparte o doktrynę socjalistyczną powstałe w XIX wie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684360" y="620640"/>
            <a:ext cx="7775280" cy="41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ażniejsze wydarzenia polityczne prowadzące do powstania modelu gospodarczego X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ielka Rewolucja Francu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wstanie Stanów Zjednoczonych Amery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ojny Napoleońsk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684360" y="620640"/>
            <a:ext cx="77752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Najważniejsze przemiany gospodarcze prowadzące do powstania kapitalistycznego modelu społecznego XIX wie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iczne wynalazki techniczne drugiej połowy XVIII wie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miany gospodarcze w produkcji rolnej i strukturze własnościowej na wsi, drobnej wytwórczości i rzemioś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owy sposób kumulacji i przepływu kapitału pomiędzy państwa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rodziny konkurencji i strategii ochrony celnej własnej produkcji przemysłow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napoleon"/>
          <p:cNvPicPr/>
          <p:nvPr/>
        </p:nvPicPr>
        <p:blipFill>
          <a:blip r:embed="rId1"/>
          <a:stretch/>
        </p:blipFill>
        <p:spPr>
          <a:xfrm>
            <a:off x="1655640" y="1052640"/>
            <a:ext cx="5832720" cy="44956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1042920" y="351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apa XIX wiecznej Euro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330200" y="5908680"/>
            <a:ext cx="64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www.historicus.pl/mapy/xix/napoleon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684360" y="692280"/>
            <a:ext cx="79200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skutki społeczne przemian gospodarczych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i polity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wałtowny wzrost demograficzny ludnoś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wój medycyny zmniejszający śmiertelność wśród najniższych warstw społeczn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Emigracja dotychczasowych mieszkańców wsi do powstających ośrodków przemysłow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Upowszechnienie edukacji na podstawowym poziom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611280" y="620640"/>
            <a:ext cx="784836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kutki przemian społeczno-gospodarczych jako podstawa dla narodzin nowych ruchów politycznych oraz doktryn ekonomiczno-społe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wstanie nowych klas społecznych jako efekt industrializacj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wój nowych skupisk społecznych – miast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osiedli przemysłow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755640" y="620640"/>
            <a:ext cx="799308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arodziny zorganizowanych ruchów robotniczych walczących o swoje pra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unty i rozruch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uchy Luddystyczne (Anglia poczatek XIX 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unty robotników (Bunt robotników w Lyon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wstanie pierwszych oficjalnie działających organizacji robotniczy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emiany polityczne umożliwiające powstanie organizacj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wiązkow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pływ działalności organizacji robotniczych w Anglii na zmianę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awa wyborczego oraz położenia ekonomicznego robotników (Ruch Czartystó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684360" y="422280"/>
            <a:ext cx="7848360" cy="60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Stopniowe uzyskiwanie podmiotowości przez masy robotnicze oraz świadomość położenia ekonomicznego robotników doprowadziły do narodzin nowych teorii politycznych opartych </a:t>
            </a:r>
            <a:br>
              <a:rPr sz="2200"/>
            </a:b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o doktryny socjalistyczne zwane utopijnym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Ich cechy wspóln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ostrzeganie sprzeczności systemu kapitalistyczneg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Stosunek do robotników oparty o fundament socjalistycznych teorii utopijnych czyli altruizm i dobro wspólne, któremu przeciwstawiano egoizm i indywidualiz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Dążenie do zlikwidowania własności prywatnej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łagodzenie konfliktu pomiędzy produkcją przemysłową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i roln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SzPct val="1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Osiągnięcie założonych celów przez reformy i kształtowanie świadomośc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rjuraszczyk</cp:lastModifiedBy>
  <dcterms:modified xsi:type="dcterms:W3CDTF">2013-04-16T13:52:30Z</dcterms:modified>
  <cp:revision>23</cp:revision>
  <dc:subject/>
  <dc:title>Slajd 1</dc:title>
</cp:coreProperties>
</file>