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005B-F17F-4D83-9D0B-4C3F31ACF8A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61DC-E437-4E87-96F1-180D18781C9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4A62-835F-4B13-8506-D756A985194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CD0-C12E-4105-BAE3-E5CB05F3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B1E-B7D4-4589-B3F2-E8F5172C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3AA-4BBF-4CAD-8545-B1D86393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A02-F9A5-4F8D-9FE6-251DE6F9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F2D5-B4ED-4690-B2EE-D3202667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D65D-0C53-4B02-88EA-3D469D38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935F-BF3F-4A39-A4B1-7A73F97B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1CCF-4228-4E95-BA55-8D11261D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6F1B-352E-48A6-A798-28FA9BEE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E19D-2C4D-403A-9905-49603830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4049-28A3-411E-B08B-50097B3D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6F0-F542-4207-91F2-005B0EDE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3853-5183-4B9C-BEC8-71DC926D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ADD5-955A-47D6-A2F9-29988AD4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7FD3-26D5-4239-A6EC-B05E6C04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D0C4-D0FC-45CD-B564-9B6B2382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EC61-9D12-41FC-9505-8695E82D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AE2-6444-4992-A8D7-DFFB8E46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05B-02A6-40FE-B0DD-4CF04455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617-AAB9-4D95-AC4A-8C7678E3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83B5-9F0B-431A-827D-E50E0F51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324-7B2A-452A-8F55-132BBF38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C66-9D82-48F4-BA4D-953988DB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4E1-A3D0-4AD2-83AC-6E61F5A8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E860-1834-43EC-AD03-831DD7E2877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03EA-8DC0-4CCF-8B60-6A8C0FC7808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ankikredyt.nbp.pl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knf.gov.pl/szukaj_podmioty.jsp" TargetMode="External"/><Relationship Id="rId2" Type="http://schemas.openxmlformats.org/officeDocument/2006/relationships/hyperlink" Target="http://www.uokik.gov.pl/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ankikredyt.nbp.pl/" TargetMode="External"/><Relationship Id="rId2" Type="http://schemas.openxmlformats.org/officeDocument/2006/relationships/hyperlink" Target="http://www.nbportal.pl/pl/np/artykuly/historia/historia_zycia_na_kredyt" TargetMode="External"/><Relationship Id="rId3" Type="http://schemas.openxmlformats.org/officeDocument/2006/relationships/hyperlink" Target="http://www.nbportal.pl/library/pub_auto_B_0002/KAT_B3205.PDF" TargetMode="External"/><Relationship Id="rId4" Type="http://schemas.openxmlformats.org/officeDocument/2006/relationships/hyperlink" Target="http://www.nbportal.pl/" TargetMode="External"/><Relationship Id="rId5" Type="http://schemas.openxmlformats.org/officeDocument/2006/relationships/hyperlink" Target="http://www.pwn.pl/" TargetMode="External"/><Relationship Id="rId6" Type="http://schemas.openxmlformats.org/officeDocument/2006/relationships/hyperlink" Target="http://www.biznes.pwn.pl/" TargetMode="External"/><Relationship Id="rId7" Type="http://schemas.openxmlformats.org/officeDocument/2006/relationships/hyperlink" Target="http://www.encyklopedia.pwn.pl/" TargetMode="External"/><Relationship Id="rId8" Type="http://schemas.openxmlformats.org/officeDocument/2006/relationships/hyperlink" Target="http://www.uokik.gov.pl/publikacje.php?tag=4" TargetMode="External"/><Relationship Id="rId9" Type="http://schemas.openxmlformats.org/officeDocument/2006/relationships/hyperlink" Target="http://www.zanim-podpiszesz.pl/" TargetMode="External"/><Relationship Id="rId10" Type="http://schemas.openxmlformats.org/officeDocument/2006/relationships/hyperlink" Target="http://www.zyciewkredycie.pl/" TargetMode="External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openclipart.org/detail/18034/piggybank-pink-by-gringer" TargetMode="External"/><Relationship Id="rId2" Type="http://schemas.openxmlformats.org/officeDocument/2006/relationships/hyperlink" Target="http://www.flickr.com/photos/amagill/3367543094/" TargetMode="External"/><Relationship Id="rId3" Type="http://schemas.openxmlformats.org/officeDocument/2006/relationships/hyperlink" Target="http://www.flickr.com/photos/76657755@N04/7027595009/in/photostream/" TargetMode="External"/><Relationship Id="rId4" Type="http://schemas.openxmlformats.org/officeDocument/2006/relationships/hyperlink" Target="http://www.flickr.com/photos/59937401@N07/5930026346/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yklopedia.pwn.pl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wnbiznes.pl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zanim-podpiszesz.pl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bportal.pl/pl/np/artykuly/historia/historia_zycia_na_kredy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bportal.pl/pl/np/artykuly/historia/historia_zycia_na_kredy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bportal.pl/pl/np/artykuly/historia/historia_zycia_na_kredy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Bez kredytu ani rusz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la kredytu w gospodarce rynkowej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5"/>
          <p:cNvSpPr/>
          <p:nvPr/>
        </p:nvSpPr>
        <p:spPr>
          <a:xfrm>
            <a:off x="539640" y="162864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ymuluje rozwój gospodarcz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zedsiębiorstwom pozwala na finansowanie bieżącej działaln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np. umożliwia zakup materiałów niezbędnych w procesie produkcji)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 na inwestycje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np. zakup nowoczesnych maszyn) –  daje im więc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zans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 rozwój, który nie jest ograniczony brakiem własnych środków finansowych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ospodarstwom domowym pozwa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 ponoszenie wyższych wydatków na konsumpcj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iż te wynikające z ich bieżącego poziomu dochodów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az 8" descr="5929566423_f6b95feff9.jpg"/>
          <p:cNvPicPr/>
          <p:nvPr/>
        </p:nvPicPr>
        <p:blipFill>
          <a:blip r:embed="rId1"/>
          <a:stretch/>
        </p:blipFill>
        <p:spPr>
          <a:xfrm>
            <a:off x="5796000" y="3500280"/>
            <a:ext cx="3348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ekonomi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le tekstowe 5"/>
          <p:cNvSpPr/>
          <p:nvPr/>
        </p:nvSpPr>
        <p:spPr>
          <a:xfrm>
            <a:off x="250920" y="1125360"/>
            <a:ext cx="79200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lega n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wałtownym zmniejszeniu się aktywności gospodarcz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i, zatrudnienia, inwestycji. Wśród jego objawów moż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ięc wymienić m.in.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perinflacj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czyli utrzymywanie się bardzo wysokiej stopy inflacji (szybko rosną ceny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rost bezroboci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ek płac, dochodów i konsump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ek PKB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to jeden z podstawowych mierników dochodu narodowego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rost deficytu budżetoweg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wydatki państwa są wyższe, niż dochody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rost deficytu handloweg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import przewyższa eksport, czyli mniej dóbr produkowanych w kraju sprzedaje się za granicę, a więcej dóbr produkowanych za granicą sprowadza do kraju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burzenia na rynkach walutow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Obraz 12" descr="weather-storm.png"/>
          <p:cNvPicPr/>
          <p:nvPr/>
        </p:nvPicPr>
        <p:blipFill>
          <a:blip r:embed="rId1"/>
          <a:stretch/>
        </p:blipFill>
        <p:spPr>
          <a:xfrm>
            <a:off x="6651720" y="0"/>
            <a:ext cx="2492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starożytny w III w. 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5"/>
          <p:cNvSpPr/>
          <p:nvPr/>
        </p:nvSpPr>
        <p:spPr>
          <a:xfrm>
            <a:off x="539640" y="1413000"/>
            <a:ext cx="8136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esarstwo rzymskie było niestabilne politycznie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kolejni cesarze utrzymywali się przy władzy przez kilka miesięcy i ginęli, często z rąk swoich żołnierz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rwały ciągłe działania wojenne związane z najazdami barbarzyńców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większała się więc liczebność i rola armi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załamał się przeciążony system opłacania i zaopatrywania żołnierzy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częto zmniejszać zawartość srebra w denarach, którymi płacono wojsku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ieniądz tracił na wartośc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a żołd rósł;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częł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wałtownie rosnąć ce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stąpił powrót do wymiany towarowej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odatki znowu zaczęto ściągać w naturze, a nie w gotówce, żołd także w dużej części wypłacano w towarach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 Cameron A., Późne cesarstwo rzymskie, Prószyński i S-ka, Warszawa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średniowieczny w XIV 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5"/>
          <p:cNvSpPr/>
          <p:nvPr/>
        </p:nvSpPr>
        <p:spPr>
          <a:xfrm>
            <a:off x="539640" y="1197000"/>
            <a:ext cx="8136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zrost liczby ludności w XII i XIII w.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y małym wzroście produkcji rolnej spowodował podwyżkę cen żywności i spadek płac, a co za tym idzie był przyczyną głodu i niedożywieni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Europie wybuchały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epidem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(najdramatyczniejsza była epidemia dżumy nazwana „czarną śmiercią”) – w ich wyniku następował spadek zaludnienia;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iały miejsce powstania chłopskie 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ługotrwałe konflikty zbrojne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m.in. wojna stuletnia 1337–1453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transakcje kredytowe był obciążone dużym ryzykiem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np. podróże handlowe były długie i niebezpieczne) – często dłużnicy okazywali się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wypłacalni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 kredytów korzystali m.in. monarchowie europejsc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w 1342 r. król Anglii Edward III ogłosił niewypłacalność, co spowodowało upadek domów bankowych, którym był winien około 1,5 mln florenów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ankierzy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używali zdeponowanych pieniędzy do prowadzenia własnych interesów handlowych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które często kończyły się niepowodzeniem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ielki kryzys w latach 30. XX 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5"/>
          <p:cNvSpPr/>
          <p:nvPr/>
        </p:nvSpPr>
        <p:spPr>
          <a:xfrm>
            <a:off x="539640" y="1125360"/>
            <a:ext cx="813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zywany te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wielką depresją”,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tyczył wszystkich krajów i dziedzin gospodark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 jego symboliczny początek uznaje się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czarny czwartek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29 października 1929 r.), kiedy to ceny akcji na nowojorskiej giełdzie zaczęły gwałtownie spadać – pękła wted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bańka spekulacyjna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wiązana z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udzielaniem przez banki kredytów pod zastaw przewartościowanych akcj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yzys bardziej odczuły kraje przemysłowe – nastąpił w nich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ługotrwały spadek produkcji przemysłowej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rost bezrobocia na masową skal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krajach rolniczych przede wszystki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ły ce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ramatyczni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ły dochody ludn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ogorszyło się położenie całych grup społeczn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zedsiębiorstwa miały problemy ze spłatą kredyt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co przełożyło się n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ryzys systemów bankow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finansowy z 2007 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5"/>
          <p:cNvSpPr/>
          <p:nvPr/>
        </p:nvSpPr>
        <p:spPr>
          <a:xfrm>
            <a:off x="395280" y="981000"/>
            <a:ext cx="8280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począł się latem 2007 r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 amerykańskim rynku kredytów hipotecz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subprime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yli  kredytów o podwyższonym ryzyku, których masowo udzielano osobom o niskiej zdolności kredytowej (np. nieposiadających stałego źródła dochodu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łamanie tego rynku stało się bezpośrednią przyczyną zaburzeń na innych rynkach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stąpił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ek zaufania do instytucji kredytowych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tóry rozszerzył się na inne instytucje finansow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naczącym wydarzeniem był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upadek banku Lehman Brothers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15.09.2008 r.), który miał prawie 3 tys. spółek zależnych prowadzących działalność na całym świecie, a wartość jego aktywów  wynosiła około 600 mld USD – to uświadomiło uczestnikom rynku, ż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 istnieją instytucje zbyt duże lub zbyt ważne, by upa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Konopczak M., Sieradzki R., Wiernicki M., Kryzys na światowych rynkach finansowych – wpływ na rynek finansowy w Polsce oraz implikacje dla sektora realnego, „Bank i Kredyt”, nr 41(6)/2010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ankikredyt.nbp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k bezpiecznie wziąć kredy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5"/>
          <p:cNvSpPr/>
          <p:nvPr/>
        </p:nvSpPr>
        <p:spPr>
          <a:xfrm>
            <a:off x="250920" y="981000"/>
            <a:ext cx="856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rawdź, z jaki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duktem finansowym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prawdę masz do czynienia (czy jest to kredyt bankowy czy pożyczka) i jakie jest jeg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procentowa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rawdź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stytucj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tóra udziela kredytu bankowego – zgodnie z ustawą mają do tego prawo tylko banki i spółdzielcze kasy oszczędnościowo-kredytowe; jeśli bierzesz pożyczkę, przejrzyj listę podmiotów objętych nadzorem finansowym na stronie: 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knf.gov.pl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;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yjrzyj się wszystki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sztom dodatkowym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dowiedz się, czy n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usisz np. wykupić jakiegoś ubezpieczen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kładni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zeczytaj umowę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poproś o wyjaśnienie niezrozumiały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pisów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czególnie uważaj n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arabanki,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czyli instytucje, które oferują usługi 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ty finansowe podobne do usług bankowych, ale nie s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trolowane przez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misję Nadzoru Finansowego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Przewodnik po usługach finansowych, UOKIK, Warszawa 2012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uokik.gov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Obraz 7" descr="odplyw.jpg"/>
          <p:cNvPicPr/>
          <p:nvPr/>
        </p:nvPicPr>
        <p:blipFill>
          <a:blip r:embed="rId3"/>
          <a:stretch/>
        </p:blipFill>
        <p:spPr>
          <a:xfrm>
            <a:off x="7308720" y="3227400"/>
            <a:ext cx="1662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3"/>
          <p:cNvSpPr/>
          <p:nvPr/>
        </p:nvSpPr>
        <p:spPr>
          <a:xfrm>
            <a:off x="179280" y="907920"/>
            <a:ext cx="87854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Warszawa 1998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akroekonomia, Polskie 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Cameron A., Późne cesarstwo rzymskie, Prószyński i S-ka, Warszawa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Konopczak M., Sieradzki R., Wiernicki M., Kryzys na światowych rynkach finansowych – wpływ na rynek finansowy w Polsce oraz implikacje dla sektora realnego, „Bank i Kredyt”, nr 41(6)/2010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ankikredyt.nbp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Landes D.S., Bogactwo i nędza narodów. Dlaczego jedni są tak bogaci, a inni tak ubodzy, Wydawnictwo MUZA S.A., Warszawa 200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arciniak S. (red.), Makro- i mikroekonomia. Podstawowe problemy współczesności, Wydawnictwo Naukowe PWN, Warszawa 2013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zaleniec M., Historia życia na kredyt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nbportal.pl/pl/np/artykuly/historia/historia_zycia_na_kredy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wierz-Furtak J., Historyczne ujęcie kredytu w gospodarce, „Bank i Kredyt”,  nr 12/2000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nbportal.pl/library/pub_auto_B_0002/KAT_B3205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rtal Edukacji Ekonomicznej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nbportal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rtal Wiedzy PWN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biznes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encyklopedia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rzewodnik po usługach finansowych, UOKIK, Warszawa 2012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uokik.gov.pl/publikacje.php?tag=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trona internetowa akcji społecznej „Zanim podpiszesz”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zanim-podpiszesz.pl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erwis internetowy „Życie w kredycie” prowadzony przez UOKIK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zyciewkredycie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3"/>
          <p:cNvSpPr/>
          <p:nvPr/>
        </p:nvSpPr>
        <p:spPr>
          <a:xfrm>
            <a:off x="179280" y="981000"/>
            <a:ext cx="8713800" cy="55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1. Świnka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piggybank-pink), obrazek w domenie publicznej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penclipart.org/detail/18034/piggybank-pink-by-gring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2. Plik banknotów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money), fot. Andrew Magill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lickr.com/photos/amagill/3367543094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3. Pieniądze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money), autor: Tax Credits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flickr.com/photos/76657755@N04/7027595009/in/photostream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4. Kalkulator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calculator), autor: Images Money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flickr.com/photos/59937401@N07/5930026346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5. Monety1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stacks of pound coins), autor: Images Money, źródło: http://www.flickr.com/photos/59937401@N07/5930116778/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6.  Monety2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5 pence coins), autor: Images Money, źródło: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flickr.com/photos/59937401@N07/5929566423/in/photostream/,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7. Chmura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weather storm), autor: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 Tango!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Desktop Project, obrazek w domenie publicznej, źródło: http://commons.wikimedia.org/wiki/File:Weather-storm.sv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8. Odpływ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Throwing Money Away), autor: Images Money ,źródło: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flickr.com/photos/59937401@N07/5930043516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*licencja CC BY: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http://creativecommons.org/licenses/by/2.0/deed.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1268280"/>
            <a:ext cx="813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zym jest kredyt (definicje, rodzaje kredytów, przydatne terminy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y kredytowania różnego typu przedsięwzięć w starożytności, średniowieczu i epoce nowożytne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odzowność kredytu dla funkcjonowania gospodarki rynkowe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kładowe kryzysy związane z kredytami (kryzys starożytny w III w. n.e., kryzys średniowieczny w XIV w., Wielki Kryzys z lat 30. XX w., globalny kryzys trwający od 2007 r.) – ich przyczyny i skutk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 bezpiecznie wziąć kredy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ym jest kredy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le tekstowe 5"/>
          <p:cNvSpPr/>
          <p:nvPr/>
        </p:nvSpPr>
        <p:spPr>
          <a:xfrm>
            <a:off x="539640" y="1557360"/>
            <a:ext cx="806472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najprostszym ujęciu to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 odstąpieni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z jedną ze stron (wierzyciela, kredytodawcę) drugiej stronie (dłużnikowi, kredytobiorcy)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kreślonej wartości w pieniądzu lub w towarach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warunkach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wrotu równowartości w określonym terminie;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erzyciel żąda zwykl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ynagrodzenia w postaci procent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 wyróżnia się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redyt pienięż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redyt handlowy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nazywany też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towarowy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alb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upiecki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), który polega na odroczeniu płatności przez dostawcę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ncyklopedia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5" descr="swinka2.png"/>
          <p:cNvPicPr/>
          <p:nvPr/>
        </p:nvPicPr>
        <p:blipFill>
          <a:blip r:embed="rId2"/>
          <a:stretch/>
        </p:blipFill>
        <p:spPr>
          <a:xfrm>
            <a:off x="6372360" y="4365720"/>
            <a:ext cx="22366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edyt banko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5"/>
          <p:cNvSpPr/>
          <p:nvPr/>
        </p:nvSpPr>
        <p:spPr>
          <a:xfrm>
            <a:off x="539640" y="1341360"/>
            <a:ext cx="806472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godnie z art. 69 pkt. 1 ustawy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awo bankow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przez umowę kredytu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bank zobowiązuje się oddać do dyspozycji kredytobiorcy na czas oznaczony w umowie kwotę środków pieniężnych z przeznaczeniem na ustalony cel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, 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kredytobiorca zobowiązuje się do korzystania z niej na warunkach określonych w umowie,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zwrotu kwoty wykorzystanego kredytu wraz z odsetkami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w oznaczonych terminach spłaty o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apłaty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prowizji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od udzielonego kredy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Ustawa z dnia 29 sierpnia 1997 r. Prawo bankowe 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Dz. U. z 2012 r. poz. 1376, z późn. z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Obraz 6" descr="money1.jpg"/>
          <p:cNvPicPr/>
          <p:nvPr/>
        </p:nvPicPr>
        <p:blipFill>
          <a:blip r:embed="rId1"/>
          <a:stretch/>
        </p:blipFill>
        <p:spPr>
          <a:xfrm>
            <a:off x="6012000" y="3716280"/>
            <a:ext cx="29350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dzaje kredytó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eglą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5"/>
          <p:cNvSpPr/>
          <p:nvPr/>
        </p:nvSpPr>
        <p:spPr>
          <a:xfrm>
            <a:off x="539640" y="2349360"/>
            <a:ext cx="7993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czas, na jaki jest udzielany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rótkotermin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(termin spłaty do ok. 1 roku) 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średnioterminow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ok. 1-3 lata)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ługotermin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(powyżej 3 la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przeznaczenie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westycyj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brot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nsumpcyj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rodzaj waluty, w której jest udzielany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łot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wizowy;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wysokość oprocentowania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mercyj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eferencyj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sposób zabezpieczenia, m.in.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yskontow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wekslowy)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potecz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znes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Obraz 5" descr="rece.jpg"/>
          <p:cNvPicPr/>
          <p:nvPr/>
        </p:nvPicPr>
        <p:blipFill>
          <a:blip r:embed="rId2"/>
          <a:stretch/>
        </p:blipFill>
        <p:spPr>
          <a:xfrm>
            <a:off x="6659640" y="260280"/>
            <a:ext cx="248436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ydatne term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6"/>
          <p:cNvSpPr/>
          <p:nvPr/>
        </p:nvSpPr>
        <p:spPr>
          <a:xfrm>
            <a:off x="395280" y="1341360"/>
            <a:ext cx="8209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ekse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apier wartościowy, na podstawie którego wystawiający weksel zobowiązuje się w określonym terminie do zapłaty określonej kwoty osobie wskazanej na weksl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potek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jedna z najczęstszych form zabezpieczenia kredytu albo pożyczki; może być ustanowiona na nieruchomości, która  należy do kredytobiorcy albo innej osob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pozyt bank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(lokata)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ieniądze złożone w banku na pewien okres przez osobę prywatną albo przedsiębiorstw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cent składa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– sposób oprocentowania depozytu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tóry polega na tym, że odsetki są doliczane 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kładu i składają się na zysk w okresie następny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anim-podpiszesz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Obraz 7" descr="kalkulatror.jpg"/>
          <p:cNvPicPr/>
          <p:nvPr/>
        </p:nvPicPr>
        <p:blipFill>
          <a:blip r:embed="rId2"/>
          <a:stretch/>
        </p:blipFill>
        <p:spPr>
          <a:xfrm>
            <a:off x="5565600" y="3716280"/>
            <a:ext cx="35784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ormy kredytowania w starożytno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5"/>
          <p:cNvSpPr/>
          <p:nvPr/>
        </p:nvSpPr>
        <p:spPr>
          <a:xfrm>
            <a:off x="250920" y="1052640"/>
            <a:ext cx="8569080" cy="54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5 tys. lat temu w Uruk w Mezopotamii używan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glinianych żetonów w kształcie przedmiotów codziennego użytku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– garnków, bochnów chleba i zwierząt; najprawdopodobniej symbolizowały prawdziwe pożyczone garnki, bochenki, owce i kozy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ierwsze operacje bankowe polegały n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ymianie monet bitych przez władców i udzielaniu oprocentowanych pożyczek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(przez bogatych kupców); dokumenty poświadczające takie działania pochodzą z III w. p.n.e. z Mezopotamii, gdzie wiek później powstała podstawowa forma bezgotówkowego obrotu pieniędzmi, czyl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ekse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jawiły się także prywatne domy bankowe i kredyty hipoteczne; tak samo pożyczano w starożytnym Rzymie, Grecji, a później te metody przejęło Bizancjum i Arabowie;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la przykładu: w V wieku p.n.e. w Atenach oprocentowanie kredytów na zamorskie wyprawy wynosiło nawet 25 proc. – jednak udzielanie takich kredytów było bardzo ryzykowne , bo jeśli statek zatonął, dłużnik nie musiał zwracać pieniędzy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Szaleniec M., Historia życia na kredyt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/pl/np/artykuly/historia/historia_zycia_na_kredy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ormy kredytowania w średniowiecz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5"/>
          <p:cNvSpPr/>
          <p:nvPr/>
        </p:nvSpPr>
        <p:spPr>
          <a:xfrm>
            <a:off x="179280" y="1052640"/>
            <a:ext cx="86407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padek Imperium Rzymskiego był końcem rzymskiej i greckiej bankowości; w Europie rządzili barbarzyńcy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minowała gospodarka naturaln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gdzie nie było miejsca na oprocentowane kredyty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ierwszy bank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powstał w Wenecji w 1156 r., upowszechnił się także w tym stuleciu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brót wekslam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rozwój bankowości był hamowany przez Kościół katolicki, który zakazywał pożyczek na procent, uważając je z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lichwę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(w średniowieczu oprocentowanie kredytu konsumpcyjnego sięgało nawet 60 proc.!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XV w. centrum bankowości przeniosło się z Włoch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 Holandi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bankowcy z Amsterdamu znaleźli nowe źródło dochodu – zaczęl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życzać pieniądze państwom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m.in. Anglii, Szwecji, Polsce i Rosji; uznali, że rządy są bezpieczniejszym kredytobiorcą niż kupcy, którzy inwestują pieniądze w ryzykowne zamorskie podróż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Szaleniec M., Historia życia na kredyt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/pl/np/artykuly/historia/historia_zycia_na_kredy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le tekstowe 2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Formy kredytowania w epoce nowożytne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5"/>
          <p:cNvSpPr/>
          <p:nvPr/>
        </p:nvSpPr>
        <p:spPr>
          <a:xfrm>
            <a:off x="179280" y="1268280"/>
            <a:ext cx="864072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lejna faza rozwoju banków była związana z wprowadzeniem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ieniędzy papierowych (XVII w.)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az rewolucją przemysłową i rodzącym się kapitalizmem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ngielscy bankierzy pożyczali pieniądz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łaścicielom kopalni i manufaktur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to z powodu tego doinwestowania właśnie w Anglii i Szkocji zaczęła się rewolucja przemysłow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 przełomie XIX i XX w. pojawiły się mał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półdzielcze kasy pożyczkowo-depozytow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które nastawiły się na obsługę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rolników i rzemieślników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w Galicji kasy zakładał je Franciszek Stefczyk); były one alternatywą dla banków, choć nie konkurowały z nimi pod względem skomplikowanych ofert finansowych; zazwyczaj jedynie przyjmowały depozyty i pożyczały pieniądze (dziś istnieją jako spółdzielcze kasy oszczędnościowo-kredytowe, w skrócie SKOK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Szaleniec M., Historia życia na kredyt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/pl/np/artykuly/historia/historia_zycia_na_kredy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Obraz 5" descr="w stertach.jpg"/>
          <p:cNvPicPr/>
          <p:nvPr/>
        </p:nvPicPr>
        <p:blipFill>
          <a:blip r:embed="rId2"/>
          <a:stretch/>
        </p:blipFill>
        <p:spPr>
          <a:xfrm>
            <a:off x="5940360" y="4221000"/>
            <a:ext cx="282744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Redaktor</cp:lastModifiedBy>
  <dcterms:modified xsi:type="dcterms:W3CDTF">2013-06-19T20:21:47Z</dcterms:modified>
  <cp:revision>770</cp:revision>
  <dc:subject/>
  <dc:title>Slajd 1</dc:title>
</cp:coreProperties>
</file>