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FB5E-B37B-4A18-9756-85E0BAD682B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1C0A-9AC5-4303-93B8-D9D277EAF71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F8E3-038B-4F00-9FEC-EADAF8FA876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0CC3-EC24-4C12-9099-69E104AA569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EB3-259D-43A6-B866-328B80B1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7A6-163F-422F-85AC-526598EA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6EA-71DE-4301-8256-2361369C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F39-5F84-4316-9403-EE94658A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530D-7783-4987-B694-41DE37C5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8C19-06B7-49DE-9707-BCED9804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D205-6A9A-4567-A875-65E9A92D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DD6F-D355-470F-816F-8AA4EEC7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8695-1716-4771-9D49-BD0608F2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14DD-1973-4DCD-AB27-C2937792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FC41-0245-4435-B201-F6F7D16D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BAC-760A-478D-9BC6-1A8A3EBA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3CAD-3F1B-4716-B124-837D0939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909B-F94D-44BF-8C33-389461D7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3B3C-0753-4DC0-AC19-A176DBC1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5A31-ACF9-4975-B049-1AFB0C75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E2D8-0A64-4BE0-9DD4-1B3AF919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78E-AB48-4604-9C50-E56B801A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35C-C4C0-4BC5-9246-7B3991FE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2C8-BA77-40A2-B1A8-3CBD2976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B11-62F3-44DE-A77F-6893A15F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DE3-0115-4FC1-893C-E8EE1898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66C-4D49-4121-9CDE-C341B870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6F0-D481-4779-BAF7-CDA09FB2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BE97-F10B-4C58-8639-699BDAD9331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EE18-2973-428A-B237-9739869F963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anim-podpiszesz.pl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lskawue.gov.pl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mcik.blox.pl/" TargetMode="External"/><Relationship Id="rId2" Type="http://schemas.openxmlformats.org/officeDocument/2006/relationships/hyperlink" Target="http://www.nbportal.pl/" TargetMode="External"/><Relationship Id="rId3" Type="http://schemas.openxmlformats.org/officeDocument/2006/relationships/hyperlink" Target="http://www.mg.gov.pl/" TargetMode="External"/><Relationship Id="rId4" Type="http://schemas.openxmlformats.org/officeDocument/2006/relationships/hyperlink" Target="http://www.nbp.pl/" TargetMode="External"/><Relationship Id="rId5" Type="http://schemas.openxmlformats.org/officeDocument/2006/relationships/hyperlink" Target="http://www.zanim-podpiszesz.pl/" TargetMode="External"/><Relationship Id="rId6" Type="http://schemas.openxmlformats.org/officeDocument/2006/relationships/hyperlink" Target="http://www.polskawue.gov.pl/" TargetMode="External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AdamSmith.jpg" TargetMode="External"/><Relationship Id="rId2" Type="http://schemas.openxmlformats.org/officeDocument/2006/relationships/hyperlink" Target="http://openclipart.org/detail/169932/grenouille-by-mathafix" TargetMode="External"/><Relationship Id="rId3" Type="http://schemas.openxmlformats.org/officeDocument/2006/relationships/hyperlink" Target="http://openclipart.org/detail/18418/giraffe-sympa-by-martouf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Gospodarze i ekonomiśc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ra rynkowa – cena równowag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Łącznik prosty ze strzałką 5"/>
          <p:cNvCxnSpPr/>
          <p:nvPr/>
        </p:nvCxnSpPr>
        <p:spPr>
          <a:xfrm flipV="1">
            <a:off x="1692000" y="1988640"/>
            <a:ext cx="1080" cy="288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Łącznik prosty ze strzałką 7"/>
          <p:cNvCxnSpPr/>
          <p:nvPr/>
        </p:nvCxnSpPr>
        <p:spPr>
          <a:xfrm>
            <a:off x="1692000" y="4868640"/>
            <a:ext cx="2880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pole tekstowe 9"/>
          <p:cNvSpPr/>
          <p:nvPr/>
        </p:nvSpPr>
        <p:spPr>
          <a:xfrm>
            <a:off x="324000" y="2133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10"/>
          <p:cNvSpPr/>
          <p:nvPr/>
        </p:nvSpPr>
        <p:spPr>
          <a:xfrm>
            <a:off x="1619280" y="51577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loś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Łącznik prosty 14"/>
          <p:cNvSpPr/>
          <p:nvPr/>
        </p:nvSpPr>
        <p:spPr>
          <a:xfrm>
            <a:off x="1547640" y="3429000"/>
            <a:ext cx="30243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8"/>
          <p:cNvSpPr/>
          <p:nvPr/>
        </p:nvSpPr>
        <p:spPr>
          <a:xfrm>
            <a:off x="0" y="314172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cena równowa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Łącznik prosty 10"/>
          <p:cNvSpPr/>
          <p:nvPr/>
        </p:nvSpPr>
        <p:spPr>
          <a:xfrm>
            <a:off x="2050920" y="2349360"/>
            <a:ext cx="2160720" cy="21592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Łącznik prosty 13"/>
          <p:cNvSpPr/>
          <p:nvPr/>
        </p:nvSpPr>
        <p:spPr>
          <a:xfrm flipV="1">
            <a:off x="2050920" y="2349360"/>
            <a:ext cx="2160720" cy="215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16"/>
          <p:cNvSpPr/>
          <p:nvPr/>
        </p:nvSpPr>
        <p:spPr>
          <a:xfrm>
            <a:off x="3059280" y="1773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Calibri"/>
              </a:rPr>
              <a:t>poda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7"/>
          <p:cNvSpPr/>
          <p:nvPr/>
        </p:nvSpPr>
        <p:spPr>
          <a:xfrm>
            <a:off x="4284720" y="4149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50"/>
                </a:solidFill>
                <a:latin typeface="Calibri"/>
              </a:rPr>
              <a:t>pop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18"/>
          <p:cNvSpPr/>
          <p:nvPr/>
        </p:nvSpPr>
        <p:spPr>
          <a:xfrm>
            <a:off x="5724360" y="227664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Cena równowagi </a:t>
            </a: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– przy tej cenie rozmiary zapotrzebowania na jakieś dobro (np. na truskawki) są równe ilości zaoferowa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daż i popyt – przykł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71640" y="1397160"/>
          <a:ext cx="7272360" cy="4192560"/>
        </p:xfrm>
        <a:graphic>
          <a:graphicData uri="http://schemas.openxmlformats.org/drawingml/2006/table">
            <a:tbl>
              <a:tblPr/>
              <a:tblGrid>
                <a:gridCol w="2423880"/>
                <a:gridCol w="2424240"/>
                <a:gridCol w="2424240"/>
              </a:tblGrid>
              <a:tr h="59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na (zł/sztuk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yt  (tys./r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daż (tys. /r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8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życzka i lich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4"/>
          <p:cNvSpPr/>
          <p:nvPr/>
        </p:nvSpPr>
        <p:spPr>
          <a:xfrm>
            <a:off x="324000" y="134136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życzk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kwestię ich udzielania reguluj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art. 720 § 1 kodeksu cywilneg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który mówi: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przez umowę pożyczki dający pożyczkę zobowiązuje się przenieść na własność biorąceg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określoną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ilość pieniędzy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alb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rzeczy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oznaczonych tylko co do gatunku, a biorący zobowiązuje się zwrócić tę samą ilość pieniędzy albo tę samą ilość rzeczy tego samego gatunku i tej samej jak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Pożyczkę pieniężną można przeznaczyć na wybrany przez siebie c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Lichw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to forma wyzysku, polegająca na udzielaniu wysokooprocentowanych pożyczek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edyt banko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4"/>
          <p:cNvSpPr/>
          <p:nvPr/>
        </p:nvSpPr>
        <p:spPr>
          <a:xfrm>
            <a:off x="324000" y="1268280"/>
            <a:ext cx="84247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redyt bankowy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umowa, na podstawie której kredytodawca przekazuje do dyspozycji kredytobiorcy określoną kwotę pieniędzy z przeznaczeniem n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kretny cel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a kredytobiorca zobowiązuje się do spłaty kredytu wraz z odsetkami i ewentualnymi prowizjami w ustalonych w umowie termina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redyt podlega przepisom ustawy prawo bankowe i może być udzielany tylko przez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ank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lub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ółdzielczą kasę oszczędnościowo-kredytow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anim-podpiszesz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Obraz 3" descr="swinka1.png"/>
          <p:cNvPicPr/>
          <p:nvPr/>
        </p:nvPicPr>
        <p:blipFill>
          <a:blip r:embed="rId2"/>
          <a:stretch/>
        </p:blipFill>
        <p:spPr>
          <a:xfrm>
            <a:off x="0" y="4581360"/>
            <a:ext cx="205092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rójsektorowa struktura gospodark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4"/>
          <p:cNvSpPr/>
          <p:nvPr/>
        </p:nvSpPr>
        <p:spPr>
          <a:xfrm>
            <a:off x="324000" y="1484280"/>
            <a:ext cx="8424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ział I – rolnictw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produkcja roślinna i zwierzęca oraz rybołówstwo śródlądow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ział II – przemys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górnictwo i przetwórstwo, które dzieli się m.in. na przemysł maszynowy, włókienniczy, budownictwo i hutnictwo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ział II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sług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komunikacja, transport, handel, bankowość i usługi finansowe, szkolnictwo, ochrona zdrowia, kultura i informatyk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Marciniak S., Makro- i mikroekonomia. Podstawowe problemy współczesności, Wydawnictwo Naukowe PWN, Warszawa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k zmieniały się formy gospodarowani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4"/>
          <p:cNvSpPr/>
          <p:nvPr/>
        </p:nvSpPr>
        <p:spPr>
          <a:xfrm>
            <a:off x="900000" y="1989000"/>
            <a:ext cx="6264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wolucja neolitycz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wolucja agra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wolucja przemysło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wolucja naukowo-technicz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neolitycz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4"/>
          <p:cNvSpPr/>
          <p:nvPr/>
        </p:nvSpPr>
        <p:spPr>
          <a:xfrm>
            <a:off x="468360" y="1557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ył to proces przechodzenia ludzkości od łowiectwa, zbieractwa i koczownictw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o hodowli, rolnictwa i osiadłego trybu życi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iała miejsce w latach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10000-4000 p.n.e.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regionie Żyznego Półksiężyca (dziś to Bliski Wschód, a więc tereny obejmujące m.in. Egipt, Izrael, Palestynę i Jordanię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fektywne sposoby pozyskiwania żywności spowodowały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gromny wzrost liczby ludn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i pozwoliły części z niej zajmować się kwestiami niezwiązanymi bezpośrednio z przetrwanie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agra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4"/>
          <p:cNvSpPr/>
          <p:nvPr/>
        </p:nvSpPr>
        <p:spPr>
          <a:xfrm>
            <a:off x="468360" y="1557360"/>
            <a:ext cx="6983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ył to proces przemiany tradycyjnego rolnictwa w dużo wydajniejsz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lnictwo nowoczes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iany te miały miejsc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XVI, XVII i XVIII wieku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zaczęły się od wprowadzenia płodozmianu oraz hodowli zwierząt domowych na terenach nienadających się do prowadzenia upraw, ale mogących wykarmić zwierzęta. Nadwyżki produkcji żywności były sprzedawane i stały się źródłem dochodów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yski z rolnictwa pozwalały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a inwestowani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p. w nowe maszyny rolnicze i hodowlę lepszych ras bydł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Obraz 3" descr="Cereal_plant.png"/>
          <p:cNvPicPr/>
          <p:nvPr/>
        </p:nvPicPr>
        <p:blipFill>
          <a:blip r:embed="rId1"/>
          <a:stretch/>
        </p:blipFill>
        <p:spPr>
          <a:xfrm>
            <a:off x="7321680" y="1628640"/>
            <a:ext cx="18223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przemysł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4"/>
          <p:cNvSpPr/>
          <p:nvPr/>
        </p:nvSpPr>
        <p:spPr>
          <a:xfrm>
            <a:off x="468360" y="122544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ył t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oces zmian gospodarczych, technologicznych i społecznych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ązanych z przejściem od gospodarki opartej na rolnictwie i rzemiośle d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gospodarki opartej na produkcji fabrycznej na skalę przemysłow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ymbolem rewolucji przemysłowej stała się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aszyna parow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wolucja przemysłowa zaczęła się w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XVIII wieku w Anglii i Szko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Jej przyczyną były: rewolucja agrarna i ogromny przyrost ludnoś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śród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sekwen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tej rewolucji warto wymienić: industrializację, powstanie społeczeństwa przemysłowego, w którym przeważająca liczba ludności mieszka w miastach, powstanie związków zawodowych i prawa pracy, a także narodziny ruchu robotniczeg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naukowo-technicz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4"/>
          <p:cNvSpPr/>
          <p:nvPr/>
        </p:nvSpPr>
        <p:spPr>
          <a:xfrm>
            <a:off x="395280" y="1773360"/>
            <a:ext cx="8137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ą to procesy wielkich przemian i odkryć w technice, produkcji oraz nauce, które rozpoczęły się w latach 50. XX wieku i trwają do dziś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zywana jest czasem trzecią rewolucją przemysłową, a jej cechą charakterystyczną jest ścisła zależność między nauką, techniką i produkcj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ważniejszymi elementami tej rewolucji jest komputeryzacja, rozwój materiałów syntetycznych, wykorzystanie energetyki jądrowej i innych nowych źródeł energii oraz automatyzacja procesów prac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981000"/>
            <a:ext cx="835344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konomia jako nauka społeczn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dam Smith – ojciec ekonomi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kroekonomia i makroekonomia – od „perspektywy żaby” do „perspektywy żyrafy”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łowiek ekonomiczny” (homo oeconomicus) czyli działający racjonalnie, nastawiony na efektywność, egoistyczny bohater analiz ekonomiczn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ysk i strat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ra rynkowa – popyt i podaż, cena równowag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życzka, lichwa, kredyt bankow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rójsektorowa struktura gospodarki – trzy działy: rolnictwo, przemysł i usług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 zmieniały się formy gospodarowania (rewolucja neolityczna, agrarna, przemysłowa i naukowo-techniczna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ces ekonomiczny – na przykładzie integracji gospodarcz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ntegracja gospodarc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ole tekstowe 4"/>
          <p:cNvSpPr/>
          <p:nvPr/>
        </p:nvSpPr>
        <p:spPr>
          <a:xfrm>
            <a:off x="395280" y="177336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est to proces, który polega n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cieśnianiu współpracy gospodarczej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z co najmniej dwa kraje albo całą grupę (np. kraje należące do Unii Europejskiej) poprzez eliminację barier, które mogłyby taką współpracę ograniczać. W efekcie dochodzi do scalenia gospodarek narodowych poszczególnych krajów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ormy integracji gospodarcz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1125360"/>
          <a:ext cx="8353440" cy="4483440"/>
        </p:xfrm>
        <a:graphic>
          <a:graphicData uri="http://schemas.openxmlformats.org/drawingml/2006/table">
            <a:tbl>
              <a:tblPr/>
              <a:tblGrid>
                <a:gridCol w="3206880"/>
                <a:gridCol w="514656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fa wolnego hand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widacja ceł i ograniczeń ilościowych w obronie handlowy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 ce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spólna polityka handlowa i jednakowe taryfy cel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spólny ry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obodny przepływ usług i czynników produk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 gospodarcza i walutow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łkowita koordynacja polityki gospodarczej i walutowej, utworzenie nowych ponadpaństwowych instytu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 gospodarcza i politycz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łkowita koordynacja polityki wewnętrznej, zagranicznej i obronnej, powołanie ponadpaństwowych organów władz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0" name="pole tekstowe 4"/>
          <p:cNvSpPr/>
          <p:nvPr/>
        </p:nvSpPr>
        <p:spPr>
          <a:xfrm>
            <a:off x="539640" y="580536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polskawue.gov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3"/>
          <p:cNvSpPr/>
          <p:nvPr/>
        </p:nvSpPr>
        <p:spPr>
          <a:xfrm>
            <a:off x="179280" y="1052640"/>
            <a:ext cx="8785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Warszawa 1998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egg D., Fischer S., Dornbusch R., Makroekonomia, Polskie Wydawnictwo Ekonomiczne, Warszawa 199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Frank R.H., Dlaczego piloci kamikadze zakładali hełmy? Czyli ekonomia bez tajemnic, Wydawnictwo Literackie, Kraków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arciniak S. (red.), Makro- i mikroekonomia. Podstawowe problemy współczesności, Wydawnictwo Naukowe PWN, Warszawa 20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rawski W., Socjologia ekonomiczna, Wydawnictwo Naukowe PWN, Warszawa 2001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mith A., Badania nad naturą i przyczynami bogactwa narodów, PWN, Warszawa 19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log Macieja Samcika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amcik.blox.p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rtal Edukacji Ekonomicznej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nbportal.p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rona internetowa Ministerstwa Gospodarki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mg.gov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rona internetowa Narodowego Banku Polskiego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nbp.p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rona internetowa akcji społecznej „Zanim podpiszesz”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zanim-podpiszesz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rona internetowa prowadzona przez Ministerstwo Spraw Zagranicznych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polskawue.gov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3"/>
          <p:cNvSpPr/>
          <p:nvPr/>
        </p:nvSpPr>
        <p:spPr>
          <a:xfrm>
            <a:off x="395280" y="1133640"/>
            <a:ext cx="8353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. Portre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am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Smith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źródło: Wikimedia Commons,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ommons.wikimedia.org/wiki/File:AdamSmith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. Żab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g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nouill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s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mathafix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źródło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penclipart.org/detail/169932/grenouille-by-mathaf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. Żyraf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giraffe sympa), źródło: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openclipart.org/detail/18418/giraffe-sympa-by-martou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. Kas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architetto – cassa d'epoca), rys.: Francesco Rollandin, źródło: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openclipart.org/detail/25412/architetto----cassa-depoca-by-anonymous-254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5. Pieniądze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money), autor: Tax Credits, źródło: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76657755@N04/7027595009/in/photostream/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udostępnione na licencji CC BY, 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creativecommons.org/licenses/by/2.0/deed.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6. Śwink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piggy bank), autor: David García Garzón, źródło: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openclipart.org/detail/170058/piggy-bank-by-vokim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7. Zboże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real plant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s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gsagri04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http://openclipart.org/detail/139999/cereal-plant-by-gsagri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Ekonomia jako nauka społecz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załka w dół 5"/>
          <p:cNvSpPr/>
          <p:nvPr/>
        </p:nvSpPr>
        <p:spPr>
          <a:xfrm>
            <a:off x="4284720" y="1268280"/>
            <a:ext cx="647640" cy="25923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załka w dół 6"/>
          <p:cNvSpPr/>
          <p:nvPr/>
        </p:nvSpPr>
        <p:spPr>
          <a:xfrm rot="20646000">
            <a:off x="7291440" y="1236240"/>
            <a:ext cx="647640" cy="259092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załka w dół 7"/>
          <p:cNvSpPr/>
          <p:nvPr/>
        </p:nvSpPr>
        <p:spPr>
          <a:xfrm rot="1258200">
            <a:off x="1125000" y="1227240"/>
            <a:ext cx="649440" cy="25923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8"/>
          <p:cNvSpPr/>
          <p:nvPr/>
        </p:nvSpPr>
        <p:spPr>
          <a:xfrm>
            <a:off x="250920" y="3716280"/>
            <a:ext cx="216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(czyli jakie dobra i usługi) wytwarzać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10"/>
          <p:cNvSpPr/>
          <p:nvPr/>
        </p:nvSpPr>
        <p:spPr>
          <a:xfrm>
            <a:off x="3419640" y="386064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Jak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ytwarzać</a:t>
            </a: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obra i usługi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11"/>
          <p:cNvSpPr/>
          <p:nvPr/>
        </p:nvSpPr>
        <p:spPr>
          <a:xfrm>
            <a:off x="6875640" y="3716280"/>
            <a:ext cx="208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la kogo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twarzać dobra i usług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dam Smith – ojciec ekonom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3"/>
          <p:cNvSpPr/>
          <p:nvPr/>
        </p:nvSpPr>
        <p:spPr>
          <a:xfrm>
            <a:off x="2700360" y="1413000"/>
            <a:ext cx="611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kocki filozof i myśliciel, żył w latach 1723-179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pisał przełomowe dzieł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Badania nad naturą i przyczynami bogactwa narodów”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dane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w 1776 r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autorem słynnej metafory 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iewidzialnej ręce rynk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raz 5" descr="AdamSmith.jpg"/>
          <p:cNvPicPr/>
          <p:nvPr/>
        </p:nvPicPr>
        <p:blipFill>
          <a:blip r:embed="rId1"/>
          <a:stretch/>
        </p:blipFill>
        <p:spPr>
          <a:xfrm>
            <a:off x="395280" y="981000"/>
            <a:ext cx="2016000" cy="3006720"/>
          </a:xfrm>
          <a:prstGeom prst="rect">
            <a:avLst/>
          </a:prstGeom>
          <a:ln w="0">
            <a:noFill/>
          </a:ln>
        </p:spPr>
      </p:pic>
      <p:sp>
        <p:nvSpPr>
          <p:cNvPr id="109" name="pole tekstowe 4"/>
          <p:cNvSpPr/>
          <p:nvPr/>
        </p:nvSpPr>
        <p:spPr>
          <a:xfrm>
            <a:off x="324000" y="4149720"/>
            <a:ext cx="849600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Nie od przychylności rzeźnika, piwowara czy piekarza oczekujemy naszego obiadu, lecz od ich dbałości o własny interes. Zwracamy się nie do ich humanitarności, lecz do egoizmu i nie mówimy im o naszych własnych potrzebach, lecz o ich korzyścia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mith A., Badania nad naturą i przyczynami bogactwa narodów, PWN, Warszawa 1954, t.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ikroekono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Obraz 3" descr="zaba.png"/>
          <p:cNvPicPr/>
          <p:nvPr/>
        </p:nvPicPr>
        <p:blipFill>
          <a:blip r:embed="rId1"/>
          <a:stretch/>
        </p:blipFill>
        <p:spPr>
          <a:xfrm>
            <a:off x="324000" y="4581360"/>
            <a:ext cx="1903320" cy="1872000"/>
          </a:xfrm>
          <a:prstGeom prst="rect">
            <a:avLst/>
          </a:prstGeom>
          <a:ln w="0">
            <a:noFill/>
          </a:ln>
        </p:spPr>
      </p:pic>
      <p:sp>
        <p:nvSpPr>
          <p:cNvPr id="112" name="pole tekstowe 4"/>
          <p:cNvSpPr/>
          <p:nvPr/>
        </p:nvSpPr>
        <p:spPr>
          <a:xfrm>
            <a:off x="468360" y="1557360"/>
            <a:ext cx="828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Analiza mikroekonomiczn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zajmuje się szczegółowo badaniem indywidualnych decyzji dotyczących pojedynczych towarów. Np. możemy badać, dlaczego poszczególne gospodarstwa domowe preferują samochody, a nie rowery oraz w jaki sposób producenci decydują o tym, czy wytwarzać samochody czy row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akroekono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468360" y="1557360"/>
            <a:ext cx="8280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Makroekonomia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 kładzie nacisk na wzajemne związki zachodzące w gospodarce jako całości. W swojej metodzie celowo upraszcza ona analizę poszczególnych elementów badanej całości w trosce o przejrzystość obrazu działania całej gospodar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Obraz 5" descr="zyrafa.png"/>
          <p:cNvPicPr/>
          <p:nvPr/>
        </p:nvPicPr>
        <p:blipFill>
          <a:blip r:embed="rId1"/>
          <a:stretch/>
        </p:blipFill>
        <p:spPr>
          <a:xfrm>
            <a:off x="7000920" y="3500280"/>
            <a:ext cx="17874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łowiek ekonomicz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(homo oeconomicu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3"/>
          <p:cNvSpPr/>
          <p:nvPr/>
        </p:nvSpPr>
        <p:spPr>
          <a:xfrm>
            <a:off x="395280" y="1916280"/>
            <a:ext cx="799308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działaniach kieruje się interesem własnym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tylko na samym sobie skupia uwagę, dąży do celu, chłodno kalkulując i posługując się kryteriami zysku i strat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wsz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ziała racjonal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korzystuje kapitał / zasoby: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nansowe, ludzkie (np. wykształcenie), społeczne (np. znajomośc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st nastawiony n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fektywność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goistą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a głowę, ale nie ma serc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Morawski W., Socjologia ekonomiczna, Wydawnictwo Naukowe PWN, Warszawa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az 3" descr="kasa.png"/>
          <p:cNvPicPr/>
          <p:nvPr/>
        </p:nvPicPr>
        <p:blipFill>
          <a:blip r:embed="rId1"/>
          <a:stretch/>
        </p:blipFill>
        <p:spPr>
          <a:xfrm>
            <a:off x="6156360" y="3645000"/>
            <a:ext cx="20318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ysk i str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4"/>
          <p:cNvSpPr/>
          <p:nvPr/>
        </p:nvSpPr>
        <p:spPr>
          <a:xfrm>
            <a:off x="468360" y="1197000"/>
            <a:ext cx="748836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Zysk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– nadwyżka przychodu nad kosztami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dodatni wynik finansow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Strata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– ujemny wynik finansowy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Koszty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– wydatki poniesione na wytworzen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dóbr i usług w danym okresi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Przychód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– ilość pieniędzy uzyskana ze sprzedaży dóbr i usług w danym okresie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Obraz 5" descr="rece.jpg"/>
          <p:cNvPicPr/>
          <p:nvPr/>
        </p:nvPicPr>
        <p:blipFill>
          <a:blip r:embed="rId1"/>
          <a:stretch/>
        </p:blipFill>
        <p:spPr>
          <a:xfrm>
            <a:off x="5711760" y="189000"/>
            <a:ext cx="3432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ra rynkowa – popyt i poda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4"/>
          <p:cNvSpPr/>
          <p:nvPr/>
        </p:nvSpPr>
        <p:spPr>
          <a:xfrm>
            <a:off x="395280" y="1052640"/>
            <a:ext cx="842472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Popyt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 – ilość dobra, jaką nabywcy są gotowi zakupić przy różnym poziomie ce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Podaż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 – ilość dobra, jaką sprzedawcy są gotowi zaoferować przy różnym poziomie ce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ajemna gra popyt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achowania konsumentów)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 podaż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achowania sprzedawców) na wolnym rynku decyduj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 ilości wytwarzanych dóbr i ce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po jakiej są one sprzedawan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śli założymy, że pozostałe czynniki (np. dochody konsumentów,  ich gusty czy ceny innych dóbr) pozostają niezmienne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m niższa jest cena jakiegoś dobr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np. telefonu komórkowego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ym większe jest na niego zapotrzebowa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m wyższa jest jego cen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ym większa jest oferowana il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Begg D., Fischer S., Dornbusch R., Mikroekonomia, Polskie Wydawnictwo Ekonomiczn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Redaktor</cp:lastModifiedBy>
  <dcterms:modified xsi:type="dcterms:W3CDTF">2013-06-16T17:27:18Z</dcterms:modified>
  <cp:revision>566</cp:revision>
  <dc:subject/>
  <dc:title>Slajd 1</dc:title>
</cp:coreProperties>
</file>