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8F8-5BD7-4C6F-BF39-D68287E0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C572-C41E-48E5-A8E1-3272D88F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8C9-853B-4FF2-86A2-4E77A5BB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7A5-7372-48C1-95E4-72E2B99D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870-3EFB-4E79-87AF-906E6A8B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207-E875-4F20-8DE9-024BD3E5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EBF-2DC9-4C92-B649-9A4BA766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0C4-480D-4F2D-A419-D2F5A9B2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59E4-9ECD-4EAB-8B2F-20646C7F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E98-9AE8-4FEE-9D9E-D033A50B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34C-3DDC-409E-9D93-F19CD6C8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520-B4F1-48D6-BD0B-B89BFB79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D12D-824B-474E-8AD0-CDD8C6A8B5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4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ole tekstowe 7"/>
          <p:cNvSpPr/>
          <p:nvPr/>
        </p:nvSpPr>
        <p:spPr>
          <a:xfrm>
            <a:off x="285840" y="221472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odstawy europejskiej potęgi gospodarczej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ole tekstowe 8"/>
          <p:cNvSpPr/>
          <p:nvPr/>
        </p:nvSpPr>
        <p:spPr>
          <a:xfrm>
            <a:off x="1071720" y="3714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f7f7f"/>
                </a:solidFill>
                <a:latin typeface="Tahoma"/>
                <a:ea typeface="Tahoma"/>
              </a:rPr>
              <a:t>Radosław Marzęc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2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7"/>
          <p:cNvSpPr/>
          <p:nvPr/>
        </p:nvSpPr>
        <p:spPr>
          <a:xfrm>
            <a:off x="642960" y="7142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Przemysł źródłem potęgi Euro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9"/>
          <p:cNvSpPr/>
          <p:nvPr/>
        </p:nvSpPr>
        <p:spPr>
          <a:xfrm>
            <a:off x="5286240" y="1428840"/>
            <a:ext cx="385776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Postęp techniczny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wynalazek druku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stosowanie broni palnej i masowa produkcja prochu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stęp w produkcji żelaza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czątek wydobycia i wykorzystania węgla kamiennego (Anglia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wykorzystanie energii wodnej (młyny): dzięki temu wykorzystanie pracy mechanicznej (folusze, papiernie, szlifiernie, kieraty w kopalnia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Tahoma"/>
                <a:ea typeface="Tahoma"/>
              </a:rPr>
              <a:t>Ewolucja form organizacji przemysłu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wstawanie manufaktur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rodukcja nakładcz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rostokąt 10"/>
          <p:cNvSpPr/>
          <p:nvPr/>
        </p:nvSpPr>
        <p:spPr>
          <a:xfrm>
            <a:off x="-166680" y="5072040"/>
            <a:ext cx="623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  <a:ea typeface="Tahoma"/>
              </a:rPr>
              <a:t>Jan Gutenberg ogląda pierwszą stronę wydrukowaną na swojej maszynie drukarskie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rostokąt 11"/>
          <p:cNvSpPr/>
          <p:nvPr/>
        </p:nvSpPr>
        <p:spPr>
          <a:xfrm>
            <a:off x="-14400" y="5500800"/>
            <a:ext cx="183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www.britannica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Gutenberg, Johannes: in his workshop"/>
          <p:cNvPicPr/>
          <p:nvPr/>
        </p:nvPicPr>
        <p:blipFill>
          <a:blip r:embed="rId3"/>
          <a:stretch/>
        </p:blipFill>
        <p:spPr>
          <a:xfrm>
            <a:off x="-23760" y="1182600"/>
            <a:ext cx="5400720" cy="4121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3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7"/>
          <p:cNvSpPr/>
          <p:nvPr/>
        </p:nvSpPr>
        <p:spPr>
          <a:xfrm>
            <a:off x="1143000" y="85716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8"/>
          <p:cNvSpPr/>
          <p:nvPr/>
        </p:nvSpPr>
        <p:spPr>
          <a:xfrm>
            <a:off x="285840" y="1928880"/>
            <a:ext cx="84294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9"/>
          <p:cNvSpPr/>
          <p:nvPr/>
        </p:nvSpPr>
        <p:spPr>
          <a:xfrm>
            <a:off x="571680" y="21430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10"/>
          <p:cNvSpPr/>
          <p:nvPr/>
        </p:nvSpPr>
        <p:spPr>
          <a:xfrm>
            <a:off x="285840" y="1928880"/>
            <a:ext cx="84294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R. Cameron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istoria gospodarcza świata. Od paleolitu do czasów najnowszych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Warszawa 200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N. Davies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Europ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Kraków 200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. Kowalczyk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Globalizacja i regionalizacja w stosunkach międzynarodowych,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ww.sgh.waw.pl/katedry/karik/oferta/materialy/Wyklad_2.pdf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J. Szpak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istoria gospodarcza powszechn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Warszawa 199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4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7"/>
          <p:cNvSpPr/>
          <p:nvPr/>
        </p:nvSpPr>
        <p:spPr>
          <a:xfrm>
            <a:off x="1071720" y="22147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ziękuję za uwag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9"/>
          <p:cNvSpPr/>
          <p:nvPr/>
        </p:nvSpPr>
        <p:spPr>
          <a:xfrm>
            <a:off x="491400" y="1928880"/>
            <a:ext cx="6426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truktura społeczeństwa feudaln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Istota społeczeństwa kapitalistyczn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o to jest kapitalizm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Kapitalizm w XIX wieku a dzisiejsza globalizac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oczątki kapitalizmu w Europ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Źródła potęgi gospodarczej Europ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ielkie odkrycia geograficzne a kondycja gospodarcza Europ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rzemysł jako źródło potęgi gospodarcz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le tekstowe 7"/>
          <p:cNvSpPr/>
          <p:nvPr/>
        </p:nvSpPr>
        <p:spPr>
          <a:xfrm>
            <a:off x="2000160" y="71424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Społeczeństwo feuda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writedesignonline.com/history-culture/Feudal.jpg"/>
          <p:cNvPicPr/>
          <p:nvPr/>
        </p:nvPicPr>
        <p:blipFill>
          <a:blip r:embed="rId3"/>
          <a:stretch/>
        </p:blipFill>
        <p:spPr>
          <a:xfrm>
            <a:off x="214200" y="642960"/>
            <a:ext cx="1781280" cy="4800600"/>
          </a:xfrm>
          <a:prstGeom prst="rect">
            <a:avLst/>
          </a:prstGeom>
          <a:ln w="0">
            <a:noFill/>
          </a:ln>
        </p:spPr>
      </p:pic>
      <p:sp>
        <p:nvSpPr>
          <p:cNvPr id="62" name="pole tekstowe 9"/>
          <p:cNvSpPr/>
          <p:nvPr/>
        </p:nvSpPr>
        <p:spPr>
          <a:xfrm>
            <a:off x="2143080" y="1428840"/>
            <a:ext cx="67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Klasa rządząca posiadaczy ziemskich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podstawą ich władzy było posiadanie ziemi, co umożliwiało im „szlachetne” życie bez wykonywania ciężkiej p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yższa klasa średnia – wielka burżuazj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(wielcy kupcy, wyżsi urzędnicy państwowi, wolne zawody, np. adwokaci, notariusze) – podstawą ich pozycji była wiedza i umiejętności, nieruchomości, udziały w handlu, osobiste kontakty z arystokracj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iższa klasa średnia – drobna burżuazj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(rzemieślnicy, rękodzielnicy, handlarze detaliczni, osoby pracujące w usługach, drobni dzierżawc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hłop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, chałupnicy w przemyśle bawełnianym, biedacy i żeb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rostokąt 10"/>
          <p:cNvSpPr/>
          <p:nvPr/>
        </p:nvSpPr>
        <p:spPr>
          <a:xfrm>
            <a:off x="106560" y="5500800"/>
            <a:ext cx="189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teachers.saschina.or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6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ole tekstowe 7"/>
          <p:cNvSpPr/>
          <p:nvPr/>
        </p:nvSpPr>
        <p:spPr>
          <a:xfrm>
            <a:off x="2000160" y="71424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Społeczeństwo kapitalisty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3"/>
          <a:stretch/>
        </p:blipFill>
        <p:spPr>
          <a:xfrm>
            <a:off x="0" y="1643040"/>
            <a:ext cx="2928960" cy="3668760"/>
          </a:xfrm>
          <a:prstGeom prst="rect">
            <a:avLst/>
          </a:prstGeom>
          <a:ln w="0">
            <a:noFill/>
          </a:ln>
        </p:spPr>
      </p:pic>
      <p:sp>
        <p:nvSpPr>
          <p:cNvPr id="71" name="Prostokąt 10"/>
          <p:cNvSpPr/>
          <p:nvPr/>
        </p:nvSpPr>
        <p:spPr>
          <a:xfrm>
            <a:off x="2286000" y="2357280"/>
            <a:ext cx="4071960" cy="42876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Przykład: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ROBOTNICY MIEJS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ole tekstowe 9"/>
          <p:cNvSpPr/>
          <p:nvPr/>
        </p:nvSpPr>
        <p:spPr>
          <a:xfrm>
            <a:off x="2143080" y="1428840"/>
            <a:ext cx="678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rzejście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od rolnictwa do nowych form przemysłu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oraz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rozwój miast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powodowały </a:t>
            </a:r>
            <a:r>
              <a:rPr b="1" lang="pl-PL" sz="1600" spc="-1" strike="noStrike">
                <a:solidFill>
                  <a:srgbClr val="c00000"/>
                </a:solidFill>
                <a:latin typeface="Tahoma"/>
                <a:ea typeface="Tahoma"/>
              </a:rPr>
              <a:t>powstanie nowych klas społeczny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rostokąt 11"/>
          <p:cNvSpPr/>
          <p:nvPr/>
        </p:nvSpPr>
        <p:spPr>
          <a:xfrm>
            <a:off x="2857680" y="3000240"/>
            <a:ext cx="6000480" cy="2500560"/>
          </a:xfrm>
          <a:prstGeom prst="rect">
            <a:avLst/>
          </a:prstGeom>
          <a:solidFill>
            <a:srgbClr val="ddd9c3"/>
          </a:solidFill>
          <a:ln w="25560">
            <a:solidFill>
              <a:srgbClr val="948a5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Nie można ich nazwać klasą robotniczą, gdyż byli bardzo zróżnicowan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Robotnicy fabryczni, górnicy, służba domowa, rzemieślnicy, rękodzielnicy it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hociaż mieli </a:t>
            </a:r>
            <a:r>
              <a:rPr b="1" lang="pl-PL" sz="1600" spc="-1" strike="noStrike">
                <a:solidFill>
                  <a:srgbClr val="c00000"/>
                </a:solidFill>
                <a:latin typeface="Tahoma"/>
                <a:ea typeface="Tahoma"/>
              </a:rPr>
              <a:t>wspólną cechę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utrzymywanie sie ze sprzedawania swojej siły roboczej w zamian za wynagrodzenie dzienne lub tygodniow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rostokąt 13"/>
          <p:cNvSpPr/>
          <p:nvPr/>
        </p:nvSpPr>
        <p:spPr>
          <a:xfrm>
            <a:off x="763920" y="5429160"/>
            <a:ext cx="140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thewei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7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ole tekstowe 7"/>
          <p:cNvSpPr/>
          <p:nvPr/>
        </p:nvSpPr>
        <p:spPr>
          <a:xfrm>
            <a:off x="642960" y="7142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Co to jest ten KAPITALIZ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ole tekstowe 9"/>
          <p:cNvSpPr/>
          <p:nvPr/>
        </p:nvSpPr>
        <p:spPr>
          <a:xfrm>
            <a:off x="357120" y="1428840"/>
            <a:ext cx="857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Jeden z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etapów rozwoju gospodarczego cywilizacji ludzki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00000"/>
                </a:solidFill>
                <a:latin typeface="Tahoma"/>
                <a:ea typeface="Tahoma"/>
              </a:rPr>
              <a:t>Cech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ole tekstowe 14"/>
          <p:cNvSpPr/>
          <p:nvPr/>
        </p:nvSpPr>
        <p:spPr>
          <a:xfrm>
            <a:off x="285840" y="2286000"/>
            <a:ext cx="85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Kapitał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w postaci środków produkcji (ziemia, narzędzia pracy, bogactwa naturalne) oraz środków na opłacanie cudzej siły roboczej – służy do osiągania i pomnażania zys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odukcja towarów na zbyt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 istnienie przedsiębiorstw produkujących w ten sposób (fabryk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aca jest również towarem,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o pozwala na zatrudnianie najemnej siły roboczej (pracownik najemny jest wolny osobiście, w przeciwieństwie od poddanego chłopa w feudalizmi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Działalność gospodarcza podporządkowana osiąganiu zysków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(powszechna staje się zaradność i konkurencj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siadacze środków produkcji dążąc do pomnażania zysków, dokonują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nwestycj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, przez co przyczyniają się do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zrostu gospodarczego kra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8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ole tekstowe 7"/>
          <p:cNvSpPr/>
          <p:nvPr/>
        </p:nvSpPr>
        <p:spPr>
          <a:xfrm>
            <a:off x="642960" y="7142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Kapitalizm: na drodze ku globaliz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ole tekstowe 9"/>
          <p:cNvSpPr/>
          <p:nvPr/>
        </p:nvSpPr>
        <p:spPr>
          <a:xfrm>
            <a:off x="357120" y="1428840"/>
            <a:ext cx="8572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owstanie kapitalizmu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uznawane jest za jeden z etapów w rozwoju </a:t>
            </a:r>
            <a:r>
              <a:rPr b="1" lang="pl-PL" sz="1600" spc="-1" strike="noStrike">
                <a:solidFill>
                  <a:srgbClr val="c00000"/>
                </a:solidFill>
                <a:latin typeface="Tahoma"/>
                <a:ea typeface="Tahoma"/>
              </a:rPr>
              <a:t>globaliza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00000"/>
                </a:solidFill>
                <a:latin typeface="Tahoma"/>
                <a:ea typeface="Tahoma"/>
              </a:rPr>
              <a:t>III etap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XVIII - początek XX w.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— rozwój stosunków kapitalistycznych i stworzenie światowego systemu kapitalistycznego na zasadach internacjonalizacji kapitał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249120" y="3260880"/>
            <a:ext cx="8680680" cy="1868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1" name="Ramka 12"/>
          <p:cNvSpPr/>
          <p:nvPr/>
        </p:nvSpPr>
        <p:spPr>
          <a:xfrm>
            <a:off x="5286240" y="4643280"/>
            <a:ext cx="1643040" cy="571680"/>
          </a:xfrm>
          <a:custGeom>
            <a:avLst/>
            <a:gdLst>
              <a:gd name="textAreaLeft" fmla="*/ 38520 w 1643040"/>
              <a:gd name="textAreaRight" fmla="*/ 1604520 w 1643040"/>
              <a:gd name="textAreaTop" fmla="*/ 38520 h 571680"/>
              <a:gd name="textAreaBottom" fmla="*/ 533160 h 571680"/>
            </a:gdLst>
            <a:ahLst/>
            <a:rect l="textAreaLeft" t="textAreaTop" r="textAreaRight" b="textAreaBottom"/>
            <a:pathLst>
              <a:path w="1643074" h="571504">
                <a:moveTo>
                  <a:pt x="0" y="0"/>
                </a:moveTo>
                <a:lnTo>
                  <a:pt x="1643074" y="0"/>
                </a:lnTo>
                <a:lnTo>
                  <a:pt x="1643074" y="571504"/>
                </a:lnTo>
                <a:lnTo>
                  <a:pt x="0" y="571504"/>
                </a:lnTo>
                <a:close/>
                <a:moveTo>
                  <a:pt x="38685" y="38685"/>
                </a:moveTo>
                <a:lnTo>
                  <a:pt x="38685" y="532819"/>
                </a:lnTo>
                <a:lnTo>
                  <a:pt x="1604389" y="532819"/>
                </a:lnTo>
                <a:lnTo>
                  <a:pt x="1604389" y="38685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rostokąt 13"/>
          <p:cNvSpPr/>
          <p:nvPr/>
        </p:nvSpPr>
        <p:spPr>
          <a:xfrm>
            <a:off x="118440" y="5214960"/>
            <a:ext cx="231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S. Kowalczyk, http://www.sgh.waw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9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7"/>
          <p:cNvSpPr/>
          <p:nvPr/>
        </p:nvSpPr>
        <p:spPr>
          <a:xfrm>
            <a:off x="642960" y="7142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Kiedy się zaczęł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9"/>
          <p:cNvSpPr/>
          <p:nvPr/>
        </p:nvSpPr>
        <p:spPr>
          <a:xfrm>
            <a:off x="357120" y="142884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Historycy zajmujący się gospodarką nie są zgodni, co do momentu, który należy uznać za początek kapitaliz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iektórzy szukają wymienionych wcześniej cech kapitalizmu (np. produkcja towarowa, obrót towarowy)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już w Starożytno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nni, datują początek kapitalizmu na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XVII wi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Jeszcze inni badacze uważają, że nie należy mylić pojęcia gospodarki towarowej ze stosunkami kapitalistycznymi i proponują za początek uznać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okres lat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1450-1750,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 tym dwa podokres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Lata 1450-1600 – charakteryzujące się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ilną ekspansją gospodarki europejski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Lata 1600-1750 – charakteryzujące się zmienną koniunkturą gospodarcz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03" name="Łącznik prosty 20"/>
          <p:cNvSpPr/>
          <p:nvPr/>
        </p:nvSpPr>
        <p:spPr>
          <a:xfrm>
            <a:off x="1643040" y="55720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7"/>
          <p:cNvSpPr/>
          <p:nvPr/>
        </p:nvSpPr>
        <p:spPr>
          <a:xfrm>
            <a:off x="642960" y="35712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e1c11"/>
                </a:solidFill>
                <a:latin typeface="Tahoma"/>
                <a:ea typeface="Tahoma"/>
              </a:rPr>
              <a:t>Od czego się zaczęł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9"/>
          <p:cNvSpPr/>
          <p:nvPr/>
        </p:nvSpPr>
        <p:spPr>
          <a:xfrm>
            <a:off x="142920" y="1500120"/>
            <a:ext cx="4357800" cy="1798920"/>
          </a:xfrm>
          <a:prstGeom prst="rect">
            <a:avLst/>
          </a:prstGeom>
          <a:solidFill>
            <a:srgbClr val="ddd9c3"/>
          </a:solidFill>
          <a:ln w="9360">
            <a:solidFill>
              <a:srgbClr val="c4bd9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XV/XVI w. – przełom w kontaktach z innymi kontynentami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rtugalczycy, Hiszpanie, później Holendrzy, Anglicy i Francuzi dokonują wielkich odkryć geograficznych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Ich istotą była trwała kolonizacja nowych obszarów i poddanie ich ekonomicznej eksploatacj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rostokąt 8"/>
          <p:cNvSpPr/>
          <p:nvPr/>
        </p:nvSpPr>
        <p:spPr>
          <a:xfrm>
            <a:off x="2286000" y="1785960"/>
            <a:ext cx="3929040" cy="42876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Otwarcie Europy na zewnątr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rostokąt 10"/>
          <p:cNvSpPr/>
          <p:nvPr/>
        </p:nvSpPr>
        <p:spPr>
          <a:xfrm>
            <a:off x="2286000" y="2357280"/>
            <a:ext cx="3929040" cy="42876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Rene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rostokąt 11"/>
          <p:cNvSpPr/>
          <p:nvPr/>
        </p:nvSpPr>
        <p:spPr>
          <a:xfrm>
            <a:off x="2286000" y="2928960"/>
            <a:ext cx="3929040" cy="42876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Reform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rostokąt 12"/>
          <p:cNvSpPr/>
          <p:nvPr/>
        </p:nvSpPr>
        <p:spPr>
          <a:xfrm>
            <a:off x="2286000" y="3500280"/>
            <a:ext cx="3929040" cy="42876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Powstanie państw narodow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14"/>
          <p:cNvSpPr/>
          <p:nvPr/>
        </p:nvSpPr>
        <p:spPr>
          <a:xfrm>
            <a:off x="4643280" y="1500120"/>
            <a:ext cx="4357800" cy="2012040"/>
          </a:xfrm>
          <a:prstGeom prst="rect">
            <a:avLst/>
          </a:prstGeom>
          <a:solidFill>
            <a:srgbClr val="ddd9c3"/>
          </a:solidFill>
          <a:ln w="9360">
            <a:solidFill>
              <a:srgbClr val="c4bd9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Odrodzenie przyniosło zmiany w mentalności ludzi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Humanizm: zainteresowanie człowiekiem, otaczającym go światem i życiem doczesny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szukiwano bogactwa jako środka luksusowego życia oraz sposobu finansowania mecenatu nad sztuką i kulturą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większały się potrzeby ludzi: popyt wpływał na sferę produkcyjną (podaż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15"/>
          <p:cNvSpPr/>
          <p:nvPr/>
        </p:nvSpPr>
        <p:spPr>
          <a:xfrm>
            <a:off x="142920" y="4071960"/>
            <a:ext cx="4357800" cy="1585800"/>
          </a:xfrm>
          <a:prstGeom prst="rect">
            <a:avLst/>
          </a:prstGeom>
          <a:solidFill>
            <a:srgbClr val="ddd9c3"/>
          </a:solidFill>
          <a:ln w="9360">
            <a:solidFill>
              <a:srgbClr val="c4bd9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Miała olbrzymi wpływ na życie społeczno-ekonomiczne; rehabilitacja pomyślności materialnej jako znaku łaski Boskiej; dopuszczenie przez Kalwina zysku z kapitału (pożyczania na procent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achwalano: pracowitość, oszczędność, solidność, przedsiębiorczoś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ole tekstowe 16"/>
          <p:cNvSpPr/>
          <p:nvPr/>
        </p:nvSpPr>
        <p:spPr>
          <a:xfrm>
            <a:off x="4643280" y="4071960"/>
            <a:ext cx="4357800" cy="1372680"/>
          </a:xfrm>
          <a:prstGeom prst="rect">
            <a:avLst/>
          </a:prstGeom>
          <a:solidFill>
            <a:srgbClr val="ddd9c3"/>
          </a:solidFill>
          <a:ln w="9360">
            <a:solidFill>
              <a:srgbClr val="c4bd9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rocesy zjednoczeniowe miały poparcie średniej szlachty i mieszczaństwa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wstawały monarchie absolutne (Francja, Anglia, monarchia Habsburgów); w celu utrzymania władzy monarchowie potrzebowali olbrzymich środków pieniężn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09898E-006 L -0.24045 -0.12696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6.56799E-007 L 0.30295 -0.21022 E">
                                      <p:cBhvr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1258E-006 L -0.24045 0.08418 E">
                                      <p:cBhvr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3164E-006 L 0.30295 0.00093 E">
                                      <p:cBhvr>
                                        <p:cTn id="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1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7"/>
          <p:cNvSpPr/>
          <p:nvPr/>
        </p:nvSpPr>
        <p:spPr>
          <a:xfrm>
            <a:off x="642960" y="7142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Kapitalizm a odkrycia geografi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9"/>
          <p:cNvSpPr/>
          <p:nvPr/>
        </p:nvSpPr>
        <p:spPr>
          <a:xfrm>
            <a:off x="5643720" y="1428840"/>
            <a:ext cx="3500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Ekonomiczne konsekwencje odkryć geograficz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mperia kolonialne Portugalii i Hiszpanii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ewolucja handlowa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nflacja monetarna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owożytne niewolnict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 Dioscoro Teofilo Puebla Tolin - The First Landing of Christopher Columbus (1450-1506) in America"/>
          <p:cNvPicPr/>
          <p:nvPr/>
        </p:nvPicPr>
        <p:blipFill>
          <a:blip r:embed="rId3"/>
          <a:stretch/>
        </p:blipFill>
        <p:spPr>
          <a:xfrm>
            <a:off x="49320" y="1225440"/>
            <a:ext cx="5797440" cy="4078440"/>
          </a:xfrm>
          <a:prstGeom prst="rect">
            <a:avLst/>
          </a:prstGeom>
          <a:ln w="0">
            <a:noFill/>
          </a:ln>
        </p:spPr>
      </p:pic>
      <p:sp>
        <p:nvSpPr>
          <p:cNvPr id="122" name="Prostokąt 10"/>
          <p:cNvSpPr/>
          <p:nvPr/>
        </p:nvSpPr>
        <p:spPr>
          <a:xfrm>
            <a:off x="72720" y="5143680"/>
            <a:ext cx="546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  <a:ea typeface="Tahoma"/>
              </a:rPr>
              <a:t>Dioscoro Teofilo Puebla Tolin – „Pierwsze lądowanie Kolumba w Ameryc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rostokąt 11"/>
          <p:cNvSpPr/>
          <p:nvPr/>
        </p:nvSpPr>
        <p:spPr>
          <a:xfrm>
            <a:off x="-51120" y="5500800"/>
            <a:ext cx="239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www.art-prints-on-demand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1:32:01Z</dcterms:created>
  <dc:creator>Łukasz</dc:creator>
  <dc:description/>
  <dc:language>en-US</dc:language>
  <cp:lastModifiedBy>iwona</cp:lastModifiedBy>
  <dcterms:modified xsi:type="dcterms:W3CDTF">2013-08-07T22:27:48Z</dcterms:modified>
  <cp:revision>155</cp:revision>
  <dc:subject/>
  <dc:title>Slajd 1</dc:title>
</cp:coreProperties>
</file>