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48C5-8991-4E3D-80A7-F2C80B4FC5C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7262-4819-4F04-AB50-0BECD050C5C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7045-F35E-4B7E-9000-535613E998D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B103-2963-4D5E-870E-59EC889FCB4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2A97-715B-467F-B855-3C9B17507B4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40C0-F0D4-4197-81CC-1B6B7B2B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104C-A04B-4C6A-AE46-B03ABEA7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5A32-8DD7-4185-9BF1-75C87D49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D5DE-ACC8-4394-8686-B2882534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3344-4A81-4ECE-98C9-841E0E3F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C54D-1E30-415B-90AE-B1C83E13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0C65-2D1E-485F-A1C1-31A2D7E7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8C6A-A421-4A7F-AB5F-E856DF92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12E3-6E1D-40C4-91EF-7FBBF34F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3F1F-378D-443D-89C0-3D00F6AA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A2D1-5986-44F2-B454-C3308DE0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26C1-D903-443B-8B4C-D53E4B4E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9CE3-636D-4AD9-BCD9-DA34453F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44A3-E8C4-4A4A-BF03-A7A36DC5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CA10-CD4B-4BE6-AF44-6EB97925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D3EC-27F6-4FCD-8826-65283C5A6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0337-5677-44C5-8234-F9C1B25B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C048-85A3-4302-9D50-74CCB480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95D5-1619-493A-939E-8F341B96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7E2B-1A32-4C16-8D9F-23044CDF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40EC-EDEA-4D6D-B390-957C47B8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73AA-B047-4A9E-9210-2A935164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08D8-3114-497F-B7B1-D9B2ECCF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6548-E02F-4F3C-A156-71D988AA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BEA0-726D-480F-B7E3-0296E21B247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3BF6-CC6F-48E3-9A80-75BB37706B6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Marksizm w praktyc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Igor Bartos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803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łówne cechy gospodarki socjalistycznej na przykładzie PRL.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 obszarze własności i wolności gospodarczej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000" y="2707920"/>
            <a:ext cx="821844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Eliminacja własności prywatnej (nacjonalizacja przemysłu, tzw. „bitwa o handel”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óby kolektywizacji ws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onopolizacja przez państwo handlu zagranicznego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trudnianie rozwoju (podatki, kontrole, koncesje)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tzw.  jednostkom gospodarki nieuspołecznion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197000"/>
            <a:ext cx="8362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uletyn Instytutu Pamięci Narodowej nr 1(12) - IPN Styczeń 20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uletyn Instytutu Pamięci Narodowej nr 3(110) - IPN Marzec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uletyn Instytutu Pamięci Narodowej nr 12(23) - IPN Grudzień 20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uletyn Instytutu Pamięci Narodowej nr 9-10(118-119) - IPN Wrzesień-Październik 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uletyn Instytutu Pamięci Narodowej nr 5-6(100-101) - IPN Maj-Czerwiec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uletyn Instytutu Pamięci Narodowej nr 3(86) - IPN Marzec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avies Norman – Boże Igrzysko, Historia Polski, Warszawa 1989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Eisler Jerzy - Zarys dziejów politycznych Polski 1944-1991, Oficyna BGW 1992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lan sześcioletni - Warszawa 19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szkowski Wojciech - Najnowsza Historia Polski 1914-2011, Świat Książki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Marksizm w praktyce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cz. 2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Igor Bartos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is treś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opaganda w PR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onsekwencje gospodarki realnego socjalizm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33829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opaganda w PR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Content Placeholder 3" descr=""/>
          <p:cNvPicPr/>
          <p:nvPr/>
        </p:nvPicPr>
        <p:blipFill>
          <a:blip r:embed="rId1"/>
          <a:stretch/>
        </p:blipFill>
        <p:spPr>
          <a:xfrm>
            <a:off x="4067280" y="620640"/>
            <a:ext cx="3889440" cy="55562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395280" y="2133720"/>
            <a:ext cx="3240000" cy="32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lakat propagandow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okresu PRL gloryfikujący inwestycje w dziedzinie przemysłu ciężki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www.komunizm.eu/Plakaty_PRL/budowle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lakaty propagandowe z okresu PR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3168720" cy="4526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4846680" y="1197000"/>
            <a:ext cx="3073320" cy="43927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468360" y="5950080"/>
            <a:ext cx="41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www.komunizm.eu/Plakaty_PRL/dobrobyt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643280" y="5934240"/>
            <a:ext cx="42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www.komunizm.eu/Plakaty_PRL/bumelant2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opaganda w PR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ształtowanie świadomości i przekonania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o wielkości i przewadze systemu socjalistycznego nad kapitalizm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opagowanie sukcesów ZSRR i krajów demokracji ludowej oraz partii robotniczej, itp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opaganda sukcesu w PR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yolbrzymianie dokonań partii robotniczej i ekipy rządzącej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Tuszowanie niepowodzeń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łówne hasła: dynamiczny rozwój, cud gospodarczy, budowanie drugiej Polsk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Zasadnicze skutki wprowadzenia gospodarki planowej w PR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000" y="1412640"/>
            <a:ext cx="83516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budzenie przemian gospodarczych i społecznych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nwestycje prowadzące do rozbudowy przemysłu (głównie ciężkiego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iedoinwestowanie innych dziedzin gospodark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sztywnienie polityki gospodarczej poprzez konieczność realizacji planów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arnotrawstwo surowców i energi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ztuczne zawyżanie efektywności przedsiębiorstw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ywołanie niedoboru towarów na rynku i ich reglamentacj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is treś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koliczności prowadzące do zaistnieni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praktyce, gospodarki socjalistycznej opartej o marksistowskie założenia ekonomi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łówne cechy gospodarki realnego socjalizm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łówne cechy gospodarki socjalistycznej na przykładzie gospodarki PR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Ujemne skutki funkcjonowania gospodarki socjalistycznej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oblemy z zaopatrzeniem w artykuły konsumpcyjn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egatywne rezultaty sterowania procesami produkcji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 handlu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iedobory – kolejki – reglamentacj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Drugi obieg handlowy – tzw. „czarny rynek”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pecjalne przywileje w zakresie dystrybucji towarów dla wybranych grup społecznych (talony na dobra luksusowe, dodatki żywieniowe it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Kartki na mięso i mleko z okresu PR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Content Placeholder 3" descr="Kartka_na_mleko"/>
          <p:cNvPicPr/>
          <p:nvPr/>
        </p:nvPicPr>
        <p:blipFill>
          <a:blip r:embed="rId1"/>
          <a:stretch/>
        </p:blipFill>
        <p:spPr>
          <a:xfrm>
            <a:off x="468360" y="1484280"/>
            <a:ext cx="3527280" cy="2521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4211640" y="2421000"/>
            <a:ext cx="4068720" cy="28191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"/>
          <p:cNvSpPr/>
          <p:nvPr/>
        </p:nvSpPr>
        <p:spPr>
          <a:xfrm>
            <a:off x="826920" y="5516640"/>
            <a:ext cx="676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pl.wikipedia.org/wiki/Plik:Kartka_na_mleko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www.xxwiek.pl/images.php?type=medium&amp;p=2359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Trochę humoru </a:t>
            </a:r>
            <a:r>
              <a:rPr b="1" lang="pl-P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000" y="981000"/>
            <a:ext cx="835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Cuda socjalizm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 ma bezrobocia, ale nikt nie pracuj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kt nie pracuje, a wszyscy otrzymują wynagrodzeni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szyscy otrzymują wynagrodzenie, ale nic nie można za to kupić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c nie można kupić, ale wszyscy mają wszystk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szyscy mają wszystko, ale wszyscy są też niezadowolen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szyscy są niezadowoleni, ale podczas wyborów głosują za tym ustroj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Najważniejsze wytyczne socjalis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 myś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śli już pomyślałeś, to nie mów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śli już powiedziałeś, to nie pisz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śli już napisałeś, to nie podpisuj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śli podpisałeś, to się nie dziw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Źródło: www.nonsensopedia.wikia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Okoliczności prowadzące do zaistnienia w praktyce gospodarki socjalistycznej opartej o marksistowskie założenia ekonomicz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5280" y="2349000"/>
            <a:ext cx="829152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Rewolucje społeczne prowadzące do objęcia władzy przez partie komunistyczne (np. Rewolucja Październikowa 1917 roku w Rosj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miany polityczne wywołane agresją, aneksją terytorialną, presją militarną (np. zmiany polityczne we wschodniej części Polski w 1939 i w Polsce po 1945 rok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łówne cechy gospodarki realnego socjalizm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000" y="1915920"/>
            <a:ext cx="835164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 obszarze zarządzania wprowadzono gospodarkę planową – nakazowo-rozdzielcz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entralne planowanie produkcj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entralne ustalanie cen produktów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entralne sterowanie procesami społeczno-ekonomicznym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entralne podejmowanie decyzji o inwestycjach gospodarcz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0728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łówne cechy gospodarki socjalistycznej na przykładzie PRL.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 zakresie zatrudnien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000" y="2707920"/>
            <a:ext cx="828972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mniejszanie zaludnienia ws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parte o ideologiczne względy tworzenie miejsc pracy – przerost zatrudnienia i brak powiązania pomiędzy wielkością zatrudnienia i wydajnością prac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kryte bezrobocie wynikające z koncentracji inwestycji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 określonych rejonach przy ich braku w pozostałych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Brak elastyczności rynku pra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000" y="115560"/>
            <a:ext cx="70563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ział ogłoszeń – pracownicy poszukiwan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rybuna Robotnicza z 1987 ro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Rectangle 7" descr=""/>
          <p:cNvPicPr/>
          <p:nvPr/>
        </p:nvPicPr>
        <p:blipFill>
          <a:blip r:embed="rId1"/>
          <a:stretch/>
        </p:blipFill>
        <p:spPr>
          <a:xfrm>
            <a:off x="8236080" y="828720"/>
            <a:ext cx="755640" cy="5511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Placeholder 2" descr=""/>
          <p:cNvPicPr/>
          <p:nvPr/>
        </p:nvPicPr>
        <p:blipFill>
          <a:blip r:embed="rId2"/>
          <a:srcRect l="0" t="18307" r="0" b="18307"/>
          <a:stretch/>
        </p:blipFill>
        <p:spPr>
          <a:xfrm>
            <a:off x="684360" y="105876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łówne cechy gospodarki socjalistycznej na przykładzie PRL.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Rozwój przemysłu ciężkie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2276280"/>
            <a:ext cx="807408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iorytetem w planach gospodarczych PRL, zwłaszcza w pierwszych latach powojennych, była industrializacja kraju na wzór radziecki – rozwój przemysłu ciężkiego i metalow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Sztandarową inwestycją była budowa kombinatu metalurgicznego w Nowej Huc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ydobycie węgla w Polsce w latach 1950-20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ęgiel kamienny (mln 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ęgiel brunatny (mln 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Chart 6" descr=""/>
          <p:cNvPicPr/>
          <p:nvPr/>
        </p:nvPicPr>
        <p:blipFill>
          <a:blip r:embed="rId1"/>
          <a:stretch/>
        </p:blipFill>
        <p:spPr>
          <a:xfrm>
            <a:off x="-6480" y="0"/>
            <a:ext cx="8979120" cy="3505320"/>
          </a:xfrm>
          <a:prstGeom prst="rect">
            <a:avLst/>
          </a:prstGeom>
          <a:ln w="0">
            <a:noFill/>
          </a:ln>
        </p:spPr>
      </p:pic>
      <p:pic>
        <p:nvPicPr>
          <p:cNvPr id="112" name="Chart 7" descr=""/>
          <p:cNvPicPr/>
          <p:nvPr/>
        </p:nvPicPr>
        <p:blipFill>
          <a:blip r:embed="rId2"/>
          <a:stretch/>
        </p:blipFill>
        <p:spPr>
          <a:xfrm>
            <a:off x="0" y="0"/>
            <a:ext cx="8967960" cy="6461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odukcja stali surowej w Polsce w latach 1950-2008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(mln 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8693280" cy="54500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755640" y="577368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www.wiking.edu.p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rjuraszczyk</cp:lastModifiedBy>
  <dcterms:modified xsi:type="dcterms:W3CDTF">2013-04-11T13:45:40Z</dcterms:modified>
  <cp:revision>38</cp:revision>
  <dc:subject/>
  <dc:title>Slajd 1</dc:title>
</cp:coreProperties>
</file>