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20D0-1DFF-4892-B64E-1F5A6CAB1DD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6EF6-CCCA-4CCA-83FE-3CA06721D22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B4AC-6C6C-4315-B274-2B9CE7003F9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3A0E-7F08-4E03-9E86-0AF43651CB0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38BE-24AB-4441-AC4F-0222C281F83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E5A1-93B8-487B-9ED1-78FD4439971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B547-D37E-4390-AF0C-34487B5AAC1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6C14-0F96-4CCD-9694-7F42099C851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9083-E4E1-49ED-B858-0F05D31232C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2337-96FA-4E15-B075-CEE69A31250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A0E2-BBF6-4040-8208-D5F67FDE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732B-386A-47A4-B286-09A0323A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4DD7-EAA7-4A01-840B-BCF5DBB5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D605-35F3-4CEC-9242-6C97B4F6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A550-F50E-4909-993B-236753D6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47DB-3F6F-43F1-87E6-BE0247AB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A6F2-C243-457A-B0BA-87B333D0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00D0-E419-48F7-AF8C-079EEF8F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CCF8-1452-4C65-B4BB-B5B06E3A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B4DD-1A67-4E9A-A20D-FFD0B391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C3C6-B2FA-45F3-8810-9309E183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8E40-9D78-40B5-9114-632E8C24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2A7A-1CAF-4A24-B884-69BF8CB9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3A60-E781-4F2A-BED8-5775B881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3C32-A6B4-45AE-836F-86F0BABE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F7C0-747F-489B-AA20-DE46DB2C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7889-09FC-4C39-8441-3F716202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3701-E19E-43DE-B7A2-5C14CB37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12FF-F2E3-4189-8180-C7654AD6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9532-D42E-4863-BC7A-02C7FB71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DDB9-07B5-4DC5-B630-279AFEF6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98A9-418A-402D-AA12-A2FB185A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8A9B-05A6-447C-8374-D77738A8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7F58-1265-4BCB-A10C-1E40D44A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13EC-89E7-460C-9A8E-FF4CA00435AF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0586-1967-4FB6-96E5-F6738172CF3C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c/cd/Cleric-Knight-Workman.jpg/250px-Cleric-Knight-Workman.jpg" TargetMode="External"/><Relationship Id="rId2" Type="http://schemas.openxmlformats.org/officeDocument/2006/relationships/hyperlink" Target="http://biografie.eu.interia.pl/biografie/adam_smith.html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hyperlink" Target="http://upload.wikimedia.org/wikipedia/commons/thumb/c/cd/Cleric-Knight-Workman.jpg/250px-Cleric-Knight-Workman.jpg" TargetMode="External"/><Relationship Id="rId6" Type="http://schemas.openxmlformats.org/officeDocument/2006/relationships/hyperlink" Target="http://upload.wikimedia.org/wikipedia/commons/thumb/c/cd/Cleric-Knight-Workman.jpg/250px-Cleric-Knight-Workman.jpg" TargetMode="External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istorion.pl/ideologie-polityczne-liberalizm-historia/adam-smith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8U3ruH8MF0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87640" y="1125000"/>
            <a:ext cx="3456000" cy="35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6. Gospodarka. 12. Wielcy teoretycy kapitalizmu. Od Adama Smitha do von Hayeka.</a:t>
            </a:r>
            <a:br>
              <a:rPr sz="5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556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3"/>
          <p:cNvSpPr/>
          <p:nvPr/>
        </p:nvSpPr>
        <p:spPr>
          <a:xfrm>
            <a:off x="324000" y="4869000"/>
            <a:ext cx="28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biografie.eu.interia.pl/biografie/adam_smith.html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http://biografie.eu.interia.pl/biografie/img/adam_smith.jpg"/>
          <p:cNvPicPr/>
          <p:nvPr/>
        </p:nvPicPr>
        <p:blipFill>
          <a:blip r:embed="rId3"/>
          <a:stretch/>
        </p:blipFill>
        <p:spPr>
          <a:xfrm>
            <a:off x="250920" y="1268280"/>
            <a:ext cx="2733480" cy="3333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VON HAYEK"/>
          <p:cNvPicPr/>
          <p:nvPr/>
        </p:nvPicPr>
        <p:blipFill>
          <a:blip r:embed="rId4"/>
          <a:stretch/>
        </p:blipFill>
        <p:spPr>
          <a:xfrm>
            <a:off x="6588000" y="1125360"/>
            <a:ext cx="2087640" cy="2813400"/>
          </a:xfrm>
          <a:prstGeom prst="rect">
            <a:avLst/>
          </a:prstGeom>
          <a:ln w="0">
            <a:noFill/>
          </a:ln>
        </p:spPr>
      </p:pic>
      <p:sp>
        <p:nvSpPr>
          <p:cNvPr id="100" name="Prostokąt 7"/>
          <p:cNvSpPr/>
          <p:nvPr/>
        </p:nvSpPr>
        <p:spPr>
          <a:xfrm>
            <a:off x="6012000" y="400536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Źródło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filosofico.net/hayek.htm 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rostokąt 5"/>
          <p:cNvSpPr/>
          <p:nvPr/>
        </p:nvSpPr>
        <p:spPr>
          <a:xfrm>
            <a:off x="0" y="5373720"/>
            <a:ext cx="201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istorion.pl/ideologie-polityczne-liberalizm-historia/adam-smith/ </a:t>
            </a: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Dostęp 19.05.201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5832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arodziny liberalizmu ekonomiczn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6" descr="http://historion.pl/wp-content/uploads/2012/07/Adam-Smith.jpg"/>
          <p:cNvPicPr/>
          <p:nvPr/>
        </p:nvPicPr>
        <p:blipFill>
          <a:blip r:embed="rId2"/>
          <a:stretch/>
        </p:blipFill>
        <p:spPr>
          <a:xfrm>
            <a:off x="250920" y="1700280"/>
            <a:ext cx="2124000" cy="3168720"/>
          </a:xfrm>
          <a:prstGeom prst="rect">
            <a:avLst/>
          </a:prstGeom>
          <a:ln w="0">
            <a:noFill/>
          </a:ln>
        </p:spPr>
      </p:pic>
      <p:sp>
        <p:nvSpPr>
          <p:cNvPr id="104" name="pole tekstowe 7"/>
          <p:cNvSpPr/>
          <p:nvPr/>
        </p:nvSpPr>
        <p:spPr>
          <a:xfrm>
            <a:off x="3348000" y="1484280"/>
            <a:ext cx="525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konomiści dzielą dzieje ekonomii na przedklasyczny i klasyczny. Klasyczny zaczyna się od publikacji w 1776 roku książki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Badania nad naturą i przyczynami bogactwa narodów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dama Smith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waża się go za twórcę liberalizmu ekonomiczne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411280" y="1628280"/>
            <a:ext cx="6337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Państwo nie może wtrącać się do gospodarki. Trzeba pozwolić  ludziom działać! Ludzie dążą do zysku – problemy ekonomiczne rozwiąże mechanizm rynkow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79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Laisez faire” – pozwólcie działać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rostokąt 4"/>
          <p:cNvSpPr/>
          <p:nvPr/>
        </p:nvSpPr>
        <p:spPr>
          <a:xfrm>
            <a:off x="250920" y="3068640"/>
            <a:ext cx="208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bejrzyj fil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youtube.com/watch?v=GSoIb_RulHE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dostęp: 20.05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626920" y="5157720"/>
            <a:ext cx="471348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98989"/>
                </a:solidFill>
                <a:latin typeface="Calibri"/>
              </a:rPr>
              <a:t>Obejrzyj film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B8U3ruH8MF0</a:t>
            </a:r>
            <a:r>
              <a:rPr b="0" lang="pl-PL" sz="1800" spc="-1" strike="noStrike">
                <a:solidFill>
                  <a:srgbClr val="898989"/>
                </a:solidFill>
                <a:latin typeface="Calibri"/>
              </a:rPr>
              <a:t>, dostęp 20.05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250560" y="-360"/>
            <a:ext cx="5833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sada przewagi komparatywn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le tekstowe 5"/>
          <p:cNvSpPr/>
          <p:nvPr/>
        </p:nvSpPr>
        <p:spPr>
          <a:xfrm>
            <a:off x="2556000" y="1413000"/>
            <a:ext cx="626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avid Ricardo (1772-1823). Stworzył tzw. model Ricardo, który prowadził do wniosku, że międzynarodowa wymiana, nieskrępowana żadnymi cłami, kontyngentami i ograniczeniami przynosi wszystkim korzyści.  Kluczem jest specjalizacja narodów w różnych produkta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6" descr="http://upload.wikimedia.org/wikipedia/commons/6/6f/David_Ricardo(1).jpg"/>
          <p:cNvPicPr/>
          <p:nvPr/>
        </p:nvPicPr>
        <p:blipFill>
          <a:blip r:embed="rId2"/>
          <a:stretch/>
        </p:blipFill>
        <p:spPr>
          <a:xfrm>
            <a:off x="468360" y="1628640"/>
            <a:ext cx="1673280" cy="2376720"/>
          </a:xfrm>
          <a:prstGeom prst="rect">
            <a:avLst/>
          </a:prstGeom>
          <a:ln w="0">
            <a:noFill/>
          </a:ln>
        </p:spPr>
      </p:pic>
      <p:sp>
        <p:nvSpPr>
          <p:cNvPr id="112" name="Prostokąt 7"/>
          <p:cNvSpPr/>
          <p:nvPr/>
        </p:nvSpPr>
        <p:spPr>
          <a:xfrm>
            <a:off x="324000" y="4221000"/>
            <a:ext cx="1584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Źróło: http://upload.wikimedia.org/wikipedia/commons/6/6f/David_Ricardo(1).jpg, dostęp 20.05.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5580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Oszczędzać, czy wydawać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99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8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pl-PL" sz="3400" spc="-1" strike="noStrike">
                <a:solidFill>
                  <a:srgbClr val="000000"/>
                </a:solidFill>
                <a:latin typeface="Calibri"/>
              </a:rPr>
              <a:t>Adam Smith uważał, że oszczędności sprzyjają postępowi i inwestycjom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000000"/>
                </a:solidFill>
                <a:latin typeface="Calibri"/>
              </a:rPr>
              <a:t>Obecny w gospodarce jest też inny model – wydawania dla rozruszania gospodarki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rostokąt 4"/>
          <p:cNvSpPr/>
          <p:nvPr/>
        </p:nvSpPr>
        <p:spPr>
          <a:xfrm>
            <a:off x="2268360" y="4437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bejrzyj film: http://www.youtube.com/watch?v=-8QAW-r0nos, dostęp 20.05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03280" y="1592280"/>
            <a:ext cx="5329080" cy="39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uka społeczna Kościoła odrzuca zarówno rynek sterowany przez państwo, jak i całkowicie wolny. Państwo ma strzec sprawiedliwości pracy i wymiany. Pomoc powinna się ograniczać do takiego wsparcia, by człowiek sam zaczął sobie radzić. „Dajemy wędkę, a nie rybę”. </a:t>
            </a:r>
            <a:br>
              <a:rPr sz="5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rostokąt 3"/>
          <p:cNvSpPr/>
          <p:nvPr/>
        </p:nvSpPr>
        <p:spPr>
          <a:xfrm>
            <a:off x="395280" y="5445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http://pl.wikipedia.org/wiki/Plik:Leo_XIII..jpg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5"/>
          <p:cNvSpPr/>
          <p:nvPr/>
        </p:nvSpPr>
        <p:spPr>
          <a:xfrm>
            <a:off x="539640" y="476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Nauka społeczna Kościoł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7" descr="Plik:Leo XIII..jpg"/>
          <p:cNvPicPr/>
          <p:nvPr/>
        </p:nvPicPr>
        <p:blipFill>
          <a:blip r:embed="rId1"/>
          <a:stretch/>
        </p:blipFill>
        <p:spPr>
          <a:xfrm>
            <a:off x="468360" y="1557360"/>
            <a:ext cx="2554200" cy="3235320"/>
          </a:xfrm>
          <a:prstGeom prst="rect">
            <a:avLst/>
          </a:prstGeom>
          <a:ln w="0">
            <a:noFill/>
          </a:ln>
        </p:spPr>
      </p:pic>
      <p:sp>
        <p:nvSpPr>
          <p:cNvPr id="120" name="pole tekstowe 7"/>
          <p:cNvSpPr/>
          <p:nvPr/>
        </p:nvSpPr>
        <p:spPr>
          <a:xfrm>
            <a:off x="539640" y="4869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eon XIII – twórca N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78920" y="1412640"/>
            <a:ext cx="8496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000" spc="-1" strike="noStrike">
                <a:solidFill>
                  <a:srgbClr val="898989"/>
                </a:solidFill>
                <a:latin typeface="Calibri"/>
              </a:rPr>
              <a:t>„</a:t>
            </a:r>
            <a:r>
              <a:rPr b="0" i="1" lang="pl-PL" sz="3000" spc="-1" strike="noStrike">
                <a:solidFill>
                  <a:srgbClr val="898989"/>
                </a:solidFill>
                <a:latin typeface="Calibri"/>
              </a:rPr>
              <a:t>Nierówności społeczne i ekonomiczne mają być tak ułożone,</a:t>
            </a:r>
            <a:r>
              <a:rPr b="0" lang="pl-PL" sz="30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i="1" lang="pl-PL" sz="3000" spc="-1" strike="noStrike">
                <a:solidFill>
                  <a:srgbClr val="898989"/>
                </a:solidFill>
                <a:latin typeface="Calibri"/>
              </a:rPr>
              <a:t>(a) aby były z największą korzyścią dla najbardziej upośledzonych, pozostając w zgodzie z zasadą sprawiedliwego oszczędzania [zasada dyferencji];</a:t>
            </a:r>
            <a:r>
              <a:rPr b="0" lang="pl-PL" sz="30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i="1" lang="pl-PL" sz="3000" spc="-1" strike="noStrike">
                <a:solidFill>
                  <a:srgbClr val="898989"/>
                </a:solidFill>
                <a:latin typeface="Calibri"/>
              </a:rPr>
              <a:t>i jednocześnie (b) aby były związane z dostępnością urzędów i stanowisk dla wszystkich, w warunkach autentycznej równości szans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5"/>
          <p:cNvSpPr/>
          <p:nvPr/>
        </p:nvSpPr>
        <p:spPr>
          <a:xfrm>
            <a:off x="539640" y="33336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Calibri"/>
              </a:rPr>
              <a:t>Teoria sprawiedliwości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Johna Rawlsa, czyli nowocześni liberałowie w natarci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50920" y="-36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Fryderyk August von Hayek – powrót do zasad Smit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9" descr="VON HAYEK"/>
          <p:cNvPicPr/>
          <p:nvPr/>
        </p:nvPicPr>
        <p:blipFill>
          <a:blip r:embed="rId1"/>
          <a:stretch/>
        </p:blipFill>
        <p:spPr>
          <a:xfrm>
            <a:off x="250920" y="1052640"/>
            <a:ext cx="2089080" cy="2814480"/>
          </a:xfrm>
          <a:prstGeom prst="rect">
            <a:avLst/>
          </a:prstGeom>
          <a:ln w="0">
            <a:noFill/>
          </a:ln>
        </p:spPr>
      </p:pic>
      <p:sp>
        <p:nvSpPr>
          <p:cNvPr id="125" name="pole tekstowe 7"/>
          <p:cNvSpPr/>
          <p:nvPr/>
        </p:nvSpPr>
        <p:spPr>
          <a:xfrm>
            <a:off x="2484360" y="1197000"/>
            <a:ext cx="62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ą dwa porządk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den zorganizowany, celowy, ale ekonomicznie niewydoln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w ostateczności prowadzący do totalitaryzmu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rugi – tzw. porządek spontaniczny nie ma celu, ale jeżeli wszyscy stosują się w nim do reguł (a więc prawa), spełnia podstawową funkcję – organizuje sensowną ekonomicznie i dobrowolną  współprac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rostokąt 8"/>
          <p:cNvSpPr/>
          <p:nvPr/>
        </p:nvSpPr>
        <p:spPr>
          <a:xfrm>
            <a:off x="0" y="407664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http://www.filosofico.net/hayek.htm 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6-07T04:14:55Z</dcterms:modified>
  <cp:revision>42</cp:revision>
  <dc:subject/>
  <dc:title>Slajd 1</dc:title>
</cp:coreProperties>
</file>