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9384-980D-4032-AD8F-10E73390BD9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25C2-AEF4-4A8B-BD83-56CBFCC877E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546D-5CF6-4E75-ABED-549450AC35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E01-9FFD-4BC8-83BE-37E798A74D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15C-6ED4-4A7D-9AA0-7C5A78BF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246-46D8-4FEE-84B1-5E46667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4FF0-892C-471D-85A0-84595CFF1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586-DEF4-4778-842F-14502995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B0A-A364-4478-868C-5F7E221C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EA0-E640-4ADC-A6BF-2573DDFB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D0DC-3C98-442E-A5EE-F4D1EBF9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8635-FB9E-44AA-AC62-5263ACB9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9810-8F99-4A43-BCDC-B750E6D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DAD0-03E9-4A62-A637-B62ED68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8A26-0DCB-4A65-A0A7-1D4A7260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20A-2FDB-408D-93E7-3F0A987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BC2D-9860-4316-B98E-1A7608C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174-52A9-456F-872D-F9EFBF7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2A75-38EA-48BA-8191-DF64727F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4A9-46DD-4E6F-B55C-979F1683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0399-E5F5-4060-BCFC-E3FF62A9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B2B-2D60-41ED-BA9B-43950ED1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A1D-445A-4782-802C-B7DE387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787-F2C4-45D6-BCB4-69D1DFB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E21-767E-4F00-A8BB-A3343416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A8D-1F25-4478-ACB6-0F509D6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DD2-C280-4808-970C-FEEC9224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99D-6F49-47BC-A996-C5E46CA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ADD-5037-4E96-84A7-A6DE7D34B29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C2EF-D3F0-4C19-B528-A113F966C78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lskawue.gov.pl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mcik.blox.pl/" TargetMode="External"/><Relationship Id="rId2" Type="http://schemas.openxmlformats.org/officeDocument/2006/relationships/hyperlink" Target="http://www.nbportal.pl/" TargetMode="External"/><Relationship Id="rId3" Type="http://schemas.openxmlformats.org/officeDocument/2006/relationships/hyperlink" Target="http://www.mg.gov.pl/" TargetMode="External"/><Relationship Id="rId4" Type="http://schemas.openxmlformats.org/officeDocument/2006/relationships/hyperlink" Target="http://www.nbp.pl/" TargetMode="External"/><Relationship Id="rId5" Type="http://schemas.openxmlformats.org/officeDocument/2006/relationships/hyperlink" Target="http://www.zanim-podpiszesz.pl/" TargetMode="External"/><Relationship Id="rId6" Type="http://schemas.openxmlformats.org/officeDocument/2006/relationships/hyperlink" Target="http://www.polskawue.gov.pl/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damSmith.jpg" TargetMode="External"/><Relationship Id="rId2" Type="http://schemas.openxmlformats.org/officeDocument/2006/relationships/hyperlink" Target="http://openclipart.org/detail/169932/grenouille-by-mathafix" TargetMode="External"/><Relationship Id="rId3" Type="http://schemas.openxmlformats.org/officeDocument/2006/relationships/hyperlink" Target="http://openclipart.org/detail/18418/giraffe-sympa-by-martouf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Gospodarze i ekonomiści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cena równowa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Łącznik prosty ze strzałką 5"/>
          <p:cNvCxnSpPr/>
          <p:nvPr/>
        </p:nvCxnSpPr>
        <p:spPr>
          <a:xfrm flipV="1">
            <a:off x="1692000" y="1988640"/>
            <a:ext cx="1080" cy="288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Łącznik prosty ze strzałką 7"/>
          <p:cNvCxnSpPr/>
          <p:nvPr/>
        </p:nvCxnSpPr>
        <p:spPr>
          <a:xfrm>
            <a:off x="1692000" y="4868640"/>
            <a:ext cx="288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pole tekstowe 9"/>
          <p:cNvSpPr/>
          <p:nvPr/>
        </p:nvSpPr>
        <p:spPr>
          <a:xfrm>
            <a:off x="32400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10"/>
          <p:cNvSpPr/>
          <p:nvPr/>
        </p:nvSpPr>
        <p:spPr>
          <a:xfrm>
            <a:off x="1619280" y="51577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l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Łącznik prosty 14"/>
          <p:cNvSpPr/>
          <p:nvPr/>
        </p:nvSpPr>
        <p:spPr>
          <a:xfrm>
            <a:off x="1547640" y="3429000"/>
            <a:ext cx="302436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8"/>
          <p:cNvSpPr/>
          <p:nvPr/>
        </p:nvSpPr>
        <p:spPr>
          <a:xfrm>
            <a:off x="0" y="314172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cena równowa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Łącznik prosty 10"/>
          <p:cNvSpPr/>
          <p:nvPr/>
        </p:nvSpPr>
        <p:spPr>
          <a:xfrm>
            <a:off x="2050920" y="2349360"/>
            <a:ext cx="2160720" cy="2159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Łącznik prosty 13"/>
          <p:cNvSpPr/>
          <p:nvPr/>
        </p:nvSpPr>
        <p:spPr>
          <a:xfrm flipV="1">
            <a:off x="2050920" y="2349360"/>
            <a:ext cx="2160720" cy="215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305928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poda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7"/>
          <p:cNvSpPr/>
          <p:nvPr/>
        </p:nvSpPr>
        <p:spPr>
          <a:xfrm>
            <a:off x="4284720" y="414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50"/>
                </a:solidFill>
                <a:latin typeface="Calibri"/>
              </a:rPr>
              <a:t>pop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8"/>
          <p:cNvSpPr/>
          <p:nvPr/>
        </p:nvSpPr>
        <p:spPr>
          <a:xfrm>
            <a:off x="5724360" y="227664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Calibri"/>
              </a:rPr>
              <a:t>Cena równowagi </a:t>
            </a:r>
            <a:r>
              <a:rPr b="0" lang="pl-PL" sz="2400" spc="-1" strike="noStrike">
                <a:solidFill>
                  <a:srgbClr val="0070c0"/>
                </a:solidFill>
                <a:latin typeface="Calibri"/>
              </a:rPr>
              <a:t>– przy tej cenie rozmiary zapotrzebowania na jakieś dobro (np. na truskawki) są równe ilości zaoferowan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daż i popyt – przykł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71640" y="1397160"/>
          <a:ext cx="7272360" cy="4192560"/>
        </p:xfrm>
        <a:graphic>
          <a:graphicData uri="http://schemas.openxmlformats.org/drawingml/2006/table">
            <a:tbl>
              <a:tblPr/>
              <a:tblGrid>
                <a:gridCol w="2423880"/>
                <a:gridCol w="2424240"/>
                <a:gridCol w="2424240"/>
              </a:tblGrid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na (zł/sztuk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yt  (tys.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daż (tys. /r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życzka i lich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324000" y="1341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życzk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kwestię ich udzielania reguluj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rt. 720 § 1 kodeksu cywiln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który mówi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pożyczki dający pożyczkę zobowiązuje się przenieść na własność biorąceg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określoną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ilość pieniędzy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albo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rzecz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znaczonych tylko co do gatunku, a biorący zobowiązuje się zwrócić tę samą ilość pieniędzy albo tę samą ilość rzeczy tego samego gatunku i tej samej jak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Pożyczkę pieniężną można przeznaczyć na wybrany przez siebie c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ichw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to forma wyzysku, polegająca na udzielaniu wysokooprocentowanych pożyczek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324000" y="1268280"/>
            <a:ext cx="84247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bank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umowa, na podstawie której kredytodawca przekazuje do dyspozycji kredytobiorcy określoną kwotę pieniędzy z przeznaczeniem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kretny ce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 kredytobiorca zobowiązuje się do spłaty kredytu wraz z odsetkami i ewentualnymi prowizjami w ustalonych w umowie termin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edyt podlega przepisom ustawy prawo bankowe i może być udzielany tylko prze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ank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lu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ółdzielczą kasę oszczędnościowo-kredyt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az 3" descr="swinka1.png"/>
          <p:cNvPicPr/>
          <p:nvPr/>
        </p:nvPicPr>
        <p:blipFill>
          <a:blip r:embed="rId2"/>
          <a:stretch/>
        </p:blipFill>
        <p:spPr>
          <a:xfrm>
            <a:off x="0" y="4581360"/>
            <a:ext cx="20509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ójsektorowa struktura gospodark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4"/>
          <p:cNvSpPr/>
          <p:nvPr/>
        </p:nvSpPr>
        <p:spPr>
          <a:xfrm>
            <a:off x="324000" y="1484280"/>
            <a:ext cx="8424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 – rolnictw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produkcja roślinna i zwierzęca oraz rybołówstwo śródlądow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 – przemys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górnictwo i przetwórstwo, które dzieli się m.in. na przemysł maszynowy, włókienniczy, budownictwo i hutnictw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ział I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sług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komunikacja, transport, handel, bankowość i usługi finansowe, szkolnictwo, ochrona zdrowia, kultura i informatyka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arciniak S., Makro- i mikroekonomia. Podstawowe problemy współczesności, Wydawnictwo Naukowe PWN, Warszawa 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zmieniały się formy gospodarowan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900000" y="1989000"/>
            <a:ext cx="6264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eolity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4"/>
          <p:cNvSpPr/>
          <p:nvPr/>
        </p:nvSpPr>
        <p:spPr>
          <a:xfrm>
            <a:off x="468360" y="1557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chodzenia ludzkości od łowiectwa, zbieractwa i koczownictw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 hodowli, rolnictwa i osiadłego trybu życ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iała miejsce w lat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0000-4000 p.n.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regionie Żyznego Półksiężyca (dziś to Bliski Wschód, a więc tereny obejmujące m.in. Egipt, Izrael, Palestynę i Jordanię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fektywne sposoby pozyskiwania żywności spowodow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gromny wzrost liczby lud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pozwoliły części z niej zajmować się kwestiami niezwiązanymi bezpośrednio z przetrwani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agra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4"/>
          <p:cNvSpPr/>
          <p:nvPr/>
        </p:nvSpPr>
        <p:spPr>
          <a:xfrm>
            <a:off x="468360" y="1557360"/>
            <a:ext cx="69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proces przemiany tradycyjnego rolnictwa w dużo wydajniejsz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olnictwo nowoczes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te miały miejsc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XVI, XVII i XVIII wiek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zaczęły się od wprowadzenia płodozmianu oraz hodowli zwierząt domowych na terenach nienadających się do prowadzenia upraw, ale mogących wykarmić zwierzęta. Nadwyżki produkcji żywności były sprzedawane i stały się źródłem dochodów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yski z rolnictwa pozwalał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 inwestowa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p. w nowe maszyny rolnicze i hodowlę lepszych ras bydł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raz 3" descr="Cereal_plant.png"/>
          <p:cNvPicPr/>
          <p:nvPr/>
        </p:nvPicPr>
        <p:blipFill>
          <a:blip r:embed="rId1"/>
          <a:stretch/>
        </p:blipFill>
        <p:spPr>
          <a:xfrm>
            <a:off x="7321680" y="1628640"/>
            <a:ext cx="1822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przemysł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4"/>
          <p:cNvSpPr/>
          <p:nvPr/>
        </p:nvSpPr>
        <p:spPr>
          <a:xfrm>
            <a:off x="468360" y="1225440"/>
            <a:ext cx="813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ył t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ces zmian gospodarczych, technologicznych i społeczn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ązanych z przejściem od gospodarki opartej na rolnictwie i rzemiośle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gospodarki opartej na produkcji fabrycznej na skalę przemysłow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ymbolem rewolucji przemysłowej stał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szyna parow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wolucja przemysłowa zaczęła się w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XVIII wieku w Anglii i Szko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Jej przyczyną były: rewolucja agrarna i ogromny przyrost ludnoś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śród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sekwencj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tej rewolucji warto wymienić: industrializację, powstanie społeczeństwa przemysłowego, w którym przeważająca liczba ludności mieszka w miastach, powstanie związków zawodowych i prawa pracy, a także narodziny ruchu robotniczeg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wolucja naukowo-techni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ole tekstowe 4"/>
          <p:cNvSpPr/>
          <p:nvPr/>
        </p:nvSpPr>
        <p:spPr>
          <a:xfrm>
            <a:off x="395280" y="1773360"/>
            <a:ext cx="8137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ą to procesy wielkich przemian i odkryć w technice, produkcji oraz nauce, które rozpoczęły się w latach 50. XX wieku i trwają do dziś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zywana jest czasem trzecią rewolucją przemysłową, a jej cechą charakterystyczną jest ścisła zależność między nauką, techniką i produkcj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ważniejszymi elementami tej rewolucji jest komputeryzacja, rozwój materiałów syntetycznych, wykorzystanie energetyki jądrowej i innych nowych źródeł energii oraz automatyzacja procesów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981000"/>
            <a:ext cx="8353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konomia jako nauka społeczn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dam Smith – ojciec ekonomi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kroekonomia i makroekonomia – od „perspektywy żaby” do „perspektywy żyrafy”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łowiek ekonomiczny” (homo oeconomicus) czyli działający racjonalnie, nastawiony na efektywność, egoistyczny bohater analiz ekonomicznych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ysk i strat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ra rynkowa – popyt i podaż, cena równowa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życzka, lichwa, kredyt bankow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ójsektorowa struktura gospodarki – trzy działy: rolnictwo, przemysł i usług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ak zmieniały się formy gospodarowania (rewolucja neolityczna, agrarna, przemysłowa i naukowo-techniczn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ces ekonomiczny – na przykładzie integracj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ntegracja gospodarc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4"/>
          <p:cNvSpPr/>
          <p:nvPr/>
        </p:nvSpPr>
        <p:spPr>
          <a:xfrm>
            <a:off x="395280" y="177336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proces, który polega n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acieśnianiu współpracy gospodarczej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z co najmniej dwa kraje albo całą grupę (np. kraje należące do Unii Europejskiej) poprzez eliminację barier, które mogłyby taką współpracę ograniczać. W efekcie dochodzi do scalenia gospodarek narodowych poszczególnych krajó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integracji gospodarcz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125360"/>
          <a:ext cx="8353440" cy="4483440"/>
        </p:xfrm>
        <a:graphic>
          <a:graphicData uri="http://schemas.openxmlformats.org/drawingml/2006/table">
            <a:tbl>
              <a:tblPr/>
              <a:tblGrid>
                <a:gridCol w="3206880"/>
                <a:gridCol w="514656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fa wolnego hand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widacja ceł i ograniczeń ilościowych w obronie handlowy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ce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a polityka handlowa i jednakowe taryfy cel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pólny ry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bodny przepływ usług i czynników produk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waluto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gospodarczej i walutowej, utworzenie nowych ponadpaństwowych instytu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a gospodarcza i politycz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łkowita koordynacja polityki wewnętrznej, zagranicznej i obronnej, powołanie ponadpaństwowych organów władz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0" name="pole tekstowe 4"/>
          <p:cNvSpPr/>
          <p:nvPr/>
        </p:nvSpPr>
        <p:spPr>
          <a:xfrm>
            <a:off x="539640" y="580536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polskawue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3"/>
          <p:cNvSpPr/>
          <p:nvPr/>
        </p:nvSpPr>
        <p:spPr>
          <a:xfrm>
            <a:off x="179280" y="1052640"/>
            <a:ext cx="878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Frank R.H., Dlaczego piloci kamikadze zakładali hełmy? Czyli ekonomia bez tajemnic, Wydawnictwo Literackie, Kraków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awski W., Socjologia ekonomiczna, Wydawnictwo Naukowe PWN, Warszawa 2001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log Macieja Samcika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mcik.blox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Ministerstwa Gospodarki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mg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Narodowego Banku Polskiego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.p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zanim-podpiszesz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trona internetowa prowadzona przez Ministerstwo Spraw Zagranicznych,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polskawue.gov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3"/>
          <p:cNvSpPr/>
          <p:nvPr/>
        </p:nvSpPr>
        <p:spPr>
          <a:xfrm>
            <a:off x="395280" y="1133640"/>
            <a:ext cx="8353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ortre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a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mith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źródło: Wikimedia Commons,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ommons.wikimedia.org/wiki/File:AdamSmith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Żab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uill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mathafix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źródło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penclipart.org/detail/169932/grenouille-by-mathafi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Żyraf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giraffe sympa), źródło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openclipart.org/detail/18418/giraffe-sympa-by-martou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Kas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architetto – cassa d'epoca), rys.: Francesco Rollandi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25412/architetto----cassa-depoca-by-anonymous-254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5. Pieniądz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76657755@N04/7027595009/in/photostream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udostępnione na licencji CC BY, 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6. Śwink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piggy bank), autor: David García Garzón, źródło: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70058/piggy-bank-by-vokim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7. Zboż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eal plant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ys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gsagri04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http://openclipart.org/detail/139999/cereal-plant-by-gsagri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konomia jako nauka społecz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trzałka w dół 5"/>
          <p:cNvSpPr/>
          <p:nvPr/>
        </p:nvSpPr>
        <p:spPr>
          <a:xfrm>
            <a:off x="4284720" y="1268280"/>
            <a:ext cx="647640" cy="25923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trzałka w dół 6"/>
          <p:cNvSpPr/>
          <p:nvPr/>
        </p:nvSpPr>
        <p:spPr>
          <a:xfrm rot="20646000">
            <a:off x="7291440" y="1236240"/>
            <a:ext cx="647640" cy="25909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załka w dół 7"/>
          <p:cNvSpPr/>
          <p:nvPr/>
        </p:nvSpPr>
        <p:spPr>
          <a:xfrm rot="1258200">
            <a:off x="1125000" y="1227240"/>
            <a:ext cx="649440" cy="25923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8"/>
          <p:cNvSpPr/>
          <p:nvPr/>
        </p:nvSpPr>
        <p:spPr>
          <a:xfrm>
            <a:off x="250920" y="3716280"/>
            <a:ext cx="216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czyli jakie dobra i usługi) wytwarz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419640" y="3860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Jak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ytwarzać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obra i usług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11"/>
          <p:cNvSpPr/>
          <p:nvPr/>
        </p:nvSpPr>
        <p:spPr>
          <a:xfrm>
            <a:off x="6875640" y="3716280"/>
            <a:ext cx="20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la kogo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ytwarzać dobra i usług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dam Smith – ojciec ekon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3"/>
          <p:cNvSpPr/>
          <p:nvPr/>
        </p:nvSpPr>
        <p:spPr>
          <a:xfrm>
            <a:off x="2700360" y="141300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ocki filozof i myśliciel, żył w latach 1723-179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pisał przełomowe dzie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„Badania nad naturą i przyczynami bogactwa narodów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dane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w 1776 r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autorem słynnej metafory 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widzialnej ręce rynk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5" descr="AdamSmith.jpg"/>
          <p:cNvPicPr/>
          <p:nvPr/>
        </p:nvPicPr>
        <p:blipFill>
          <a:blip r:embed="rId1"/>
          <a:stretch/>
        </p:blipFill>
        <p:spPr>
          <a:xfrm>
            <a:off x="395280" y="981000"/>
            <a:ext cx="2016000" cy="3006720"/>
          </a:xfrm>
          <a:prstGeom prst="rect">
            <a:avLst/>
          </a:prstGeom>
          <a:ln w="0">
            <a:noFill/>
          </a:ln>
        </p:spPr>
      </p:pic>
      <p:sp>
        <p:nvSpPr>
          <p:cNvPr id="109" name="pole tekstowe 4"/>
          <p:cNvSpPr/>
          <p:nvPr/>
        </p:nvSpPr>
        <p:spPr>
          <a:xfrm>
            <a:off x="324000" y="4149720"/>
            <a:ext cx="849600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od przychylności rzeźnika, piwowara czy piekarza oczekujemy naszego obiadu, lecz od ich dbałości o własny interes. Zwracamy się nie do ich humanitarności, lecz do egoizmu i nie mówimy im o naszych własnych potrzebach, lecz o ich korzyścia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mith A., Badania nad naturą i przyczynami bogactwa narodów, PWN, Warszawa 1954, t.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i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raz 3" descr="zaba.png"/>
          <p:cNvPicPr/>
          <p:nvPr/>
        </p:nvPicPr>
        <p:blipFill>
          <a:blip r:embed="rId1"/>
          <a:stretch/>
        </p:blipFill>
        <p:spPr>
          <a:xfrm>
            <a:off x="324000" y="4581360"/>
            <a:ext cx="1903320" cy="18720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4"/>
          <p:cNvSpPr/>
          <p:nvPr/>
        </p:nvSpPr>
        <p:spPr>
          <a:xfrm>
            <a:off x="468360" y="1557360"/>
            <a:ext cx="828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naliza mikroekonomiczn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zajmuje się szczegółowo badaniem indywidualnych decyzji dotyczących pojedynczych towarów. Np. możemy badać, dlaczego poszczególne gospodarstwa domowe preferują samochody, a nie rowery oraz w jaki sposób producenci decydują o tym, czy wytwarzać samochody czy row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468360" y="1557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Makroekonomi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kładzie nacisk na wzajemne związki zachodzące w gospodarce jako całości. W swojej metodzie celowo upraszcza ona analizę poszczególnych elementów badanej całości w trosce o przejrzystość obrazu działania całej gospodar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az 5" descr="zyrafa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87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łowiek ekonomicz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(homo oeconomicu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3"/>
          <p:cNvSpPr/>
          <p:nvPr/>
        </p:nvSpPr>
        <p:spPr>
          <a:xfrm>
            <a:off x="395280" y="1916280"/>
            <a:ext cx="7993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działaniach kieruje się interesem własn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ylko na samym sobie skupia uwagę, dąży do celu, chłodno kalkulując i posługując się kryteriami zysku i strat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wsz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ziała racjonal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korzystuje kapitał / zasoby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nansowe, ludzkie (np. wykształcenie), społeczne (np. znajom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nastawiony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fektywnoś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goist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 głowę, ale nie ma serc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Morawski W., Socjologia ekonomiczna, Wydawnictwo Naukowe PWN, Warszawa 20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3" descr="kasa.png"/>
          <p:cNvPicPr/>
          <p:nvPr/>
        </p:nvPicPr>
        <p:blipFill>
          <a:blip r:embed="rId1"/>
          <a:stretch/>
        </p:blipFill>
        <p:spPr>
          <a:xfrm>
            <a:off x="6156360" y="3645000"/>
            <a:ext cx="2031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ysk i st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4"/>
          <p:cNvSpPr/>
          <p:nvPr/>
        </p:nvSpPr>
        <p:spPr>
          <a:xfrm>
            <a:off x="468360" y="1197000"/>
            <a:ext cx="748836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ysk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nadwyżka przychodu nad kosztami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odatni wynik finansow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Strata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ujemny wynik finansowy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Koszty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– wydatki poniesione na wytworze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dóbr i usług w danym okresi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zychód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ilość pieniędzy uzyskana ze sprzedaży dóbr i usług w danym okresie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Obraz 5" descr="rece.jpg"/>
          <p:cNvPicPr/>
          <p:nvPr/>
        </p:nvPicPr>
        <p:blipFill>
          <a:blip r:embed="rId1"/>
          <a:stretch/>
        </p:blipFill>
        <p:spPr>
          <a:xfrm>
            <a:off x="5711760" y="189000"/>
            <a:ext cx="3432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ra rynkowa – popyt i poda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95280" y="1052640"/>
            <a:ext cx="84247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pyt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nabywcy są gotowi zakupi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Podaż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 – ilość dobra, jaką sprzedawcy są gotowi zaoferować przy różnym poziomie ce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ajemna gra popyt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konsumentów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podaż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chowania sprzedawców) na wolnym rynku decyduj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 ilości wytwarzanych dóbr i ce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o jakiej są one sprzedawane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śli założymy, że pozostałe czynniki (np. dochody konsumentów,  ich gusty czy ceny innych dóbr) pozostają niezmienne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niższa jest cena jakiegoś dobr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telefonu komórkowego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e jest na niego zapotrzeb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m wyższa jest jego ce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ym większa jest oferowana il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Begg D., Fischer S., Dornbusch R., Mikroekonomia, Polskie Wydawnictwo Ekonomiczn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6T17:27:18Z</dcterms:modified>
  <cp:revision>566</cp:revision>
  <dc:subject/>
  <dc:title>Slajd 1</dc:title>
</cp:coreProperties>
</file>