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8C07A-27AB-4939-BEED-BD00A213D200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8CA6E-9906-496E-A389-E3BE3101A6B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2BEB3-9D31-44D5-885B-C4B193057A5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43E2C-52B8-4F28-81A1-72DDA879549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0889B-08B5-4323-903D-472D11F593D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8E6C4-3558-4DAA-9248-7AB27C20989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EE2A1-5948-4377-A6F0-886ECF9541E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98F1C-546A-4E46-90E7-394026E06FD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B2FD6-9FD1-47DD-B8AD-61C8ED27C8E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04EF3-013E-47E4-B0FC-E596A00652E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90F6-B802-4AC3-98B6-3CA369254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0CB8-9D6D-4E6B-A181-4B1C98576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FCB1-E8A7-4701-8210-A061F2472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270B-D6A3-4AB3-8D64-049F27266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6981C-8052-40BB-A5F3-33E6FCB04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37DEA-92EA-4A9F-B237-0CC5EB74C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0FDFD-CACD-4403-B90E-4308BEB49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FA83A-1209-448B-9942-CBB3CA917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D316D-F70D-4CA7-8278-5E592C58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C4AEE-F6EB-46F0-BAFE-3F52312CD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E9975-2FE8-4850-B25B-1DCE3D51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D268-8021-47D9-A864-C7F1E0BCC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6FA25-4719-4752-890F-A954FF20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0ACFA-97CD-42E9-87BF-ED0814ED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CD07C-212F-4D11-AFC7-DDD62385B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AB04D-A121-46EC-806D-E584AD5C8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9D689-B277-4695-9899-129BEB9EC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857A-D06A-43C6-91C6-4C7FB9728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B35D-4E3D-4AE0-AE72-AD74B3B45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C1C7-21C0-4711-8EA4-78E580A50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DB62-EE52-4067-91D5-7C8F9A90E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BAB6-6306-417C-B2E5-1C347337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F506-8BD8-46DB-934B-BA43EE35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B2C5-0628-4DC5-AD4B-A585A359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B9EB7-FAA7-4B08-83A4-66C8CBAD9394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3DF63-4417-471C-8D32-023B0F3C9642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thumb/c/cd/Cleric-Knight-Workman.jpg/250px-Cleric-Knight-Workman.jpg" TargetMode="External"/><Relationship Id="rId2" Type="http://schemas.openxmlformats.org/officeDocument/2006/relationships/hyperlink" Target="http://biografie.eu.interia.pl/biografie/adam_smith.html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hyperlink" Target="http://upload.wikimedia.org/wikipedia/commons/thumb/c/cd/Cleric-Knight-Workman.jpg/250px-Cleric-Knight-Workman.jpg" TargetMode="External"/><Relationship Id="rId6" Type="http://schemas.openxmlformats.org/officeDocument/2006/relationships/hyperlink" Target="http://upload.wikimedia.org/wikipedia/commons/thumb/c/cd/Cleric-Knight-Workman.jpg/250px-Cleric-Knight-Workman.jpg" TargetMode="External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historion.pl/ideologie-polityczne-liberalizm-historia/adam-smith/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987640" y="1125000"/>
            <a:ext cx="3456000" cy="359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6. Gospodarka. 12. Wielcy teoretycy kapitalizmu. Od Adama Smitha do von Hayeka.</a:t>
            </a:r>
            <a:br>
              <a:rPr sz="54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25560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Grzegorz Szymanow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rostokąt 3"/>
          <p:cNvSpPr/>
          <p:nvPr/>
        </p:nvSpPr>
        <p:spPr>
          <a:xfrm>
            <a:off x="324000" y="4869000"/>
            <a:ext cx="287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Źródło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biografie.eu.interia.pl/biografie/adam_smith.html</a:t>
            </a: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, dostęp 16.05.201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7" descr="http://biografie.eu.interia.pl/biografie/img/adam_smith.jpg"/>
          <p:cNvPicPr/>
          <p:nvPr/>
        </p:nvPicPr>
        <p:blipFill>
          <a:blip r:embed="rId3"/>
          <a:stretch/>
        </p:blipFill>
        <p:spPr>
          <a:xfrm>
            <a:off x="250920" y="1268280"/>
            <a:ext cx="2733480" cy="3333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VON HAYEK"/>
          <p:cNvPicPr/>
          <p:nvPr/>
        </p:nvPicPr>
        <p:blipFill>
          <a:blip r:embed="rId4"/>
          <a:stretch/>
        </p:blipFill>
        <p:spPr>
          <a:xfrm>
            <a:off x="6588000" y="1125360"/>
            <a:ext cx="2087640" cy="2813400"/>
          </a:xfrm>
          <a:prstGeom prst="rect">
            <a:avLst/>
          </a:prstGeom>
          <a:ln w="0">
            <a:noFill/>
          </a:ln>
        </p:spPr>
      </p:pic>
      <p:sp>
        <p:nvSpPr>
          <p:cNvPr id="100" name="Prostokąt 7"/>
          <p:cNvSpPr/>
          <p:nvPr/>
        </p:nvSpPr>
        <p:spPr>
          <a:xfrm>
            <a:off x="6012000" y="4005360"/>
            <a:ext cx="28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Źródło: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www.filosofico.net/hayek.htm , dostęp 16.05.201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rostokąt 5"/>
          <p:cNvSpPr/>
          <p:nvPr/>
        </p:nvSpPr>
        <p:spPr>
          <a:xfrm>
            <a:off x="0" y="5373720"/>
            <a:ext cx="2016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Calibri"/>
              </a:rPr>
              <a:t>Źródło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historion.pl/ideologie-polityczne-liberalizm-historia/adam-smith/ </a:t>
            </a:r>
            <a:r>
              <a:rPr b="0" lang="pl-PL" sz="900" spc="-1" strike="noStrike">
                <a:solidFill>
                  <a:srgbClr val="000000"/>
                </a:solidFill>
                <a:latin typeface="Calibri"/>
              </a:rPr>
              <a:t>Dostęp 19.05.201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5832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Narodziny liberalizmu ekonomiczn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6" descr="http://historion.pl/wp-content/uploads/2012/07/Adam-Smith.jpg"/>
          <p:cNvPicPr/>
          <p:nvPr/>
        </p:nvPicPr>
        <p:blipFill>
          <a:blip r:embed="rId2"/>
          <a:stretch/>
        </p:blipFill>
        <p:spPr>
          <a:xfrm>
            <a:off x="250920" y="1700280"/>
            <a:ext cx="2124000" cy="3168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John Locke"/>
          <p:cNvPicPr/>
          <p:nvPr/>
        </p:nvPicPr>
        <p:blipFill>
          <a:blip r:embed="rId3"/>
          <a:stretch/>
        </p:blipFill>
        <p:spPr>
          <a:xfrm>
            <a:off x="6372360" y="1197000"/>
            <a:ext cx="2209680" cy="2857320"/>
          </a:xfrm>
          <a:prstGeom prst="rect">
            <a:avLst/>
          </a:prstGeom>
          <a:ln w="0">
            <a:noFill/>
          </a:ln>
        </p:spPr>
      </p:pic>
      <p:sp>
        <p:nvSpPr>
          <p:cNvPr id="105" name="pole tekstowe 7"/>
          <p:cNvSpPr/>
          <p:nvPr/>
        </p:nvSpPr>
        <p:spPr>
          <a:xfrm>
            <a:off x="3132000" y="1628640"/>
            <a:ext cx="2735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Twórcą liberalizmu, czyli ideologii, w której najważniejsza jest wolność był Anglik John Lock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 ekonomii przeniósł ideę wolności Szkot Adam Smith (1723 – 1790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Ekonomiści dzielą dzieje ekonomii na przedklasyczny i klasyczny. Klasyczny zaczyna się od publikacji w 1776 roku książki </a:t>
            </a: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Badania nad naturą i przyczynami bogactwa narodów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Adama Smith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6" name="Łącznik prosty ze strzałką 9"/>
          <p:cNvCxnSpPr/>
          <p:nvPr/>
        </p:nvCxnSpPr>
        <p:spPr>
          <a:xfrm>
            <a:off x="5435640" y="2636640"/>
            <a:ext cx="7927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Łącznik prosty ze strzałką 11"/>
          <p:cNvCxnSpPr/>
          <p:nvPr/>
        </p:nvCxnSpPr>
        <p:spPr>
          <a:xfrm flipH="1">
            <a:off x="2483640" y="3212640"/>
            <a:ext cx="6483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2411280" y="1628280"/>
            <a:ext cx="63374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898989"/>
                </a:solidFill>
                <a:latin typeface="Calibri"/>
              </a:rPr>
              <a:t>Państwo nie może wtrącać się do gospodarki. Trzeba pozwolić  ludziom działać! Ludzie dążą do zysku – będą więc produkować to, co się opłaca! Podstawą rozwoju jest wymiana. Wyróżniał trzy przeliczniki wartości – kruszce, zboże i pracę. Kruszce liczyły się w bieżącej wymianie, zboże było przelicznikiem wieloletnim, a ludzka praca – najważniejszym i uniwersalnym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79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Laisez faire” – pozwólcie działać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rostokąt 4"/>
          <p:cNvSpPr/>
          <p:nvPr/>
        </p:nvSpPr>
        <p:spPr>
          <a:xfrm>
            <a:off x="250920" y="3068640"/>
            <a:ext cx="208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Obejrzyj film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www.youtube.com/watch?v=GSoIb_RulHE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dostęp: 20.05.2013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2626920" y="5157720"/>
            <a:ext cx="471348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898989"/>
                </a:solidFill>
                <a:latin typeface="Calibri"/>
              </a:rPr>
              <a:t>Obejrzyj film: http://www.youtube.com/watch?v=B8U3ruH8MF0, dostęp 20.05.2013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250560" y="-360"/>
            <a:ext cx="5833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asada przewagi komparatywnej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ole tekstowe 5"/>
          <p:cNvSpPr/>
          <p:nvPr/>
        </p:nvSpPr>
        <p:spPr>
          <a:xfrm>
            <a:off x="2556000" y="1413000"/>
            <a:ext cx="626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avid Ricardo (1772-1823). Wybitny ekonomista, makler giełdowy, który na długoterminowym inwestowaniu dorobił się znacznego majątku. Stworzył tzw. model Ricardo, który prowadził do wniosku, że międzynarodowa wymiana, nieskrępowana żadnymi cłami, kontyngentami i ograniczeniami przynosi wszystkim korzyści.  Kluczem jest specjalizacja narodów w różnych produkta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6" descr="http://upload.wikimedia.org/wikipedia/commons/6/6f/David_Ricardo(1).jpg"/>
          <p:cNvPicPr/>
          <p:nvPr/>
        </p:nvPicPr>
        <p:blipFill>
          <a:blip r:embed="rId1"/>
          <a:stretch/>
        </p:blipFill>
        <p:spPr>
          <a:xfrm>
            <a:off x="468360" y="1628640"/>
            <a:ext cx="1673280" cy="2376720"/>
          </a:xfrm>
          <a:prstGeom prst="rect">
            <a:avLst/>
          </a:prstGeom>
          <a:ln w="0">
            <a:noFill/>
          </a:ln>
        </p:spPr>
      </p:pic>
      <p:sp>
        <p:nvSpPr>
          <p:cNvPr id="115" name="Prostokąt 7"/>
          <p:cNvSpPr/>
          <p:nvPr/>
        </p:nvSpPr>
        <p:spPr>
          <a:xfrm>
            <a:off x="324000" y="4221000"/>
            <a:ext cx="1584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Źróło: http://upload.wikimedia.org/wikipedia/commons/6/6f/David_Ricardo(1).jpg, dostęp 20.05.201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55800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Model Ricardo - społeczeństwo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84360" y="1483920"/>
            <a:ext cx="799128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ielcy właściciele ziemscy byli grupą próżniaczą – nic nie wytwarzali, uzyskując przy tym pieniądze kosztem pracy innych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robotnicy – uzyskiwali tylko płacę, która była na poziomie minimum utrzymania (całą więc konsumowali), ale wkładali pracę (wg Ricardo najważniejszy przelicznik dóbr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siadaczom kapitału – uzyskiwali potrzebną nadwyżkę, składającą się z różnicy zysku i kosztów pracy . Mogli ją zainwestować, by uzyskać zwiększone zyski w przyszłości. To oni wg Ricardo napędzali gospodarkę. Należy im tylko nie przeszkadzać (tutaj rozwinął myśl Adama Smitha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03280" y="1592280"/>
            <a:ext cx="5329080" cy="39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uka społeczna Kościoła odrzuca zarówno rynek sterowany przez państwo, jak i całkowicie wolny. Państwo ma strzec sprawiedliwości pracy i wymiany. Istotna jest zasada subsydiarności – wsparcie przez najbliższą człowiekowi wspólnotę. Jeżeli wspólnoty te nie mogą pomóc, powinno pomóc państwo. Pomoc powinna się ograniczać do takiego wsparcia, by człowiek sam zaczął sobie radzić. „Dajemy wędkę, a nie rybę”. </a:t>
            </a:r>
            <a:br>
              <a:rPr sz="5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rostokąt 3"/>
          <p:cNvSpPr/>
          <p:nvPr/>
        </p:nvSpPr>
        <p:spPr>
          <a:xfrm>
            <a:off x="395280" y="544500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http://pl.wikipedia.org/wiki/Plik:Leo_XIII..jpg, dostęp 16.05.201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ole tekstowe 5"/>
          <p:cNvSpPr/>
          <p:nvPr/>
        </p:nvSpPr>
        <p:spPr>
          <a:xfrm>
            <a:off x="539640" y="47628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Nauka społeczna Kościoł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7" descr="Plik:Leo XIII..jpg"/>
          <p:cNvPicPr/>
          <p:nvPr/>
        </p:nvPicPr>
        <p:blipFill>
          <a:blip r:embed="rId1"/>
          <a:stretch/>
        </p:blipFill>
        <p:spPr>
          <a:xfrm>
            <a:off x="468360" y="1557360"/>
            <a:ext cx="2554200" cy="3235320"/>
          </a:xfrm>
          <a:prstGeom prst="rect">
            <a:avLst/>
          </a:prstGeom>
          <a:ln w="0">
            <a:noFill/>
          </a:ln>
        </p:spPr>
      </p:pic>
      <p:sp>
        <p:nvSpPr>
          <p:cNvPr id="122" name="pole tekstowe 7"/>
          <p:cNvSpPr/>
          <p:nvPr/>
        </p:nvSpPr>
        <p:spPr>
          <a:xfrm>
            <a:off x="539640" y="4869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Leon XIII – twórca NS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78920" y="2060640"/>
            <a:ext cx="849636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500" spc="-1" strike="noStrike">
                <a:solidFill>
                  <a:srgbClr val="898989"/>
                </a:solidFill>
                <a:latin typeface="Calibri"/>
              </a:rPr>
              <a:t>Dwie zasady sprawiedliwości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500" spc="-1" strike="noStrike">
                <a:solidFill>
                  <a:srgbClr val="898989"/>
                </a:solidFill>
                <a:latin typeface="Calibri"/>
              </a:rPr>
              <a:t>1.„Każda osoba ma mieć równe prawo do jak najszerszej podstawowej wolności możliwej do pogodzenia z podobną wolnością dla innych.”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500" spc="-1" strike="noStrike">
                <a:solidFill>
                  <a:srgbClr val="898989"/>
                </a:solidFill>
                <a:latin typeface="Calibri"/>
              </a:rPr>
              <a:t>2. „Nierówności społeczne i ekonomiczne mają być tak ułożone,</a:t>
            </a:r>
            <a:r>
              <a:rPr b="0" lang="pl-PL" sz="2500" spc="-1" strike="noStrike">
                <a:solidFill>
                  <a:srgbClr val="898989"/>
                </a:solidFill>
                <a:latin typeface="Calibri"/>
              </a:rPr>
              <a:t> </a:t>
            </a:r>
            <a:r>
              <a:rPr b="0" i="1" lang="pl-PL" sz="2500" spc="-1" strike="noStrike">
                <a:solidFill>
                  <a:srgbClr val="898989"/>
                </a:solidFill>
                <a:latin typeface="Calibri"/>
              </a:rPr>
              <a:t>(a) aby były z największą korzyścią dla najbardziej upośledzonych, pozostając w zgodzie z zasadą sprawiedliwego oszczędzania [zasada dyferencji];</a:t>
            </a:r>
            <a:r>
              <a:rPr b="0" lang="pl-PL" sz="2500" spc="-1" strike="noStrike">
                <a:solidFill>
                  <a:srgbClr val="898989"/>
                </a:solidFill>
                <a:latin typeface="Calibri"/>
              </a:rPr>
              <a:t> </a:t>
            </a:r>
            <a:r>
              <a:rPr b="0" i="1" lang="pl-PL" sz="2500" spc="-1" strike="noStrike">
                <a:solidFill>
                  <a:srgbClr val="898989"/>
                </a:solidFill>
                <a:latin typeface="Calibri"/>
              </a:rPr>
              <a:t>i jednocześnie (b) aby były związane z dostępnością urzędów i stanowisk dla wszystkich, w warunkach autentycznej równości szans.”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ole tekstowe 5"/>
          <p:cNvSpPr/>
          <p:nvPr/>
        </p:nvSpPr>
        <p:spPr>
          <a:xfrm>
            <a:off x="539640" y="333360"/>
            <a:ext cx="60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Calibri"/>
              </a:rPr>
              <a:t>Teoria sprawiedliwości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Johna Rawlsa, czyli nowocześni liberałowie w natarci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250920" y="-360"/>
            <a:ext cx="64008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Fryderyk August von Hayek – powrót do zasad Smit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9" descr="VON HAYEK"/>
          <p:cNvPicPr/>
          <p:nvPr/>
        </p:nvPicPr>
        <p:blipFill>
          <a:blip r:embed="rId1"/>
          <a:stretch/>
        </p:blipFill>
        <p:spPr>
          <a:xfrm>
            <a:off x="250920" y="1052640"/>
            <a:ext cx="2089080" cy="2814480"/>
          </a:xfrm>
          <a:prstGeom prst="rect">
            <a:avLst/>
          </a:prstGeom>
          <a:ln w="0">
            <a:noFill/>
          </a:ln>
        </p:spPr>
      </p:pic>
      <p:sp>
        <p:nvSpPr>
          <p:cNvPr id="127" name="pole tekstowe 7"/>
          <p:cNvSpPr/>
          <p:nvPr/>
        </p:nvSpPr>
        <p:spPr>
          <a:xfrm>
            <a:off x="2484360" y="1197000"/>
            <a:ext cx="6299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ą dwa porządk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jeden zorganizowany, celowy, ale ekonomicznie niewydolny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 w ostateczności prowadzący do totalitaryzmu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rugi – tzw. porządek spontaniczny nie ma celu, ale jeżeli wszyscy stosują się w nim do reguł (a więc prawa), spełnia podstawową funkcję – organizuje sensowną ekonomicznie i dobrowolną  współpracę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rostokąt 8"/>
          <p:cNvSpPr/>
          <p:nvPr/>
        </p:nvSpPr>
        <p:spPr>
          <a:xfrm>
            <a:off x="0" y="407664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http://www.filosofico.net/hayek.htm , dostęp 16.05.201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Grzegorz Szymanowski</cp:lastModifiedBy>
  <dcterms:modified xsi:type="dcterms:W3CDTF">2013-06-07T04:05:40Z</dcterms:modified>
  <cp:revision>41</cp:revision>
  <dc:subject/>
  <dc:title>Slajd 1</dc:title>
</cp:coreProperties>
</file>