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04E-A47C-4BA7-9272-532543B3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1B9-4639-4C3A-83EC-C9984D02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EBBD-BCCB-403B-94BE-19B09DE4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C21-A12D-4E44-AFDC-C39046B1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020-C750-4D1B-87EB-C711CE4E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54B-EBEE-4487-9AA9-2D6B1016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760-0CC6-442F-A52F-EBE4A284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E89-97CE-4687-BC7A-2B3A5089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788-6A57-4CFB-A521-3F6EED09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756C-6946-4A65-ACD3-622F17BE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AF9-2C5D-4432-A6D1-3BA7D1ED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2F3-23F1-44E0-800C-6918847E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C8CD-7EAB-4407-8BEB-0B315813A1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4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ole tekstowe 7"/>
          <p:cNvSpPr/>
          <p:nvPr/>
        </p:nvSpPr>
        <p:spPr>
          <a:xfrm>
            <a:off x="1071720" y="2214720"/>
            <a:ext cx="71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Czy państwo opiekuńcze jest sprawiedliw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ole tekstowe 8"/>
          <p:cNvSpPr/>
          <p:nvPr/>
        </p:nvSpPr>
        <p:spPr>
          <a:xfrm>
            <a:off x="1214280" y="37861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f7f7f"/>
                </a:solidFill>
                <a:latin typeface="Tahoma"/>
                <a:ea typeface="Tahoma"/>
              </a:rPr>
              <a:t>Radosław Marzęc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1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10"/>
          <p:cNvSpPr/>
          <p:nvPr/>
        </p:nvSpPr>
        <p:spPr>
          <a:xfrm>
            <a:off x="357120" y="78588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rugi model odwołuje się do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ÓWNOŚCI SZ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ole tekstowe 11"/>
          <p:cNvSpPr/>
          <p:nvPr/>
        </p:nvSpPr>
        <p:spPr>
          <a:xfrm>
            <a:off x="357120" y="1714680"/>
            <a:ext cx="842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Oznacza ona, że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każdy człowiek powinien mieć równe możliwości osiągania pozycji i dóbr, a nierówności są dopuszczalne tylko w tym stopniu, w jakim są rezultatem niejednakowego wysiłku, zdolności i własnych zasłu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12"/>
          <p:cNvSpPr/>
          <p:nvPr/>
        </p:nvSpPr>
        <p:spPr>
          <a:xfrm>
            <a:off x="357120" y="3143160"/>
            <a:ext cx="842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olę zasług podkreśla się w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eorii merytokracji – nagrody (których rozdział kształtuje nierówności społeczne) powinny być rozdzielane w odpowiedniej proporcji do zasłu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rostokąt 13"/>
          <p:cNvSpPr/>
          <p:nvPr/>
        </p:nvSpPr>
        <p:spPr>
          <a:xfrm>
            <a:off x="357120" y="4643280"/>
            <a:ext cx="8429760" cy="428760"/>
          </a:xfrm>
          <a:prstGeom prst="rect">
            <a:avLst/>
          </a:prstGeom>
          <a:solidFill>
            <a:srgbClr val="ffc000"/>
          </a:solidFill>
          <a:ln w="5724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zy w Polsce działają zasady merytokracj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22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14"/>
          <p:cNvSpPr/>
          <p:nvPr/>
        </p:nvSpPr>
        <p:spPr>
          <a:xfrm>
            <a:off x="428760" y="6429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rzeci model odwołuje się do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ÓWNOŚCI WARUN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15"/>
          <p:cNvSpPr/>
          <p:nvPr/>
        </p:nvSpPr>
        <p:spPr>
          <a:xfrm>
            <a:off x="428760" y="1143000"/>
            <a:ext cx="835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Głównymi reprezentantami tego nurtu stali się teoretycy myśli socjalistycznej, a przede wszystkim marksi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twierdzają, że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yrównywanie szans jest niesprawiedliwe, ponieważ nie gwarantuje najbiedniejszym zaspokojenia potrzeb na satysfakcjonującym poziom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ERÓWNOŚCI TRZEBA NIWELOWAĆ, ALE NIE POPRZEZ WYRÓWNYWANIE SZANS NA STARCIE TYLKO CAŁY CZ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16"/>
          <p:cNvSpPr/>
          <p:nvPr/>
        </p:nvSpPr>
        <p:spPr>
          <a:xfrm>
            <a:off x="428760" y="4071960"/>
            <a:ext cx="835812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Oznacza to, że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każda jednostka powinna w tym samym stopniu uczestniczyć w podziale dóbr, niezależnie od wydatkowanych przez siebie nakładów oraz posiadanego talentu, zasług i własnych zdolnośc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rostokąt 17"/>
          <p:cNvSpPr/>
          <p:nvPr/>
        </p:nvSpPr>
        <p:spPr>
          <a:xfrm>
            <a:off x="500040" y="4929120"/>
            <a:ext cx="8358120" cy="714600"/>
          </a:xfrm>
          <a:prstGeom prst="rect">
            <a:avLst/>
          </a:prstGeom>
          <a:solidFill>
            <a:srgbClr val="ffc000"/>
          </a:solidFill>
          <a:ln w="5724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Który model jest bardziej SPRAWIEDLIW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chemat blokowy: dokument 18"/>
          <p:cNvSpPr/>
          <p:nvPr/>
        </p:nvSpPr>
        <p:spPr>
          <a:xfrm>
            <a:off x="428760" y="1143000"/>
            <a:ext cx="8286480" cy="3643200"/>
          </a:xfrm>
          <a:prstGeom prst="flowChartDocument">
            <a:avLst/>
          </a:prstGeom>
          <a:solidFill>
            <a:srgbClr val="436416"/>
          </a:solidFill>
          <a:ln w="57240">
            <a:solidFill>
              <a:srgbClr val="948a5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Calibri"/>
              </a:rPr>
              <a:t>Peter Saunders dokonał obrazowego porównania nierówności warunków i szans, odwołując się do metafor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c000"/>
                </a:solidFill>
                <a:latin typeface="Calibri"/>
              </a:rPr>
              <a:t>Jeżeli </a:t>
            </a:r>
            <a:r>
              <a:rPr b="1" i="1" lang="pl-PL" sz="1800" spc="-1" strike="noStrike">
                <a:solidFill>
                  <a:srgbClr val="b7dee8"/>
                </a:solidFill>
                <a:latin typeface="Calibri"/>
              </a:rPr>
              <a:t>równość szans</a:t>
            </a:r>
            <a:r>
              <a:rPr b="1" i="1" lang="pl-PL" sz="1800" spc="-1" strike="noStrike">
                <a:solidFill>
                  <a:srgbClr val="ffc000"/>
                </a:solidFill>
                <a:latin typeface="Calibri"/>
              </a:rPr>
              <a:t> przypomina wyścig, w którym wszyscy zawodnicy zaczynają bieg z jednej linii startowej, to realizacja </a:t>
            </a:r>
            <a:r>
              <a:rPr b="1" i="1" lang="pl-PL" sz="1800" spc="-1" strike="noStrike">
                <a:solidFill>
                  <a:srgbClr val="b7dee8"/>
                </a:solidFill>
                <a:latin typeface="Calibri"/>
              </a:rPr>
              <a:t>równości warunków </a:t>
            </a:r>
            <a:r>
              <a:rPr b="1" i="1" lang="pl-PL" sz="1800" spc="-1" strike="noStrike">
                <a:solidFill>
                  <a:srgbClr val="ffc000"/>
                </a:solidFill>
                <a:latin typeface="Calibri"/>
              </a:rPr>
              <a:t>polega na wyrównaniu szans w trakcie biegu: wolniejszym zawodnikom się pomaga, a wobec szybszych stosuje się ograniczenia i w konsekwencji wszyscy razem dobiegają do me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32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11"/>
          <p:cNvSpPr/>
          <p:nvPr/>
        </p:nvSpPr>
        <p:spPr>
          <a:xfrm>
            <a:off x="1000080" y="45252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ERÓWNOŚCI W ASPEKCIE MORALNY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12"/>
          <p:cNvSpPr/>
          <p:nvPr/>
        </p:nvSpPr>
        <p:spPr>
          <a:xfrm>
            <a:off x="571680" y="2214720"/>
            <a:ext cx="3357360" cy="3077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Jeżeli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celem powinno być ograniczanie nierówności,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nieważ najważniejsze jest maksymalne zaspokajanie potrzeb, wyeliminowanie wyzysku i biedy, to główny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koszt realizacji tych celów poniosą kategorie o wyższym statusie materialny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wolennicy lewicy uważają, że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liberałowie są niewrażliwi na krzywdę społeczną,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gdyż dostrzegają tylko interesy ludzi bogat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rostokąt 13"/>
          <p:cNvSpPr/>
          <p:nvPr/>
        </p:nvSpPr>
        <p:spPr>
          <a:xfrm>
            <a:off x="1143000" y="1143000"/>
            <a:ext cx="2000160" cy="428760"/>
          </a:xfrm>
          <a:prstGeom prst="rect">
            <a:avLst/>
          </a:prstGeom>
          <a:solidFill>
            <a:srgbClr val="436416"/>
          </a:solidFill>
          <a:ln w="57240">
            <a:solidFill>
              <a:srgbClr val="948a5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Tahoma"/>
                <a:ea typeface="Tahoma"/>
              </a:rPr>
              <a:t>LEW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rostokąt 19"/>
          <p:cNvSpPr/>
          <p:nvPr/>
        </p:nvSpPr>
        <p:spPr>
          <a:xfrm>
            <a:off x="5643720" y="1119240"/>
            <a:ext cx="2000160" cy="428400"/>
          </a:xfrm>
          <a:prstGeom prst="rect">
            <a:avLst/>
          </a:prstGeom>
          <a:solidFill>
            <a:srgbClr val="436416"/>
          </a:solidFill>
          <a:ln w="57240">
            <a:solidFill>
              <a:srgbClr val="948a5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Tahoma"/>
                <a:ea typeface="Tahoma"/>
              </a:rPr>
              <a:t>LIBERALIZ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21"/>
          <p:cNvSpPr/>
          <p:nvPr/>
        </p:nvSpPr>
        <p:spPr>
          <a:xfrm>
            <a:off x="4786200" y="2214720"/>
            <a:ext cx="3929040" cy="329076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Nierówności są konieczną ceną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jaką należy zapłacić za utrzymanie właściwych proporcji ekonomicznych i przyzwoitego tempa wzrost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Uważają, że na nierównościach korzysta nie tylko garstka ludzi bogatych, ale i kategorie o niskim statusie, ponieważ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amożność przedsiębiorczych jednostek powoduje wzrost zamożności ogół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zyczynia się to do powstawania nowych firm, zwiększa szeregi dostawców, klientów i przedsiębiorców, co napędza koniunkturę i prowadzi do podniesienia stopy życiowe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22"/>
          <p:cNvSpPr/>
          <p:nvPr/>
        </p:nvSpPr>
        <p:spPr>
          <a:xfrm>
            <a:off x="285840" y="1643040"/>
            <a:ext cx="39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Zwolennicy państwa opiekuńcz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23"/>
          <p:cNvSpPr/>
          <p:nvPr/>
        </p:nvSpPr>
        <p:spPr>
          <a:xfrm>
            <a:off x="4857840" y="1643040"/>
            <a:ext cx="39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zeciwnicy państwa opiekuńcz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4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7"/>
          <p:cNvSpPr/>
          <p:nvPr/>
        </p:nvSpPr>
        <p:spPr>
          <a:xfrm>
            <a:off x="1143000" y="8571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8"/>
          <p:cNvSpPr/>
          <p:nvPr/>
        </p:nvSpPr>
        <p:spPr>
          <a:xfrm>
            <a:off x="285840" y="1928880"/>
            <a:ext cx="8429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. Domański, Struktura społeczna, Warszawa 200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L. Jodkowska, Państwo opiekuńcze w Polsce i w Niemczech, Warszawa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G. Esping-Andersen, Trzy światy kapitalistycznego państwa dobrobytu, Warszawa 20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biznes.pwn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www.prosperity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5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7"/>
          <p:cNvSpPr/>
          <p:nvPr/>
        </p:nvSpPr>
        <p:spPr>
          <a:xfrm>
            <a:off x="1071720" y="22147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ziękuję za uwag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9"/>
          <p:cNvSpPr/>
          <p:nvPr/>
        </p:nvSpPr>
        <p:spPr>
          <a:xfrm>
            <a:off x="514440" y="1928880"/>
            <a:ext cx="6848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aństwo opiekuńcze – definic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Obszary aktywności państwa opiekuńcz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ady i zalety opiekuńczego modelu państ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Mierzenie dobrobytu – czy w państwie opiekuńczym żyje się lepiej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o to jest sprawiedliwość społeczn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zy modele równości – równość wobec pr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zy modele równości – równość sz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zy modele równości – równość warunkó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zy opieka państwa jest moraln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aństwo opiekuńcz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ole tekstowe 8"/>
          <p:cNvSpPr/>
          <p:nvPr/>
        </p:nvSpPr>
        <p:spPr>
          <a:xfrm>
            <a:off x="2669760" y="1571760"/>
            <a:ext cx="406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aństwo dobroby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aństwo bezpieczeństwa socjaln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ng. Welfare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928800" y="2857680"/>
            <a:ext cx="7429320" cy="22284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ahoma"/>
              </a:rPr>
              <a:t>Państwo stawiające sobie za cel zabezpieczenie obywateli przed ryzykiem wiążącym się z działaniem gospodarki rynkowej, przede wszystkim z ryzykiem utraty pracy, zdrowia, a także przed ryzykiem wiążącym się ze starości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ahoma"/>
              </a:rPr>
              <a:t>To także zespół instytucji państwowych dostarczających obywatelom świadczeń i usług społe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rostokąt 10"/>
          <p:cNvSpPr/>
          <p:nvPr/>
        </p:nvSpPr>
        <p:spPr>
          <a:xfrm>
            <a:off x="1500120" y="528624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elem państw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zapewnienie powszechnego dobroby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6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rostokąt 10"/>
          <p:cNvSpPr/>
          <p:nvPr/>
        </p:nvSpPr>
        <p:spPr>
          <a:xfrm>
            <a:off x="142920" y="92880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dstawa polity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obawa przed totalitaryzm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dstawa ekonomi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aktywna rola państwa w gospodarce (interwencjoniz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rostokąt 11"/>
          <p:cNvSpPr/>
          <p:nvPr/>
        </p:nvSpPr>
        <p:spPr>
          <a:xfrm>
            <a:off x="142920" y="2214720"/>
            <a:ext cx="8786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rzy obszary działan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fera ekonomi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państwo ingeruje w gospodarkę, zwalcza inflację i bezrobo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fera społe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rozszerzanie systemu świadczeń i ochrony socjalnej, gwarantowanie obywatelom minimalnych równych praw w dostępie do usług socjal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fera polity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demokracja, likwidacja wszelkich form dyskryminacji (mniejszośc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7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42920" y="1000080"/>
          <a:ext cx="8858160" cy="3962520"/>
        </p:xfrm>
        <a:graphic>
          <a:graphicData uri="http://schemas.openxmlformats.org/drawingml/2006/table">
            <a:tbl>
              <a:tblPr/>
              <a:tblGrid>
                <a:gridCol w="4429080"/>
                <a:gridCol w="4429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l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ozbudowana sfera świadczeń socjalnych (np. zasiłki dla bezrobotnyc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ysokie podat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iskie bezroboc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rażliwość na kryzysy gospodarc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ysoki wzrost gospodarcz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rażliwość na zmiany społeczne (np. starzenie się społeczeństw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latywnie wysokie pł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mniejszenie bodźców do podejmowania pr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łace minimal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ozleniwienie lud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otacje i subwenc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„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yuczona bezradność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westycje w edukacj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ieefektywnoś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ogaty kapitał ludzki (zaufanie, poczucie wspólnoty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„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bijanie” przedsiębiorczoś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0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rostokąt 10"/>
          <p:cNvSpPr/>
          <p:nvPr/>
        </p:nvSpPr>
        <p:spPr>
          <a:xfrm>
            <a:off x="642960" y="7142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obroby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to nie tylko pieniądze, ale jakość życia i dobre samopoczu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rostokąt 11"/>
          <p:cNvSpPr/>
          <p:nvPr/>
        </p:nvSpPr>
        <p:spPr>
          <a:xfrm>
            <a:off x="642960" y="1214280"/>
            <a:ext cx="7858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skaźnik Dobrobytu Legatum (Legatum Prosperity Index)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ykazał najbardziej i najmniej zamożne państwa w 2012 ro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Bierze się w nim pod uwagę jakość wielu czynników warunkujących poziom życia ludzi. Są to np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olność osobista, opieka zdrowotna, bezpieczeństwo, system edukacji, gospodarka, zarządzanie państwem oraz kapitał ludzk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1. Norweg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2. Dan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3. Szwecj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4. Austral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5. Nowa Zelandia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… 32. Polsk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6. Kanad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7. Finland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8. Niderland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9. Szwajcar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10. Irland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rostokąt 11"/>
          <p:cNvSpPr/>
          <p:nvPr/>
        </p:nvSpPr>
        <p:spPr>
          <a:xfrm>
            <a:off x="642960" y="1214280"/>
            <a:ext cx="7858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Nie wszystkie państwa na świecie są opiekuńcze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a wśród opiekuńczych występują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różnice w stopniu tej opiekuńcz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Elementy państwa opiekuńczego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odnajdujemy w wielu różnych państwach, także w Pols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Poszczególne państwa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lepiej lub gorzej radzą sobie z typowymi problemami 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welfar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9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Sprawiedliwość społecz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le tekstowe 9"/>
          <p:cNvSpPr/>
          <p:nvPr/>
        </p:nvSpPr>
        <p:spPr>
          <a:xfrm>
            <a:off x="214200" y="1714680"/>
            <a:ext cx="8715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Art. 2 Konstytucji R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zeczpospolita Polska jest demokratycznym państwem prawnym, urzeczywistniającym zasady </a:t>
            </a:r>
            <a:r>
              <a:rPr b="1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prawiedliwości społeczn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ięciokąt 11"/>
          <p:cNvSpPr/>
          <p:nvPr/>
        </p:nvSpPr>
        <p:spPr>
          <a:xfrm>
            <a:off x="3429000" y="2714760"/>
            <a:ext cx="5214960" cy="500040"/>
          </a:xfrm>
          <a:custGeom>
            <a:avLst/>
            <a:gdLst>
              <a:gd name="textAreaLeft" fmla="*/ 0 w 5214960"/>
              <a:gd name="textAreaRight" fmla="*/ 5215320 w 521496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64" y="0"/>
                </a:lnTo>
                <a:lnTo>
                  <a:pt x="21600" y="10800"/>
                </a:lnTo>
                <a:lnTo>
                  <a:pt x="205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ymóg tworzenia sprawiedliwego pra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12"/>
          <p:cNvSpPr/>
          <p:nvPr/>
        </p:nvSpPr>
        <p:spPr>
          <a:xfrm>
            <a:off x="571680" y="3357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le nie tylko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13"/>
          <p:cNvSpPr/>
          <p:nvPr/>
        </p:nvSpPr>
        <p:spPr>
          <a:xfrm>
            <a:off x="285840" y="378612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jednakowe wymagania wobec wszystkich obywate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zejrzyste kryteria nagradzania zasług i karania win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bezstronność organów państwow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ównouprawnienie jednostek lub grup społecznych (np. ze względu na płeć, wyznanie, język, narodowość itp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ięciokąt 14"/>
          <p:cNvSpPr/>
          <p:nvPr/>
        </p:nvSpPr>
        <p:spPr>
          <a:xfrm>
            <a:off x="4286160" y="5143680"/>
            <a:ext cx="4429080" cy="500040"/>
          </a:xfrm>
          <a:custGeom>
            <a:avLst/>
            <a:gdLst>
              <a:gd name="textAreaLeft" fmla="*/ 0 w 4429080"/>
              <a:gd name="textAreaRight" fmla="*/ 4429440 w 442908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1" y="0"/>
                </a:lnTo>
                <a:lnTo>
                  <a:pt x="21600" y="10800"/>
                </a:lnTo>
                <a:lnTo>
                  <a:pt x="203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Utopia czy rzeczywistość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0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15"/>
          <p:cNvSpPr/>
          <p:nvPr/>
        </p:nvSpPr>
        <p:spPr>
          <a:xfrm>
            <a:off x="571680" y="100008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rzy MODELE NIERÓWN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16"/>
          <p:cNvSpPr/>
          <p:nvPr/>
        </p:nvSpPr>
        <p:spPr>
          <a:xfrm>
            <a:off x="571680" y="150012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ierwszy model odwołuje się do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ÓWNOŚCI WOBEC PRA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17"/>
          <p:cNvSpPr/>
          <p:nvPr/>
        </p:nvSpPr>
        <p:spPr>
          <a:xfrm>
            <a:off x="571680" y="228600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znacza ona, że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ażdy człowiek podlega tym samym regułom i powinien być karany w ten sam sposób, niezależnie od pochodzenia społecznego, narodowości, wyznania czy pł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rostokąt 18"/>
          <p:cNvSpPr/>
          <p:nvPr/>
        </p:nvSpPr>
        <p:spPr>
          <a:xfrm>
            <a:off x="571680" y="4071960"/>
            <a:ext cx="7715160" cy="928800"/>
          </a:xfrm>
          <a:prstGeom prst="rect">
            <a:avLst/>
          </a:prstGeom>
          <a:solidFill>
            <a:srgbClr val="ffc000"/>
          </a:solidFill>
          <a:ln w="5724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Czy to oznacza, że np. w Polsce zawsze wszyscy są równi wobec praw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1:32:01Z</dcterms:created>
  <dc:creator>Łukasz</dc:creator>
  <dc:description/>
  <dc:language>en-US</dc:language>
  <cp:lastModifiedBy>iwona</cp:lastModifiedBy>
  <dcterms:modified xsi:type="dcterms:W3CDTF">2013-08-10T12:58:47Z</dcterms:modified>
  <cp:revision>88</cp:revision>
  <dc:subject/>
  <dc:title>Slajd 1</dc:title>
</cp:coreProperties>
</file>