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7BB4-3590-4A7F-B919-A77E38FFAF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F07-EFDF-458C-B8CF-E10006FE34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899-C0E4-4594-A925-343736950A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6623-0517-4355-977A-81A4600054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D74C-0167-45D2-AEEF-93E0006CFD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D8F-3ABF-410C-99FF-CE5CFB50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D7A-C904-4933-BF0F-2AE09F1C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220-6C58-4C14-B841-35D52114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270-ECEB-40AF-B480-2ABAC419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AF5C-B352-4256-BC7B-26FC7BC4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B649-762D-487B-A821-955D047A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FF17-CC79-487E-A407-4A52B415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54F2-37AA-4E01-B9CC-F3A82A1F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B672-FBD0-4193-9875-27500D7D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96CF-6F9D-485B-9097-E4451EA7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7694-707A-400B-A6D3-4103008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5E3-6F5F-404D-BFBC-5A66D9DF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ECE0-FCBD-4D75-8CF4-495E5CA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6B21-80F8-44A7-8187-4104957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7960-53D6-4F68-9DAC-220AF7C3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1316-C90B-417B-A3D0-C74BA831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4C44-5C45-4386-862C-F8E82892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321-8E75-4CD4-BD1C-E1F323FF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4C7-F28C-4AE2-AF39-6F328DC7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771-FBE8-4748-9FDD-109F3419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C1B-C952-4E0F-A7A8-9A083B72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1B8-06FE-4FE9-926F-545BB02C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170-45A2-425E-9056-6FDCB7BA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611-9E44-45AF-AAE3-2C584EF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8447-316A-4EE7-BE83-8C73B8E9889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AB3-A612-451F-A0E0-5545ED1BF01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rksizm w praktyc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obszarze własności i wolności gospodarcz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270792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liminacja własności prywatnej (nacjonalizacja przemysłu, tzw. „bitwa o handel”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óby kolektywizacji w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opolizacja przez państwo handlu zagraniczneg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trudnianie rozwoju (podatki, kontrole, koncesje)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zw.  jednostkom gospodarki nieuspołecznio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1(12) - IPN Styczeń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3(110) - IPN Marzec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12(23) - IPN Grudzień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9-10(118-119) - IPN Wrzesień-Październik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5-6(100-101) - IPN Maj-Czerwiec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3(86) - IPN Marzec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isler Jerzy - Zarys dziejów politycznych Polski 1944-1991, Oficyna BGW 1992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n sześcioletni - Warszawa 19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szkowski Wojciech - Najnowsza Historia Polski 1914-2011, Świat Książki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rksizm w praktyce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. 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paganda w PR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sekwencje gospodarki realnego socjal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paganda w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3889440" cy="5556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395280" y="2133720"/>
            <a:ext cx="324000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lakat propagando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okresu PRL gloryfikujący inwestycje w dziedzinie przemysłu cięż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www.komunizm.eu/Plakaty_PRL/budowl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lakaty propagandowe z okresu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168720" cy="452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4846680" y="1197000"/>
            <a:ext cx="3073320" cy="439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468360" y="595008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komunizm.eu/Plakaty_PRL/dobroby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643280" y="5934240"/>
            <a:ext cx="42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komunizm.eu/Plakaty_PRL/bumelant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nda w P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ształtowanie świadomości i przekonani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 wielkości i przewadze systemu socjalistycznego nad kapitalizm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pagowanie sukcesów ZSRR i krajów demokracji ludowej oraz partii robotniczej, itp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nda sukcesu w P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olbrzymianie dokonań partii robotniczej i ekipy rządzącej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uszowanie niepowodzeń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hasła: dynamiczny rozwój, cud gospodarczy, budowanie drugiej Pols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sadnicze skutki wprowadzenia gospodarki planowej w PR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412640"/>
            <a:ext cx="8351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budzenie przemian gospodarczych i społeczn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westycje prowadzące do rozbudowy przemysłu (głównie ciężkiego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doinwestowanie innych dziedzin gospodark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sztywnienie polityki gospodarczej poprzez konieczność realizacji plan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rnotrawstwo surowców i energ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ztuczne zawyżanie efektywności przedsiębiorst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ywołanie niedoboru towarów na rynku i ich reglamentac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oliczności prowadzące do zaistnie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raktyce, gospodarki socjalistycznej opartej o marksistowskie założenia ekonom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e cechy gospodarki realnego socjal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gospodarki PR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jemne skutki funkcjonowania gospodarki socjalistyczn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blemy z zaopatrzeniem w artykuły konsumpcyj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egatywne rezultaty sterowania procesami produkcj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 handl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dobory – kolejki – reglamentac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rugi obieg handlowy – tzw. „czarny rynek”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ecjalne przywileje w zakresie dystrybucji towarów dla wybranych grup społecznych (talony na dobra luksusowe, dodatki żywieniowe it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artki na mięso i mleko z okresu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Kartka_na_mleko"/>
          <p:cNvPicPr/>
          <p:nvPr/>
        </p:nvPicPr>
        <p:blipFill>
          <a:blip r:embed="rId1"/>
          <a:stretch/>
        </p:blipFill>
        <p:spPr>
          <a:xfrm>
            <a:off x="468360" y="1484280"/>
            <a:ext cx="3527280" cy="25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4068720" cy="2819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826920" y="5516640"/>
            <a:ext cx="67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pl.wikipedia.org/wiki/Plik:Kartka_na_mleko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xxwiek.pl/images.php?type=medium&amp;p=2359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rochę humoru </a:t>
            </a:r>
            <a:r>
              <a:rPr b="1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98100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uda socjalizm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a bezrobocia, ale nikt nie pracuj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kt nie pracuje, a wszyscy otrzymują wynagrodzen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otrzymują wynagrodzenie, ale nic nie można za to kupi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c nie można kupić, ale wszyscy mają wszystk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mają wszystko, ale wszyscy są też niezadowolen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są niezadowoleni, ale podczas wyborów głosują za tym ustroj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jważniejsze wytyczne socjalis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yś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pomyślałeś, to nie m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powiedziałeś, to nie pisz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napisałeś, to nie podpisu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podpisałeś, to się nie dziw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dło: www.nonsensopedia.wikia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Okoliczności prowadzące do zaistnienia w praktyce gospodarki socjalistycznej opartej o marksistowskie założenia ekono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349000"/>
            <a:ext cx="82915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ewolucje społeczne prowadzące do objęcia władzy przez partie komunistyczne (np. Rewolucja Październikowa 1917 roku w Rosj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iany polityczne wywołane agresją, aneksją terytorialną, presją militarną (np. zmiany polityczne we wschodniej części Polski w 1939 i w Polsce po 1945 rok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realnego socjalizm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915920"/>
            <a:ext cx="83516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obszarze zarządzania wprowadzono gospodarkę planową – nakazowo-rozdzielcz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planowanie produkcj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ustalanie cen produkt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sterowanie procesami społeczno-ekonomiczny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podejmowanie decyzji o inwestycjach gospodarcz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zakresie zatrudni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707920"/>
            <a:ext cx="828972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niejszanie zaludnienia w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parte o ideologiczne względy tworzenie miejsc pracy – przerost zatrudnienia i brak powiązania pomiędzy wielkością zatrudnienia i wydajnością pra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kryte bezrobocie wynikające z koncentracji inwestycj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określonych rejonach przy ich braku w pozostał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rak elastyczności rynku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ał ogłoszeń – pracownicy poszukiwan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ybuna Robotnicza z 1987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7" descr=""/>
          <p:cNvPicPr/>
          <p:nvPr/>
        </p:nvPicPr>
        <p:blipFill>
          <a:blip r:embed="rId1"/>
          <a:stretch/>
        </p:blipFill>
        <p:spPr>
          <a:xfrm>
            <a:off x="8236080" y="828720"/>
            <a:ext cx="755640" cy="551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Placeholder 2" descr=""/>
          <p:cNvPicPr/>
          <p:nvPr/>
        </p:nvPicPr>
        <p:blipFill>
          <a:blip r:embed="rId2"/>
          <a:srcRect l="0" t="18307" r="0" b="18307"/>
          <a:stretch/>
        </p:blipFill>
        <p:spPr>
          <a:xfrm>
            <a:off x="684360" y="10587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ozwój przemysłu cięż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76280"/>
            <a:ext cx="80740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iorytetem w planach gospodarczych PRL, zwłaszcza w pierwszych latach powojennych, była industrializacja kraju na wzór radziecki – rozwój przemysłu ciężkiego i met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tandarową inwestycją była budowa kombinatu metalurgicznego w Nowej Hu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dobycie węgla w Polsce w latach 1950-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ęgiel kamienny 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ęgiel brunatny 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hart 6" descr=""/>
          <p:cNvPicPr/>
          <p:nvPr/>
        </p:nvPicPr>
        <p:blipFill>
          <a:blip r:embed="rId1"/>
          <a:stretch/>
        </p:blipFill>
        <p:spPr>
          <a:xfrm>
            <a:off x="-6480" y="0"/>
            <a:ext cx="8979120" cy="3505320"/>
          </a:xfrm>
          <a:prstGeom prst="rect">
            <a:avLst/>
          </a:prstGeom>
          <a:ln w="0">
            <a:noFill/>
          </a:ln>
        </p:spPr>
      </p:pic>
      <p:pic>
        <p:nvPicPr>
          <p:cNvPr id="112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8967960" cy="646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dukcja stali surowej w Polsce w latach 1950-2008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5450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755640" y="57736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www.wiking.edu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juraszczyk</cp:lastModifiedBy>
  <dcterms:modified xsi:type="dcterms:W3CDTF">2013-04-11T13:45:40Z</dcterms:modified>
  <cp:revision>38</cp:revision>
  <dc:subject/>
  <dc:title>Slajd 1</dc:title>
</cp:coreProperties>
</file>