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463-B57B-4CEB-B592-688FF300C9C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25C-E01D-4425-BF36-F58250B8F5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F85-EE83-4100-82AD-74C37963DB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B07-00FF-4E4F-8596-1BC35984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A25-A874-420A-9981-A3010A08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2E2-CAE1-46E8-9028-2C011F83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1C4-1005-4124-B056-A1659F3D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1E85-745E-4FBB-B490-ACAA3884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55B7-0B83-463B-88BF-1E05EF4B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133C-612E-486C-B4BE-D895058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A952-D43D-4423-8B0E-A152BC2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FE36-EF41-4D0A-9168-6490F74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9DFE-60A4-430E-889A-DE51207F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3B28-96E7-4934-8EC4-5E26FB30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A83-F436-475B-AA7C-8013B5C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C93A-3571-4740-8C47-D11F99E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D72C-8C03-4132-870B-69413741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F987-2A73-4EC0-B295-A86DF9AA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16B7-FFA1-4C39-AD37-928E4AB6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3836-E10C-4F87-9727-348B81C2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84B-87E3-41AD-AC64-91DB296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D7B-14E9-4814-A7BB-A5617A6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F8A-FBEA-4CCD-8B77-99844C52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6E-AB07-48F0-87FE-848E3C28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446-8E02-4976-ACE4-8D1512C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99D-2307-48F3-92BA-A5F0708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99A-419E-4599-84E8-86DFC2A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80D2-38D3-420C-A592-965C5B25824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BB7E-4BD0-46B5-B614-4BB38D9BCB2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omanum.historicus.pl/rolnictwo_rzymskie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omanum.historicus.pl/niewolnicy_rzymscy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storion.pl/republika-rzymska-ustroj-polityczny/2/" TargetMode="External"/><Relationship Id="rId3" Type="http://schemas.openxmlformats.org/officeDocument/2006/relationships/hyperlink" Target="http://historion.pl/republika-rzymska-ustroj-polityczny/2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omanum.historicus.pl/urzedy_rzymski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rtfolie.wordpress.com/tag/starozytny-rzy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omanum.historicus.pl/spoleczenstwo_rzymskie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oloruje.pl/rzymianin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omanum.historicus.pl/ekwici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ivis Romanus –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 w republice rzymski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letari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pochodzi od 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ol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potoms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siadali niczego oprócz potom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ywatele, którzy nie posiadali zie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ważnie zrujnowani rolnicy i rzemieślnicy oraz biedota rzym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Bartek\Downloads\Rolnik_rzymski.jpg"/>
          <p:cNvPicPr/>
          <p:nvPr/>
        </p:nvPicPr>
        <p:blipFill>
          <a:blip r:embed="rId1"/>
          <a:stretch/>
        </p:blipFill>
        <p:spPr>
          <a:xfrm>
            <a:off x="1042920" y="2565360"/>
            <a:ext cx="2857680" cy="21146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920880" y="4724280"/>
            <a:ext cx="276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Rolnik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rolnic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woln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iem zostawało się przez urodzenie, jako jeniec lub zdobycz woje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cy pracowali na roli, w kamieniołomach, byli rzemieślnikami, zarządcami majątków, lekarz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 był traktowany, jak mówiąca rze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Bartek\Downloads\rzymska_mozaika.jpg"/>
          <p:cNvPicPr/>
          <p:nvPr/>
        </p:nvPicPr>
        <p:blipFill>
          <a:blip r:embed="rId1"/>
          <a:stretch/>
        </p:blipFill>
        <p:spPr>
          <a:xfrm>
            <a:off x="4643280" y="2276640"/>
            <a:ext cx="404208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7"/>
          <p:cNvSpPr/>
          <p:nvPr/>
        </p:nvSpPr>
        <p:spPr>
          <a:xfrm>
            <a:off x="4581360" y="5229360"/>
            <a:ext cx="412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Rzymska mozaika ukazując dwóch niewolników przenoszącyc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łoiki win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niewolnicy_rzymsc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ywatele rzyms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odzeni z rodziców obywatelstwa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osiedlenia się w Rzymie (Latynow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wyzwo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nadania lub kupienia obywatel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e praw  obywatelskich i publicz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ozwoju terytorialnego i społeczeństwa rzymskiego obywatelstwo przyznawano coraz większym grupom mieszkańc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Bartek\Downloads\Senat-rzymski.jpg"/>
          <p:cNvPicPr/>
          <p:nvPr/>
        </p:nvPicPr>
        <p:blipFill>
          <a:blip r:embed="rId1"/>
          <a:stretch/>
        </p:blipFill>
        <p:spPr>
          <a:xfrm>
            <a:off x="1332000" y="1557360"/>
            <a:ext cx="651672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9"/>
          <p:cNvSpPr/>
          <p:nvPr/>
        </p:nvSpPr>
        <p:spPr>
          <a:xfrm>
            <a:off x="1308240" y="5732640"/>
            <a:ext cx="2887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Senat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on.pl/republika-rzymska-ustroj-polityczny/2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gólne cechy republ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:\scenariusze lekcji do przetargu\do realizacji\Civis Romanus\2\grafika\Rys_17_T07_2_cz_II_kuria_forum_romanum.jpg"/>
          <p:cNvPicPr/>
          <p:nvPr/>
        </p:nvPicPr>
        <p:blipFill>
          <a:blip r:embed="rId1"/>
          <a:stretch/>
        </p:blipFill>
        <p:spPr>
          <a:xfrm>
            <a:off x="755640" y="2276640"/>
            <a:ext cx="2755800" cy="367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olegial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adencyj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460440" y="5950080"/>
            <a:ext cx="3940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7 Kuria na Forum Romanum – miejsce  obradowania senat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romanum.historicus.pl/republika_rzymsk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gromadzenia lud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ane komicj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rawodawcza i sądownic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ne raz na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ydowało o wojnie                     i pok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ierało urzędni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Bartek\Downloads\SPQR2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27340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9"/>
          <p:cNvSpPr/>
          <p:nvPr/>
        </p:nvSpPr>
        <p:spPr>
          <a:xfrm>
            <a:off x="4587120" y="4797360"/>
            <a:ext cx="273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SPQ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eh.ro/2013/04/07/spqr-flag-wallpaper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olityczna i administracy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politykę zagrani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wał uchwa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użył radą urzędni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ył ok. 300 osó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taquigrafos_tironianas_at_senatus.jpg"/>
          <p:cNvPicPr/>
          <p:nvPr/>
        </p:nvPicPr>
        <p:blipFill>
          <a:blip r:embed="rId1"/>
          <a:stretch/>
        </p:blipFill>
        <p:spPr>
          <a:xfrm>
            <a:off x="468360" y="3068640"/>
            <a:ext cx="4040280" cy="164304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421920" y="4797360"/>
            <a:ext cx="3288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Tachygrafowie w senacie rzymski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tenografia.pl/pmwiki/index.php?n=Historia.StarozytnyRzy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ons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o ich dwó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wódcy ar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li Zgromadzenia              i 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inicjatywę ustawodawc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stawali namiestnikami najważniejszych prowi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rzymskie_wojsko.jpg"/>
          <p:cNvPicPr/>
          <p:nvPr/>
        </p:nvPicPr>
        <p:blipFill>
          <a:blip r:embed="rId1"/>
          <a:stretch/>
        </p:blipFill>
        <p:spPr>
          <a:xfrm>
            <a:off x="4500720" y="2276640"/>
            <a:ext cx="4095720" cy="273672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4520520" y="5084640"/>
            <a:ext cx="268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zymskie wojs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omanglory.pun.pl/viewtopic.php?id=2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Pr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jmował się wymiarem sprawiedli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nadzór nad sądownictw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:\Users\Bartek\Downloads\pretor.jpg"/>
          <p:cNvPicPr/>
          <p:nvPr/>
        </p:nvPicPr>
        <p:blipFill>
          <a:blip r:embed="rId1"/>
          <a:stretch/>
        </p:blipFill>
        <p:spPr>
          <a:xfrm>
            <a:off x="468360" y="2708280"/>
            <a:ext cx="4040280" cy="229068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8"/>
          <p:cNvSpPr/>
          <p:nvPr/>
        </p:nvSpPr>
        <p:spPr>
          <a:xfrm>
            <a:off x="404640" y="5084640"/>
            <a:ext cx="3367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2 Pre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100" spc="-1" strike="noStrike" u="sng">
                <a:solidFill>
                  <a:srgbClr val="000000"/>
                </a:solidFill>
                <a:uFillTx/>
                <a:latin typeface="Calibri"/>
              </a:rPr>
              <a:t>http://www.imperivm.org/articulos/pretor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Cen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wóch na 5 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ełnili najczęściej byli konsu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rządzali spis obywateli wg. posiadanego mają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lali listy sena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obyc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finanse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Bartek\Downloads\pole_marsowe.jpg"/>
          <p:cNvPicPr/>
          <p:nvPr/>
        </p:nvPicPr>
        <p:blipFill>
          <a:blip r:embed="rId1"/>
          <a:stretch/>
        </p:blipFill>
        <p:spPr>
          <a:xfrm>
            <a:off x="5219640" y="2205000"/>
            <a:ext cx="2668680" cy="331164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7"/>
          <p:cNvSpPr/>
          <p:nvPr/>
        </p:nvSpPr>
        <p:spPr>
          <a:xfrm>
            <a:off x="5083200" y="5589720"/>
            <a:ext cx="3800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3 Pola Marsowe - tutaj stawiali się uprawnieni obywatel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 składania oświadczeń. Na ich podstawie cenzorzy mogl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konać spisu ludnośc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cenzor_rzymsk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rzym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Edy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porządek                 w mieś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li dostawy zboża dla mi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gotowywali                               i przewodniczyli igrzys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Bartek\Downloads\walka_gladiatorow.jpg"/>
          <p:cNvPicPr/>
          <p:nvPr/>
        </p:nvPicPr>
        <p:blipFill>
          <a:blip r:embed="rId1"/>
          <a:stretch/>
        </p:blipFill>
        <p:spPr>
          <a:xfrm>
            <a:off x="611280" y="2133720"/>
            <a:ext cx="3618000" cy="3628800"/>
          </a:xfrm>
          <a:prstGeom prst="rect">
            <a:avLst/>
          </a:prstGeom>
          <a:ln w="0">
            <a:noFill/>
          </a:ln>
        </p:spPr>
      </p:pic>
      <p:sp>
        <p:nvSpPr>
          <p:cNvPr id="176" name="pole tekstowe 7"/>
          <p:cNvSpPr/>
          <p:nvPr/>
        </p:nvSpPr>
        <p:spPr>
          <a:xfrm>
            <a:off x="564840" y="5805360"/>
            <a:ext cx="385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4 Mozaika przedstawiająca walkę gladiator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historia.newsweek.pl/gladiatorzy--celebryci-czasow-cezara,97809,1,1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w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niższy rangą urzęd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agał konsulom                       w zarządzaniu finans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statnich latach republiki było ich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Bartek\Downloads\kwestor.jpg"/>
          <p:cNvPicPr/>
          <p:nvPr/>
        </p:nvPicPr>
        <p:blipFill>
          <a:blip r:embed="rId1"/>
          <a:stretch/>
        </p:blipFill>
        <p:spPr>
          <a:xfrm>
            <a:off x="5332320" y="2198520"/>
            <a:ext cx="2316240" cy="339120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7"/>
          <p:cNvSpPr/>
          <p:nvPr/>
        </p:nvSpPr>
        <p:spPr>
          <a:xfrm>
            <a:off x="5321880" y="5732640"/>
            <a:ext cx="3488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5 Kwes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kolorowankimalowanki.pl/kolorowanki-asterix-i-obelix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– Trybun Lud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rzeznaczony dla plebeju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rońca ludu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veta dla ust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 nietykal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zwoływania Zgromadzeń lud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Bartek\Downloads\Gaius_Gracchus_trybun_ludowy.jpg"/>
          <p:cNvPicPr/>
          <p:nvPr/>
        </p:nvPicPr>
        <p:blipFill>
          <a:blip r:embed="rId1"/>
          <a:stretch/>
        </p:blipFill>
        <p:spPr>
          <a:xfrm>
            <a:off x="468360" y="2492280"/>
            <a:ext cx="4040280" cy="2562480"/>
          </a:xfrm>
          <a:prstGeom prst="rect">
            <a:avLst/>
          </a:prstGeom>
          <a:ln w="0">
            <a:noFill/>
          </a:ln>
        </p:spPr>
      </p:pic>
      <p:sp>
        <p:nvSpPr>
          <p:cNvPr id="186" name="pole tekstowe 7"/>
          <p:cNvSpPr/>
          <p:nvPr/>
        </p:nvSpPr>
        <p:spPr>
          <a:xfrm>
            <a:off x="414720" y="5157720"/>
            <a:ext cx="27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6 Gajusz Grakchus, trybun ludow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reformy_grakchow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publika Rzyms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powstała w 509 r.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czątkach Rzymu powstał wśród obywateli podział na dwie grupy:                                 patrycjuszy i plebejus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okres republiki, to walka                             o równouprawnienie pomiędzy patrycjuszam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plebejusz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Bartek\Downloads\800px-Spqrstone.jpg"/>
          <p:cNvPicPr/>
          <p:nvPr/>
        </p:nvPicPr>
        <p:blipFill>
          <a:blip r:embed="rId1"/>
          <a:stretch/>
        </p:blipFill>
        <p:spPr>
          <a:xfrm>
            <a:off x="1052640" y="1341360"/>
            <a:ext cx="703872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980640" y="5084640"/>
            <a:ext cx="6857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Senatus Populusque Romanus, czyli "senat i lud/naród rzymski". Formuła ta stanowiła w starożytności oficjaln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zwę Imperium Rzymskiego, a skrót SPQR, do czasu rozpowszechnienia się na to miejsce wizerunku orła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ełniał funkcję godła państwowe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urzedy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łacińskiego określen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atr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ojci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zywilejowana warstwa społe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ę praw politycz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mieli wyłączność na obejmowanie urzę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Bartek\Downloads\starozytny_ubior.jpg"/>
          <p:cNvPicPr/>
          <p:nvPr/>
        </p:nvPicPr>
        <p:blipFill>
          <a:blip r:embed="rId1"/>
          <a:stretch/>
        </p:blipFill>
        <p:spPr>
          <a:xfrm>
            <a:off x="4716360" y="2205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7"/>
          <p:cNvSpPr/>
          <p:nvPr/>
        </p:nvSpPr>
        <p:spPr>
          <a:xfrm>
            <a:off x="4879080" y="5084640"/>
            <a:ext cx="264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 Starożytny ubió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rtfolie.wordpress.com/tag/starozytny-rzy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lebe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słow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leb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l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ludów podbitych, ale byli wo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nie mieli praw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ełnili służbę w wojsku (piecho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czasem zaczęli się domagać wpływ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ńst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Bartek\Downloads\plebejusze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6478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7"/>
          <p:cNvSpPr/>
          <p:nvPr/>
        </p:nvSpPr>
        <p:spPr>
          <a:xfrm>
            <a:off x="547920" y="5084640"/>
            <a:ext cx="32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Fresk ścienny przedstawiający życie plebejus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spoleczens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dzy plebejuszami, a patrycjuszami od VI do III wieku p.n.e trwały walki o dostęp do zie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mi zwycięstwami plebejuszy były: prawo dwunastu tablic z 449 roku p.n.e., zniesienie niewoli za długi i dostęp do wszystkich urzęd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zmian doszło do zlania się górnej warstwy plebejuszy z patrycjuszami. Zaczęła powstawać nowa arystokracj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nobilita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szlachetnie urodze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/nobi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ciciele latyfundiów, wysocy urzędnicy, senato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5 rodzin m.in. Fabiusze, Klaudiusze, Emiliusze, Korneliusze z przydomkiem Scy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Bartek\Downloads\rzymianin.jpg"/>
          <p:cNvPicPr/>
          <p:nvPr/>
        </p:nvPicPr>
        <p:blipFill>
          <a:blip r:embed="rId1"/>
          <a:stretch/>
        </p:blipFill>
        <p:spPr>
          <a:xfrm>
            <a:off x="5184720" y="2174760"/>
            <a:ext cx="2482920" cy="331164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5235840" y="5516640"/>
            <a:ext cx="217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Rzymian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jakoloruje.pl/rzymianin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kw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tego stanu wywodzi się od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quu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"koń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elitarnych jednostek jazdy w legion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li wpływową i zamożną grupą właścicieli ziemski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dsiębiorc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ęki udziało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dbojach uzyskali wpływy i stali się osobną warstwą społe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Bartek\Downloads\mlody_ekwita.jpg"/>
          <p:cNvPicPr/>
          <p:nvPr/>
        </p:nvPicPr>
        <p:blipFill>
          <a:blip r:embed="rId1"/>
          <a:stretch/>
        </p:blipFill>
        <p:spPr>
          <a:xfrm>
            <a:off x="5364000" y="1844640"/>
            <a:ext cx="2540160" cy="349236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5310000" y="5373720"/>
            <a:ext cx="2224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 Młody ekw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ekwic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10:14Z</dcterms:modified>
  <cp:revision>60</cp:revision>
  <dc:subject/>
  <dc:title>Slajd 1</dc:title>
</cp:coreProperties>
</file>