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D7B-EE98-43A0-9105-978A40927D1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3DA-DF24-441E-8054-D5C9ED3761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50E-B1DD-462D-9909-A91C129E3A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E63-1F18-4957-90AC-DC72F63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EBF-9674-4C59-AE2B-E8CB019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58A-7C38-4483-85E1-255D6B4F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7A3-6041-48A9-B498-C036F0B5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0DB-710B-4757-A2D1-B4E8D062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E0BA-F0DD-46D8-AD36-9DF2916A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85FE-0AF3-4D9C-AD4C-3484B26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076F-BAB0-427C-AF83-370FA7D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7176-2ECF-4878-AC65-579369AF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DB31-8CB9-40CA-9592-13110248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05EE-DB97-48C0-9BE6-E291052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08C-BEAA-4E61-B994-F2543A23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FA4B-B96C-4E27-B36D-28FC2B8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7F53-F131-4D39-968B-06976FB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F27D-DE64-4269-ABC7-C29836D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C47-1701-468F-B1E1-51D8F698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0689-606A-47C2-B8AB-7C86BE4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7434-A315-44D9-9EF6-A8124B6B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4DA4-7EA2-4EFC-8BB5-D74BB62D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9246-12D0-46E2-8F35-3FB6CF4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1AB6-D61F-464C-B120-856B511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4C61-879A-46DD-A270-9BAB897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7F5-AA57-4875-A4B5-443503CE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0445-EBE6-47F3-AC7C-38C0E529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EB4C-D8CA-44EF-8FC2-890BFFB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F701-0AC2-4855-9CE4-8E69357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A2BC-0FD9-4E64-9A12-029BDE5E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2D51-C13E-4F64-AD21-07893CBB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CC79-4D1D-44F8-8BDA-34A2333D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99D8-1477-45E1-AF6E-BDB08FD1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3FDCB-196A-4A75-BD8B-7F01035B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218F-A016-4036-8E21-F9200DD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8AB40-CCF4-4C62-A06A-DB6B74EA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4A3-236E-4909-B89F-9DDAAC25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968E-3C80-476E-9089-92E7014C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A52D-FCAA-465C-B247-B6CEBA6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0488-31E2-40A7-B19F-AA95143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AFFF-D3F9-43BA-A356-A000AAE6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E9ED-EAA1-40F0-84CB-25F6620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4182-0954-4EAA-938D-5709CD9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43DB-F923-48BB-9E5A-05E63EB0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01F1-D2C0-4EA6-B249-9705600F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2B22-013D-47B7-85BB-CFB069C6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24AE-6C90-4EDE-A020-A1082691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76D-DB23-49D0-BD78-FC2DDE3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54D2-F6A9-4E6B-A20E-E016EDAF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7F6E-2C70-46D5-BCDC-6F963795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83C5-3141-498D-B190-C72D671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3B02-F0BD-4301-96A1-5194312D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C600-6E9B-4584-A1B0-70D89E23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B201-442F-479D-8FFF-FF96C90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7BD3-F5FD-414A-80B5-9A6F271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11C3-DE91-4FD6-B7B7-55BFF82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53E4-AFA8-424A-A6BD-778144F7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F78A-345A-4634-9DCF-F035BD8B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742-0BA5-4903-85AB-056726FD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4827-1104-4A07-A134-7BE7011A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7E2-9DC0-4D0D-9281-EE5D77C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8E7-85A3-456E-8D31-56B4DE5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F85-B696-4EE1-91F8-3C763096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73E-4711-4EC6-9425-98EA1A7A17A9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Prostokąt 9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7" name="Prostokąt 9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Łącznik prostoliniowy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E681-0173-4543-A83B-C57394507671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4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9A9-CB41-44A5-8E6A-9470FD70D34A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0B3-1E17-4239-8610-663B332817B1}" type="slidenum">
              <a:rPr b="0" lang="pl-P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6FA-E45E-4677-84EC-EFDD7A7499EA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sejm.gov.pl/" TargetMode="External"/><Relationship Id="rId3" Type="http://schemas.openxmlformats.org/officeDocument/2006/relationships/hyperlink" Target="http://www.google.pl/url?sa=i&amp;rct=j&amp;q=&amp;esrc=s&amp;source=images&amp;cd=&amp;cad=rja&amp;docid=eKK93ron-T-HZM&amp;tbnid=4cXrfgx1W0JcjM:&amp;ved=0CAQQjB0&amp;url=http%3A%2F%2Fszlachtazt.blogspot.com%2Fp%2Fszlachta.html&amp;ei=v2qiUeTnAYKZPb35gbgF&amp;bvm=bv.47008514,d.ZWU&amp;psig=AFQjCNHx1WKqMxUbD2dPzz6ZsXnrLm_Y-Q&amp;ust=1369684995547320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ytuł 1" descr=""/>
          <p:cNvPicPr/>
          <p:nvPr/>
        </p:nvPicPr>
        <p:blipFill>
          <a:blip r:embed="rId1"/>
          <a:stretch/>
        </p:blipFill>
        <p:spPr>
          <a:xfrm>
            <a:off x="828720" y="1481040"/>
            <a:ext cx="7724880" cy="2255760"/>
          </a:xfrm>
          <a:prstGeom prst="rect">
            <a:avLst/>
          </a:prstGeom>
          <a:ln w="0">
            <a:noFill/>
          </a:ln>
        </p:spPr>
      </p:pic>
      <p:sp>
        <p:nvSpPr>
          <p:cNvPr id="23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Izabella Lankos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To system ustrojowy Rzeczypospolitej gwarantujący stanowi szlacheckiemu prawo decydowania w sprawach państwa, zarówno w polityce zagranicznej, jak i wewnętrznej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Wykształciła się w XV i XVI wieku, dzięki uzyskiwanym przez szlachtę przywilejo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Jej ukoronowaniem była konstytucja </a:t>
            </a:r>
            <a:r>
              <a:rPr b="1" i="1" lang="pl-PL" sz="2400" spc="-1" strike="noStrike">
                <a:solidFill>
                  <a:srgbClr val="000000"/>
                </a:solidFill>
                <a:latin typeface="Book Antiqua"/>
              </a:rPr>
              <a:t>nihil novi </a:t>
            </a: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w 1505 rok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Ustrój demokracji szlacheckiej utrzymał się w Polsce do rozbioró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obraz2"/>
          <p:cNvPicPr/>
          <p:nvPr/>
        </p:nvPicPr>
        <p:blipFill>
          <a:blip r:embed="rId1"/>
          <a:stretch/>
        </p:blipFill>
        <p:spPr>
          <a:xfrm>
            <a:off x="900000" y="836640"/>
            <a:ext cx="68407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obraz1"/>
          <p:cNvPicPr/>
          <p:nvPr/>
        </p:nvPicPr>
        <p:blipFill>
          <a:blip r:embed="rId1"/>
          <a:stretch/>
        </p:blipFill>
        <p:spPr>
          <a:xfrm>
            <a:off x="755640" y="404640"/>
            <a:ext cx="6985080" cy="527076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2"/>
          <p:cNvSpPr/>
          <p:nvPr/>
        </p:nvSpPr>
        <p:spPr>
          <a:xfrm>
            <a:off x="2212200" y="587700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edzenie sejmu w 1622 r., (miedziory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2195640" y="1773360"/>
            <a:ext cx="4464000" cy="1008000"/>
            <a:chOff x="2195640" y="1773360"/>
            <a:chExt cx="4464000" cy="1008000"/>
          </a:xfrm>
        </p:grpSpPr>
        <p:sp>
          <p:nvSpPr>
            <p:cNvPr id="243" name="AutoShape 6"/>
            <p:cNvSpPr/>
            <p:nvPr/>
          </p:nvSpPr>
          <p:spPr>
            <a:xfrm>
              <a:off x="2195640" y="1773360"/>
              <a:ext cx="4464000" cy="100800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2986200" y="1916280"/>
              <a:ext cx="309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ahoma"/>
                </a:rPr>
                <a:t>Sarmatyzm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AutoShape 17"/>
          <p:cNvSpPr/>
          <p:nvPr/>
        </p:nvSpPr>
        <p:spPr>
          <a:xfrm>
            <a:off x="2411280" y="2787480"/>
            <a:ext cx="792360" cy="1224000"/>
          </a:xfrm>
          <a:prstGeom prst="downArrow">
            <a:avLst>
              <a:gd name="adj1" fmla="val 50000"/>
              <a:gd name="adj2" fmla="val 386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076720" y="2789280"/>
            <a:ext cx="792360" cy="1224000"/>
          </a:xfrm>
          <a:prstGeom prst="downArrow">
            <a:avLst>
              <a:gd name="adj1" fmla="val 50000"/>
              <a:gd name="adj2" fmla="val 386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611280" y="4013280"/>
            <a:ext cx="3456000" cy="1071360"/>
            <a:chOff x="611280" y="4013280"/>
            <a:chExt cx="3456000" cy="1071360"/>
          </a:xfrm>
        </p:grpSpPr>
        <p:sp>
          <p:nvSpPr>
            <p:cNvPr id="248" name="AutoShape 10"/>
            <p:cNvSpPr/>
            <p:nvPr/>
          </p:nvSpPr>
          <p:spPr>
            <a:xfrm>
              <a:off x="611280" y="4013280"/>
              <a:ext cx="3456000" cy="107136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900000" y="4266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Styl życia szlach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AutoShape 14"/>
          <p:cNvSpPr/>
          <p:nvPr/>
        </p:nvSpPr>
        <p:spPr>
          <a:xfrm>
            <a:off x="4533840" y="4013280"/>
            <a:ext cx="3456000" cy="10713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deologia szlachec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ytuł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5626080" cy="139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250560" y="1609200"/>
            <a:ext cx="511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yl życia szlachty w XVII wieku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rozbudowana ideologia szlachecka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czucie „przedmurza chrześcijaństwa” przez polską szlachtę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obyczaj, światopogląd i rodowód jaki przypisywała sobie szlachta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łączenie tradycji Wschodu i Zachodu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urt ziemiański w Barok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373200" cy="3992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2178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9200"/>
            <a:ext cx="591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ąsy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prostowana postura ciał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otyły mężczyzn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asy, żupany i futra z gronostajów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ubiorze i wizerunkach szlachciców dominuje kolor żółty, pomarańczow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isiory i naszyjniki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dzieci wyglądały jak dorośl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228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1609200"/>
            <a:ext cx="5194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sejm.gov.p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szlachtazt.blogspot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kultura.wp.pl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ww.fronda.gliwice.pl 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5148360" y="333360"/>
            <a:ext cx="372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ytuł 1" descr=""/>
          <p:cNvPicPr/>
          <p:nvPr/>
        </p:nvPicPr>
        <p:blipFill>
          <a:blip r:embed="rId1"/>
          <a:stretch/>
        </p:blipFill>
        <p:spPr>
          <a:xfrm>
            <a:off x="0" y="1914480"/>
            <a:ext cx="9472680" cy="2255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5-26T20:10:39Z</dcterms:modified>
  <cp:revision>19</cp:revision>
  <dc:subject>szablon prezentacji KPW</dc:subject>
  <dc:title>Zrównoważony rozwój</dc:title>
</cp:coreProperties>
</file>