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6AF4-AE29-4162-B4C9-E22F626DBDB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6050-0DFE-4342-9643-29398F416F4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B67D-6228-42B7-A80F-808336FBB15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570D-472C-43FB-B3FA-8AAF14FF2D9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70D8-9245-4D29-AEEB-B03BA35E0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5211-0DA4-45FF-9A07-50120077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0C83-5483-4EC6-BD37-55B430DEE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EB04-85D1-4D9A-B80B-93F995AD8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FACD-3293-4637-B172-9D72DDAF3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7603-886A-4EDC-B124-D8A625E8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43F8-488D-419B-8743-4DE514B5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2093-E30E-4BB3-AD4F-8338D898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2FA9-130A-481B-9AFD-F998FA1D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EB44-A949-42D3-85C4-4093A519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C7F7-A706-4AF4-A494-E426B534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A96C-35B2-453C-A383-12A8547F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13C9-8A32-438B-B0DA-74585A32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4650-4633-47A9-9972-A7061C9A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931E-9F73-4252-A7B2-7F6B138E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304A-BF08-470B-8D37-12DC380B5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A1B8-9DBC-479D-9895-CD20807E1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13F5-6DCD-4F21-8419-880764B3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714C-2BB0-4F0E-A3D8-7347C996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70F9-4EB5-44A7-A509-3115ED1B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FD7D-3501-4034-8E43-937F539A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F29A-27E3-4F68-9689-82E634FE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803D-C265-49A9-A54D-95A1ABEC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D5E6-F7D8-4656-AE2C-CD14FA7C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1B67-87D1-43CB-9319-1FB2A04A4E6C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758D-5031-468F-98F9-869A8DB89457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upload.wikimedia.org/wikipedia/commons/thumb/0/0c/Jean-Pierre_Norblin_de_La_Gourdaine,_Sejmik_w_ko&#347;ciele_(1785)_-_02.png/266px-Jean-Pierre_Norblin_de_La_Gourdaine,_Sejmik_w_ko&#347;ciele_(1785)_-_02.png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histmag.org/Historyczny-przeglad-prasy-3-9-pazdziernika-2011-5969" TargetMode="External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histmag.org/Historyczny-przeglad-prasy-3-9-pazdziernika-2011-5969" TargetMode="External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pl.wikipedia.org/wiki/Plik:Polish_Sejm_under_the_reign_of_Sigismund_III_Vasa.JPG" TargetMode="External"/><Relationship Id="rId3" Type="http://schemas.openxmlformats.org/officeDocument/2006/relationships/hyperlink" Target="http://pl.wikipedia.org/wiki/Plik:Polish_Sejm_under_the_reign_of_Sigismund_III_Vasa.JPG" TargetMode="External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l.wikipedia.org/wiki/Plik:Polish_Sejm_under_the_reign_of_Sigismund_III_Vasa.JPG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12880" y="2276280"/>
            <a:ext cx="381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Polski parlamentaryzm w Rzeczypospolitej Obojga Narodów</a:t>
            </a: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46836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Arial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http://upload.wikimedia.org/wikipedia/commons/5/5b/Szlachta_Herby.jpg"/>
          <p:cNvPicPr/>
          <p:nvPr/>
        </p:nvPicPr>
        <p:blipFill>
          <a:blip r:embed="rId1"/>
          <a:stretch/>
        </p:blipFill>
        <p:spPr>
          <a:xfrm>
            <a:off x="684360" y="549360"/>
            <a:ext cx="462888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Elekcja w XVII w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6056280" cy="4176720"/>
          </a:xfrm>
          <a:prstGeom prst="rect">
            <a:avLst/>
          </a:prstGeom>
          <a:ln w="0">
            <a:noFill/>
          </a:ln>
        </p:spPr>
      </p:pic>
      <p:sp>
        <p:nvSpPr>
          <p:cNvPr id="143" name="Prostokąt 2"/>
          <p:cNvSpPr/>
          <p:nvPr/>
        </p:nvSpPr>
        <p:spPr>
          <a:xfrm>
            <a:off x="6732720" y="1413000"/>
            <a:ext cx="241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www.muzhp.pl/Kalendarz/web2/7%20wrzesnia.jpg, dostęp 2.06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statnia elekcja, układ pola elekcyjne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484200" y="1413000"/>
            <a:ext cx="5873760" cy="4421160"/>
          </a:xfrm>
          <a:prstGeom prst="rect">
            <a:avLst/>
          </a:prstGeom>
          <a:ln w="0">
            <a:noFill/>
          </a:ln>
        </p:spPr>
      </p:pic>
      <p:sp>
        <p:nvSpPr>
          <p:cNvPr id="148" name="Prostokąt 3"/>
          <p:cNvSpPr/>
          <p:nvPr/>
        </p:nvSpPr>
        <p:spPr>
          <a:xfrm>
            <a:off x="6357960" y="4292640"/>
            <a:ext cx="2638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www.muzhp.pl/artykuly/676/elekcje-krolow-w-polsce-przedrozbiorowej, dostęp 6.06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7704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Koniec epoki wolnych elekcji – zniesione przez Konstytucję 3 Ma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611280" y="2165400"/>
            <a:ext cx="5383080" cy="3451320"/>
          </a:xfrm>
          <a:prstGeom prst="rect">
            <a:avLst/>
          </a:prstGeom>
          <a:ln w="0">
            <a:noFill/>
          </a:ln>
        </p:spPr>
      </p:pic>
      <p:sp>
        <p:nvSpPr>
          <p:cNvPr id="152" name="Prostokąt 2"/>
          <p:cNvSpPr/>
          <p:nvPr/>
        </p:nvSpPr>
        <p:spPr>
          <a:xfrm>
            <a:off x="6516720" y="3284640"/>
            <a:ext cx="234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polonistika.upol.cz/fileadmin/ksl/polonistika/studium/materialy/moduly/konstytucja.jpg, dostep 2.06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140360" y="3933360"/>
            <a:ext cx="3960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898989"/>
                </a:solidFill>
                <a:latin typeface="Calibri"/>
              </a:rPr>
              <a:t>Wręcz przeciwnie, utrwaliła. Zlikwidowała jej wynaturzenia. Miała jednak wadę – zmniejszyła dostęp uboższej szlachty do sprawowania władz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3811320" y="2130120"/>
            <a:ext cx="46465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zy Konstytucja 3 maja zlikwidowała demokrację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449280" y="581040"/>
            <a:ext cx="336240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9280" y="35856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Wiec w czasach Kazimierza Wielkiego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8" descr=""/>
          <p:cNvPicPr/>
          <p:nvPr/>
        </p:nvPicPr>
        <p:blipFill>
          <a:blip r:embed="rId1"/>
          <a:stretch/>
        </p:blipFill>
        <p:spPr>
          <a:xfrm>
            <a:off x="905040" y="1700280"/>
            <a:ext cx="6264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ejmik w kościele – rysunek z XVIII w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5715000" cy="4172040"/>
          </a:xfrm>
          <a:prstGeom prst="rect">
            <a:avLst/>
          </a:prstGeom>
          <a:ln w="0">
            <a:noFill/>
          </a:ln>
        </p:spPr>
      </p:pic>
      <p:sp>
        <p:nvSpPr>
          <p:cNvPr id="105" name="Prostokąt 2"/>
          <p:cNvSpPr/>
          <p:nvPr/>
        </p:nvSpPr>
        <p:spPr>
          <a:xfrm>
            <a:off x="6523200" y="4194000"/>
            <a:ext cx="2411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Źródło: http://upload.wikimedia.org/wikipedia/commons/thumb/0/0c/Jean-Pierre_Norblin_de_La_Gourdaine,_Sejmik_w_ko%C5%9Bciele_(1785)_-_02.png/266px-Jean-Pierre_Norblin_de_La_Gourdaine,_Sejmik_w_ko%C5%9Bciele_(1785)_-_02.png</a:t>
            </a: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, dostęp 8.06.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Sejmik w kościele – głosowani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1"/>
          <a:stretch/>
        </p:blipFill>
        <p:spPr>
          <a:xfrm>
            <a:off x="590400" y="1614600"/>
            <a:ext cx="5715000" cy="3628800"/>
          </a:xfrm>
          <a:prstGeom prst="rect">
            <a:avLst/>
          </a:prstGeom>
          <a:ln w="0">
            <a:noFill/>
          </a:ln>
        </p:spPr>
      </p:pic>
      <p:sp>
        <p:nvSpPr>
          <p:cNvPr id="110" name="Prostokąt 4"/>
          <p:cNvSpPr/>
          <p:nvPr/>
        </p:nvSpPr>
        <p:spPr>
          <a:xfrm>
            <a:off x="504720" y="5222880"/>
            <a:ext cx="261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Źródło: http://histmag.org/Historyczny-przeglad-prasy-3-9-pazdziernika-2011-5969</a:t>
            </a: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, dostęp 8.06.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Rzeczpospolita – pochodzenie pojęc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8" descr=""/>
          <p:cNvPicPr/>
          <p:nvPr/>
        </p:nvPicPr>
        <p:blipFill>
          <a:blip r:embed="rId1"/>
          <a:stretch/>
        </p:blipFill>
        <p:spPr>
          <a:xfrm>
            <a:off x="1714680" y="1614600"/>
            <a:ext cx="5715000" cy="3628800"/>
          </a:xfrm>
          <a:prstGeom prst="rect">
            <a:avLst/>
          </a:prstGeom>
          <a:ln w="0">
            <a:noFill/>
          </a:ln>
        </p:spPr>
      </p:pic>
      <p:sp>
        <p:nvSpPr>
          <p:cNvPr id="115" name="Prostokąt 4"/>
          <p:cNvSpPr/>
          <p:nvPr/>
        </p:nvSpPr>
        <p:spPr>
          <a:xfrm>
            <a:off x="2195640" y="49197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histmag.org/Historyczny-przeglad-prasy-3-9-pazdziernika-2011-596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ejm walny – wspólne posiedzenie króla, senatu i izby poselskie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AutoShape 2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601560" y="1573200"/>
            <a:ext cx="5400720" cy="4194360"/>
          </a:xfrm>
          <a:prstGeom prst="rect">
            <a:avLst/>
          </a:prstGeom>
          <a:ln w="0">
            <a:noFill/>
          </a:ln>
        </p:spPr>
      </p:pic>
      <p:sp>
        <p:nvSpPr>
          <p:cNvPr id="121" name="Prostokąt 6"/>
          <p:cNvSpPr/>
          <p:nvPr/>
        </p:nvSpPr>
        <p:spPr>
          <a:xfrm>
            <a:off x="6443640" y="1557360"/>
            <a:ext cx="24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Źródł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pl.wikipedia.org/wiki/Plik:Polish_Sejm_under_the_reign_of_Sigismund_III_Vasa.JPG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dostęp 1.06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dobieństwa – parlament brytyjski w okresie Stuart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AutoShape 2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rostokąt 6"/>
          <p:cNvSpPr/>
          <p:nvPr/>
        </p:nvSpPr>
        <p:spPr>
          <a:xfrm>
            <a:off x="3959280" y="3478320"/>
            <a:ext cx="248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Źródł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news.richarddenning.co.uk/wp-content/uploads/2011/07/parliament_assembled_at_westmi_hi.jpg, dostęp 2.06.201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AutoShape 2"/>
          <p:cNvSpPr/>
          <p:nvPr/>
        </p:nvSpPr>
        <p:spPr>
          <a:xfrm>
            <a:off x="60156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326880" y="1413000"/>
            <a:ext cx="3453120" cy="4197240"/>
          </a:xfrm>
          <a:prstGeom prst="rect">
            <a:avLst/>
          </a:prstGeom>
          <a:ln w="0">
            <a:noFill/>
          </a:ln>
        </p:spPr>
      </p:pic>
      <p:sp>
        <p:nvSpPr>
          <p:cNvPr id="129" name="pole tekstowe 1"/>
          <p:cNvSpPr/>
          <p:nvPr/>
        </p:nvSpPr>
        <p:spPr>
          <a:xfrm>
            <a:off x="3959280" y="1557360"/>
            <a:ext cx="284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obny charakter, choć z rozdzielonymi obradami stanów miały parlament duński i szwedzki 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Riksens ständ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emokracja w sądownictw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AutoShape 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52520" y="1484280"/>
            <a:ext cx="6137280" cy="4032360"/>
          </a:xfrm>
          <a:prstGeom prst="rect">
            <a:avLst/>
          </a:prstGeom>
          <a:ln w="0">
            <a:noFill/>
          </a:ln>
        </p:spPr>
      </p:pic>
      <p:sp>
        <p:nvSpPr>
          <p:cNvPr id="134" name="Prostokąt 4"/>
          <p:cNvSpPr/>
          <p:nvPr/>
        </p:nvSpPr>
        <p:spPr>
          <a:xfrm>
            <a:off x="6589800" y="4076640"/>
            <a:ext cx="253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www.bialystok.ap.gov.pl/bit/50lat/grodzka_droh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rostokąt 5"/>
          <p:cNvSpPr/>
          <p:nvPr/>
        </p:nvSpPr>
        <p:spPr>
          <a:xfrm>
            <a:off x="6589800" y="1484280"/>
            <a:ext cx="197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umariusz księgi sądowej ziemskiej drohickiej Sądu Ziemskiego Drohickiego. Tekst w księdze w językach: łacińskim, polski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ierwsza wolna elekcja 157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6620040" cy="3867120"/>
          </a:xfrm>
          <a:prstGeom prst="rect">
            <a:avLst/>
          </a:prstGeom>
          <a:ln w="0">
            <a:noFill/>
          </a:ln>
        </p:spPr>
      </p:pic>
      <p:sp>
        <p:nvSpPr>
          <p:cNvPr id="139" name="Prostokąt 2"/>
          <p:cNvSpPr/>
          <p:nvPr/>
        </p:nvSpPr>
        <p:spPr>
          <a:xfrm>
            <a:off x="1928160" y="5589720"/>
            <a:ext cx="57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historia.pgi.pl/matejko2.php, dostęp 3.6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Grzegorz Szymanowski</cp:lastModifiedBy>
  <dcterms:modified xsi:type="dcterms:W3CDTF">2013-06-13T16:46:39Z</dcterms:modified>
  <cp:revision>19</cp:revision>
  <dc:subject/>
  <dc:title>Slajd 1</dc:title>
</cp:coreProperties>
</file>