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02B0-3CEC-4616-8EC4-B83983DAEF5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9D22-47FA-4EB0-97E6-3DE9469C3D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51ED-A377-4E18-A64F-F2F88939AE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5A3-2D37-4D7B-ACBA-2DFA01DB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C78-0424-47A8-9887-33BC6116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590-4E9E-4B83-9A41-C04D53EF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248-FCDA-4BE2-9EDE-3AAB8DB9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16C5-452C-412D-B1A9-257BBE6F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103F-C989-48DE-AEEC-40D1B60C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7775-9D0A-41C6-AC5A-FA632C42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D4D0-5FF1-4FDD-9897-41DF39C1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1627-2058-488C-A677-D9448855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084D-92F8-4239-9726-8D8424A1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2625-4067-4A50-A897-748F586C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1EF-9371-4C76-BCD0-2A226E65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1CBA-7B66-41BA-8798-D6ADC89E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DC06-510B-42E4-8412-392C5983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6034-6EE2-458A-8153-ECBA7723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E29D-9499-43EE-8437-B9D62BFE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EDC3-C920-4035-A600-901E68D0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E56-F50F-43C8-8A5B-D71D8FB2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7E8-B749-45C9-BE09-607DC7A1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A4A-FDA0-4560-93C0-4BFFF876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DFC-01FC-43C9-B8E8-90A7A806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0D4-E068-4282-9492-AF9BDA02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392-E682-4341-A3D4-1D933D24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571-DE7B-4525-A009-1F2D36EA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BD5B-EB5E-48E2-A254-E5E0580891C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08E6-BF04-40C0-8B63-6FB5EEA4F1C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Utopia i antyutopi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rancis Bacon „Nowa Atlantyda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le tekstowe 4"/>
          <p:cNvSpPr/>
          <p:nvPr/>
        </p:nvSpPr>
        <p:spPr>
          <a:xfrm>
            <a:off x="611280" y="134136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rancis Bacon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ngielski filozof, żyjący w latach 1561-162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1632 r. napisał utopijną powieść o mitycznej krainie Bensalem, którą rządzą naukowcy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– są wynalazcami (tworzą np. nowe gatunki roślin i zwierząt) i cudotwórcami (np. potrafią latać). Posiedzenia parlamentu są naukowymi debatami nad wynikami eksperymentó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O czym mówią utopie renesansow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4"/>
          <p:cNvSpPr/>
          <p:nvPr/>
        </p:nvSpPr>
        <p:spPr>
          <a:xfrm>
            <a:off x="611280" y="1197000"/>
            <a:ext cx="799308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pisują zagubione na dalekich oceanach wyspy szczęśliwe, nie dając swoim współczesnym żadnych wskazówek, jak tam dopłynąć. Utopie mogą wręcz wydawać się oderwanymi od rzeczywistości igraszkami intelektualnymi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acki J,. Historia myśli socjologicznej, Wydawnictwo Naukowe PWN, Warszawa 2002, s. 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Obraz 3" descr="Island_near_Fiji.jpg"/>
          <p:cNvPicPr/>
          <p:nvPr/>
        </p:nvPicPr>
        <p:blipFill>
          <a:blip r:embed="rId1"/>
          <a:stretch/>
        </p:blipFill>
        <p:spPr>
          <a:xfrm>
            <a:off x="395280" y="3933720"/>
            <a:ext cx="831852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onathan Swift „Podróże Guliwera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4"/>
          <p:cNvSpPr/>
          <p:nvPr/>
        </p:nvSpPr>
        <p:spPr>
          <a:xfrm>
            <a:off x="611280" y="134136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Jonathan Swift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isarz irlandzki żyjący w latach 1667-174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726 r. napisał „Podróże Guliwera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ołączenie parodii powieści podróżniczej i satyry na naturę ludzką. W książce przedstawił bezlitosną krytykę XVIII-wiecznej Anglii: jej ustroju parlamentarnego polityki, sądownictwa i nauki.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ohater książki, Lemuel Guliwer, w swojej podróży odwiedza m.in.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pę Lilliputu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tórej mieszkańcy mają po 15 cm wzros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robdingna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raj olbrzymów, gdzie bohater staje się m.in. lalką małej dziewczynk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pę Laputę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ządzoną przez uczo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lubbdubdrib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krainę zamieszkałą przez jasnowidzów i czarowni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raj Luggnaggów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mieszały przez ludzi skazanych na nieśmiertelnoś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jczyznę Houyhnhnm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pięknych i szlachetnych koni, którym służą Jahusi – odrażający, zdegenerowani ludz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gnacy Krasicki „Mikołaja Doświadczyńskiego przypadki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4"/>
          <p:cNvSpPr/>
          <p:nvPr/>
        </p:nvSpPr>
        <p:spPr>
          <a:xfrm>
            <a:off x="3203640" y="1989000"/>
            <a:ext cx="54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gnacy Krasick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żyjący w latach 1735 – 1801 jeden z głównych przedstawicieli polskiego oświecenia, związany z programem reform Stanisława Augus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 1776 r. opublikował „Mikołaja Doświadczyńskiego przypadki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znawane z pierwszą nowożytną powieść polską. Jej bohater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rafia na utopijną wyspę Nipu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gdzie pod wpływe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ędrca Xao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pracy z Nipuanami zmienia swoje poglądy i postępowan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Obraz 3" descr="Ignacy_Krasicki.jpg"/>
          <p:cNvPicPr/>
          <p:nvPr/>
        </p:nvPicPr>
        <p:blipFill>
          <a:blip r:embed="rId1"/>
          <a:stretch/>
        </p:blipFill>
        <p:spPr>
          <a:xfrm>
            <a:off x="395280" y="1989000"/>
            <a:ext cx="2637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a wyspie Nip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4"/>
          <p:cNvSpPr/>
          <p:nvPr/>
        </p:nvSpPr>
        <p:spPr>
          <a:xfrm>
            <a:off x="611280" y="1341360"/>
            <a:ext cx="799308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Nie masz u Nipuanów słów wyrażających kłamstwo, kradzież, zdradę, pochlebstwo. Terminów prawnych nie znają. Choroby nie mają szczególnych nazwisk; ale też ani dworaków, ani jurystów, ani doktorów nie masz. (…) W zgromadzeniu naszym nie masz żadnej innej zwierzchności politycznej prócz naturalnej rodziców nad dziećmi. (…) Człowiek jednakowo z drugim człowiekiem rodzący się nie może, a przynajmniej nie powinien by sobie przywłaszczać zwierzchności nad nim;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wszyscy są równi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asicki I., Mikołaja Doświadczyńskiego przypadki, Zakład Narodowy im. Ossolińskich, Wrocław 197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26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Herbert George Wells „Wehikuł czasu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611280" y="134136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Herbert George Wells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żyjący w latach 1866-1946 powieściopisarz angielsk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1895 r. napisał powieść fantastyczną „Wehikuł czasu”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órej głównym bohaterem 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dróżnik w Czasi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anonimowy naukowiec mieszkający w Richmond. Testując stworzony przez siebie wehikuł czasu, przenosi się do roku 802 701, gdzie spotyka m.in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Eloj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rasę żyjącą w małych grupach, niepracującą i jedzącą tylko owoce. Odkrywa też, że nieświadomi Elojowie służą jak pokarm dl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orlok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bezwłosych albinosów zamieszkujących podziem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Utopie heroiczne i eskapistycz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4"/>
          <p:cNvSpPr/>
          <p:nvPr/>
        </p:nvSpPr>
        <p:spPr>
          <a:xfrm>
            <a:off x="611280" y="134136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ocjolog Jerzy Szacki dzieli utopie 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heroiczn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łączą wizję lepszego świata z wezwaniem do działania, które będzie prowadzić do zmiany rzeczywistości tak, by odpowiadała ludzkim potrzebom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skapistyczn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pozwalają na ucieczkę od trudnej rzeczywistości do idealnego świata marzeń; ich elementem nie jest walka o wprowadzanie zmia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efinicja antyutop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4"/>
          <p:cNvSpPr/>
          <p:nvPr/>
        </p:nvSpPr>
        <p:spPr>
          <a:xfrm>
            <a:off x="611280" y="1125360"/>
            <a:ext cx="799308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Antyutopia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– utopia negatywna, przedstawiająca – zazwyczaj w formie powieści – społeczeństwo przyszłości jako nadmiernie zorganizowane, rządzone metodami dyktatorskimi, niszczące w człowieku jego indywidualność.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Antyutopie są zwykle polemikami z utopiami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, z ich ideologią i wiarą w świetlaną przyszłość; to, co w utopii jest traktowane jako przejaw idealnej organizacji społeczeństwa, w antyutopii jest przedstawiane jako czynnik ograniczający swobodę jednostki, dominacji nad nią systemu i maszy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yt. za: Sławiński J. (red.), Słownik terminów literackich, Ossolineum, Wrocław 2000, s. 3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Literackie przykłady antyutop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4"/>
          <p:cNvSpPr/>
          <p:nvPr/>
        </p:nvSpPr>
        <p:spPr>
          <a:xfrm>
            <a:off x="3492360" y="2276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ldous Huxley „Nowy wspaniały świat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orge Orwell „Rok 198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Obraz 3" descr="1984-Big-Brother.jpg"/>
          <p:cNvPicPr/>
          <p:nvPr/>
        </p:nvPicPr>
        <p:blipFill>
          <a:blip r:embed="rId1"/>
          <a:stretch/>
        </p:blipFill>
        <p:spPr>
          <a:xfrm>
            <a:off x="324000" y="1484280"/>
            <a:ext cx="272232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ldous Huxley „Nowy wspaniały świa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4"/>
          <p:cNvSpPr/>
          <p:nvPr/>
        </p:nvSpPr>
        <p:spPr>
          <a:xfrm>
            <a:off x="684360" y="162864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ldous Huxle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– angielski powieściopisarz i eseista, żył w latach 1894-196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owy wspaniały świat” napisał w 1932 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rzy hasła Republiki Świata, którą opisuje, 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spólność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wyraża się zasadą „każdy jest dla każdego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dentyczn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która jest efektem klonowania i przejawia się w sferze upodobań i poglądów, a w niższych klasach społecznych – także wygląd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abilność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wypływa z zachowania identyczności i wspólności, a udaje się to osiągnąć za pomocą nieustającej kontroli i tępienia zachowań nieprzewidzianych normą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611280" y="1197000"/>
            <a:ext cx="7993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efinicja pojęcia „utopia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brane teksty filozoficzne i literackie , w których pojawia się wątek utopii  (Platon, More, Campanella, Bacon, Swift, Krasicki, Well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utopii na heroiczne i eskapistyczn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efinicja pojęcia „antyutopia”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ażniejsze powieści antyutopijne („Nowy wspaniały świat” Huxleya i „Rok 1984” Orwella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tywy antyutopijne w filmie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k żyją obywatele Republiki Świ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4"/>
          <p:cNvSpPr/>
          <p:nvPr/>
        </p:nvSpPr>
        <p:spPr>
          <a:xfrm>
            <a:off x="611280" y="134136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siągnęli powszechną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zczęśliwość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wstają w wyniku sztucznego zapłodnienia i klonowania – od narodzin są poddawani warunkowaniu psychologicznemu i biologicznemu, by jako dorośli być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dealnymi członkami społeczności pozbawionej indywidualizmu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gnień i uczuć wyższych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ą idealnymi pracownikam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 nie żądają podwyżek, nie strajkują, nie intryguj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ch ewentualne niepokoje uśmierza soma – narkotyk, na którego używanie są warunkowani od dzieck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eorge Orwell „Rok 1984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4"/>
          <p:cNvSpPr/>
          <p:nvPr/>
        </p:nvSpPr>
        <p:spPr>
          <a:xfrm>
            <a:off x="611280" y="134136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eorge Orwell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właściwie Eric Blair) – angielski pisarz i publicysta, żył w latach 1903 – 1950. Uczestniczył w wojnie domowej w Hiszpanii. W czasie II wojny światowej napisał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„Folwark zwierzęcy” –  powieść alegoryczną i paraboliczną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w warstwie dosłownej będącą satyrą na rewolucję rosyjską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1949 r. wydał antyutopijną powieść  „Rok 1984”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w której przedstawił wizję Oceanii – państwa totalitarnego, na czele którego stoi nieomylny i wszechmocny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elki Brat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 państwie Wielkiego Br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4"/>
          <p:cNvSpPr/>
          <p:nvPr/>
        </p:nvSpPr>
        <p:spPr>
          <a:xfrm>
            <a:off x="611280" y="98100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szechobecna inwigilacj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Policja Myśli, donosicielstwo, teleekrany, podsłuchy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ngsoc – ustrój oparty na przemocy i nienawi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Tydzień Nienawiśc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ołeczeństwo hierarchiczn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Partia Wewnętrzna – 2 proc. ludności, Partia Zewnętrzna – 13 proc. ludności, prole – 85 proc. ludnośc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asła Partii: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wojna to pokój”, „wolność to niewola”, „ignorancja to siła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paganda sukcesu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inisterstwo Prawd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podlegała mu prasa, rozrywka, oświata i sztuka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inisterstwo Pokoj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ajmowało się prowadzeniem wojny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inisterstwo Mił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pilnowało ładu i porządku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inisterstwo Obfit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ajmowało się gospodark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owomow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urzędowy język Oceanii, ukształtowany tak, by uniemożliwić formułowanie myśli uznawanych za niewłaściwe (myślozbrod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iągłe zmienianie przeszłości (dwójmyśleni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ntyutopie w fil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4"/>
          <p:cNvSpPr/>
          <p:nvPr/>
        </p:nvSpPr>
        <p:spPr>
          <a:xfrm>
            <a:off x="611280" y="134136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k 1984”, reż. Michael Radford, 1984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dny świat”, reż. Kevin Costner, 1995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atrix”, reż. Andy i Lenny Wachowscy, 1999 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V jak Vendetta”, reż. James McTeigue, 2006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4"/>
          <p:cNvSpPr/>
          <p:nvPr/>
        </p:nvSpPr>
        <p:spPr>
          <a:xfrm>
            <a:off x="250920" y="1052640"/>
            <a:ext cx="8713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acon F., Nowa Atlantyda, PAX, Warszawa 19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Campanella T., Miasto słońca, Alfa, Warszawa, 199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uxley A., Nowy Wspaniały Świat, Muza, Warszawa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paliński W., Słownik mitów i tradycji kultury, tom 3, Wydawnictwo Rzeczpospolita HPS, Warszawa 200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rasicki I., Mikołaja Doświadczyńskiego przypadki, Zakład Narodowy im. Ossolińskich, Wrocław 197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re (Morus) T., Utopia, Daimonion, Lublin 19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well G., Rok 1984, Da Capo, Warszawa 199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laton, Państwo, Antyk, Kęty 19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ławiński J. (red.), Słownik terminów literackich, Ossolineum, Wrocław 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wift J., Podróże Guliwera, http://wolnelektury.pl/katalog/lektura/podroze-guliwer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zacki J., Spotkania z utopią, Sic!, Warszawa 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zacki J,. Historia myśli socjologicznej, Wydawnictwo Naukowe PWN, Warszawa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ells H.G., Wehikuł czasu, Amber, Warszawa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3"/>
          <p:cNvSpPr/>
          <p:nvPr/>
        </p:nvSpPr>
        <p:spPr>
          <a:xfrm>
            <a:off x="684360" y="1197000"/>
            <a:ext cx="7775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. Platon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ragment fresku „Szkoła ateńska”, autor: Rafael Santi, źródło: Wikimedia Commons, http://pl.wikipedia.org/wiki/Plik:Plato-raphael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. Wysp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, fot. Remember, źródło: Wikimedia Commons, http://pl.wikipedia.org/wiki/Plik:Island_near_Fiji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. Ignacy Krasick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otograficzna reprodukcja portretu, autor obrazu: Per Krafft the Elder, źródło: Wikimedia Commons, http://pl.wikipedia.org/wiki/Plik:Ignacy_Krasicki_111.P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. Big brother is watching you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autor: Frederic Guimonta, źródło: Wikimedia Commons, http://pl.wikipedia.org/wiki/Plik:1984-Big-Brother.jpg, licencja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e Art Licens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http://artlibre.org/licence/lal/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efinicja utop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611280" y="1341360"/>
            <a:ext cx="7993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Utopi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– nie mająca szans urzeczywistnienia i nie licząca się z realnym stanem rzeczy i stosunków społecznych 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wizja idealnego, egalitarnego społeczeństwa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. Nazwa pochodzi od tytułu łac. dzieła 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Thomasa Morusa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Potocznie – mrzonka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, plan, pomysł wzniosły, idealny, ale nieżyciowy, nierealny, nieziszczalny, fantastycz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yt. za: Kopaliński W., Słownik mitów i tradycji kultury, tom 3, Wydawnictwo Rzeczpospolita HPS, Warszawa 2007, s. 3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Utopia w filozofii i literatu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le tekstowe 4"/>
          <p:cNvSpPr/>
          <p:nvPr/>
        </p:nvSpPr>
        <p:spPr>
          <a:xfrm>
            <a:off x="611280" y="134136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laton „Państwo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homas More (Morus) „Utopi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ommaso Campanella „Miasto słońc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rancis Bacon „Nowa Atlantyd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onathan Swift „Podróże Guliwera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gnacy Krasicki „Mikołaja Doświadczyńskiego przypadki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erbert George Wells „Wehikuł czasu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az 3" descr="Plato-raphael.jpg"/>
          <p:cNvPicPr/>
          <p:nvPr/>
        </p:nvPicPr>
        <p:blipFill>
          <a:blip r:embed="rId1"/>
          <a:stretch/>
        </p:blipFill>
        <p:spPr>
          <a:xfrm>
            <a:off x="755640" y="981000"/>
            <a:ext cx="1871640" cy="199404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ton „Państwo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4"/>
          <p:cNvSpPr/>
          <p:nvPr/>
        </p:nvSpPr>
        <p:spPr>
          <a:xfrm>
            <a:off x="3059280" y="981000"/>
            <a:ext cx="5689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laton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grecki filozof, żyjący ok. 427-347 p.n.e., krytycznie oceniał ateńską demokrację i uważał, że żyje w czasach upadku i zepsucia. Jego zdaniem żadne realnie funkcjonujące państwo nie jest idealne.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4"/>
          <p:cNvSpPr/>
          <p:nvPr/>
        </p:nvSpPr>
        <p:spPr>
          <a:xfrm>
            <a:off x="684360" y="3213000"/>
            <a:ext cx="79912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latońskie państwo idealne przypomina organizm: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jest najpodobniejsze do jednego człowieka. Tak, jak kiedyś u kogoś z nas palec zostanie zraniony, to cała wspólnota cielesna, do której i dusza należy i wraz z nią tworzy jeden układ w niej panujący, spostrzega to i cała równocześnie wraz z tym palcem cierpi – cała, chociaż palec to tylko jej część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laton, Państwo, tłum. Władysław Witwicki, Antyk, Kęty 1997, s. 1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 platońskim państwie idealny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4"/>
          <p:cNvSpPr/>
          <p:nvPr/>
        </p:nvSpPr>
        <p:spPr>
          <a:xfrm>
            <a:off x="611280" y="1341360"/>
            <a:ext cx="79930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ie ma nierówności społeczny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m.in. podziału na ubogich i bogatych, stąd postulat likwidacji własności prywatne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ieczna jest pewna uniformizacja obywatel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także w zakresie ich myśli i uczuć, czemu sprzyjać ma kontrola nad wszystkimi sferami życia jednostek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stnieją trzy kasty: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ędrcy, wojownicy i lud – każdy człowiek zajmuje się tym, do czego się najlepiej nadaj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homas More (Morus) „Utopia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611280" y="1341360"/>
            <a:ext cx="799308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homas More (Morus)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żyjący w latach 1478 – 1535 angielski myśliciel, pisarz i mąż stanu.  Jako kanclerz Anglii sprzeciwił się rozwodowi Henryka VIII i uznaniu go za głowę Kościoła anglikańskiego. Skazany na ścięcie i stracony, został uznany za męczennika i kanonizowa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1516 r. napisał „Utopię”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pełen tytuł: „Książeczka zaiste złota i niemniej pożyteczna jak przyjemna o najlepszym ustroju państwa i nieznanej dotąd wyspie Utopii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dealne społeczeństwo w „Utopii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4"/>
          <p:cNvSpPr/>
          <p:nvPr/>
        </p:nvSpPr>
        <p:spPr>
          <a:xfrm>
            <a:off x="611280" y="1341360"/>
            <a:ext cx="7993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analiza sposobu funkcjonowania renesansowej Angli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doprowadziła do wniosku, że konieczna jest przebudowa systemu społeczno-ekonomicznego – równy podział dóbr między wszystkich i brak własności prywatne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dealne państwo zapewnia wszystkim obywatelom dobrobyt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terialny, dostęp do nauki, kultury i oświaty; ludzie pracują dla dobra ogółu, nie istnieje własność prywatna i pieniądz, a społeczeństwo jest tolerancyjne, pokojowo nastawione, panuje w nim równouprawnienie kobiet i mężczyzn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333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ommaso Campanella „Miasto słońca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611280" y="1341360"/>
            <a:ext cx="7993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ommaso Campanell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żyjący w latach 1568-1639 włoski teolog i filozo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602 r. napisał „Miasto słońca” – utwór o idealnym społeczeństwi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czele Solariuszy stoi Metafizyk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władca absolutny, a wspiera go trzech współwładców (Pon – Moc, Sin – Mądrość i Mor – Miłość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eszkańcy mogą wyrazić swoją wolę, poskarżyć się albo przedstawić swoje potrzeby w czas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ielkich Zgromadzeń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e istnieje niewolnictwo, praca fizyczna cieszy się wielkim szacunkiem, a dzięki dobrej organizacji mieszkańcy pracują nie więcej niż 4 godziny dzienn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borem par i wychowaniem dzieci zarządzają odpowiedni urzędnicy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olariusze są jednakowo boga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bo mają dostęp do wszystkich dóbr)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 jednakowo  biedn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ponieważ nic nie jest ich własnością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joa</cp:lastModifiedBy>
  <dcterms:modified xsi:type="dcterms:W3CDTF">2013-04-03T16:40:45Z</dcterms:modified>
  <cp:revision>71</cp:revision>
  <dc:subject/>
  <dc:title>Slajd 1</dc:title>
</cp:coreProperties>
</file>