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D766-0CB5-402F-9E34-A28563F346B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3332-C429-43E1-A2B6-EF5C0893E2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6C77-1810-4876-9698-DBE3B63C8A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76B-1C88-4700-8C36-9210017E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3F3-4A7F-40FD-BC16-8F086382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E63-8E9D-4CCD-91E8-6D8FA5E2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3D7-0F97-4153-AB25-93E23BE0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965C-1E80-4FC9-BDD0-22118897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F84-50B5-4FE7-83ED-EEB30C40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E78C-7CBA-498C-BFB3-A707CBE7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B9D3-98E0-4646-A10E-4B2CDF35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D694-EBC6-485B-A5D1-C9062EA2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451E-A3D9-4C7D-898A-224BF845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3A6F-3352-4786-A690-631BC5A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B5B-8C80-4EC0-AFDF-E8BCA8F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FB4C-3B50-4126-AB1A-E3E8B6F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02EE-D76F-466C-838C-A23881BA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D484-237F-411A-8785-09A524FA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2CAB-0AE0-4924-AB25-0815A14A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81B7-1C75-4D0D-AC53-0623417D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033-DBE2-473B-A9A3-680EF2A1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B7C-8546-4557-AC22-E49F2BBB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AA3-55D4-4C54-806E-EAD3F62C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5EB-3C32-407A-ADC3-06725AFF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AEE-9B23-49BB-A73A-23FDA110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0C8-16A7-48BD-8360-D2F7A139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0CD-A096-46E2-B06B-60692A2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FF2A-B43E-4E39-85A4-0D01AD7009E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ED8F-EAF9-4333-BE67-CB83C314B78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omanum.historicus.pl/rolnictwo_rzymskie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omanum.historicus.pl/niewolnicy_rzymscy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istorion.pl/republika-rzymska-ustroj-polityczny/2/" TargetMode="External"/><Relationship Id="rId3" Type="http://schemas.openxmlformats.org/officeDocument/2006/relationships/hyperlink" Target="http://historion.pl/republika-rzymska-ustroj-polityczny/2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omanum.historicus.pl/urzedy_rzymskie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rtfolie.wordpress.com/tag/starozytny-rzy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omanum.historicus.pl/spoleczenstwo_rzymskie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jakoloruje.pl/rzymianin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omanum.historicus.pl/ekwici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ivis Romanus –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 w republice rzymski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letari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pochodzi od 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ol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potoms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siadali niczego oprócz potom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ywatele, którzy nie posiadali zie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ważnie zrujnowani rolnicy i rzemieślnicy oraz biedota rzym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C:\Users\Bartek\Downloads\Rolnik_rzymski.jpg"/>
          <p:cNvPicPr/>
          <p:nvPr/>
        </p:nvPicPr>
        <p:blipFill>
          <a:blip r:embed="rId1"/>
          <a:stretch/>
        </p:blipFill>
        <p:spPr>
          <a:xfrm>
            <a:off x="1042920" y="2565360"/>
            <a:ext cx="2857680" cy="211464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6"/>
          <p:cNvSpPr/>
          <p:nvPr/>
        </p:nvSpPr>
        <p:spPr>
          <a:xfrm>
            <a:off x="920880" y="4724280"/>
            <a:ext cx="2768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 Rolnik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rolnic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woln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iem zostawało się przez urodzenie, jako jeniec lub zdobycz wojen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cy pracowali na roli, w kamieniołomach, byli rzemieślnikami, zarządcami majątków, lekarz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 był traktowany, jak mówiąca rze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Bartek\Downloads\rzymska_mozaika.jpg"/>
          <p:cNvPicPr/>
          <p:nvPr/>
        </p:nvPicPr>
        <p:blipFill>
          <a:blip r:embed="rId1"/>
          <a:stretch/>
        </p:blipFill>
        <p:spPr>
          <a:xfrm>
            <a:off x="4643280" y="2276640"/>
            <a:ext cx="4042080" cy="292392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7"/>
          <p:cNvSpPr/>
          <p:nvPr/>
        </p:nvSpPr>
        <p:spPr>
          <a:xfrm>
            <a:off x="4581360" y="5229360"/>
            <a:ext cx="4129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Rzymska mozaika ukazując dwóch niewolników przenoszącyc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łoiki win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niewolnicy_rzymscy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ywatele rzyms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odzeni z rodziców obywatelstwa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osiedlenia się w Rzymie (Latynow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wyzwol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nadania lub kupienia obywatel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e praw  obywatelskich i publicz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rozwoju terytorialnego i społeczeństwa rzymskiego obywatelstwo przyznawano coraz większym grupom mieszkańc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Bartek\Downloads\Senat-rzymski.jpg"/>
          <p:cNvPicPr/>
          <p:nvPr/>
        </p:nvPicPr>
        <p:blipFill>
          <a:blip r:embed="rId1"/>
          <a:stretch/>
        </p:blipFill>
        <p:spPr>
          <a:xfrm>
            <a:off x="1332000" y="1557360"/>
            <a:ext cx="6516720" cy="406404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9"/>
          <p:cNvSpPr/>
          <p:nvPr/>
        </p:nvSpPr>
        <p:spPr>
          <a:xfrm>
            <a:off x="1308240" y="5732640"/>
            <a:ext cx="2887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 Senat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on.pl/republika-rzymska-ustroj-polityczny/2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gólne cechy republ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D:\scenariusze lekcji do przetargu\do realizacji\Civis Romanus\2\grafika\Rys_17_T07_2_cz_II_kuria_forum_romanum.jpg"/>
          <p:cNvPicPr/>
          <p:nvPr/>
        </p:nvPicPr>
        <p:blipFill>
          <a:blip r:embed="rId1"/>
          <a:stretch/>
        </p:blipFill>
        <p:spPr>
          <a:xfrm>
            <a:off x="755640" y="2276640"/>
            <a:ext cx="2755800" cy="367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olegial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adencyj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5"/>
          <p:cNvSpPr/>
          <p:nvPr/>
        </p:nvSpPr>
        <p:spPr>
          <a:xfrm>
            <a:off x="460440" y="5950080"/>
            <a:ext cx="3940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7 Kuria na Forum Romanum – miejsce  obradowania senatu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romanum.historicus.pl/republika_rzymsk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gromadzenia lud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ane komicj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rawodawcza i sądownic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ne raz na 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cydowało o wojnie                     i pok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bierało urzędni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Bartek\Downloads\SPQR2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273400"/>
          </a:xfrm>
          <a:prstGeom prst="rect">
            <a:avLst/>
          </a:prstGeom>
          <a:ln w="0">
            <a:noFill/>
          </a:ln>
        </p:spPr>
      </p:pic>
      <p:sp>
        <p:nvSpPr>
          <p:cNvPr id="151" name="pole tekstowe 9"/>
          <p:cNvSpPr/>
          <p:nvPr/>
        </p:nvSpPr>
        <p:spPr>
          <a:xfrm>
            <a:off x="4587120" y="4797360"/>
            <a:ext cx="273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 SPQ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meh.ro/2013/04/07/spqr-flag-wallpaper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olityczna i administracyj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politykę zagrani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awał uchwał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użył radą urzędni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ył ok. 300 osó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taquigrafos_tironianas_at_senatus.jpg"/>
          <p:cNvPicPr/>
          <p:nvPr/>
        </p:nvPicPr>
        <p:blipFill>
          <a:blip r:embed="rId1"/>
          <a:stretch/>
        </p:blipFill>
        <p:spPr>
          <a:xfrm>
            <a:off x="468360" y="3068640"/>
            <a:ext cx="4040280" cy="164304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7"/>
          <p:cNvSpPr/>
          <p:nvPr/>
        </p:nvSpPr>
        <p:spPr>
          <a:xfrm>
            <a:off x="421920" y="4797360"/>
            <a:ext cx="3288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 Tachygrafowie w senacie rzymski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tenografia.pl/pmwiki/index.php?n=Historia.StarozytnyRzy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ons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o ich dwó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wódcy ar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li Zgromadzenia              i 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inicjatywę ustawodawcz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ostawali namiestnikami najważniejszych prowi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rzymskie_wojsko.jpg"/>
          <p:cNvPicPr/>
          <p:nvPr/>
        </p:nvPicPr>
        <p:blipFill>
          <a:blip r:embed="rId1"/>
          <a:stretch/>
        </p:blipFill>
        <p:spPr>
          <a:xfrm>
            <a:off x="4500720" y="2276640"/>
            <a:ext cx="4095720" cy="273672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7"/>
          <p:cNvSpPr/>
          <p:nvPr/>
        </p:nvSpPr>
        <p:spPr>
          <a:xfrm>
            <a:off x="4520520" y="5084640"/>
            <a:ext cx="2689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1 Rzymskie wojsk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romanglory.pun.pl/viewtopic.php?id=2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Pre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jmował się wymiarem sprawiedliw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nadzór nad sądownictw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:\Users\Bartek\Downloads\pretor.jpg"/>
          <p:cNvPicPr/>
          <p:nvPr/>
        </p:nvPicPr>
        <p:blipFill>
          <a:blip r:embed="rId1"/>
          <a:stretch/>
        </p:blipFill>
        <p:spPr>
          <a:xfrm>
            <a:off x="468360" y="2708280"/>
            <a:ext cx="4040280" cy="2290680"/>
          </a:xfrm>
          <a:prstGeom prst="rect">
            <a:avLst/>
          </a:prstGeom>
          <a:ln w="0">
            <a:noFill/>
          </a:ln>
        </p:spPr>
      </p:pic>
      <p:sp>
        <p:nvSpPr>
          <p:cNvPr id="166" name="pole tekstowe 8"/>
          <p:cNvSpPr/>
          <p:nvPr/>
        </p:nvSpPr>
        <p:spPr>
          <a:xfrm>
            <a:off x="404640" y="5084640"/>
            <a:ext cx="3367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2 Pre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100" spc="-1" strike="noStrike" u="sng">
                <a:solidFill>
                  <a:srgbClr val="000000"/>
                </a:solidFill>
                <a:uFillTx/>
                <a:latin typeface="Calibri"/>
              </a:rPr>
              <a:t>http://www.imperivm.org/articulos/pretor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Cenz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wóch na 5 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ełnili najczęściej byli konsu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porządzali spis obywateli wg. posiadanego mająt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talali listy sena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obyc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finanse pań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Bartek\Downloads\pole_marsowe.jpg"/>
          <p:cNvPicPr/>
          <p:nvPr/>
        </p:nvPicPr>
        <p:blipFill>
          <a:blip r:embed="rId1"/>
          <a:stretch/>
        </p:blipFill>
        <p:spPr>
          <a:xfrm>
            <a:off x="5219640" y="2205000"/>
            <a:ext cx="2668680" cy="331164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7"/>
          <p:cNvSpPr/>
          <p:nvPr/>
        </p:nvSpPr>
        <p:spPr>
          <a:xfrm>
            <a:off x="5083200" y="5589720"/>
            <a:ext cx="3800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3 Pola Marsowe - tutaj stawiali się uprawnieni obywatel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 składania oświadczeń. Na ich podstawie cenzorzy mogl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konać spisu ludności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cenzor_rzymsk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rzym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Edy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porządek                 w mieś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li dostawy zboża dla mia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gotowywali                               i przewodniczyli igrzys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Bartek\Downloads\walka_gladiatorow.jpg"/>
          <p:cNvPicPr/>
          <p:nvPr/>
        </p:nvPicPr>
        <p:blipFill>
          <a:blip r:embed="rId1"/>
          <a:stretch/>
        </p:blipFill>
        <p:spPr>
          <a:xfrm>
            <a:off x="611280" y="2133720"/>
            <a:ext cx="3618000" cy="3628800"/>
          </a:xfrm>
          <a:prstGeom prst="rect">
            <a:avLst/>
          </a:prstGeom>
          <a:ln w="0">
            <a:noFill/>
          </a:ln>
        </p:spPr>
      </p:pic>
      <p:sp>
        <p:nvSpPr>
          <p:cNvPr id="176" name="pole tekstowe 7"/>
          <p:cNvSpPr/>
          <p:nvPr/>
        </p:nvSpPr>
        <p:spPr>
          <a:xfrm>
            <a:off x="564840" y="5805360"/>
            <a:ext cx="3856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4 Mozaika przedstawiająca walkę gladiator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historia.newsweek.pl/gladiatorzy--celebryci-czasow-cezara,97809,1,1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wes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niższy rangą urzędn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agał konsulom                       w zarządzaniu finans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ostatnich latach republiki było ich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Bartek\Downloads\kwestor.jpg"/>
          <p:cNvPicPr/>
          <p:nvPr/>
        </p:nvPicPr>
        <p:blipFill>
          <a:blip r:embed="rId1"/>
          <a:stretch/>
        </p:blipFill>
        <p:spPr>
          <a:xfrm>
            <a:off x="5332320" y="2198520"/>
            <a:ext cx="2316240" cy="339120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7"/>
          <p:cNvSpPr/>
          <p:nvPr/>
        </p:nvSpPr>
        <p:spPr>
          <a:xfrm>
            <a:off x="5321880" y="5732640"/>
            <a:ext cx="3488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5 Kwes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kolorowankimalowanki.pl/kolorowanki-asterix-i-obelix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– Trybun Lud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rzeznaczony dla plebeju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rońca ludu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veta dla ust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 nietykal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zwoływania Zgromadzeń ludow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Bartek\Downloads\Gaius_Gracchus_trybun_ludowy.jpg"/>
          <p:cNvPicPr/>
          <p:nvPr/>
        </p:nvPicPr>
        <p:blipFill>
          <a:blip r:embed="rId1"/>
          <a:stretch/>
        </p:blipFill>
        <p:spPr>
          <a:xfrm>
            <a:off x="468360" y="2492280"/>
            <a:ext cx="4040280" cy="2562480"/>
          </a:xfrm>
          <a:prstGeom prst="rect">
            <a:avLst/>
          </a:prstGeom>
          <a:ln w="0">
            <a:noFill/>
          </a:ln>
        </p:spPr>
      </p:pic>
      <p:sp>
        <p:nvSpPr>
          <p:cNvPr id="186" name="pole tekstowe 7"/>
          <p:cNvSpPr/>
          <p:nvPr/>
        </p:nvSpPr>
        <p:spPr>
          <a:xfrm>
            <a:off x="414720" y="5157720"/>
            <a:ext cx="27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6 Gajusz Grakchus, trybun ludow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reformy_grakchow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publika Rzymsk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powstała w 509 r. p.n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czątkach Rzymu powstał wśród obywateli podział na dwie grupy:                                 patrycjuszy i plebejus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y okres republiki, to walka                             o równouprawnienie pomiędzy patrycjuszam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plebejusz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Bartek\Downloads\800px-Spqrstone.jpg"/>
          <p:cNvPicPr/>
          <p:nvPr/>
        </p:nvPicPr>
        <p:blipFill>
          <a:blip r:embed="rId1"/>
          <a:stretch/>
        </p:blipFill>
        <p:spPr>
          <a:xfrm>
            <a:off x="1052640" y="1341360"/>
            <a:ext cx="7038720" cy="367200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4"/>
          <p:cNvSpPr/>
          <p:nvPr/>
        </p:nvSpPr>
        <p:spPr>
          <a:xfrm>
            <a:off x="980640" y="5084640"/>
            <a:ext cx="6857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 Senatus Populusque Romanus, czyli "senat i lud/naród rzymski". Formuła ta stanowiła w starożytności oficjaln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zwę Imperium Rzymskiego, a skrót SPQR, do czasu rozpowszechnienia się na to miejsce wizerunku orła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pełniał funkcję godła państwoweg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urzedy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łacińskiego określeni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atr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ojci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przywilejowana warstwa społe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ę praw politycz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mieli wyłączność na obejmowanie urzęd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Bartek\Downloads\starozytny_ubior.jpg"/>
          <p:cNvPicPr/>
          <p:nvPr/>
        </p:nvPicPr>
        <p:blipFill>
          <a:blip r:embed="rId1"/>
          <a:stretch/>
        </p:blipFill>
        <p:spPr>
          <a:xfrm>
            <a:off x="4716360" y="2205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7"/>
          <p:cNvSpPr/>
          <p:nvPr/>
        </p:nvSpPr>
        <p:spPr>
          <a:xfrm>
            <a:off x="4879080" y="5084640"/>
            <a:ext cx="264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 Starożytny ubió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artfolie.wordpress.com/tag/starozytny-rzym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lebe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słow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leb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l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ludów podbitych, ale byli wol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nie mieli praw obywatel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ełnili służbę w wojsku (piecho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czasem zaczęli się domagać wpływ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ńst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Bartek\Downloads\plebejusze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6478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7"/>
          <p:cNvSpPr/>
          <p:nvPr/>
        </p:nvSpPr>
        <p:spPr>
          <a:xfrm>
            <a:off x="547920" y="5084640"/>
            <a:ext cx="325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 Fresk ścienny przedstawiający życie plebejusz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spoleczens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ędzy plebejuszami, a patrycjuszami od VI do III wieku p.n.e trwały walki o dostęp do zie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ymi zwycięstwami plebejuszy były: prawo dwunastu tablic z 449 roku p.n.e., zniesienie niewoli za długi i dostęp do wszystkich urzęd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zmian doszło do zlania się górnej warstwy plebejuszy z patrycjuszami. Zaczęła powstawać nowa arystokracj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nobilita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szlachetnie urodzen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/nobi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ściciele latyfundiów, wysocy urzędnicy, senato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5 rodzin m.in. Fabiusze, Klaudiusze, Emiliusze, Korneliusze z przydomkiem Scy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Bartek\Downloads\rzymianin.jpg"/>
          <p:cNvPicPr/>
          <p:nvPr/>
        </p:nvPicPr>
        <p:blipFill>
          <a:blip r:embed="rId1"/>
          <a:stretch/>
        </p:blipFill>
        <p:spPr>
          <a:xfrm>
            <a:off x="5184720" y="2174760"/>
            <a:ext cx="2482920" cy="331164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8"/>
          <p:cNvSpPr/>
          <p:nvPr/>
        </p:nvSpPr>
        <p:spPr>
          <a:xfrm>
            <a:off x="5235840" y="5516640"/>
            <a:ext cx="217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4 Rzymian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jakoloruje.pl/rzymianin.ht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kw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tego stanu wywodzi się od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equu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"koń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elitarnych jednostek jazdy w legion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li wpływową i zamożną grupą właścicieli ziemski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dsiębiorc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ęki udziało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dbojach uzyskali wpływy i stali się osobną warstwą społe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Bartek\Downloads\mlody_ekwita.jpg"/>
          <p:cNvPicPr/>
          <p:nvPr/>
        </p:nvPicPr>
        <p:blipFill>
          <a:blip r:embed="rId1"/>
          <a:stretch/>
        </p:blipFill>
        <p:spPr>
          <a:xfrm>
            <a:off x="5364000" y="1844640"/>
            <a:ext cx="2540160" cy="3492360"/>
          </a:xfrm>
          <a:prstGeom prst="rect">
            <a:avLst/>
          </a:prstGeom>
          <a:ln w="0">
            <a:noFill/>
          </a:ln>
        </p:spPr>
      </p:pic>
      <p:sp>
        <p:nvSpPr>
          <p:cNvPr id="124" name="pole tekstowe 7"/>
          <p:cNvSpPr/>
          <p:nvPr/>
        </p:nvSpPr>
        <p:spPr>
          <a:xfrm>
            <a:off x="5310000" y="5373720"/>
            <a:ext cx="2224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5 Młody ekw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ekwic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7-11T13:10:14Z</dcterms:modified>
  <cp:revision>60</cp:revision>
  <dc:subject/>
  <dc:title>Slajd 1</dc:title>
</cp:coreProperties>
</file>