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8D99-7005-482E-AF43-6F22C278372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C0EC-F0E8-4478-B47B-BC9BC0F3B6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6B8-D27E-4DE3-A7AB-831A97C582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D0D-641D-4FD4-9F4F-B1B0A144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5EA-0C31-4D4A-A187-32433E4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A53-7379-492F-A3A4-C910C3E2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280-E5C0-440D-900D-F72908DE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0003-219F-46DF-86EE-0BF7C03A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7FD-4B4F-4084-8975-A41F3B6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4F3-1B1B-49D7-B194-A75539AF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1130-DA1A-40DD-9451-8F5739B7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2F4-C410-422F-B17B-667BF5CA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52D-CCAE-4E40-8BD2-01DDC65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B771-18A8-4C9C-8370-C6832577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120-F990-4C11-BA27-3033659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E590-5FFA-4445-A2F2-0BABBFC3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E99-0C50-4869-9E16-5C96513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299-867C-47DE-BF1B-ADCFA1F0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2C5-E09D-42F5-AEC8-2E54C7AC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FAF-3013-4117-8847-BA7EF57D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2CC-DE0B-4424-8A0F-89D78B2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7E1-B509-434D-9FB4-2055DCA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70C-E629-41A9-97EE-E354A32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490-1BF7-4CD4-9EA3-EFF2D80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C9E-3541-4B54-AB0B-DB747F0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43E-2206-4557-B47B-60930E9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E9D-92EC-401B-B709-779D278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8086-15D7-47A2-873B-752C7C3D8A0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918E-A7E4-49C0-A718-1809C08121E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pload.wikimedia.org/wikipedia/commons/c/c6/RomulusAugustus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historian.pl/helm-wczesnosredniowieczny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ga.gov/content/ngaweb/global-site-search-page.html?searchterm=The+baptism+of+Clovis&amp;searchpath=%2Fcontent%2Fngaweb%2Fnotfoun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oria.opracowania.pl/gimnazjum/monarchia_karola_wielkiego/" TargetMode="External"/><Relationship Id="rId3" Type="http://schemas.openxmlformats.org/officeDocument/2006/relationships/hyperlink" Target="http://historia.opracowania.pl/gimnazjum/monarchia_karola_wielkiego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Hispania_700_AD.PN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f/Polska_1102_-_1138.pn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d monarchii patrymonialnej do monarchii stanowej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dzy XI a XII w. krystalizowały się średniowieczne monarchie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systemu feudalnego spowodowała zmiany w systemie rządz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stępowała stopniowa centralizacja państwa i koncentracja wład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II w. władzę nad królestwem Anglii zdobył Henryk II Plantagen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ał ogromnymi terytoriami - Anglia, Normandia, Andegawenia, Akwit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rzymanie władzy wymagało sprawnego zarządz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mocnienie władzy królewskiej doprowadziło do konfliktu Henryka I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rcybiskupem Tomaszem Becketem – śmierć arcybisku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mierc_Becketa"/>
          <p:cNvPicPr/>
          <p:nvPr/>
        </p:nvPicPr>
        <p:blipFill>
          <a:blip r:embed="rId1"/>
          <a:srcRect l="2678" t="0" r="2678" b="0"/>
          <a:stretch/>
        </p:blipFill>
        <p:spPr>
          <a:xfrm>
            <a:off x="1835280" y="11253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0"/>
          <p:cNvSpPr/>
          <p:nvPr/>
        </p:nvSpPr>
        <p:spPr>
          <a:xfrm>
            <a:off x="1791360" y="5300640"/>
            <a:ext cx="413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Śmierć Tomasza Becke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eligie.424.pl/rozwoj-i-rozkwit-kosciola-sredniowiecznego,2580,articl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Henryka II, Ryszard Lwie Serce oraz Jan bez Ziemi stanęli przed trudnym zadaniem utrzymania wszystkich swoich posiadł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ążenia centralizacyjne monarchów zostały zahamowane przez bunt bar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215 r. Jan bez Ziemi został zmuszony do wydania przywileju nazwaneg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ą Kartą Swob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dalszych ustępstw królów, w 1264 r. po raz pierwszy zostało zwołane zgromadzenie stanowe – początek parlamentu angie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agna_Carta"/>
          <p:cNvPicPr/>
          <p:nvPr/>
        </p:nvPicPr>
        <p:blipFill>
          <a:blip r:embed="rId1"/>
          <a:srcRect l="5572" t="0" r="5572" b="0"/>
          <a:stretch/>
        </p:blipFill>
        <p:spPr>
          <a:xfrm>
            <a:off x="1835280" y="1197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10"/>
          <p:cNvSpPr/>
          <p:nvPr/>
        </p:nvSpPr>
        <p:spPr>
          <a:xfrm>
            <a:off x="1864440" y="5373720"/>
            <a:ext cx="4938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Wielka Karta Swobó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thumb/0/02/Magna_Carta.jpg/1280px-Magna_Cart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70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ne przywileje musieli w tym czasie wydawać także inni władcy europejs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ęgie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/XIII w. wzrost centralizacji i znaczenia dworu królewskiego na Węgrz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wojen wewnętrznych o tron sytuacja finansowa państwa znacznie się pogorszy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usiło to króla do oddania finansów pa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e rę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ityka królewska spotkała się z krytyką niższej szlach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ól musiał wydać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ą Bull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w 1222 r. uspakajając sytuację w kraj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a Karta Swob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a w nakładaniu podatków (zgoda Rad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az więzienia i karania bez wyroku są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oporu przeciwko królowi w razie naruszenia przez niego pra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reślała uprawnienia baronów,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uchowieństwa i zakres swobód klas niżs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a Bulla Andrzej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warantowała niższej szlachci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osobist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majątkow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e obowiązku służby wojskowej poza granicami Węgi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ę sądowniczą nad chłopa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ność od podat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herb_Kapetyngow.png"/>
          <p:cNvPicPr/>
          <p:nvPr/>
        </p:nvPicPr>
        <p:blipFill>
          <a:blip r:embed="rId1"/>
          <a:stretch/>
        </p:blipFill>
        <p:spPr>
          <a:xfrm>
            <a:off x="2867040" y="1419120"/>
            <a:ext cx="3409920" cy="40197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2771640" y="5661000"/>
            <a:ext cx="4032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rb Kapetyng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3/33/France_Ancient.sv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I w. to wzmocnienie władzy królewskiej (Ludwik IX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IX zcentralizował władzę we Francji (podporządkował Kościół, zakazał feudalnych wojen prywat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Louis_IX.jpg"/>
          <p:cNvPicPr/>
          <p:nvPr/>
        </p:nvPicPr>
        <p:blipFill>
          <a:blip r:embed="rId1"/>
          <a:stretch/>
        </p:blipFill>
        <p:spPr>
          <a:xfrm>
            <a:off x="5435640" y="2205000"/>
            <a:ext cx="2378160" cy="305280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5317560" y="5373720"/>
            <a:ext cx="3315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Ludwik 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a/ad/Louis_IX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tuacja po upadku Cesar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nie monarchii patrymonialnych na przykładzie państwa Fran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przykłady monarchii patrymonia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oga do monarchii stanowej na przykładzie Anglii, Francji i Węg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Ludwika IX również wzmacniali władzę królews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nakłada na Kościół wysokie podat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strzymuje wpłaty do Kurii Rzymski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apież Bonifacy VIII domaga się płacenia przez Francję pieniędz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Bartek\Downloads\Filip_Piekny.jpg"/>
          <p:cNvPicPr/>
          <p:nvPr/>
        </p:nvPicPr>
        <p:blipFill>
          <a:blip r:embed="rId1"/>
          <a:stretch/>
        </p:blipFill>
        <p:spPr>
          <a:xfrm>
            <a:off x="4941720" y="2317680"/>
            <a:ext cx="3144960" cy="334332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7"/>
          <p:cNvSpPr/>
          <p:nvPr/>
        </p:nvSpPr>
        <p:spPr>
          <a:xfrm>
            <a:off x="4888800" y="5805360"/>
            <a:ext cx="376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ilip IV Pięk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0/0a/Philippe_IV_Le_Be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zwołał Stany Generalne, żeby uzyskać poparcie społecze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onflikcie z papież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302 r. zwołanie Stanów Generalnych (duchowieństwo, szlachta, mieszczenie i chłopi) – król wyszedł zwycięsk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nfli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C:\Users\Bartek\Downloads\trzy_stany.jpg"/>
          <p:cNvPicPr/>
          <p:nvPr/>
        </p:nvPicPr>
        <p:blipFill>
          <a:blip r:embed="rId1"/>
          <a:stretch/>
        </p:blipFill>
        <p:spPr>
          <a:xfrm>
            <a:off x="547560" y="2174760"/>
            <a:ext cx="3303720" cy="338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8"/>
          <p:cNvSpPr/>
          <p:nvPr/>
        </p:nvSpPr>
        <p:spPr>
          <a:xfrm>
            <a:off x="250920" y="5661000"/>
            <a:ext cx="5113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Przedstawiciele trzech stan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aculty.uml.edu/ccarlsmith/teaching/43.105/PDFs/Medieval%20Society%20and%20Architectur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349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gospodarczy oraz przemiany społeczeństwa feudalnego spowodowały zmiany w systemach sprawowania władzy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przykładzie Anglii, Francji i Węgrzech zaobserwowaliśmy powstawanie monarchii stan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2204640"/>
            <a:ext cx="8497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, w którym władca dzielił się władz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eprezentacją stanów społecznych. Kształtowała się w Europie w XIII w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minowała w późnym średniowiec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padek Cesarstwa na Zachod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adek Cesarstwa zachodniorzymski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476 r. przyspieszył powstawanie niezależnych królestw barbarzyńskich, któr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czasem przyjmowały wiarę chrześcijańsk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Bartek\Downloads\Romulus_Augustus.jpg"/>
          <p:cNvPicPr/>
          <p:nvPr/>
        </p:nvPicPr>
        <p:blipFill>
          <a:blip r:embed="rId1"/>
          <a:stretch/>
        </p:blipFill>
        <p:spPr>
          <a:xfrm>
            <a:off x="6084720" y="3573360"/>
            <a:ext cx="251640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4643280" y="5877000"/>
            <a:ext cx="4270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Moneta z wizerunkiem ostatniego cesarza zachodniorzyms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c/c6/RomulusAugustu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patrymonia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600200"/>
            <a:ext cx="8785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a rządów, w której władca swobodnie rozporządzał podległym sobie terytorium (krajem), uznając, że jest ono jego własnością. Charakterystyczna dla wczesnośredniowiecznych monarchii europejski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hełm_sreniowieczny"/>
          <p:cNvPicPr/>
          <p:nvPr/>
        </p:nvPicPr>
        <p:blipFill>
          <a:blip r:embed="rId1"/>
          <a:stretch/>
        </p:blipFill>
        <p:spPr>
          <a:xfrm>
            <a:off x="3348000" y="407664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4"/>
          <p:cNvSpPr/>
          <p:nvPr/>
        </p:nvSpPr>
        <p:spPr>
          <a:xfrm>
            <a:off x="3371040" y="6165720"/>
            <a:ext cx="297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Hełm średniowiecz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istorian.pl/helm-wczesnosredniowieczn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 w. Chlodwig podporządkował sobie plemiona frankijskie i został kró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496 r. przyjął chrz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onał spisania zwyczajowego ludowego prawa frankijskiego  tzw. prawo salic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elił państwo pomiędzy swoich sy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Bartek\Downloads\chrzest_Chlodwiga.jpg"/>
          <p:cNvPicPr/>
          <p:nvPr/>
        </p:nvPicPr>
        <p:blipFill>
          <a:blip r:embed="rId1"/>
          <a:stretch/>
        </p:blipFill>
        <p:spPr>
          <a:xfrm>
            <a:off x="6084720" y="2205000"/>
            <a:ext cx="2181240" cy="293688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8"/>
          <p:cNvSpPr/>
          <p:nvPr/>
        </p:nvSpPr>
        <p:spPr>
          <a:xfrm>
            <a:off x="5940360" y="5229360"/>
            <a:ext cx="3024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Chrzest Chlodwig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ga.gov/content/ngaweb/global-site-search-page.html?searchterm=The+baptism+of+Clovis&amp;searchpath=%2Fcontent%2Fngaweb%2Fnotfou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ansja Królestwa Franków przybrała na sil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VIII w. – do władzy doszedł ród zwany Karoling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rządami Karola Wielkiego monarchia frankijska panowała nad większością terytoriów na zach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Wielki  odnowił cesarstwo rzymskie na Zachodzie koronując się na cesarza w 800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ad monarchii karolińskiej nastąpił w 843 r. w Verdun. Dokonano podziału monarchii na trzy czę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państwo_karola_wielkiego.jpg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43131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2032920" y="5877000"/>
            <a:ext cx="3507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Państwo Karola Wiel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.opracowania.pl/gimnazjum/monarchia_karola_wielkiego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izygo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I w. w Hiszpanii i południowo-zachodniej Galii powstało Królestwo Wizygo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D:\scenariusze lekcji do przetargu\do realizacji\Od monarchi patrymonialnej do stanowej\grafika\Rys_5_T07_5_Krolestwo_Wizygotów.PNG"/>
          <p:cNvPicPr/>
          <p:nvPr/>
        </p:nvPicPr>
        <p:blipFill>
          <a:blip r:embed="rId1"/>
          <a:stretch/>
        </p:blipFill>
        <p:spPr>
          <a:xfrm>
            <a:off x="4689360" y="2174760"/>
            <a:ext cx="3630600" cy="363060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9"/>
          <p:cNvSpPr/>
          <p:nvPr/>
        </p:nvSpPr>
        <p:spPr>
          <a:xfrm>
            <a:off x="4591440" y="5877000"/>
            <a:ext cx="279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Królestwo Wizygotów ok. 700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Hispania_700_AD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71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piast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 wieku powstało rozległe terytorialnie państwo polskie, gdzie monarchą był Mieszko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ma państwa patrymonialnego utrzymała się do czasów panowania Władysława Łokietka, czyli  do czasów ponownego zjedno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scenariusze lekcji do przetargu\do realizacji\Od monarchi patrymonialnej do stanowej\grafika\Rys_6_T07_5_Polska_1102_1138.png"/>
          <p:cNvPicPr/>
          <p:nvPr/>
        </p:nvPicPr>
        <p:blipFill>
          <a:blip r:embed="rId1"/>
          <a:stretch/>
        </p:blipFill>
        <p:spPr>
          <a:xfrm>
            <a:off x="4645080" y="2232000"/>
            <a:ext cx="3840120" cy="36450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7"/>
          <p:cNvSpPr/>
          <p:nvPr/>
        </p:nvSpPr>
        <p:spPr>
          <a:xfrm>
            <a:off x="4595760" y="5950080"/>
            <a:ext cx="384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Polska 1102-1138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4/4f/Polska_1102_-_1138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22:35Z</dcterms:modified>
  <cp:revision>118</cp:revision>
  <dc:subject/>
  <dc:title>Slajd 1</dc:title>
</cp:coreProperties>
</file>