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796-AB96-4723-8C63-B89F897A15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F14F-47CE-41BB-8D3A-E0DEE81CD5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8C4-CDE1-403E-A821-28B799C2E9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653-68E6-40DF-8B51-8BEE3BC9DB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1316-0F2F-42C1-BE6E-5C61D40075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D51-716A-4BF4-B325-A7F981453A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8EE3-89BB-418B-851C-BC07128E1B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1FDF-8471-4D27-A88A-F3CE0E526F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4E9-00F8-48A2-82A0-57C8F7012A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9FD4-AB06-41DB-B496-07BE5D7AB3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14B9-61B5-4C61-A3EE-BAE953A05D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D52-3E6A-4F39-BD61-10E0591EB6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3A1-3D75-48C9-8FF6-AFB9576C47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D40-9467-4143-B66B-0AE0983D39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7B8-7241-4CF7-8A8A-BDE025DA60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6A4-1AAB-4339-A8FF-F15A01B89B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C01-33CE-4541-A7E4-68A0FA57F2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0772-EE90-4586-A6DD-521EEF2452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387-9ADD-4EC2-B15A-8D640A0EE5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2AF5-EF08-4B37-9965-702A745490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744-67C6-45CE-96C3-897355DB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77C-04CE-467B-A428-8FAD559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9E9-DE5E-47E7-8AF8-6C06D97E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342-0DF1-4E26-8824-2E504BE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87A5-5086-444F-9E67-2D3B28B9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ED75-0DDA-44A0-A277-1D820983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B436-46B7-43BA-915B-71DE08D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632-40A5-4AE4-837E-4DC025F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3A4-877B-4A33-BC4F-6332F67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5407-D245-476B-B435-B74ECB38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263-C5E9-4BB0-B77D-6F381937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E83-FF77-4AF3-8275-CB557A4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7A5B-7098-450F-AC1A-FAE1A12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3EF-CDD2-428B-8ED9-62FAC63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CC6-57BE-4511-9507-C5E6912C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C44A-5E23-47C5-9DED-166C9882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C97-869D-445E-8942-924BE531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481-5420-4C4F-93C1-6842433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F12-78A8-4307-8DAC-92AA2E51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EA-3F29-4B3E-8DDA-B76B78C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C52-BE95-49AD-895B-AFC1991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7E5-5787-4C08-8FD4-558BFE0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697-0940-4848-8E13-AD450DA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6C8-D2EE-47B0-8A34-2AE4005F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33B-A5B2-48BA-A56E-51C46CC4BE4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C304-3041-4AFD-85DA-C0E71E9821B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upload.wikimedia.org/wikipedia/commons/thumb/c/cd/Cleric-Knight-Workman.jpg/250px-Cleric-Knight-Workma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zujnyobronca.wrzuta.pl/audio/2yjSzzjbyKQ/jacek_kowalski_-_pasowani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paintings-art-picture.com/paintings/wp-content/uploads/Edmund-Blair-Leighton-The-Accolade-Paintnig-Art.jp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DBy_Ssn0K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5/5d/St&#228;ndeordnung.jpg/200px-St&#228;ndeordnun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://www.archidiecezja.pl/include/article_img/olesnicki.jpg" TargetMode="External"/><Relationship Id="rId5" Type="http://schemas.openxmlformats.org/officeDocument/2006/relationships/hyperlink" Target="http://www.archidiecezja.pl/include/article_img/olesnicki.jpg" TargetMode="External"/><Relationship Id="rId6" Type="http://schemas.openxmlformats.org/officeDocument/2006/relationships/hyperlink" Target="http://upload.wikimedia.org/wikipedia/commons/thumb/5/5e/Odilo_F-Andreani.jpg/170px-Odilo_F-Andreani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1. Rycerze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c/cd/Cleric-Knight-Workman.jpg/250px-Cleric-Knight-Workman.jp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upload.wikimedia.org/wikipedia/commons/thumb/c/cd/Cleric-Knight-Workman.jpg/250px-Cleric-Knight-Workman.jpg"/>
          <p:cNvPicPr/>
          <p:nvPr/>
        </p:nvPicPr>
        <p:blipFill>
          <a:blip r:embed="rId3"/>
          <a:stretch/>
        </p:blipFill>
        <p:spPr>
          <a:xfrm>
            <a:off x="395280" y="134136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ni opiekowali się systemem kształc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1835280" y="720720"/>
            <a:ext cx="3525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Mieli też wkład w propagowanie nowoczesnych technik ro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ryc_1_breu_d_ae2809e_jac2b6rg__39"/>
          <p:cNvPicPr/>
          <p:nvPr/>
        </p:nvPicPr>
        <p:blipFill>
          <a:blip r:embed="rId1"/>
          <a:stretch/>
        </p:blipFill>
        <p:spPr>
          <a:xfrm>
            <a:off x="2843280" y="674640"/>
            <a:ext cx="3097080" cy="3033720"/>
          </a:xfrm>
          <a:prstGeom prst="rect">
            <a:avLst/>
          </a:prstGeom>
          <a:ln w="0">
            <a:noFill/>
          </a:ln>
        </p:spPr>
      </p:pic>
      <p:sp>
        <p:nvSpPr>
          <p:cNvPr id="129" name="Prostokąt 5"/>
          <p:cNvSpPr/>
          <p:nvPr/>
        </p:nvSpPr>
        <p:spPr>
          <a:xfrm>
            <a:off x="324000" y="2708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le przede wszystkim zapewniali opiekę duch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ryc_4__konwersi_na_grobie_le280baw_ae280b0tienne_w_opactwie_d_39"/>
          <p:cNvPicPr/>
          <p:nvPr/>
        </p:nvPicPr>
        <p:blipFill>
          <a:blip r:embed="rId1"/>
          <a:stretch/>
        </p:blipFill>
        <p:spPr>
          <a:xfrm>
            <a:off x="3564000" y="692280"/>
            <a:ext cx="2038320" cy="285732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5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Na tym tle dochodziło między duchownymi do licznych sporów. Ukształtowały się różne typy duchowości: benedyktyńska, cysterska, franciszkańska i dominikańs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CG4pO_VzLF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4.bp.blogspot.com/-NOoqgPlIn8I/TwQbTMwtfmI/AAAAAAAABLA/o1L9QUZrTpM/s1600/216416_1615061711076_1672338526_1187407_1230618_n.jpg"/>
          <p:cNvPicPr/>
          <p:nvPr/>
        </p:nvPicPr>
        <p:blipFill>
          <a:blip r:embed="rId1"/>
          <a:stretch/>
        </p:blipFill>
        <p:spPr>
          <a:xfrm>
            <a:off x="2268360" y="260280"/>
            <a:ext cx="36720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3. Ci, którzy pracują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3"/>
          <p:cNvSpPr/>
          <p:nvPr/>
        </p:nvSpPr>
        <p:spPr>
          <a:xfrm>
            <a:off x="324000" y="486900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pload.wikimedia.org/wikipedia/commons/thumb/5/5d/St%C3%A4ndeordnung.jpg/200px-St%C3%A4ndeordnung.jpg"/>
          <p:cNvPicPr/>
          <p:nvPr/>
        </p:nvPicPr>
        <p:blipFill>
          <a:blip r:embed="rId1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Chłopi stanowili większość średniowiecznego społeczeństwa. Utrzymywali pozostałe stany poprzez rentę feudalną, dziesięciny lub sprzedaż żywnoś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gnosis.art.pl/iluminatornia/omnibus/bracia_Limbourg_czerwiec.jpg"/>
          <p:cNvPicPr/>
          <p:nvPr/>
        </p:nvPicPr>
        <p:blipFill>
          <a:blip r:embed="rId1"/>
          <a:srcRect l="0" t="51059" r="0" b="0"/>
          <a:stretch/>
        </p:blipFill>
        <p:spPr>
          <a:xfrm>
            <a:off x="3564000" y="105264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upload.wikimedia.org/wikipedia/commons/7/7a/Les_Tr%C3%A8s_Riches_Heures_du_duc_de_Berry_mars.jpg"/>
          <p:cNvPicPr/>
          <p:nvPr/>
        </p:nvPicPr>
        <p:blipFill>
          <a:blip r:embed="rId2"/>
          <a:srcRect l="0" t="41569" r="0" b="0"/>
          <a:stretch/>
        </p:blipFill>
        <p:spPr>
          <a:xfrm>
            <a:off x="539640" y="476280"/>
            <a:ext cx="3194280" cy="3014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7"/>
          <p:cNvSpPr/>
          <p:nvPr/>
        </p:nvSpPr>
        <p:spPr>
          <a:xfrm>
            <a:off x="7164360" y="2205000"/>
            <a:ext cx="16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Bardzo_bogate_godzinki_ksi%C4%99cia_de_Berry, dostęp 25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Mieszczanie zajmowali się głównie rzemiosłem i handlem. Robili jednak konkurencję rycerstwu, gdyż świetnie potrafili obronić się sam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Plik:Balthasar Behem Codex01.jpg"/>
          <p:cNvPicPr/>
          <p:nvPr/>
        </p:nvPicPr>
        <p:blipFill>
          <a:blip r:embed="rId1"/>
          <a:stretch/>
        </p:blipFill>
        <p:spPr>
          <a:xfrm>
            <a:off x="971640" y="692280"/>
            <a:ext cx="2448000" cy="2809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lik:Balthasar Behem Codex Tanner.jpg"/>
          <p:cNvPicPr/>
          <p:nvPr/>
        </p:nvPicPr>
        <p:blipFill>
          <a:blip r:embed="rId2"/>
          <a:stretch/>
        </p:blipFill>
        <p:spPr>
          <a:xfrm>
            <a:off x="3492360" y="692280"/>
            <a:ext cx="2880000" cy="279720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6"/>
          <p:cNvSpPr/>
          <p:nvPr/>
        </p:nvSpPr>
        <p:spPr>
          <a:xfrm>
            <a:off x="6588000" y="1125360"/>
            <a:ext cx="18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Balthasar_Behem_Codex_Tann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Chłopi byli pogardzani przez rycerzy, ale mieli o nich swoje zdanie. Wysłuchaj uważnie utw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youtube.com/watch?v=2aEHfTf8L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4652640"/>
            <a:ext cx="770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ik muzyczny: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http://czujnyobronca.wrzuta.pl/audio/2yjSzzjbyKQ/jacek_kowalski_-_pasowa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paintings-art-picture.com/paintings/wp-content/uploads/Edmund-Blair-Leighton-The-Accolade-Paintnig-Art.jpg"/>
          <p:cNvPicPr/>
          <p:nvPr/>
        </p:nvPicPr>
        <p:blipFill>
          <a:blip r:embed="rId2"/>
          <a:stretch/>
        </p:blipFill>
        <p:spPr>
          <a:xfrm>
            <a:off x="2843280" y="549360"/>
            <a:ext cx="2973240" cy="424800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5"/>
          <p:cNvSpPr/>
          <p:nvPr/>
        </p:nvSpPr>
        <p:spPr>
          <a:xfrm>
            <a:off x="684360" y="378936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intings-art-picture.com/paintings/wp-content/uploads/Edmund-Blair-Leighton-The-Accolade-Paintnig-Art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66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sal; 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; 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zeren; 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nno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westytur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eudalizm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endacj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ekari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munitet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łd lenny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nta feudalna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Ćwiczenie z poję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195640" y="4941720"/>
            <a:ext cx="47131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6DBy_Ssn0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71640" y="3645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Calibri"/>
              </a:rPr>
              <a:t>Bertrand de Born, </a:t>
            </a:r>
            <a:r>
              <a:rPr b="0" i="1" lang="pl-PL" sz="4400" spc="-1" strike="noStrike">
                <a:solidFill>
                  <a:srgbClr val="ff0000"/>
                </a:solidFill>
                <a:latin typeface="Calibri"/>
              </a:rPr>
              <a:t>Pochwała wo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E:\foto2\2012\niepolomce\IMG_0106.JPG"/>
          <p:cNvPicPr/>
          <p:nvPr/>
        </p:nvPicPr>
        <p:blipFill>
          <a:blip r:embed="rId2"/>
          <a:srcRect l="8202" t="0" r="11486" b="0"/>
          <a:stretch/>
        </p:blipFill>
        <p:spPr>
          <a:xfrm>
            <a:off x="2124000" y="333360"/>
            <a:ext cx="4032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2. Duchowni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upload.wikimedia.org/wikipedia/commons/thumb/5/5d/St%C3%A4ndeordnung.jpg/200px-St%C3%A4ndeordnung.jpg"/>
          <p:cNvPicPr/>
          <p:nvPr/>
        </p:nvPicPr>
        <p:blipFill>
          <a:blip r:embed="rId2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11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ieństwo średniowieczne nie było grupą jednolitą. W jego skład wchodzili naprawdę ubodzy mnis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www.kul.pl/files/470/public/skryptorium.jpg"/>
          <p:cNvPicPr/>
          <p:nvPr/>
        </p:nvPicPr>
        <p:blipFill>
          <a:blip r:embed="rId1"/>
          <a:stretch/>
        </p:blipFill>
        <p:spPr>
          <a:xfrm>
            <a:off x="684360" y="476280"/>
            <a:ext cx="4824360" cy="373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t3.gstatic.com/images?q=tbn:ANd9GcTBgN4xQjHd3TGpEDwHfbzSTAr1RzZFJgK3Iy0RjdjVojGhrYAmTQ"/>
          <p:cNvPicPr/>
          <p:nvPr/>
        </p:nvPicPr>
        <p:blipFill>
          <a:blip r:embed="rId2"/>
          <a:stretch/>
        </p:blipFill>
        <p:spPr>
          <a:xfrm>
            <a:off x="5580000" y="1197000"/>
            <a:ext cx="1800360" cy="253368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5"/>
          <p:cNvSpPr/>
          <p:nvPr/>
        </p:nvSpPr>
        <p:spPr>
          <a:xfrm>
            <a:off x="324000" y="42210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kul.pl/files/470/public/skryptorium.jpg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przez bogatych opatów i biskupów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thumb/5/5e/Odilo_F-Andreani.jpg/170px-Odilo_F-Andreani.jpg"/>
          <p:cNvPicPr/>
          <p:nvPr/>
        </p:nvPicPr>
        <p:blipFill>
          <a:blip r:embed="rId1"/>
          <a:stretch/>
        </p:blipFill>
        <p:spPr>
          <a:xfrm>
            <a:off x="468360" y="404640"/>
            <a:ext cx="2735280" cy="341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archidiecezja.pl/include/article_img/olesnicki.jpg"/>
          <p:cNvPicPr/>
          <p:nvPr/>
        </p:nvPicPr>
        <p:blipFill>
          <a:blip r:embed="rId2"/>
          <a:stretch/>
        </p:blipFill>
        <p:spPr>
          <a:xfrm>
            <a:off x="4500720" y="333360"/>
            <a:ext cx="20286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6"/>
          <p:cNvSpPr/>
          <p:nvPr/>
        </p:nvSpPr>
        <p:spPr>
          <a:xfrm>
            <a:off x="6659640" y="2781360"/>
            <a:ext cx="24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archidiecezja.pl/include/article_img/olesnicki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0" y="3860640"/>
            <a:ext cx="19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pload.wikimedia.org/wikipedia/commons/thumb/5/5e/Odilo_F-Andreani.jpg/170px-Odilo_F-Andrean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ż do papieża, który był także świeckim monarchą w Państwie Koście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www.edupedia.pl/entry_img/20_Grzegorz_VII.jpg"/>
          <p:cNvPicPr/>
          <p:nvPr/>
        </p:nvPicPr>
        <p:blipFill>
          <a:blip r:embed="rId1"/>
          <a:stretch/>
        </p:blipFill>
        <p:spPr>
          <a:xfrm>
            <a:off x="2916360" y="549360"/>
            <a:ext cx="2203200" cy="325764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5"/>
          <p:cNvSpPr/>
          <p:nvPr/>
        </p:nvSpPr>
        <p:spPr>
          <a:xfrm>
            <a:off x="468360" y="170028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edupedia.pl/words/index/show/564676_leksykon_postaci-w_grzegorz_vii_wlasc_hildebrand.html, dostęp 22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5T23:52:33Z</dcterms:modified>
  <cp:revision>33</cp:revision>
  <dc:subject/>
  <dc:title>Slajd 1</dc:title>
</cp:coreProperties>
</file>