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13A0-10B1-4C1E-B505-0A24D06755C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469C-B96A-4545-B3B9-A176F42183B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241C-7A54-4AA4-8C61-CE88E4482D7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D146-B61D-445D-8081-4AABEA914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F0F9-91AA-42CB-884D-327E4473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3945-AFA8-469B-8A68-4954E1762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AC77-D86B-4AB2-9002-5CD0EE2D0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BD38-E128-418A-B760-4165D28A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62A4-A597-4EB6-A667-EDD05949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0E2C-2FFD-4B63-8BBA-62244FAD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7F24-29E2-4A10-88A5-077C98ED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0D2A-0802-4213-8AD8-884ABB07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90CD-8B2C-42EB-9AA3-3E2B2585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FA0C-A9ED-420F-9849-1589B61C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4867-44EE-409B-9FD6-9E0F5631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D842-4B04-4890-933A-F68833BC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5391-FA73-4D62-96A1-9BAE2F9C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1997-6D38-41DE-A579-CFC666F7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1CEB-81AD-44F6-BC1F-B5547D3AD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A236-C550-4C28-9A02-EA583833E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7290-2E58-41DC-876D-2932E28C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A16D-996C-4150-9001-8E39C575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5CF4-A2B0-4AE0-BF03-050BA7EA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DD5E-021E-441A-95D8-BD01368C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F19C-69FE-49E4-89A1-A4D8003B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9588-18BB-4203-A067-516E4EED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8A31-11B5-419C-AAB7-82991318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3FDB-0F55-41E0-BBE9-AA5A9366053A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2C0C-1B72-4831-997A-F3E0A242CD06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764640"/>
            <a:ext cx="4716360" cy="269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emokracja ateńska w czasach Peryklesa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3200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Izabella Lankos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http://www.ceo.org.pl/sites/default/files/KOSS/davGallery/KOSS_zajawki_2/demokracja.jpg"/>
          <p:cNvPicPr/>
          <p:nvPr/>
        </p:nvPicPr>
        <p:blipFill>
          <a:blip r:embed="rId1"/>
          <a:stretch/>
        </p:blipFill>
        <p:spPr>
          <a:xfrm>
            <a:off x="4859280" y="1557360"/>
            <a:ext cx="431028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erykl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125000"/>
            <a:ext cx="38275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erykles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teński mąż stanu, świetny wódz i zdolny mówca, pochodzący (przez matkę Agarystę) z arystokratycznego rodu Alkmeonidów (syn Ksantyposa, kuzyn Klejstenesa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perykles"/>
          <p:cNvPicPr/>
          <p:nvPr/>
        </p:nvPicPr>
        <p:blipFill>
          <a:blip r:embed="rId1"/>
          <a:stretch/>
        </p:blipFill>
        <p:spPr>
          <a:xfrm>
            <a:off x="4618080" y="1108080"/>
            <a:ext cx="337824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odel funkcjonowania demokracji ateńskiej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www.widzew_stoki.republika.pl/klasa_I/pliki/ustroj_Aten.jpg"/>
          <p:cNvPicPr/>
          <p:nvPr/>
        </p:nvPicPr>
        <p:blipFill>
          <a:blip r:embed="rId1"/>
          <a:stretch/>
        </p:blipFill>
        <p:spPr>
          <a:xfrm>
            <a:off x="324000" y="1341360"/>
            <a:ext cx="813744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emokracja ateńska- wad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50560" y="1125000"/>
            <a:ext cx="4537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bywateli ( posiadających prawa) było  ok. 40 tys. na 250 tys. Ateńczyków. A więc czy na pewno rządziła większość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bywatelami byli jedynie wolni mężczyźni, którzy ukończyli 20 lat i mają oboje rodziców Ateńczyków, natomiast kobiety, niewolnicy, wyzwoleńcy i metojkowie (osiedleni w Atenach cudzoziemcy) byli na marginesie życia polityczneg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nadto zgromadzenia obywateli odbywały się kilka razy w miesiącu i często wiązały się z wysokimi kosztami dojazdów, a część obywateli musiała większość czasu poświęcać na pracę zawodową. Dlatego więc wielu z nich nie brało czynnego udziału w życiu polityczny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ąd skorupkowy na wygnanie lub śmierć skazywał też wybitnych ludzi – Sokrat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emagodzy i sykofanci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http://blog-wszystko-tematyczny.blog.onet.pl/files/2012/11/demoskratos.jpg"/>
          <p:cNvPicPr/>
          <p:nvPr/>
        </p:nvPicPr>
        <p:blipFill>
          <a:blip r:embed="rId1"/>
          <a:stretch/>
        </p:blipFill>
        <p:spPr>
          <a:xfrm>
            <a:off x="4765680" y="1125360"/>
            <a:ext cx="412920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Śmierć Sokrates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http://www.galeria.malarstwa.pl/obrazy/1110929.jpg"/>
          <p:cNvPicPr/>
          <p:nvPr/>
        </p:nvPicPr>
        <p:blipFill>
          <a:blip r:embed="rId1"/>
          <a:stretch/>
        </p:blipFill>
        <p:spPr>
          <a:xfrm>
            <a:off x="250920" y="1341360"/>
            <a:ext cx="4871880" cy="3311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http://info-poster.eu/wp-content/uploads/2012/06/sokrates.jpeg"/>
          <p:cNvPicPr/>
          <p:nvPr/>
        </p:nvPicPr>
        <p:blipFill>
          <a:blip r:embed="rId2"/>
          <a:stretch/>
        </p:blipFill>
        <p:spPr>
          <a:xfrm>
            <a:off x="5435640" y="1271520"/>
            <a:ext cx="34783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404640"/>
            <a:ext cx="46195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wolność działan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orupcja (łapówki, przekupstwa) – Fidiasz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rak stabilności rzą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onflikty między siłami politycznymi oraz ich zwolennika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chwianie pierwotnych założeń demokracji np. wolności -szykanowanie za wiarę, sposób by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www.paulina.friko.pl/atena%20partenos-fidiasz.jpg"/>
          <p:cNvPicPr/>
          <p:nvPr/>
        </p:nvPicPr>
        <p:blipFill>
          <a:blip r:embed="rId1"/>
          <a:stretch/>
        </p:blipFill>
        <p:spPr>
          <a:xfrm>
            <a:off x="5292720" y="260280"/>
            <a:ext cx="2600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emokracja zalet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adanie obywatelom praw do wolności osobistej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ówności wobec praw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dea wolności osobistej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dea wolności  słow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zeroki dostęp do urzęd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pływ obywateli na władzę w państw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iety dla najuboższych</a:t>
            </a:r>
            <a:br>
              <a:rPr sz="3200"/>
            </a:b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620280"/>
            <a:ext cx="50515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ażdy obywatel ma prawo wyboru, do odwołania się od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zadawalającej decyzji it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rządek, ustalenie odpowiednich praw, które przyczyniają się do sprawnego funkcjonowania w państwi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udzenie zainteresowań politycznych mieszkańców pol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większenie aktywności obywate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ozwój kultury i myśli filozoficzn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emokracja bezpośrednia </a:t>
            </a: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ttp://fotoforum.gazeta.pl/photo/5/oi/qh/fmgs/5Y3DQKSltbdoNkhohX.jpg"/>
          <p:cNvPicPr/>
          <p:nvPr/>
        </p:nvPicPr>
        <p:blipFill>
          <a:blip r:embed="rId1"/>
          <a:stretch/>
        </p:blipFill>
        <p:spPr>
          <a:xfrm>
            <a:off x="5357880" y="765000"/>
            <a:ext cx="3503520" cy="2627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http://upload.wikimedia.org/wikipedia/commons/thumb/a/a1/Athens_Roman_Agora_4-2004_1.JPG/300px-Athens_Roman_Agora_4-2004_1.JPG"/>
          <p:cNvPicPr/>
          <p:nvPr/>
        </p:nvPicPr>
        <p:blipFill>
          <a:blip r:embed="rId2"/>
          <a:stretch/>
        </p:blipFill>
        <p:spPr>
          <a:xfrm>
            <a:off x="5435640" y="3749760"/>
            <a:ext cx="310176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ole tekstowe 7"/>
          <p:cNvSpPr/>
          <p:nvPr/>
        </p:nvSpPr>
        <p:spPr>
          <a:xfrm>
            <a:off x="611280" y="54936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ibliografi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ole tekstowe 8"/>
          <p:cNvSpPr/>
          <p:nvPr/>
        </p:nvSpPr>
        <p:spPr>
          <a:xfrm>
            <a:off x="755640" y="119700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ww.portalwiedzy.onet.p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galeria.malarstwa.pl/obraz,929,smierc-Sokratesa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antiquitates.blox.pl/tagi_b/4086/Ateny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info-poster.eu/?attachment_id=45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paulina.friko.pl/artysci.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blog-wszystko-tematyczny.blog.onet.pl/2012/11/07/demokracja-regulowa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tos</cp:lastModifiedBy>
  <dcterms:modified xsi:type="dcterms:W3CDTF">2013-06-14T06:25:44Z</dcterms:modified>
  <cp:revision>15</cp:revision>
  <dc:subject/>
  <dc:title>Slajd 1</dc:title>
</cp:coreProperties>
</file>