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9CA-E9CC-4786-B976-4FBFC44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743-4CD3-4D5C-8105-8A526DC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DFD-A8CA-4F82-B17A-D5A781E7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483-BA18-41F3-B55F-AE6F632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163-DD17-4212-81C3-8AF021E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B58-5A91-4AF0-A80F-77D09FB9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80D-0E7A-47BD-9055-C98B6137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C23-FE0F-49EA-9633-62109FCA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719-7DC5-42AA-9920-37F46DF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0BC-8187-4B21-B562-FDD49868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81A-0D8C-4CE8-9376-D5E502CF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0BF-D6FF-403F-96EC-C8FFA44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7A02-3ED5-4D7F-BE64-43ACA496BF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ęść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457200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laczego wybuchają rewolucje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ytuacja rewolucyj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Bezpośrednie przyczyny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Dlaczego wybuchają rewoluc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323640" y="1928880"/>
            <a:ext cx="765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a rewolucja ma swoj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 najczęściej są wynikiem długotrwałeg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warstwiania s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Można wyróżni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grupy przyczy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 rot="9153600">
            <a:off x="1314000" y="371448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"/>
          <p:cNvSpPr/>
          <p:nvPr/>
        </p:nvSpPr>
        <p:spPr>
          <a:xfrm rot="1800000">
            <a:off x="4200120" y="371484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 rot="5400000">
            <a:off x="2909520" y="3948120"/>
            <a:ext cx="904680" cy="152280"/>
          </a:xfrm>
          <a:prstGeom prst="rightArrow">
            <a:avLst>
              <a:gd name="adj1" fmla="val 50000"/>
              <a:gd name="adj2" fmla="val 1485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71680" y="4172040"/>
            <a:ext cx="1695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zersze tło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połeczny kli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0" y="4705200"/>
            <a:ext cx="2143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Źródła braku stabilizacj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67240" y="4172040"/>
            <a:ext cx="1695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Bezpośrednie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tzw. „iskry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ole tekstowe 16" descr=""/>
          <p:cNvPicPr/>
          <p:nvPr/>
        </p:nvPicPr>
        <p:blipFill>
          <a:blip r:embed="rId3"/>
          <a:stretch/>
        </p:blipFill>
        <p:spPr>
          <a:xfrm>
            <a:off x="506520" y="1182600"/>
            <a:ext cx="279720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7"/>
          <p:cNvSpPr/>
          <p:nvPr/>
        </p:nvSpPr>
        <p:spPr>
          <a:xfrm>
            <a:off x="1285920" y="2000160"/>
            <a:ext cx="6357960" cy="146556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sileni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zadowoleni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zczeń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pokoj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ych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onflikt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ynikających z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ryzy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ekonomicznego, politycznego lub fisk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rostokąt 18"/>
          <p:cNvSpPr/>
          <p:nvPr/>
        </p:nvSpPr>
        <p:spPr>
          <a:xfrm>
            <a:off x="1857240" y="3786120"/>
            <a:ext cx="70009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. Wzrost napięc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. Niezdolność elit rządzących do utrzymania władzy i wpływów na tym sam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Wzrost aktywności mas, prowadząca do historycznego wystąpi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rostokąt 19"/>
          <p:cNvSpPr/>
          <p:nvPr/>
        </p:nvSpPr>
        <p:spPr>
          <a:xfrm>
            <a:off x="571680" y="1857240"/>
            <a:ext cx="8286480" cy="3714840"/>
          </a:xfrm>
          <a:prstGeom prst="rect">
            <a:avLst/>
          </a:prstGeom>
          <a:solidFill>
            <a:srgbClr val="948a54"/>
          </a:solidFill>
          <a:ln w="25560">
            <a:solidFill>
              <a:srgbClr val="4a452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Co przyspiesza rewolucję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oblemy ekonomi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Klęska w działaniach wojen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ybuch niezadowolen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Użycie przez władzę środków repres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Zdolność rewolucjonistów do mobilizowania mas społ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wolucja jest niemożliwa bez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ytuacji rewolucyjnej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, ale nie każda sytuacja rewolucyjna prowadzi do rewolucj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.I. Len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Storming of the Bastille"/>
          <p:cNvPicPr/>
          <p:nvPr/>
        </p:nvPicPr>
        <p:blipFill>
          <a:blip r:embed="rId3"/>
          <a:stretch/>
        </p:blipFill>
        <p:spPr>
          <a:xfrm>
            <a:off x="1571760" y="714240"/>
            <a:ext cx="5857920" cy="4389480"/>
          </a:xfrm>
          <a:prstGeom prst="rect">
            <a:avLst/>
          </a:prstGeom>
          <a:ln w="0">
            <a:noFill/>
          </a:ln>
        </p:spPr>
      </p:pic>
      <p:sp>
        <p:nvSpPr>
          <p:cNvPr id="83" name="Prostokąt 15"/>
          <p:cNvSpPr/>
          <p:nvPr/>
        </p:nvSpPr>
        <p:spPr>
          <a:xfrm>
            <a:off x="129240" y="5572080"/>
            <a:ext cx="191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english-online.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ole tekstowe 16"/>
          <p:cNvSpPr/>
          <p:nvPr/>
        </p:nvSpPr>
        <p:spPr>
          <a:xfrm>
            <a:off x="2639160" y="514368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burzenie Bastylii, 14 lipca 17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rostokąt 15"/>
          <p:cNvSpPr/>
          <p:nvPr/>
        </p:nvSpPr>
        <p:spPr>
          <a:xfrm>
            <a:off x="125280" y="5572080"/>
            <a:ext cx="134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6"/>
          <p:cNvSpPr/>
          <p:nvPr/>
        </p:nvSpPr>
        <p:spPr>
          <a:xfrm>
            <a:off x="571680" y="4929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„herbatka bostońska” – bostończycy wyrzucają do wody transport herbaty w proteście przeciwko wysokim cłom, 16 grudnia 1773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Tzw. herbatka bosto&amp;nacute;ska – bosto&amp;nacute;czycy wyrzucaj&amp;aogon; do wody transport herbaty w prote&amp;sacute;cie przeciwko wysokim c&amp;lstrok;om, 16 grudnia 1773 r., litografia  z 1846 r. "/>
          <p:cNvPicPr/>
          <p:nvPr/>
        </p:nvPicPr>
        <p:blipFill>
          <a:blip r:embed="rId3"/>
          <a:stretch/>
        </p:blipFill>
        <p:spPr>
          <a:xfrm>
            <a:off x="1071720" y="928800"/>
            <a:ext cx="6500520" cy="394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rostokąt 15"/>
          <p:cNvSpPr/>
          <p:nvPr/>
        </p:nvSpPr>
        <p:spPr>
          <a:xfrm>
            <a:off x="108360" y="5572080"/>
            <a:ext cx="182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encyklopedia.pw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6"/>
          <p:cNvSpPr/>
          <p:nvPr/>
        </p:nvSpPr>
        <p:spPr>
          <a:xfrm>
            <a:off x="785880" y="51436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turm na Pałac Zimowy w Piotrogrodzie, 25/26 października 1917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1714680" y="1285920"/>
            <a:ext cx="5695920" cy="369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0"/>
          <p:cNvSpPr/>
          <p:nvPr/>
        </p:nvSpPr>
        <p:spPr>
          <a:xfrm>
            <a:off x="285840" y="1928880"/>
            <a:ext cx="84294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english-online.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astbook.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ncyklopedia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8:43Z</dcterms:modified>
  <cp:revision>140</cp:revision>
  <dc:subject/>
  <dc:title>Slajd 1</dc:title>
</cp:coreProperties>
</file>