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F30-227A-4D4D-8DEB-B16D64B2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C97-1D9E-4D88-8507-76B9E95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E85-F70A-4E53-8F8B-856A8352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CB9-7C77-4CD2-A993-5DA70954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398-FCD4-4C1E-9B90-7A80C402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3FB-9BB5-44E1-BB94-6933B360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410-4FFC-4B52-8742-B1F29074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A9F-8011-4E74-9C26-62B830B9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25E-3F80-44DA-AE11-CA8A62F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3E6-689C-4147-B672-BE2CAF3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E5F-4959-423E-BB59-9C9FA1C6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9D9-53BB-49B8-BC61-E38B07A6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7565-8737-4F00-97B6-02DFA7C80A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rewolucja to droga do demokracji czy totalitaryzm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9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285840" y="1928880"/>
            <a:ext cx="84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Huntingt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ecia fala demokratyzacji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rszawa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Sartori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a demokracji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taniszki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amoograniczająca się rewolucj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Gdańsk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. Sztompka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cjologia zmian społecz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sjp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87440" y="1928880"/>
            <a:ext cx="8168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yjaśnienie kluczowych pojęć i relacji pomiędzy ni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jednoznaczność efektów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emokracja i totalitaryzm jako efekt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przemoc jest nieodłączną cechą rewolucj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możliwa jest pokojowa rewolucja? Pojęcie „samoograniczającej się”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ole tekstowe 17" descr=""/>
          <p:cNvPicPr/>
          <p:nvPr/>
        </p:nvPicPr>
        <p:blipFill>
          <a:blip r:embed="rId1"/>
          <a:stretch/>
        </p:blipFill>
        <p:spPr>
          <a:xfrm>
            <a:off x="3328920" y="2419200"/>
            <a:ext cx="1895400" cy="1622520"/>
          </a:xfrm>
          <a:prstGeom prst="rect">
            <a:avLst/>
          </a:prstGeom>
          <a:ln w="0">
            <a:noFill/>
          </a:ln>
        </p:spPr>
      </p:pic>
      <p:sp>
        <p:nvSpPr>
          <p:cNvPr id="5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9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rostokąt 9" descr=""/>
          <p:cNvPicPr/>
          <p:nvPr/>
        </p:nvPicPr>
        <p:blipFill>
          <a:blip r:embed="rId4"/>
          <a:stretch/>
        </p:blipFill>
        <p:spPr>
          <a:xfrm>
            <a:off x="706320" y="2651040"/>
            <a:ext cx="2841840" cy="2805120"/>
          </a:xfrm>
          <a:prstGeom prst="rect">
            <a:avLst/>
          </a:prstGeom>
          <a:ln w="0">
            <a:noFill/>
          </a:ln>
        </p:spPr>
      </p:pic>
      <p:pic>
        <p:nvPicPr>
          <p:cNvPr id="62" name="Prostokąt 11" descr=""/>
          <p:cNvPicPr/>
          <p:nvPr/>
        </p:nvPicPr>
        <p:blipFill>
          <a:blip r:embed="rId5"/>
          <a:stretch/>
        </p:blipFill>
        <p:spPr>
          <a:xfrm>
            <a:off x="4906800" y="1474920"/>
            <a:ext cx="317664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rostokąt 12" descr=""/>
          <p:cNvPicPr/>
          <p:nvPr/>
        </p:nvPicPr>
        <p:blipFill>
          <a:blip r:embed="rId6"/>
          <a:stretch/>
        </p:blipFill>
        <p:spPr>
          <a:xfrm>
            <a:off x="4913280" y="3267000"/>
            <a:ext cx="3048120" cy="296856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16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Kluczowe poję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rostokąt 18"/>
          <p:cNvSpPr/>
          <p:nvPr/>
        </p:nvSpPr>
        <p:spPr>
          <a:xfrm>
            <a:off x="214200" y="2428920"/>
            <a:ext cx="3643560" cy="235728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 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brojn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stąpieni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dużej części społeczeństw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eciw istniejącej władz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mające na celu zmianę ustroju w państwie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 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«proces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wałtownych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zmian w jakiejś dziedzinie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załka w lewo i prawo 19"/>
          <p:cNvSpPr/>
          <p:nvPr/>
        </p:nvSpPr>
        <p:spPr>
          <a:xfrm>
            <a:off x="3286080" y="3143160"/>
            <a:ext cx="2000160" cy="571680"/>
          </a:xfrm>
          <a:prstGeom prst="leftRightArrow">
            <a:avLst>
              <a:gd name="adj1" fmla="val 50000"/>
              <a:gd name="adj2" fmla="val 49987"/>
            </a:avLst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ff"/>
                </a:solidFill>
                <a:latin typeface="Tahoma"/>
                <a:ea typeface="Tahoma"/>
              </a:rPr>
              <a:t>continu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ostokąt 21"/>
          <p:cNvSpPr/>
          <p:nvPr/>
        </p:nvSpPr>
        <p:spPr>
          <a:xfrm>
            <a:off x="357120" y="4857840"/>
            <a:ext cx="85629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nios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ejście między demokracją i totalitaryzmem jest płyn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nie jest dana raz na zawsze – o jakość demokracji trzeba nieustannie zabiega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rostokąt 22"/>
          <p:cNvSpPr/>
          <p:nvPr/>
        </p:nvSpPr>
        <p:spPr>
          <a:xfrm>
            <a:off x="4643280" y="1571760"/>
            <a:ext cx="4286520" cy="164304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ch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dna oficjalna ideolo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onopol rządu na bro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ządowy monopol dysponowania środkami masowego przekaz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errorystyczny system policyj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centralizowane zarządzanie gospodark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23"/>
          <p:cNvSpPr/>
          <p:nvPr/>
        </p:nvSpPr>
        <p:spPr>
          <a:xfrm>
            <a:off x="4643280" y="3286080"/>
            <a:ext cx="4286520" cy="164304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ch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ystem, w którym nikt nie może sam siebie wybra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kt nie może powierzyć sobie władz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kt nie może przywłaszczyć sobie nieograniczonej władz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986 0.15448 L -0.3816 0.15217 C -0.35052 0.1524 -0.30521 0.14477 -0.25868 0.13182 C -0.20573 0.11679 -0.16407 0.09967 -0.13577 0.08279 L 0.00069 0.00509 E">
                                      <p:cBhvr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7197E-006 L 0.04218 -0.14963 E">
                                      <p:cBhvr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16"/>
          <p:cNvSpPr/>
          <p:nvPr/>
        </p:nvSpPr>
        <p:spPr>
          <a:xfrm>
            <a:off x="428760" y="17146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wdziwym efektem zmian systemowych wcale nie musi być demokracja taka, jaką znamy. Możliwości zwykle jest kil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8"/>
          <p:cNvSpPr/>
          <p:nvPr/>
        </p:nvSpPr>
        <p:spPr>
          <a:xfrm>
            <a:off x="785880" y="264312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utorytary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9"/>
          <p:cNvSpPr/>
          <p:nvPr/>
        </p:nvSpPr>
        <p:spPr>
          <a:xfrm>
            <a:off x="4219200" y="25718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otalitary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11"/>
          <p:cNvSpPr/>
          <p:nvPr/>
        </p:nvSpPr>
        <p:spPr>
          <a:xfrm>
            <a:off x="2783880" y="30718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ykta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2"/>
          <p:cNvSpPr/>
          <p:nvPr/>
        </p:nvSpPr>
        <p:spPr>
          <a:xfrm>
            <a:off x="6572160" y="292896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rostokąt 13"/>
          <p:cNvSpPr/>
          <p:nvPr/>
        </p:nvSpPr>
        <p:spPr>
          <a:xfrm>
            <a:off x="285840" y="3571920"/>
            <a:ext cx="8572320" cy="207180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odatkowo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czytne cele rewolucjonistów w teorii nie zawsze przekładały się na praktyk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zasem trudno przewidzieć bieg wypadków – sytuacja może „wymknąć się” spod kontro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namy rewolucje, które zapoczątkowały ustrój totalitarny, ale także i takie, które umocniły demokracj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namy też sytuacje, kiedy władzę oddawano dyktatorom w sposób w pełni demokratyczny(A. Hitl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4"/>
          <p:cNvSpPr/>
          <p:nvPr/>
        </p:nvSpPr>
        <p:spPr>
          <a:xfrm>
            <a:off x="642960" y="2428920"/>
            <a:ext cx="79297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   </a:t>
            </a:r>
            <a:r>
              <a:rPr b="1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---------------</a:t>
            </a:r>
            <a:r>
              <a:rPr b="1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iedemokr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16"/>
          <p:cNvSpPr/>
          <p:nvPr/>
        </p:nvSpPr>
        <p:spPr>
          <a:xfrm>
            <a:off x="428760" y="171468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zw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„wielkie” rewol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ielska (164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merykańska (17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francuska (178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prowadziły do narodzin epoki nowoczes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8"/>
          <p:cNvSpPr/>
          <p:nvPr/>
        </p:nvSpPr>
        <p:spPr>
          <a:xfrm>
            <a:off x="4405320" y="178596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 parlamenta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11"/>
          <p:cNvSpPr/>
          <p:nvPr/>
        </p:nvSpPr>
        <p:spPr>
          <a:xfrm>
            <a:off x="6184440" y="22860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Ograniczenie absoluty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ole tekstowe 12"/>
          <p:cNvSpPr/>
          <p:nvPr/>
        </p:nvSpPr>
        <p:spPr>
          <a:xfrm>
            <a:off x="4063320" y="27147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olność i niepodległ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13"/>
          <p:cNvSpPr/>
          <p:nvPr/>
        </p:nvSpPr>
        <p:spPr>
          <a:xfrm>
            <a:off x="3723120" y="3357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ówność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14"/>
          <p:cNvSpPr/>
          <p:nvPr/>
        </p:nvSpPr>
        <p:spPr>
          <a:xfrm>
            <a:off x="6814080" y="30718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awa człowie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15"/>
          <p:cNvSpPr/>
          <p:nvPr/>
        </p:nvSpPr>
        <p:spPr>
          <a:xfrm>
            <a:off x="5424840" y="38577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Suwerenność nar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17"/>
          <p:cNvSpPr/>
          <p:nvPr/>
        </p:nvSpPr>
        <p:spPr>
          <a:xfrm>
            <a:off x="7025760" y="435780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rójpodział wład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18"/>
          <p:cNvSpPr/>
          <p:nvPr/>
        </p:nvSpPr>
        <p:spPr>
          <a:xfrm>
            <a:off x="3500280" y="1643040"/>
            <a:ext cx="550080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Egzeku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f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niszczenie dóbr kul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16"/>
          <p:cNvSpPr/>
          <p:nvPr/>
        </p:nvSpPr>
        <p:spPr>
          <a:xfrm>
            <a:off x="428760" y="1714680"/>
            <a:ext cx="84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syjska (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ińska (194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zpoczęły okres komu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8"/>
          <p:cNvSpPr/>
          <p:nvPr/>
        </p:nvSpPr>
        <p:spPr>
          <a:xfrm>
            <a:off x="4468680" y="17859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Cenz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1"/>
          <p:cNvSpPr/>
          <p:nvPr/>
        </p:nvSpPr>
        <p:spPr>
          <a:xfrm>
            <a:off x="6465960" y="21430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akaz straj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2"/>
          <p:cNvSpPr/>
          <p:nvPr/>
        </p:nvSpPr>
        <p:spPr>
          <a:xfrm>
            <a:off x="4065480" y="271476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acjonalizacja fabryk i ba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3"/>
          <p:cNvSpPr/>
          <p:nvPr/>
        </p:nvSpPr>
        <p:spPr>
          <a:xfrm>
            <a:off x="3736440" y="335772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ojna dom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14"/>
          <p:cNvSpPr/>
          <p:nvPr/>
        </p:nvSpPr>
        <p:spPr>
          <a:xfrm>
            <a:off x="7467480" y="30718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15"/>
          <p:cNvSpPr/>
          <p:nvPr/>
        </p:nvSpPr>
        <p:spPr>
          <a:xfrm>
            <a:off x="5448960" y="38577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Miliony of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rostokąt 19"/>
          <p:cNvSpPr/>
          <p:nvPr/>
        </p:nvSpPr>
        <p:spPr>
          <a:xfrm>
            <a:off x="1000080" y="5072040"/>
            <a:ext cx="728676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Żadna z nich nie miała jednak POKOJOWEGO charakte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5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6"/>
          <p:cNvSpPr/>
          <p:nvPr/>
        </p:nvSpPr>
        <p:spPr>
          <a:xfrm>
            <a:off x="428760" y="928800"/>
            <a:ext cx="842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 kol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 antykomunistyczne  w Europie Środkowej i Wschodniej (1989) zakończyły okres komu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7"/>
          <p:cNvSpPr/>
          <p:nvPr/>
        </p:nvSpPr>
        <p:spPr>
          <a:xfrm>
            <a:off x="928800" y="2143080"/>
            <a:ext cx="728640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357120" y="4857840"/>
            <a:ext cx="8429760" cy="810000"/>
          </a:xfrm>
          <a:prstGeom prst="rect">
            <a:avLst/>
          </a:prstGeom>
          <a:solidFill>
            <a:srgbClr val="ddd9c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iększość ludzi nie marzy już o rewolucjach, </a:t>
            </a:r>
            <a:r>
              <a:rPr b="1" i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ale się ich bo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iotr Sztomp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4200" y="2928960"/>
          <a:ext cx="8715600" cy="17812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9800"/>
                <a:gridCol w="2178000"/>
              </a:tblGrid>
              <a:tr h="285840">
                <a:tc grid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ogi do demokracji w latach 70., 80. i 90. XX wie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rwa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zkrwa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tępstwa rządu pod wpływem walk zbroj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brojne obalenie reż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browolne ustępstwa lub negocjacje rządu z opozycj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sowe pokojowe protesty społeczeńst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860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Nikaragua, Salwador, 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Portugalia, Rumunia, Pan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Polska, Węgry, Hiszp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NRD, Czechosłowa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285840" y="228600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pierwsz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 zwykle zakładają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życie przemo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tąd strach przed konsekwencjami jej uży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to…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zybka, fundamentalna i gwałtowna wewnętrzna zmiana obejmująca dominujące wartości i mity społeczne, instytucje polityczne, strukturę społeczną, formy przywództwa, działania rządowe i polityk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to…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ces zmiany politycznej dzięki masowemu ruchowi społecznemu przez obalenie przemocą istniejącego reżimu i utworzenie nowego rzą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0" y="857160"/>
            <a:ext cx="5500800" cy="107172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DLACZE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285840" y="228600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drugi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e państwa już wcześniej doświadczyły wielkiej prze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trzeci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formatorzy byli na tyle silni, że władza obawiała się stosowania prze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czwart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drzucano przemoc ze względów ideologicznych – raczej organizowano marsze czy demonstracje przeciwko reżimowi (tzw. niestosowanie przemocy, ang.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n-violenc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7"/>
          <p:cNvSpPr/>
          <p:nvPr/>
        </p:nvSpPr>
        <p:spPr>
          <a:xfrm>
            <a:off x="0" y="857160"/>
            <a:ext cx="5500800" cy="107172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DLACZE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8"/>
          <p:cNvSpPr/>
          <p:nvPr/>
        </p:nvSpPr>
        <p:spPr>
          <a:xfrm>
            <a:off x="785880" y="4786200"/>
            <a:ext cx="728640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Stąd pojęcie: „SAMOOGRANICZAJĄCA SIĘ REWOLUCJ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5T19:56:25Z</dcterms:modified>
  <cp:revision>122</cp:revision>
  <dc:subject/>
  <dc:title>Slajd 1</dc:title>
</cp:coreProperties>
</file>