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26.jpeg" ContentType="image/jpeg"/>
  <Override PartName="/ppt/media/image5.jpeg" ContentType="image/jpeg"/>
  <Override PartName="/ppt/media/image9.png" ContentType="image/png"/>
  <Override PartName="/ppt/media/image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7.jpeg" ContentType="image/jpe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303A-BF5C-4638-8385-9BC39504397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B38E-3EF0-451E-AA88-7C85334CEF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4044-CEE9-4E19-9DE3-8A8FCC5134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A69-8A8E-4FC8-80D1-3108BDFA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6A2-E29B-4AFB-B421-A4CCCCD8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B86-A6EA-4465-8F47-118C5B25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F71-C1D2-4EA4-82AB-CD8B0074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3883-8C9F-40B6-A030-64967C59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DF82-DFC5-404F-A351-0CCA1A37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89ED-330F-40C7-8994-1EB2F62C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FE32-7162-409A-B977-D41304FD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52CC-1F93-4CFF-9CBB-FDF5CDFA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3E40-5809-47A0-98A1-DA95CE2A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879E-644D-45C1-9AEA-7BE2E7FD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281-9054-476F-B576-9497714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F216-5E5A-471D-A5A6-5FB82975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AFA4-CD67-4FED-8821-796AD02C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B3E8-C5CE-48FC-8C68-C7AC67BF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DE5A-9ABD-4560-A4D3-AF853723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4C23-D309-4BA3-9791-E95261EB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3E6-5F8F-42D9-8D0B-A82464A5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5EC-EB6E-4FDA-9AA3-A87540E2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60A-437F-4CB1-891C-96CB2515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3A7-C55B-49BF-A105-DEB24572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90A-7E17-4989-9DE2-A7C61D8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D69-77CD-4E38-BCE6-FD3FC9B9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9B0-D848-4AAB-A207-3305F8B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C4D6-4C91-45E6-B287-26C6A2EB93F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25F1-0E4E-4B69-9077-D9268BF4AF5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google.pl/url?sa=i&amp;rct=j&amp;q=senat+usa&amp;source=images&amp;cd=&amp;cad=rja&amp;docid=15OrB6_lmM1KvM&amp;tbnid=hOVRUKdRWh4p-M:&amp;ved=0CAUQjRw&amp;url=http://www.telegraph.co.uk/finance/financialcrisis/3119580/Financial-crisis-US-Senate-passes-700bn-bank-bail-out.html&amp;ei=RJtgUcvTMoiitAbl-4CQAg&amp;bvm=bv.44770516,d.bGE&amp;psig=AFQjCNE7beSaSQgGEQOnRcOobykUVVjsHw&amp;ust=1365372086324113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www.google.pl/url?sa=i&amp;rct=j&amp;q=konstytucja+usa&amp;source=images&amp;cd=&amp;cad=rja&amp;docid=XseMvENb8LxgnM&amp;tbnid=u91T_dlfqb2ZwM:&amp;ved=0CAUQjRw&amp;url=http://stosunki.pl/?q=content/ameryka&#324;ski-prezydent-&#322;amie-konstytucj&#281;&amp;ei=5ZtgUaTQC8KstAaYs4H4Ag&amp;bvm=bv.44770516,d.bGE&amp;psig=AFQjCNHmjKCuu4jz-G2pCn71tmyoYnYtMg&amp;ust=1365372218396788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llposters.com/-sp/Revolutionary-Text-Unite-Indivisibilite-de-La-Republic-Liberte-Egalite-Fraternite-Ou-La-Morte-Posters_i3829168_.htm" TargetMode="External"/><Relationship Id="rId2" Type="http://schemas.openxmlformats.org/officeDocument/2006/relationships/hyperlink" Target="http://pl.123rf.com/photo_5090653_deklaracja-niepodleglosci-stanow-zjednoczonych-z-flaga-w-tle.html" TargetMode="External"/><Relationship Id="rId3" Type="http://schemas.openxmlformats.org/officeDocument/2006/relationships/hyperlink" Target="http://www.telegraph.co.uk/finance/financialcrisis/3119580/Financial-crisis-US-Senate-passes-700bn-bank-bail-out.html" TargetMode="External"/><Relationship Id="rId4" Type="http://schemas.openxmlformats.org/officeDocument/2006/relationships/hyperlink" Target="http://stosunki.pl/?q=content/ameryka&#324;ski-prezydent-&#322;amie-konstytucj&#281;" TargetMode="External"/><Relationship Id="rId5" Type="http://schemas.openxmlformats.org/officeDocument/2006/relationships/hyperlink" Target="http://grecja.home.pl/ateny/ateny_gal2.htm" TargetMode="External"/><Relationship Id="rId6" Type="http://schemas.openxmlformats.org/officeDocument/2006/relationships/hyperlink" Target="http://www.polskieradio.pl/5/3/Artykul/724081" TargetMode="External"/><Relationship Id="rId7" Type="http://schemas.openxmlformats.org/officeDocument/2006/relationships/hyperlink" Target="http://www.memo.fr/en/article.aspx?ID=JJR_000" TargetMode="External"/><Relationship Id="rId8" Type="http://schemas.openxmlformats.org/officeDocument/2006/relationships/hyperlink" Target="http://www.memo.fr/en/article.aspx?ID=JJR_000" TargetMode="External"/><Relationship Id="rId9" Type="http://schemas.openxmlformats.org/officeDocument/2006/relationships/hyperlink" Target="http://nothingam.blog.onet.pl/2009/07/19/004/" TargetMode="External"/><Relationship Id="rId10" Type="http://schemas.openxmlformats.org/officeDocument/2006/relationships/hyperlink" Target="http://nothingam.blog.onet.pl/2009/07/19/004/" TargetMode="External"/><Relationship Id="rId11" Type="http://schemas.openxmlformats.org/officeDocument/2006/relationships/hyperlink" Target="http://www.klaka.freehost.pl/sredniowiecze/grafika/drabina.jpg" TargetMode="External"/><Relationship Id="rId12" Type="http://schemas.openxmlformats.org/officeDocument/2006/relationships/hyperlink" Target="http://www.klaka.freehost.pl/sredniowiecze/grafika/drabina.jpg" TargetMode="External"/><Relationship Id="rId13" Type="http://schemas.openxmlformats.org/officeDocument/2006/relationships/hyperlink" Target="http://bochenskie.republika.pl/najstarsza_bochnia.html" TargetMode="External"/><Relationship Id="rId14" Type="http://schemas.openxmlformats.org/officeDocument/2006/relationships/hyperlink" Target="http://bochenskie.republika.pl/najstarsza_bochnia.html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2010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ff0000"/>
                </a:solidFill>
                <a:latin typeface="Calibri"/>
              </a:rPr>
              <a:t>Być obywatelem! czy zawsze to samo znaczyło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23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XVIII wiek – epoka oświecenia – rozwój praw obywatelskich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97000"/>
            <a:ext cx="411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lozofia polityczna Monteskiusza, J.J. Rousseau, J. Loc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wolucja francuska 1789-17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eklaracja niepodległości USA i powstanie USA 177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uropa Napoleo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bi.gazeta.pl/im/7/7180/z7180287Q.jpg"/>
          <p:cNvPicPr/>
          <p:nvPr/>
        </p:nvPicPr>
        <p:blipFill>
          <a:blip r:embed="rId1"/>
          <a:stretch/>
        </p:blipFill>
        <p:spPr>
          <a:xfrm>
            <a:off x="4427640" y="1197000"/>
            <a:ext cx="4546440" cy="3022560"/>
          </a:xfrm>
          <a:prstGeom prst="rect">
            <a:avLst/>
          </a:prstGeom>
          <a:ln w="0">
            <a:noFill/>
          </a:ln>
        </p:spPr>
      </p:pic>
      <p:sp>
        <p:nvSpPr>
          <p:cNvPr id="124" name="Prostokąt 1"/>
          <p:cNvSpPr/>
          <p:nvPr/>
        </p:nvSpPr>
        <p:spPr>
          <a:xfrm>
            <a:off x="5003640" y="41893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ot. Lylho/Leemage smierć Ludwika XV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ohn Lock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836280"/>
            <a:ext cx="540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ażdy obywatel posiada pewne podstawowe, prawa, o ile jest lojalny w stosunku do swojego państwa (ale ni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ząd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!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elem państwa jest dobro obywateli, ochrona ich praw i wolności. Na mocy kontraktu społecznego zawartego pomiędzy narodem a rządem, obywatelom przysługuje wolność myśli, własnych przekonań, wyrażania ich, organizowania się, pracy, kupowania i sprzedawania, oraz swobodnego wybierania rządu i zmieniania go (a nawet usuwania – rewolucja)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cepcja umowy społecznej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ówność wszystkich obywateli wobec prawa – nawiązanie do filozofii stoickiej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olność jako podstawowe prawo każdego człowie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o do własności każdego obywate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John Locke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www.bibliotekakp.pl/Umowa_o_zabezpieczeniu_spolecznym_miedzy_Rzadem_RP_a_Australia,279,800,600,.jpg"/>
          <p:cNvPicPr/>
          <p:nvPr/>
        </p:nvPicPr>
        <p:blipFill>
          <a:blip r:embed="rId2"/>
          <a:stretch/>
        </p:blipFill>
        <p:spPr>
          <a:xfrm>
            <a:off x="5940360" y="2700360"/>
            <a:ext cx="29005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ymbol zastępczy zawartości 3" descr=""/>
          <p:cNvPicPr/>
          <p:nvPr/>
        </p:nvPicPr>
        <p:blipFill>
          <a:blip r:embed="rId1"/>
          <a:stretch/>
        </p:blipFill>
        <p:spPr>
          <a:xfrm>
            <a:off x="12600" y="901800"/>
            <a:ext cx="8796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ilozofia polityczna oświecen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560" y="119664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świecenie to prąd umysłowy, który rozwijał się w Europie pod koniec XVII i przez cały XVIII wiek i obejmował zarówno filozofię, sztukę, literaturę i muzykę, jak i teorie społeczne, kulturowe, językowe i politycz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świecenie pragnęło wyjść poza ograniczenia epoki i postrzegać świat, w tym również rolę obywateli i znaczenie obywatelstwa, inaczej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dno z podstawowych przekonań epoki Oświecenia zakłada, że nic nie jest dane lub określone z góry, a wszechświat jest zasadniczo racjonalny, co oznacza, że może być pojmowany wyłącznie za pomocą rozumu i że można go kontrolowa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uwerenność lud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www.memo.fr/Media/JJR_000.jpg"/>
          <p:cNvPicPr/>
          <p:nvPr/>
        </p:nvPicPr>
        <p:blipFill>
          <a:blip r:embed="rId1"/>
          <a:stretch/>
        </p:blipFill>
        <p:spPr>
          <a:xfrm>
            <a:off x="5364000" y="1052640"/>
            <a:ext cx="34545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olność, Równość, Braterstw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3640" y="1483920"/>
            <a:ext cx="5343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ałalność klubów politycznych w czasie rewolucji np. Jakob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stytucja francuska – wprowadzenie trójpodziału władzy i możliwości głosowania przez obywateli – cenzus majątk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rowadzenie republ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Revolutionary Text "/>
          <p:cNvPicPr/>
          <p:nvPr/>
        </p:nvPicPr>
        <p:blipFill>
          <a:blip r:embed="rId1"/>
          <a:stretch/>
        </p:blipFill>
        <p:spPr>
          <a:xfrm>
            <a:off x="5667480" y="331920"/>
            <a:ext cx="3476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eklaracja praw człowieka i obywatel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79280" y="1454040"/>
            <a:ext cx="4176720" cy="525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www.e-kolekcjoner.pl/files/10-zlotych-deklaracja-praw-czlowieka%5b2%5d.jpg"/>
          <p:cNvPicPr/>
          <p:nvPr/>
        </p:nvPicPr>
        <p:blipFill>
          <a:blip r:embed="rId2"/>
          <a:stretch/>
        </p:blipFill>
        <p:spPr>
          <a:xfrm>
            <a:off x="5076720" y="142704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any zjednocz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267920"/>
            <a:ext cx="47941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eklaracja niepodległośc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g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en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Deklaracja Niepodległości Stanów Zjednoczonych z flagą w tle Zdjęcie Seryjne - 5090653"/>
          <p:cNvPicPr/>
          <p:nvPr/>
        </p:nvPicPr>
        <p:blipFill>
          <a:blip r:embed="rId1"/>
          <a:stretch/>
        </p:blipFill>
        <p:spPr>
          <a:xfrm>
            <a:off x="5118120" y="33336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://i.telegraph.co.uk/multimedia/archive/01002/capitol-hill-senat_1002366c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645000"/>
            <a:ext cx="438156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stosunki.pl/sites/default/files/REGIONY/Ameryka_Pln/Obama_Libia_Konstytucja_0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18120" y="3213000"/>
            <a:ext cx="3719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wie koncepcje obywatelstwa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XIX wie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Diagram 3" descr=""/>
          <p:cNvPicPr/>
          <p:nvPr/>
        </p:nvPicPr>
        <p:blipFill>
          <a:blip r:embed="rId1"/>
          <a:stretch/>
        </p:blipFill>
        <p:spPr>
          <a:xfrm>
            <a:off x="231840" y="1536840"/>
            <a:ext cx="85946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ek XIX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267920"/>
            <a:ext cx="4691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stytucyjna gwarancja praw i wolności obywatelski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szerzenie praw obywatelskich politycznych – prawa wyborc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www.szkolnictwo.pl/rysunki_lekcje/2510/3409_139_4.png"/>
          <p:cNvPicPr/>
          <p:nvPr/>
        </p:nvPicPr>
        <p:blipFill>
          <a:blip r:embed="rId1"/>
          <a:stretch/>
        </p:blipFill>
        <p:spPr>
          <a:xfrm>
            <a:off x="5148360" y="1197000"/>
            <a:ext cx="3809880" cy="212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www.wszpwn.com.pl/uploads/640x480/5/b4827a39_wiosna_ludow_1848_1849.gif"/>
          <p:cNvPicPr/>
          <p:nvPr/>
        </p:nvPicPr>
        <p:blipFill>
          <a:blip r:embed="rId2"/>
          <a:stretch/>
        </p:blipFill>
        <p:spPr>
          <a:xfrm>
            <a:off x="5300640" y="342900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ograf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7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http://www.allposters.com/-sp/Revolutionary-Text-Unite-Indivisibilite-de-La-Republic-Liberte-Egalite-Fraternite-Ou-La-Morte-Posters_i3829168_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2"/>
              </a:rPr>
              <a:t>http://pl.123rf.com/photo_5090653_deklaracja-niepodleglosci-stanow-zjednoczonych-z-flaga-w-tle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3"/>
              </a:rPr>
              <a:t>http://www.telegraph.co.uk/finance/financialcrisis/3119580/Financial-crisis-US-Senate-passes-700bn-bank-bail-out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4"/>
              </a:rPr>
              <a:t>http://stosunki.pl/?q=content/ameryka%C5%84ski-prezydent-%C5%82amie-konstytucj%C4%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5"/>
              </a:rPr>
              <a:t>http://grecja.home.pl/ateny/ateny_gal2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6"/>
              </a:rPr>
              <a:t>http://www.polskieradio.pl/5/3/Artykul/724081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7"/>
              </a:rPr>
              <a:t>http://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8"/>
              </a:rPr>
              <a:t>www.memo.fr/en/article.aspx?ID=JJR_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9"/>
              </a:rPr>
              <a:t>http://nothingam.blog.onet.pl/2009/07/19/004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0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1"/>
              </a:rPr>
              <a:t>http://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2"/>
              </a:rPr>
              <a:t>www.klaka.freehost.pl/sredniowiecze/grafika/drabina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4"/>
              </a:rPr>
              <a:t>bochenskie.republika.pl/najstarsza_bochnia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romanum.historicus.pl/ubior_rzymian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7280" y="274680"/>
            <a:ext cx="42591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te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620280"/>
            <a:ext cx="4942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bywate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” to inaczej „istota polityczna”, a więc człowiek, który posiada prawa obywatelski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ywatel to pełnoletni mężczyzna , który  urodził się  z ojca Ateńczyka i matki Atenk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 praw politycznych należał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głosu na zgromadzenia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dział w wyborze członków władz (mniejszy w oligarchiach, większy w demokracjach – nazywamy to czynnym prawem wyborczym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ógł być  wybierany  do władz (w demokracjach – to tzw. bierne prawo wyborcz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dział w sądach i ochrona prawna (najczęściej zakaz skazywania na kary hańbią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do diet podczas sprawowania urzędów lub głosowa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do pełnego udziału w kulcie religijnym i życiu kulturalnym oraz do darmowych poczęstunków z tym związa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do opieki państwa (np. wykupu z niewoli w przypadku dostania się do niej na wojni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http://grecja.home.pl/ateny/athensfromabove2.jpg"/>
          <p:cNvPicPr/>
          <p:nvPr/>
        </p:nvPicPr>
        <p:blipFill>
          <a:blip r:embed="rId1"/>
          <a:stretch/>
        </p:blipFill>
        <p:spPr>
          <a:xfrm>
            <a:off x="5121360" y="1628640"/>
            <a:ext cx="39956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l.wikipedia.org/wiki/Szlachta_w_Pols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e-kolekcjoner.pl/766,10-zlotych-deklaracja-praw-czlowiek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ww.szkolnictwo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feudalizm.prv.pl/spoleczenstwofeudalne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emito.net/turystyka/inne_ciekawe_obiekty/468448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http://ecsmedia.pl/c/1349275345816-1497121678-jpg-smyk.gallery.big-iext12800085.jpg"/>
          <p:cNvPicPr/>
          <p:nvPr/>
        </p:nvPicPr>
        <p:blipFill>
          <a:blip r:embed="rId1"/>
          <a:stretch/>
        </p:blipFill>
        <p:spPr>
          <a:xfrm>
            <a:off x="5796000" y="112536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://www.mydwoje.pl/_img/_pictures/590.jpg"/>
          <p:cNvPicPr/>
          <p:nvPr/>
        </p:nvPicPr>
        <p:blipFill>
          <a:blip r:embed="rId2"/>
          <a:stretch/>
        </p:blipFill>
        <p:spPr>
          <a:xfrm>
            <a:off x="826920" y="321300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8920" y="476280"/>
            <a:ext cx="54723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ives Romanus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obywatel rzymski – miał prawa zależne od urodzenia w odpowiedniej klasie społecznej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sługiwało dzieciom obywateli rzymskich (wystarczył ojciec Rzymianin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zeciwieństwie do Grecji, udział w życiu publicznym był nieobowiązkowy, choć dobrze widzia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owością było nadawanie obywatelstwa całym miastom, z czasem obszarom (Italia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dykt Karakali – obywatelstwo dla wszystkich mieszkańców impe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http://upload.wikimedia.org/wikipedia/commons/thumb/3/32/Campitelli_-_031225-TempioDiSaturnoSiAccendonoLeLuci3.jpg/300px-Campitelli_-_031225-TempioDiSaturnoSiAccendonoLeLuci3.jpg"/>
          <p:cNvPicPr/>
          <p:nvPr/>
        </p:nvPicPr>
        <p:blipFill>
          <a:blip r:embed="rId1"/>
          <a:stretch/>
        </p:blipFill>
        <p:spPr>
          <a:xfrm>
            <a:off x="6084720" y="40464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romanum.historicus.pl/Zdj/clothingdiagram.jpg"/>
          <p:cNvPicPr/>
          <p:nvPr/>
        </p:nvPicPr>
        <p:blipFill>
          <a:blip r:embed="rId2"/>
          <a:stretch/>
        </p:blipFill>
        <p:spPr>
          <a:xfrm>
            <a:off x="5622840" y="2781360"/>
            <a:ext cx="34243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redniowieczny model obywate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268280"/>
            <a:ext cx="4475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feudalnym średniowieczu, gdy tylko nieliczni uprawnieni byli do rządzenia ogromną większością, pojęcie „obywatelstwa” oraz koncepcje i filozoficzne leżące u jego podłoża właściwie zanikły na kontynencie europejsk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Średniowiecze to epoka teocentryzmu, według którego najważniejsza rolę odgrywały sprawy boskie i to według boskiego porządku było zorganizowane społeczeństw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ażda grupa społeczna miała swoje miejsce i obowiązki do wykona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3217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feud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68360" y="1538280"/>
            <a:ext cx="601020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śńtwo stan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11280" y="1525680"/>
            <a:ext cx="2952720" cy="395604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3"/>
          <p:cNvSpPr/>
          <p:nvPr/>
        </p:nvSpPr>
        <p:spPr>
          <a:xfrm>
            <a:off x="3708360" y="1525680"/>
            <a:ext cx="482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uchowieństw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modlący si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ycerstw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broniących, wal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hłop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ra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ładza –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król, senior ma zapewnić porządek , pokój, sprawiedliw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an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lachecki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uchow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eszczańs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żdy stan ma własne prawa i własne sadownictwo, charakterystyczne dla siebie uprawnienia politycz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5545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redniowiec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981000"/>
            <a:ext cx="475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kreślenie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civitas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luźno tłumaczone jako wspólnota obywatelska) dotyczył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ast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siadający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morzą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ywatel średniowiecznego miasta musiał na stałe w nim mieszkać, pochodzić z rodziny obywateli – prawo krwi bądź się w nim urodzić – prawo zie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am samorząd wzorował się często na strukturach rzymskich – istniały trzy grupy obywateli (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trycjat, pospólstwo i plebs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ywatelstwo miejskie - dawało cenioną w świecie feudalnym wolność osobistą i niezależnoś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republika.pl/blog_bo_3966353/7105804/sz/cxc.jpg"/>
          <p:cNvPicPr/>
          <p:nvPr/>
        </p:nvPicPr>
        <p:blipFill>
          <a:blip r:embed="rId1"/>
          <a:stretch/>
        </p:blipFill>
        <p:spPr>
          <a:xfrm>
            <a:off x="5359320" y="476280"/>
            <a:ext cx="3808440" cy="2517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 Zamknij "/>
          <p:cNvPicPr/>
          <p:nvPr/>
        </p:nvPicPr>
        <p:blipFill>
          <a:blip r:embed="rId2"/>
          <a:stretch/>
        </p:blipFill>
        <p:spPr>
          <a:xfrm>
            <a:off x="4788000" y="314172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Symbol zastępczy zawartości 3" descr=""/>
          <p:cNvPicPr/>
          <p:nvPr/>
        </p:nvPicPr>
        <p:blipFill>
          <a:blip r:embed="rId1"/>
          <a:stretch/>
        </p:blipFill>
        <p:spPr>
          <a:xfrm>
            <a:off x="426960" y="1596960"/>
            <a:ext cx="8278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sta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Hiszpania – Kortez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Anglia – Parlament: Izba Lordów, Izba Gm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Francja – Stany General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Cech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Władza nadal w rękach monarc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Zgromadzenia parlamentarne – zapewniają poddanym współudział w rząda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190960" cy="245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5299200" y="3933720"/>
            <a:ext cx="38433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iwona</cp:lastModifiedBy>
  <dcterms:modified xsi:type="dcterms:W3CDTF">2013-08-16T16:09:50Z</dcterms:modified>
  <cp:revision>43</cp:revision>
  <dc:subject>szablon prezentacji KPW</dc:subject>
  <dc:title>Zrównoważony rozwój</dc:title>
</cp:coreProperties>
</file>