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4272-E660-4714-AFD7-6B60D66EBD4F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3F6D-896B-4A54-879B-3060252C49F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5541-CE0E-403C-AB73-603ADE8E97D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B854-0EAC-478D-B566-B75BE9CD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24A3-302D-49AB-AE60-CDDD1E34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D09E-D950-4AAD-9C91-7182D222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37A2-92FA-44D8-9CEA-F5A18EFD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6983-0B81-4E39-804E-2B85C484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F2D3F-111E-4F09-ADA6-F2B3B338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756C-FA17-4BAD-9629-FDA96BDA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DCDA-12AC-4E69-93BE-76D4BCE0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7956-83FD-4D1F-9B4A-309C8424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D3C3-FC70-4272-AF0C-9966AB54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359E-C978-4B8E-9696-2C269D5D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8654-09C8-4AB9-9196-E2D9C165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424D-6CBF-4AE8-82B0-ADEF4E6F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1B11-4393-4C9E-8D3E-34794D55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51D2-8126-4F81-BDAF-1D97A529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E8C4-953D-456A-8F59-65F37B18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FFF9-5307-4C19-AF67-48FD5D05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E1BA-3F5E-4D7E-B486-BD1113E9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4202-5E54-4469-8F72-9E5D4982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092B-DC74-4915-912D-D72D8318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80E9-93C3-4D42-9BBA-68AF33C5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0055-A922-4805-800E-DD24538F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DB77-3FF4-4929-91D6-571B377E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A7EA-CDED-406B-A174-30BC2BCA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9444-B471-4001-8840-407222990CD5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1F35-3EB8-496E-9E9D-0E2F843331C1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upload.wikimedia.org/wikipedia/commons/c/c6/RomulusAugustus.jpg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historian.pl/helm-wczesnosredniowieczny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nga.gov/content/ngaweb/global-site-search-page.html?searchterm=The+baptism+of+Clovis&amp;searchpath=%2Fcontent%2Fngaweb%2Fnotfound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historia.opracowania.pl/gimnazjum/monarchia_karola_wielkiego/" TargetMode="External"/><Relationship Id="rId3" Type="http://schemas.openxmlformats.org/officeDocument/2006/relationships/hyperlink" Target="http://historia.opracowania.pl/gimnazjum/monarchia_karola_wielkiego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pl.wikipedia.org/wiki/Plik:Hispania_700_AD.PNG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upload.wikimedia.org/wikipedia/commons/4/4f/Polska_1102_-_1138.png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Od monarchii patrymonialnej do monarchii stanowej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Bartosz Rzoń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do monarchii stanow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iędzy XI a XII w. krystalizowały się średniowieczne monarchie feudal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wolucja systemu feudalnego spowodowała zmiany w systemie rządzeni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stępowała stopniowa centralizacja państwa i koncentracja władz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do monarchii stanow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26920" y="1483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ngielska monarchia feuda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ołowie XII w. władzę nad królestwem Anglii zdobył Henryk II Plantagene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ładał ogromnymi terytoriami - Anglia, Normandia, Andegawenia, Akwita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trzymanie władzy wymagało sprawnego zarządza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zmocnienie władzy królewskiej doprowadziło do konfliktu Henryka I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arcybiskupem Tomaszem Becketem – śmierć arcybiskup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smierc_Becketa"/>
          <p:cNvPicPr/>
          <p:nvPr/>
        </p:nvPicPr>
        <p:blipFill>
          <a:blip r:embed="rId1"/>
          <a:srcRect l="2678" t="0" r="2678" b="0"/>
          <a:stretch/>
        </p:blipFill>
        <p:spPr>
          <a:xfrm>
            <a:off x="1835280" y="112536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36" name="pole tekstowe 10"/>
          <p:cNvSpPr/>
          <p:nvPr/>
        </p:nvSpPr>
        <p:spPr>
          <a:xfrm>
            <a:off x="1791360" y="5300640"/>
            <a:ext cx="4135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7. Śmierć Tomasza Becket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religie.424.pl/rozwoj-i-rozkwit-kosciola-sredniowiecznego,2580,article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do monarchii stanow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stępcy Henryka II, Ryszard Lwie Serce oraz Jan bez Ziemi stanęli przed trudnym zadaniem utrzymania wszystkich swoich posiadłoś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ążenia centralizacyjne monarchów zostały zahamowane przez bunt baron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1215 r. Jan bez Ziemi został zmuszony do wydania przywileju nazwanego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ielką Kartą Swobó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wyniku dalszych ustępstw królów, w 1264 r. po raz pierwszy zostało zwołane zgromadzenie stanowe – początek parlamentu angielski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56000" y="148392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ngielska monarchia feuda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Magna_Carta"/>
          <p:cNvPicPr/>
          <p:nvPr/>
        </p:nvPicPr>
        <p:blipFill>
          <a:blip r:embed="rId1"/>
          <a:srcRect l="5572" t="0" r="5572" b="0"/>
          <a:stretch/>
        </p:blipFill>
        <p:spPr>
          <a:xfrm>
            <a:off x="1835280" y="11970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pole tekstowe 10"/>
          <p:cNvSpPr/>
          <p:nvPr/>
        </p:nvSpPr>
        <p:spPr>
          <a:xfrm>
            <a:off x="1864440" y="5373720"/>
            <a:ext cx="4938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8. Wielka Karta Swobó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upload.wikimedia.org/wikipedia/commons/thumb/0/02/Magna_Carta.jpg/1280px-Magna_Carta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do monarchii stanow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8360" y="270792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obne przywileje musieli w tym czasie wydawać także inni władcy europejs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do monarchii stanow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700000" y="1341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rólestwo Węgiersk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XII/XIII w. wzrost centralizacji i znaczenia dworu królewskiego na Węgrze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wyniku wojen wewnętrznych o tron sytuacja finansowa państwa znacznie się pogorszył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musiło to króla do oddania finansów państw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rywatne rę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lityka królewska spotkała się z krytyką niższej szlach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ról musiał wydać tzw.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łotą Bullę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w 1222 r. uspakajając sytuację w kraj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do monarchii stanow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ielka Karta Swobó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graniczenia w nakładaniu podatków (zgoda Rady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kaz więzienia i karania bez wyroku sądow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awo oporu przeciwko królowi w razie naruszenia przez niego pra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kreślała uprawnienia baronów, 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uchowieństwa i zakres swobód klas niższ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łota Bulla Andrzej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Gwarantowała niższej szlachci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tykalność osobistą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tykalność majątkową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graniczenie obowiązku służby wojskowej poza granicami Węgier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ładzę sądowniczą nad chłopam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olność od podatk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do monarchii stanow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Bartek\Downloads\herb_Kapetyngow.png"/>
          <p:cNvPicPr/>
          <p:nvPr/>
        </p:nvPicPr>
        <p:blipFill>
          <a:blip r:embed="rId1"/>
          <a:stretch/>
        </p:blipFill>
        <p:spPr>
          <a:xfrm>
            <a:off x="2867040" y="1419120"/>
            <a:ext cx="3409920" cy="4019760"/>
          </a:xfrm>
          <a:prstGeom prst="rect">
            <a:avLst/>
          </a:prstGeom>
          <a:ln w="0">
            <a:noFill/>
          </a:ln>
        </p:spPr>
      </p:pic>
      <p:sp>
        <p:nvSpPr>
          <p:cNvPr id="156" name="pole tekstowe 7"/>
          <p:cNvSpPr/>
          <p:nvPr/>
        </p:nvSpPr>
        <p:spPr>
          <a:xfrm>
            <a:off x="2771640" y="5661000"/>
            <a:ext cx="40323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9. Herb Kapetyngów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upload.wikimedia.org/wikipedia/commons/3/33/France_Ancient.sv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do monarchii stanow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56000" y="155700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onarchia francu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XIII w. to wzmocnienie władzy królewskiej (Ludwik IX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udwik IX zcentralizował władzę we Francji (podporządkował Kościół, zakazał feudalnych wojen prywatnych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C:\Users\Bartek\Downloads\Louis_IX.jpg"/>
          <p:cNvPicPr/>
          <p:nvPr/>
        </p:nvPicPr>
        <p:blipFill>
          <a:blip r:embed="rId1"/>
          <a:stretch/>
        </p:blipFill>
        <p:spPr>
          <a:xfrm>
            <a:off x="5435640" y="2205000"/>
            <a:ext cx="2378160" cy="3052800"/>
          </a:xfrm>
          <a:prstGeom prst="rect">
            <a:avLst/>
          </a:prstGeom>
          <a:ln w="0">
            <a:noFill/>
          </a:ln>
        </p:spPr>
      </p:pic>
      <p:sp>
        <p:nvSpPr>
          <p:cNvPr id="161" name="pole tekstowe 7"/>
          <p:cNvSpPr/>
          <p:nvPr/>
        </p:nvSpPr>
        <p:spPr>
          <a:xfrm>
            <a:off x="5317560" y="5373720"/>
            <a:ext cx="3315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0. Ludwik I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upload.wikimedia.org/wikipedia/commons/a/ad/Louis_IX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ytuacja po upadku Cesarstw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wstanie monarchii patrymonialnych na przykładzie państwa Frank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nne przykłady monarchii patrymonial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roga do monarchii stanowej na przykładzie Anglii, Francji i Węg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sumow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do monarchii stanow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26920" y="1557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onarchia francu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stępcy Ludwika IX również wzmacniali władzę królewsk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ilip IV Piękny nakłada na Kościół wysokie podatki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wstrzymuje wpłaty do Kurii Rzymskiej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apież Bonifacy VIII domaga się płacenia przez Francję pieniędz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C:\Users\Bartek\Downloads\Filip_Piekny.jpg"/>
          <p:cNvPicPr/>
          <p:nvPr/>
        </p:nvPicPr>
        <p:blipFill>
          <a:blip r:embed="rId1"/>
          <a:stretch/>
        </p:blipFill>
        <p:spPr>
          <a:xfrm>
            <a:off x="4941720" y="2317680"/>
            <a:ext cx="3144960" cy="3343320"/>
          </a:xfrm>
          <a:prstGeom prst="rect">
            <a:avLst/>
          </a:prstGeom>
          <a:ln w="0">
            <a:noFill/>
          </a:ln>
        </p:spPr>
      </p:pic>
      <p:sp>
        <p:nvSpPr>
          <p:cNvPr id="166" name="pole tekstowe 7"/>
          <p:cNvSpPr/>
          <p:nvPr/>
        </p:nvSpPr>
        <p:spPr>
          <a:xfrm>
            <a:off x="4888800" y="5805360"/>
            <a:ext cx="3763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1. Filip IV Piękn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upload.wikimedia.org/wikipedia/commons/0/0a/Philippe_IV_Le_Bel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oga do monarchii stanow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26920" y="1557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onarchia francu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ilip IV Piękny zwołał Stany Generalne, żeby uzyskać poparcie społeczeństwa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konflikcie z papież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1302 r. zwołanie Stanów Generalnych (duchowieństwo, szlachta, mieszczenie i chłopi) – król wyszedł zwycięsko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konflik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3" descr="C:\Users\Bartek\Downloads\trzy_stany.jpg"/>
          <p:cNvPicPr/>
          <p:nvPr/>
        </p:nvPicPr>
        <p:blipFill>
          <a:blip r:embed="rId1"/>
          <a:stretch/>
        </p:blipFill>
        <p:spPr>
          <a:xfrm>
            <a:off x="547560" y="2174760"/>
            <a:ext cx="3303720" cy="3382920"/>
          </a:xfrm>
          <a:prstGeom prst="rect">
            <a:avLst/>
          </a:prstGeom>
          <a:ln w="0">
            <a:noFill/>
          </a:ln>
        </p:spPr>
      </p:pic>
      <p:sp>
        <p:nvSpPr>
          <p:cNvPr id="171" name="pole tekstowe 8"/>
          <p:cNvSpPr/>
          <p:nvPr/>
        </p:nvSpPr>
        <p:spPr>
          <a:xfrm>
            <a:off x="250920" y="5661000"/>
            <a:ext cx="5113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2. Przedstawiciele trzech stanów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faculty.uml.edu/ccarlsmith/teaching/43.105/PDFs/Medieval%20Society%20and%20Architecture.pd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onarchia stan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2349000"/>
            <a:ext cx="8229600" cy="28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wój gospodarczy oraz przemiany społeczeństwa feudalnego spowodowały zmiany w systemach sprawowania władzy.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 przykładzie Anglii, Francji i Węgrzech zaobserwowaliśmy powstawanie monarchii stanow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onarchia stan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4920" y="2204640"/>
            <a:ext cx="84978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aństwo, w którym władca dzielił się władzą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reprezentacją stanów społecznych. Kształtowała się w Europie w XIII w.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dominowała w późnym średniowiecz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padek Cesarstwa na Zachodz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padek Cesarstwa zachodniorzymskiego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476 r. przyspieszył powstawanie niezależnych królestw barbarzyńskich, które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 czasem przyjmowały wiarę chrześcijańsk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Users\Bartek\Downloads\Romulus_Augustus.jpg"/>
          <p:cNvPicPr/>
          <p:nvPr/>
        </p:nvPicPr>
        <p:blipFill>
          <a:blip r:embed="rId1"/>
          <a:stretch/>
        </p:blipFill>
        <p:spPr>
          <a:xfrm>
            <a:off x="6084720" y="3573360"/>
            <a:ext cx="2516400" cy="2376720"/>
          </a:xfrm>
          <a:prstGeom prst="rect">
            <a:avLst/>
          </a:prstGeom>
          <a:ln w="0">
            <a:noFill/>
          </a:ln>
        </p:spPr>
      </p:pic>
      <p:sp>
        <p:nvSpPr>
          <p:cNvPr id="102" name="pole tekstowe 4"/>
          <p:cNvSpPr/>
          <p:nvPr/>
        </p:nvSpPr>
        <p:spPr>
          <a:xfrm>
            <a:off x="4643280" y="5877000"/>
            <a:ext cx="4270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1. Moneta z wizerunkiem ostatniego cesarza zachodniorzymskieg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upload.wikimedia.org/wikipedia/commons/c/c6/RomulusAugustus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onarchia patrymonial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9280" y="1600200"/>
            <a:ext cx="878544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orma rządów, w której władca swobodnie rozporządzał podległym sobie terytorium (krajem), uznając, że jest ono jego własnością. Charakterystyczna dla wczesnośredniowiecznych monarchii europejski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" descr="hełm_sreniowieczny"/>
          <p:cNvPicPr/>
          <p:nvPr/>
        </p:nvPicPr>
        <p:blipFill>
          <a:blip r:embed="rId1"/>
          <a:stretch/>
        </p:blipFill>
        <p:spPr>
          <a:xfrm>
            <a:off x="3348000" y="4076640"/>
            <a:ext cx="2390760" cy="1790640"/>
          </a:xfrm>
          <a:prstGeom prst="rect">
            <a:avLst/>
          </a:prstGeom>
          <a:ln w="0">
            <a:noFill/>
          </a:ln>
        </p:spPr>
      </p:pic>
      <p:sp>
        <p:nvSpPr>
          <p:cNvPr id="106" name="pole tekstowe 4"/>
          <p:cNvSpPr/>
          <p:nvPr/>
        </p:nvSpPr>
        <p:spPr>
          <a:xfrm>
            <a:off x="3371040" y="6165720"/>
            <a:ext cx="2972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2. Hełm średniowieczn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historian.pl/helm-wczesnosredniowieczny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y monarchii patrymonialny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700000" y="1557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onarchia Frank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 koniec V w. Chlodwig podporządkował sobie plemiona frankijskie i został król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496 r. przyjął chrz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konał spisania zwyczajowego ludowego prawa frankijskiego  tzw. prawo salick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zielił państwo pomiędzy swoich syn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C:\Users\Bartek\Downloads\chrzest_Chlodwiga.jpg"/>
          <p:cNvPicPr/>
          <p:nvPr/>
        </p:nvPicPr>
        <p:blipFill>
          <a:blip r:embed="rId1"/>
          <a:stretch/>
        </p:blipFill>
        <p:spPr>
          <a:xfrm>
            <a:off x="6084720" y="2205000"/>
            <a:ext cx="2181240" cy="2936880"/>
          </a:xfrm>
          <a:prstGeom prst="rect">
            <a:avLst/>
          </a:prstGeom>
          <a:ln w="0">
            <a:noFill/>
          </a:ln>
        </p:spPr>
      </p:pic>
      <p:sp>
        <p:nvSpPr>
          <p:cNvPr id="111" name="pole tekstowe 8"/>
          <p:cNvSpPr/>
          <p:nvPr/>
        </p:nvSpPr>
        <p:spPr>
          <a:xfrm>
            <a:off x="5940360" y="5229360"/>
            <a:ext cx="302436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3. Chrzest Chlodwig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ga.gov/content/ngaweb/global-site-search-page.html?searchterm=The+baptism+of+Clovis&amp;searchpath=%2Fcontent%2Fngaweb%2Fnotfound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y monarchii patrymonialny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87280" y="1557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onarchia Frank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Ekspansja Królestwa Franków przybrała na sil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VIII w. – do władzy doszedł ród zwany Karolinga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 rządami Karola Wielkiego monarchia frankijska panowała nad większością terytoriów na zachodz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arol Wielki  odnowił cesarstwo rzymskie na Zachodzie koronując się na cesarza w 800 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zpad monarchii karolińskiej nastąpił w 843 r. w Verdun. Dokonano podziału monarchii na trzy częśc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y monarchii patrymonialny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C:\Users\Bartek\Downloads\państwo_karola_wielkiego.jpg"/>
          <p:cNvPicPr/>
          <p:nvPr/>
        </p:nvPicPr>
        <p:blipFill>
          <a:blip r:embed="rId1"/>
          <a:stretch/>
        </p:blipFill>
        <p:spPr>
          <a:xfrm>
            <a:off x="1979640" y="1557360"/>
            <a:ext cx="5040360" cy="4313160"/>
          </a:xfrm>
          <a:prstGeom prst="rect">
            <a:avLst/>
          </a:prstGeom>
          <a:ln w="0">
            <a:noFill/>
          </a:ln>
        </p:spPr>
      </p:pic>
      <p:sp>
        <p:nvSpPr>
          <p:cNvPr id="118" name="pole tekstowe 8"/>
          <p:cNvSpPr/>
          <p:nvPr/>
        </p:nvSpPr>
        <p:spPr>
          <a:xfrm>
            <a:off x="2032920" y="5877000"/>
            <a:ext cx="35078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4. Państwo Karola Wielkieg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historia.opracowania.pl/gimnazjum/monarchia_karola_wielkiego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y monarchii patrymonialny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56000" y="155700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rólestwo Wizygot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d koniec VI w. w Hiszpanii i południowo-zachodniej Galii powstało Królestwo Wizygot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D:\scenariusze lekcji do przetargu\do realizacji\Od monarchi patrymonialnej do stanowej\grafika\Rys_5_T07_5_Krolestwo_Wizygotów.PNG"/>
          <p:cNvPicPr/>
          <p:nvPr/>
        </p:nvPicPr>
        <p:blipFill>
          <a:blip r:embed="rId1"/>
          <a:stretch/>
        </p:blipFill>
        <p:spPr>
          <a:xfrm>
            <a:off x="4689360" y="2174760"/>
            <a:ext cx="3630600" cy="3630600"/>
          </a:xfrm>
          <a:prstGeom prst="rect">
            <a:avLst/>
          </a:prstGeom>
          <a:ln w="0">
            <a:noFill/>
          </a:ln>
        </p:spPr>
      </p:pic>
      <p:sp>
        <p:nvSpPr>
          <p:cNvPr id="123" name="pole tekstowe 9"/>
          <p:cNvSpPr/>
          <p:nvPr/>
        </p:nvSpPr>
        <p:spPr>
          <a:xfrm>
            <a:off x="4591440" y="5877000"/>
            <a:ext cx="279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5. Królestwo Wizygotów ok. 700 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l.wikipedia.org/wiki/Plik:Hispania_700_AD.P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ykłady monarchii patrymonialny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771280" y="1557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onarchia piastow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ołowie X wieku powstało rozległe terytorialnie państwo polskie, gdzie monarchą był Mieszko 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orma państwa patrymonialnego utrzymała się do czasów panowania Władysława Łokietka, czyli  do czasów ponownego zjednocze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D:\scenariusze lekcji do przetargu\do realizacji\Od monarchi patrymonialnej do stanowej\grafika\Rys_6_T07_5_Polska_1102_1138.png"/>
          <p:cNvPicPr/>
          <p:nvPr/>
        </p:nvPicPr>
        <p:blipFill>
          <a:blip r:embed="rId1"/>
          <a:stretch/>
        </p:blipFill>
        <p:spPr>
          <a:xfrm>
            <a:off x="4645080" y="2232000"/>
            <a:ext cx="3840120" cy="3645000"/>
          </a:xfrm>
          <a:prstGeom prst="rect">
            <a:avLst/>
          </a:prstGeom>
          <a:ln w="0">
            <a:noFill/>
          </a:ln>
        </p:spPr>
      </p:pic>
      <p:sp>
        <p:nvSpPr>
          <p:cNvPr id="128" name="pole tekstowe 7"/>
          <p:cNvSpPr/>
          <p:nvPr/>
        </p:nvSpPr>
        <p:spPr>
          <a:xfrm>
            <a:off x="4595760" y="5950080"/>
            <a:ext cx="38476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 6. Polska 1102-1138 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upload.wikimedia.org/wikipedia/commons/4/4f/Polska_1102_-_1138.p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Bartek</cp:lastModifiedBy>
  <dcterms:modified xsi:type="dcterms:W3CDTF">2013-07-11T13:22:35Z</dcterms:modified>
  <cp:revision>118</cp:revision>
  <dc:subject/>
  <dc:title>Slajd 1</dc:title>
</cp:coreProperties>
</file>