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7B8A-761B-4584-918C-443138EEFB8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C64-445C-4BF5-9188-59C8BDE37A5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A5E-3FB6-4219-9F16-4A2FEC40F0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14A6-C2BA-429D-A389-29CD6B55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372-FBFB-43F1-B72D-A240412F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44B0-4F98-4F40-BBD7-C7DA3393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99E-4C6D-49D5-BE31-23326712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2A4A-1040-4B99-8127-349977A8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F214-4E80-4285-89CD-563F3C42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A447-D0F0-448E-8C8C-FA017E0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D8CF-7A2F-42E1-919C-DC032251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1F3-254E-4530-B8D8-578A39B2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D0FB-FD8D-4E7A-AC98-4A2DDB8E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062-00E0-4A25-92A7-5AC8F5BD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D27-14FE-4A6D-862C-6075C02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2BCD-5A43-4A8F-9C5C-9C2AC69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2FE1-D8AB-42C7-AE04-B28AA9B5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05C8-F417-4F17-83E0-3CB7F5A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BD96-75E1-4F47-9F49-A277F8F1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8C18-A053-4485-9D74-C7B178A2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0E9-C147-4CFD-8311-A817993D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7B6-3819-4D0F-9E46-0CC2EA2A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2BC3-A2F6-4F69-A091-063A9377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AD2F-8B49-4577-B27E-6545828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30F-2A82-41B8-AE6C-3E26B359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3A09-9953-4817-86E1-DF23677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22E3-63E3-4AEE-B5DA-97B29081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D8EF-7A93-44DD-A11C-F4E359E92E6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FF05-28C0-4750-ABD2-8C9E7BD6DED0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romanum.historicus.pl/rolnictwo_rzymskie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omanum.historicus.pl/niewolnicy_rzymscy.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storion.pl/republika-rzymska-ustroj-polityczny/2/" TargetMode="External"/><Relationship Id="rId3" Type="http://schemas.openxmlformats.org/officeDocument/2006/relationships/hyperlink" Target="http://historion.pl/republika-rzymska-ustroj-polityczny/2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romanum.historicus.pl/urzedy_rzymskie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artfolie.wordpress.com/tag/starozytny-rzy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omanum.historicus.pl/spoleczenstwo_rzymskie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jakoloruje.pl/rzymianin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omanum.historicus.pl/ekwici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ivis Romanus – </a:t>
            </a:r>
            <a:br>
              <a:rPr sz="4900"/>
            </a:b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wzór obywatela w republice rzymskiej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roletari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pochodzi od 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rol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potomstw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posiadali niczego oprócz potom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ywatele, którzy nie posiadali zie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eważnie zrujnowani rolnicy i rzemieślnicy oraz biedota rzym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C:\Users\Bartek\Downloads\Rolnik_rzymski.jpg"/>
          <p:cNvPicPr/>
          <p:nvPr/>
        </p:nvPicPr>
        <p:blipFill>
          <a:blip r:embed="rId1"/>
          <a:stretch/>
        </p:blipFill>
        <p:spPr>
          <a:xfrm>
            <a:off x="1042920" y="2565360"/>
            <a:ext cx="2857680" cy="211464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920880" y="4724280"/>
            <a:ext cx="2768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Rolnik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rolnic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ewolni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iem zostawało się przez urodzenie, jako jeniec lub zdobycz wojen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cy pracowali na roli, w kamieniołomach, byli rzemieślnikami, zarządcami majątków, lekarz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wolnik był traktowany, jak mówiąca rzec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Bartek\Downloads\rzymska_mozaika.jpg"/>
          <p:cNvPicPr/>
          <p:nvPr/>
        </p:nvPicPr>
        <p:blipFill>
          <a:blip r:embed="rId1"/>
          <a:stretch/>
        </p:blipFill>
        <p:spPr>
          <a:xfrm>
            <a:off x="4643280" y="2276640"/>
            <a:ext cx="4042080" cy="292392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7"/>
          <p:cNvSpPr/>
          <p:nvPr/>
        </p:nvSpPr>
        <p:spPr>
          <a:xfrm>
            <a:off x="4581360" y="5229360"/>
            <a:ext cx="4129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Rzymska mozaika ukazując dwóch niewolników przenoszących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łoiki wina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niewolnicy_rzymscy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bywatele rzyms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odzeni z rodziców obywatelstwa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osiedlenia się w Rzymie (Latynow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wyzwole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skutek nadania lub kupienia obywatel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e praw  obywatelskich i publicz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rozwoju terytorialnego i społeczeństwa rzymskiego obywatelstwo przyznawano coraz większym grupom mieszkańc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Users\Bartek\Downloads\Senat-rzymski.jpg"/>
          <p:cNvPicPr/>
          <p:nvPr/>
        </p:nvPicPr>
        <p:blipFill>
          <a:blip r:embed="rId1"/>
          <a:stretch/>
        </p:blipFill>
        <p:spPr>
          <a:xfrm>
            <a:off x="1332000" y="1557360"/>
            <a:ext cx="6516720" cy="4064040"/>
          </a:xfrm>
          <a:prstGeom prst="rect">
            <a:avLst/>
          </a:prstGeom>
          <a:ln w="0">
            <a:noFill/>
          </a:ln>
        </p:spPr>
      </p:pic>
      <p:sp>
        <p:nvSpPr>
          <p:cNvPr id="141" name="pole tekstowe 9"/>
          <p:cNvSpPr/>
          <p:nvPr/>
        </p:nvSpPr>
        <p:spPr>
          <a:xfrm>
            <a:off x="1308240" y="5732640"/>
            <a:ext cx="2887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 Senat rzymsk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storion.pl/republika-rzymska-ustroj-polityczny/2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gólne cechy republi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D:\scenariusze lekcji do przetargu\do realizacji\Civis Romanus\2\grafika\Rys_17_T07_2_cz_II_kuria_forum_romanum.jpg"/>
          <p:cNvPicPr/>
          <p:nvPr/>
        </p:nvPicPr>
        <p:blipFill>
          <a:blip r:embed="rId1"/>
          <a:stretch/>
        </p:blipFill>
        <p:spPr>
          <a:xfrm>
            <a:off x="755640" y="2276640"/>
            <a:ext cx="2755800" cy="367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olegial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adencyjnoś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5"/>
          <p:cNvSpPr/>
          <p:nvPr/>
        </p:nvSpPr>
        <p:spPr>
          <a:xfrm>
            <a:off x="460440" y="5950080"/>
            <a:ext cx="39405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7 Kuria na Forum Romanum – miejsce  obradowania senatu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romanum.historicus.pl/republika_rzymsk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Zgromadzenia ludow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ane komicj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rawodawcza i sądownic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ne raz na 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ecydowało o wojnie                     i pok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ierało urzędnik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Users\Bartek\Downloads\SPQR2.jpg"/>
          <p:cNvPicPr/>
          <p:nvPr/>
        </p:nvPicPr>
        <p:blipFill>
          <a:blip r:embed="rId1"/>
          <a:stretch/>
        </p:blipFill>
        <p:spPr>
          <a:xfrm>
            <a:off x="4643280" y="2421000"/>
            <a:ext cx="4042080" cy="2273400"/>
          </a:xfrm>
          <a:prstGeom prst="rect">
            <a:avLst/>
          </a:prstGeom>
          <a:ln w="0">
            <a:noFill/>
          </a:ln>
        </p:spPr>
      </p:pic>
      <p:sp>
        <p:nvSpPr>
          <p:cNvPr id="151" name="pole tekstowe 9"/>
          <p:cNvSpPr/>
          <p:nvPr/>
        </p:nvSpPr>
        <p:spPr>
          <a:xfrm>
            <a:off x="4587120" y="4797360"/>
            <a:ext cx="273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 SPQ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meh.ro/2013/04/07/spqr-flag-wallpaper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a władza polityczna i administracyj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politykę zagrani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dawał uchwa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łużył radą urzędni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liczył ok. 300 osó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Bartek\Downloads\taquigrafos_tironianas_at_senatus.jpg"/>
          <p:cNvPicPr/>
          <p:nvPr/>
        </p:nvPicPr>
        <p:blipFill>
          <a:blip r:embed="rId1"/>
          <a:stretch/>
        </p:blipFill>
        <p:spPr>
          <a:xfrm>
            <a:off x="468360" y="3068640"/>
            <a:ext cx="4040280" cy="1643040"/>
          </a:xfrm>
          <a:prstGeom prst="rect">
            <a:avLst/>
          </a:prstGeom>
          <a:ln w="0">
            <a:noFill/>
          </a:ln>
        </p:spPr>
      </p:pic>
      <p:sp>
        <p:nvSpPr>
          <p:cNvPr id="156" name="pole tekstowe 7"/>
          <p:cNvSpPr/>
          <p:nvPr/>
        </p:nvSpPr>
        <p:spPr>
          <a:xfrm>
            <a:off x="421920" y="4797360"/>
            <a:ext cx="3288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 Tachygrafowie w senacie rzymski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stenografia.pl/pmwiki/index.php?n=Historia.StarozytnyRzy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ons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o ich dwó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wódcy ar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woływali Zgromadzenia              i Se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inicjatywę ustawodawcz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ostawali namiestnikami najważniejszych prowin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Users\Bartek\Downloads\rzymskie_wojsko.jpg"/>
          <p:cNvPicPr/>
          <p:nvPr/>
        </p:nvPicPr>
        <p:blipFill>
          <a:blip r:embed="rId1"/>
          <a:stretch/>
        </p:blipFill>
        <p:spPr>
          <a:xfrm>
            <a:off x="4500720" y="2276640"/>
            <a:ext cx="4095720" cy="2736720"/>
          </a:xfrm>
          <a:prstGeom prst="rect">
            <a:avLst/>
          </a:prstGeom>
          <a:ln w="0">
            <a:noFill/>
          </a:ln>
        </p:spPr>
      </p:pic>
      <p:sp>
        <p:nvSpPr>
          <p:cNvPr id="161" name="pole tekstowe 7"/>
          <p:cNvSpPr/>
          <p:nvPr/>
        </p:nvSpPr>
        <p:spPr>
          <a:xfrm>
            <a:off x="4520520" y="5084640"/>
            <a:ext cx="2689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1 Rzymskie wojsk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romanglory.pun.pl/viewtopic.php?id=2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Pre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jmował się wymiarem sprawiedliwoś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wadził nadzór nad sądownictw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:\Users\Bartek\Downloads\pretor.jpg"/>
          <p:cNvPicPr/>
          <p:nvPr/>
        </p:nvPicPr>
        <p:blipFill>
          <a:blip r:embed="rId1"/>
          <a:stretch/>
        </p:blipFill>
        <p:spPr>
          <a:xfrm>
            <a:off x="468360" y="2708280"/>
            <a:ext cx="4040280" cy="22906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8"/>
          <p:cNvSpPr/>
          <p:nvPr/>
        </p:nvSpPr>
        <p:spPr>
          <a:xfrm>
            <a:off x="404640" y="5084640"/>
            <a:ext cx="3367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2 Pre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100" spc="-1" strike="noStrike" u="sng">
                <a:solidFill>
                  <a:srgbClr val="000000"/>
                </a:solidFill>
                <a:uFillTx/>
                <a:latin typeface="Calibri"/>
              </a:rPr>
              <a:t>http://www.imperivm.org/articulos/pretor.htm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Cenz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wóch na 5 l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ełnili najczęściej byli konsu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rządzali spis obywateli wg. posiadanego mająt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stalali listy senato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obycz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finanse państ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Bartek\Downloads\pole_marsowe.jpg"/>
          <p:cNvPicPr/>
          <p:nvPr/>
        </p:nvPicPr>
        <p:blipFill>
          <a:blip r:embed="rId1"/>
          <a:stretch/>
        </p:blipFill>
        <p:spPr>
          <a:xfrm>
            <a:off x="5219640" y="2205000"/>
            <a:ext cx="2668680" cy="331164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7"/>
          <p:cNvSpPr/>
          <p:nvPr/>
        </p:nvSpPr>
        <p:spPr>
          <a:xfrm>
            <a:off x="5083200" y="5589720"/>
            <a:ext cx="3800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3 Pola Marsowe - tutaj stawiali się uprawnieni obywatel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 składania oświadczeń. Na ich podstawie cenzorzy mogl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okonać spisu ludności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cenzor_rzymsk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rzym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Edy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zorowali porządek                 w mieśc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owali dostawy zboża dla mia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gotowywali                               i przewodniczyli igrzysk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C:\Users\Bartek\Downloads\walka_gladiatorow.jpg"/>
          <p:cNvPicPr/>
          <p:nvPr/>
        </p:nvPicPr>
        <p:blipFill>
          <a:blip r:embed="rId1"/>
          <a:stretch/>
        </p:blipFill>
        <p:spPr>
          <a:xfrm>
            <a:off x="611280" y="2133720"/>
            <a:ext cx="3618000" cy="36288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7"/>
          <p:cNvSpPr/>
          <p:nvPr/>
        </p:nvSpPr>
        <p:spPr>
          <a:xfrm>
            <a:off x="564840" y="5805360"/>
            <a:ext cx="3856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4 Mozaika przedstawiająca walkę gladiatorów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historia.newsweek.pl/gladiatorzy--celebryci-czasow-cezara,97809,1,1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- Kwes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niższy rangą urzędn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magał konsulom                       w zarządzaniu finans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statnich latach republiki było ich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2" descr="C:\Users\Bartek\Downloads\kwestor.jpg"/>
          <p:cNvPicPr/>
          <p:nvPr/>
        </p:nvPicPr>
        <p:blipFill>
          <a:blip r:embed="rId1"/>
          <a:stretch/>
        </p:blipFill>
        <p:spPr>
          <a:xfrm>
            <a:off x="5332320" y="2198520"/>
            <a:ext cx="2316240" cy="339120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7"/>
          <p:cNvSpPr/>
          <p:nvPr/>
        </p:nvSpPr>
        <p:spPr>
          <a:xfrm>
            <a:off x="5321880" y="5732640"/>
            <a:ext cx="3488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5 Kwest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www.kolorowankimalowanki.pl/kolorowanki-asterix-i-obelix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strój polityczny Rzymu w okresie republ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rzędnicy – Trybun Lud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rząd przeznaczony dla plebejus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rońca ludu rzymski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veta dla ust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ł nietykal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ł prawo zwoływania Zgromadzeń ludow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C:\Users\Bartek\Downloads\Gaius_Gracchus_trybun_ludowy.jpg"/>
          <p:cNvPicPr/>
          <p:nvPr/>
        </p:nvPicPr>
        <p:blipFill>
          <a:blip r:embed="rId1"/>
          <a:stretch/>
        </p:blipFill>
        <p:spPr>
          <a:xfrm>
            <a:off x="468360" y="2492280"/>
            <a:ext cx="4040280" cy="25624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7"/>
          <p:cNvSpPr/>
          <p:nvPr/>
        </p:nvSpPr>
        <p:spPr>
          <a:xfrm>
            <a:off x="414720" y="5157720"/>
            <a:ext cx="27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6 Gajusz Grakchus, trybun ludow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00"/>
                </a:solidFill>
                <a:uFillTx/>
                <a:latin typeface="Calibri"/>
              </a:rPr>
              <a:t>http://romanum.historicus.pl/reformy_grakchow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publika Rzymsk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publika powstała w 509 r. p.n.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czątkach Rzymu powstał wśród obywateli podział na dwie grupy:                                 patrycjuszy i plebejusz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ierwszy okres republiki, to walka                             o równouprawnienie pomiędzy patrycjusza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plebejusz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C:\Users\Bartek\Downloads\800px-Spqrstone.jpg"/>
          <p:cNvPicPr/>
          <p:nvPr/>
        </p:nvPicPr>
        <p:blipFill>
          <a:blip r:embed="rId1"/>
          <a:stretch/>
        </p:blipFill>
        <p:spPr>
          <a:xfrm>
            <a:off x="1052640" y="1341360"/>
            <a:ext cx="7038720" cy="367200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980640" y="5084640"/>
            <a:ext cx="68572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Senatus Populusque Romanus, czyli "senat i lud/naród rzymski". Formuła ta stanowiła w starożytności oficjaln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azwę Imperium Rzymskiego, a skrót SPQR, do czasu rozpowszechnienia się na to miejsce wizerunku orła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pełniał funkcję godła państwowego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urzedy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łacińskiego określeni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atre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ojcie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zywilejowana warstwa społecz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siadali pełnię praw polity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mieli wyłączność na obejmowanie urzęd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Bartek\Downloads\starozytny_ubior.jpg"/>
          <p:cNvPicPr/>
          <p:nvPr/>
        </p:nvPicPr>
        <p:blipFill>
          <a:blip r:embed="rId1"/>
          <a:stretch/>
        </p:blipFill>
        <p:spPr>
          <a:xfrm>
            <a:off x="4716360" y="2205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7"/>
          <p:cNvSpPr/>
          <p:nvPr/>
        </p:nvSpPr>
        <p:spPr>
          <a:xfrm>
            <a:off x="4879080" y="5084640"/>
            <a:ext cx="2648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 Starożytny ubió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artfolie.wordpress.com/tag/starozytny-rzym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lebejus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słow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plebs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yli lu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ludów podbitych, ale byli wol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pewnego momentu nie mieli praw obywatelski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łnili służbę w wojsku (piechot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czasem zaczęli się domagać wpływ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ańst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Bartek\Downloads\plebejusze.jpg"/>
          <p:cNvPicPr/>
          <p:nvPr/>
        </p:nvPicPr>
        <p:blipFill>
          <a:blip r:embed="rId1"/>
          <a:stretch/>
        </p:blipFill>
        <p:spPr>
          <a:xfrm>
            <a:off x="611280" y="2421000"/>
            <a:ext cx="3809880" cy="264780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7"/>
          <p:cNvSpPr/>
          <p:nvPr/>
        </p:nvSpPr>
        <p:spPr>
          <a:xfrm>
            <a:off x="547920" y="5084640"/>
            <a:ext cx="32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Fresk ścienny przedstawiający życie plebejuszy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spoleczenstwo_rzymsk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dzy plebejuszami, a patrycjuszami od VI do III wieku p.n.e trwały walki o dostęp do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iększymi zwycięstwami plebejuszy były: prawo dwunastu tablic z 449 roku p.n.e., zniesienie niewoli za długi i dostęp do wszystkich urzęd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wyniku zmian doszło do zlania się górnej warstwy plebejuszy z patrycjuszami. Zaczęła powstawać nowa arystokracja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 nobilitas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szlachetnie urodzen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atrycjusze/nobilow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łaściciele latyfundiów, wysocy urzędnicy, senatorz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5 rodzin m.in. Fabiusze, Klaudiusze, Emiliusze, Korneliusze z przydomkiem Scy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:\Users\Bartek\Downloads\rzymianin.jpg"/>
          <p:cNvPicPr/>
          <p:nvPr/>
        </p:nvPicPr>
        <p:blipFill>
          <a:blip r:embed="rId1"/>
          <a:stretch/>
        </p:blipFill>
        <p:spPr>
          <a:xfrm>
            <a:off x="5184720" y="2174760"/>
            <a:ext cx="2482920" cy="331164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8"/>
          <p:cNvSpPr/>
          <p:nvPr/>
        </p:nvSpPr>
        <p:spPr>
          <a:xfrm>
            <a:off x="5235840" y="5516640"/>
            <a:ext cx="21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4 Rzymian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jakoloruje.pl/rzymianin.ht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łeczeństwo republiki rzymskiej w III/II w. p.n.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0960" y="153468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kwi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zwa tego stanu wywodzi się od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equu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czyli "koń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wodzili się z elitarnych jednostek jazdy w legion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yli wpływową i zamożną grupą właścicieli ziemski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rzedsiębiorc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zięki udziało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podbojach uzyskali wpływy i stali się osobną warstwą społeczn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C:\Users\Bartek\Downloads\mlody_ekwita.jpg"/>
          <p:cNvPicPr/>
          <p:nvPr/>
        </p:nvPicPr>
        <p:blipFill>
          <a:blip r:embed="rId1"/>
          <a:stretch/>
        </p:blipFill>
        <p:spPr>
          <a:xfrm>
            <a:off x="5364000" y="1844640"/>
            <a:ext cx="2540160" cy="3492360"/>
          </a:xfrm>
          <a:prstGeom prst="rect">
            <a:avLst/>
          </a:prstGeom>
          <a:ln w="0">
            <a:noFill/>
          </a:ln>
        </p:spPr>
      </p:pic>
      <p:sp>
        <p:nvSpPr>
          <p:cNvPr id="124" name="pole tekstowe 7"/>
          <p:cNvSpPr/>
          <p:nvPr/>
        </p:nvSpPr>
        <p:spPr>
          <a:xfrm>
            <a:off x="5310000" y="5373720"/>
            <a:ext cx="222444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5 Młody ekwit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romanum.historicus.pl/ekwici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7-11T13:10:14Z</dcterms:modified>
  <cp:revision>60</cp:revision>
  <dc:subject/>
  <dc:title>Slajd 1</dc:title>
</cp:coreProperties>
</file>