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657E-86E2-492E-8C17-480506AEFCC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A14F-308F-4628-A8F9-53AB9577ED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28E4-E5BB-49B8-85B1-52B89F4FBD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2F84-7F15-48FC-982C-FABB8078759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B111-590C-476F-89E5-B0CD6F056E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D42F-CA48-4F83-BACE-A4C78867E52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7F40-DB47-4424-8DB6-A98B4BF80F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5AC5-FB89-4C7B-A65C-C1AACDD312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E176-4AB5-4F3F-B87D-65EC4B6218C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BDD-F550-4BE1-AB47-E828CCF16D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8669-E6B1-4E34-9C02-88DC2CD2070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237-B2CD-4F39-99EC-E264F5EAB7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D01-5193-4B69-8C5B-DF200D5DD6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26FB-FF10-4E87-B183-44FFE4CEF3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1B5-4A60-41C7-BEFB-29D97AFFF9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BF90-A269-408C-B0F3-A4677C010E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3C03-A90E-4CEF-91BC-F6E05ADB82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836-0E4B-4B83-8B4E-45BDD4FB6EA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EE7-F0AC-4294-944C-4C1E45712E9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2F53-538A-409B-B3F0-CF4A83F261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55A-2C93-45BB-B29C-89624211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243-9654-4F65-83B6-B2C75119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EDBE-9C34-4AD4-BE28-7DB56965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032B-9BF2-420D-B402-DDFBB7B4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0263-9023-4A62-93E9-FCF00D57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8285-0A05-40FC-B60C-B9277CB7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4AEF-CF6D-4F65-853F-4958D12D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644D-C986-43DA-BD74-4F945FC4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461C-3798-444A-856E-70FD1898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B4EE-735C-4AEA-A336-FFD902C8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5C75-8FC7-4199-9186-C91A2556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91C-5A5D-4010-867B-C692C23F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A92F-8767-4CB5-A4EF-6E44A00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F0A3-16C3-41B7-87B0-1AE27EA3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FA2F-8895-4917-B31B-6837DB2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F202-6420-4409-9BD2-8EE05184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9E30-41F4-4816-8CE8-4B6B721F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BE9-887B-4DCC-981F-2147F3B3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C02-CEBC-4A04-9928-F4CDF9EB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9AF-C451-4C65-AA88-AA88A536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82F-96FB-4E22-8B0F-39651FA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16D-E215-4ABC-89D5-BFB29CB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4E4-4CC0-4344-B311-CE8DAA1B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CD7-E9DE-4F47-A26A-FE356931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955-A6CF-4849-8294-C5436346E52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4C0-1351-4D10-B0BE-E15CE50C5B7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c/cd/Cleric-Knight-Workman.jpg/250px-Cleric-Knight-Workman.jpg" TargetMode="External"/><Relationship Id="rId2" Type="http://schemas.openxmlformats.org/officeDocument/2006/relationships/hyperlink" Target="http://upload.wikimedia.org/wikipedia/commons/thumb/c/cd/Cleric-Knight-Workman.jpg/250px-Cleric-Knight-Workman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iedzaiedukacja.eu/archives/27861" TargetMode="External"/><Relationship Id="rId3" Type="http://schemas.openxmlformats.org/officeDocument/2006/relationships/hyperlink" Target="http://wiedzaiedukacja.eu/archives/27861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zujnyobronca.wrzuta.pl/audio/2yjSzzjbyKQ/jacek_kowalski_-_pasowanie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paintings-art-picture.com/paintings/wp-content/uploads/Edmund-Blair-Leighton-The-Accolade-Paintnig-Art.jpg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DBy_Ssn0K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5/5d/St&#228;ndeordnung.jpg/200px-St&#228;ndeordnung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http://www.archidiecezja.pl/include/article_img/olesnicki.jpg" TargetMode="External"/><Relationship Id="rId4" Type="http://schemas.openxmlformats.org/officeDocument/2006/relationships/hyperlink" Target="http://www.archidiecezja.pl/include/article_img/olesnicki.jpg" TargetMode="External"/><Relationship Id="rId5" Type="http://schemas.openxmlformats.org/officeDocument/2006/relationships/hyperlink" Target="http://www.archidiecezja.pl/include/article_img/olesnicki.jpg" TargetMode="External"/><Relationship Id="rId6" Type="http://schemas.openxmlformats.org/officeDocument/2006/relationships/hyperlink" Target="http://upload.wikimedia.org/wikipedia/commons/thumb/5/5e/Odilo_F-Andreani.jpg/170px-Odilo_F-Andreani.jpg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1. Rycerze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thumb/c/cd/Cleric-Knight-Workman.jpg/250px-Cleric-Knight-Workman.jpg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http://upload.wikimedia.org/wikipedia/commons/thumb/c/cd/Cleric-Knight-Workman.jpg/250px-Cleric-Knight-Workman.jpg"/>
          <p:cNvPicPr/>
          <p:nvPr/>
        </p:nvPicPr>
        <p:blipFill>
          <a:blip r:embed="rId3"/>
          <a:stretch/>
        </p:blipFill>
        <p:spPr>
          <a:xfrm>
            <a:off x="395280" y="1341360"/>
            <a:ext cx="302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ni opiekowali się systemem kształc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histmag.org/grafika/articles5/uniwersytety-sredniowiecze/uniwersytety1.jpg"/>
          <p:cNvPicPr/>
          <p:nvPr/>
        </p:nvPicPr>
        <p:blipFill>
          <a:blip r:embed="rId1"/>
          <a:stretch/>
        </p:blipFill>
        <p:spPr>
          <a:xfrm>
            <a:off x="1835280" y="720720"/>
            <a:ext cx="35258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Mieli też wkład w propagowanie nowoczesnych technik ro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ryc_1_breu_d_ae2809e_jac2b6rg__39"/>
          <p:cNvPicPr/>
          <p:nvPr/>
        </p:nvPicPr>
        <p:blipFill>
          <a:blip r:embed="rId1"/>
          <a:stretch/>
        </p:blipFill>
        <p:spPr>
          <a:xfrm>
            <a:off x="2843280" y="674640"/>
            <a:ext cx="3097080" cy="3033720"/>
          </a:xfrm>
          <a:prstGeom prst="rect">
            <a:avLst/>
          </a:prstGeom>
          <a:ln w="0">
            <a:noFill/>
          </a:ln>
        </p:spPr>
      </p:pic>
      <p:sp>
        <p:nvSpPr>
          <p:cNvPr id="129" name="Prostokąt 5"/>
          <p:cNvSpPr/>
          <p:nvPr/>
        </p:nvSpPr>
        <p:spPr>
          <a:xfrm>
            <a:off x="324000" y="27082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le przede wszystkim zapewniali opiekę duchow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ryc_4__konwersi_na_grobie_le280baw_ae280b0tienne_w_opactwie_d_39"/>
          <p:cNvPicPr/>
          <p:nvPr/>
        </p:nvPicPr>
        <p:blipFill>
          <a:blip r:embed="rId1"/>
          <a:stretch/>
        </p:blipFill>
        <p:spPr>
          <a:xfrm>
            <a:off x="3564000" y="692280"/>
            <a:ext cx="2038320" cy="285732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5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iedzaiedukacja.eu/archives/27861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ep 20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Na tym tle dochodziło między duchownymi do licznych sporów. Ukształtowały się różne typy duchowości: benedyktyńska, cysterska, franciszkańska i dominikańsk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4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youtube.com/watch?v=CG4pO_VzLF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4.bp.blogspot.com/-NOoqgPlIn8I/TwQbTMwtfmI/AAAAAAAABLA/o1L9QUZrTpM/s1600/216416_1615061711076_1672338526_1187407_1230618_n.jpg"/>
          <p:cNvPicPr/>
          <p:nvPr/>
        </p:nvPicPr>
        <p:blipFill>
          <a:blip r:embed="rId1"/>
          <a:stretch/>
        </p:blipFill>
        <p:spPr>
          <a:xfrm>
            <a:off x="2268360" y="260280"/>
            <a:ext cx="36720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3. Ci, którzy pracują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rostokąt 3"/>
          <p:cNvSpPr/>
          <p:nvPr/>
        </p:nvSpPr>
        <p:spPr>
          <a:xfrm>
            <a:off x="324000" y="4869000"/>
            <a:ext cx="28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pload.wikimedia.org/wikipedia/commons/thumb/5/5d/St%C3%A4ndeordnung.jpg/200px-St%C3%A4ndeordnung.jpg"/>
          <p:cNvPicPr/>
          <p:nvPr/>
        </p:nvPicPr>
        <p:blipFill>
          <a:blip r:embed="rId1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898989"/>
                </a:solidFill>
                <a:latin typeface="Calibri"/>
              </a:rPr>
              <a:t>Chłopi stanowili większość średniowiecznego społeczeństwa. Utrzymywali pozostałe stany poprzez rentę feudalną, dziesięciny lub sprzedaż żywnośc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www.gnosis.art.pl/iluminatornia/omnibus/bracia_Limbourg_czerwiec.jpg"/>
          <p:cNvPicPr/>
          <p:nvPr/>
        </p:nvPicPr>
        <p:blipFill>
          <a:blip r:embed="rId1"/>
          <a:srcRect l="0" t="51059" r="0" b="0"/>
          <a:stretch/>
        </p:blipFill>
        <p:spPr>
          <a:xfrm>
            <a:off x="3564000" y="1052640"/>
            <a:ext cx="3529080" cy="266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upload.wikimedia.org/wikipedia/commons/7/7a/Les_Tr%C3%A8s_Riches_Heures_du_duc_de_Berry_mars.jpg"/>
          <p:cNvPicPr/>
          <p:nvPr/>
        </p:nvPicPr>
        <p:blipFill>
          <a:blip r:embed="rId2"/>
          <a:srcRect l="0" t="41569" r="0" b="0"/>
          <a:stretch/>
        </p:blipFill>
        <p:spPr>
          <a:xfrm>
            <a:off x="539640" y="476280"/>
            <a:ext cx="3194280" cy="3014640"/>
          </a:xfrm>
          <a:prstGeom prst="rect">
            <a:avLst/>
          </a:prstGeom>
          <a:ln w="0">
            <a:noFill/>
          </a:ln>
        </p:spPr>
      </p:pic>
      <p:sp>
        <p:nvSpPr>
          <p:cNvPr id="145" name="Prostokąt 7"/>
          <p:cNvSpPr/>
          <p:nvPr/>
        </p:nvSpPr>
        <p:spPr>
          <a:xfrm>
            <a:off x="7164360" y="2205000"/>
            <a:ext cx="16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Bardzo_bogate_godzinki_ksi%C4%99cia_de_Berry, dostęp 25.05.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898989"/>
                </a:solidFill>
                <a:latin typeface="Calibri"/>
              </a:rPr>
              <a:t>Mieszczanie zajmowali się głównie rzemiosłem i handlem. Robili jednak konkurencję rycerstwu, gdyż świetnie potrafili obronić się sam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Plik:Balthasar Behem Codex01.jpg"/>
          <p:cNvPicPr/>
          <p:nvPr/>
        </p:nvPicPr>
        <p:blipFill>
          <a:blip r:embed="rId1"/>
          <a:stretch/>
        </p:blipFill>
        <p:spPr>
          <a:xfrm>
            <a:off x="971640" y="692280"/>
            <a:ext cx="2448000" cy="2809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lik:Balthasar Behem Codex Tanner.jpg"/>
          <p:cNvPicPr/>
          <p:nvPr/>
        </p:nvPicPr>
        <p:blipFill>
          <a:blip r:embed="rId2"/>
          <a:stretch/>
        </p:blipFill>
        <p:spPr>
          <a:xfrm>
            <a:off x="3492360" y="692280"/>
            <a:ext cx="2880000" cy="279720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6"/>
          <p:cNvSpPr/>
          <p:nvPr/>
        </p:nvSpPr>
        <p:spPr>
          <a:xfrm>
            <a:off x="6588000" y="1125360"/>
            <a:ext cx="183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pl.wikipedia.org/wiki/Plik:Balthasar_Behem_Codex_Tann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ostęp 25.05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Chłopi byli pogardzani przez rycerzy, ale mieli o nich swoje zdanie. Wysłuchaj uważnie utwor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539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youtube.com/watch?v=2aEHfTf8L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4652640"/>
            <a:ext cx="77043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ik muzyczny: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_x000b_http://czujnyobronca.wrzuta.pl/audio/2yjSzzjbyKQ/jacek_kowalski_-_pasowan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paintings-art-picture.com/paintings/wp-content/uploads/Edmund-Blair-Leighton-The-Accolade-Paintnig-Art.jpg"/>
          <p:cNvPicPr/>
          <p:nvPr/>
        </p:nvPicPr>
        <p:blipFill>
          <a:blip r:embed="rId2"/>
          <a:stretch/>
        </p:blipFill>
        <p:spPr>
          <a:xfrm>
            <a:off x="2843280" y="549360"/>
            <a:ext cx="2973240" cy="4248000"/>
          </a:xfrm>
          <a:prstGeom prst="rect">
            <a:avLst/>
          </a:prstGeom>
          <a:ln w="0">
            <a:noFill/>
          </a:ln>
        </p:spPr>
      </p:pic>
      <p:sp>
        <p:nvSpPr>
          <p:cNvPr id="101" name="Prostokąt 5"/>
          <p:cNvSpPr/>
          <p:nvPr/>
        </p:nvSpPr>
        <p:spPr>
          <a:xfrm>
            <a:off x="684360" y="3789360"/>
            <a:ext cx="2016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aintings-art-picture.com/paintings/wp-content/uploads/Edmund-Blair-Leighton-The-Accolade-Paintnig-Art.jpg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Calibri"/>
              </a:rPr>
              <a:t>Dostęp 19.05.201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662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asal; …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enior; 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uzeren; 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enno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nwestytur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eudalizm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endacj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ekaria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munitet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łd lenny; 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nta feudalna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Ćwiczenie z poję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195640" y="4941720"/>
            <a:ext cx="471312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youtube.com/watch?v=6DBy_Ssn0K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71640" y="3645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0000"/>
                </a:solidFill>
                <a:latin typeface="Calibri"/>
              </a:rPr>
              <a:t>Bertrand de Born, </a:t>
            </a:r>
            <a:r>
              <a:rPr b="0" i="1" lang="pl-PL" sz="4400" spc="-1" strike="noStrike">
                <a:solidFill>
                  <a:srgbClr val="ff0000"/>
                </a:solidFill>
                <a:latin typeface="Calibri"/>
              </a:rPr>
              <a:t>Pochwała woj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E:\foto2\2012\niepolomce\IMG_0106.JPG"/>
          <p:cNvPicPr/>
          <p:nvPr/>
        </p:nvPicPr>
        <p:blipFill>
          <a:blip r:embed="rId2"/>
          <a:srcRect l="8202" t="0" r="11486" b="0"/>
          <a:stretch/>
        </p:blipFill>
        <p:spPr>
          <a:xfrm>
            <a:off x="2124000" y="333360"/>
            <a:ext cx="40323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3280" y="1591920"/>
            <a:ext cx="532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7. Rządzący i rządzeni. 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4. Społeczeństwo modlących się, pracujących, broniących pozostałych.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ęść 2. Duchowni.</a:t>
            </a:r>
            <a:br>
              <a:rPr sz="5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dtytuł 2"/>
          <p:cNvSpPr/>
          <p:nvPr/>
        </p:nvSpPr>
        <p:spPr>
          <a:xfrm>
            <a:off x="2411280" y="357336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3"/>
          <p:cNvSpPr/>
          <p:nvPr/>
        </p:nvSpPr>
        <p:spPr>
          <a:xfrm>
            <a:off x="324000" y="486900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pload.wikimedia.org/wikipedia/commons/thumb/5/5d/St%C3%A4ndeordnung.jpg/200px-St%C3%A4ndeordnung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, dostęp 16.05.201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upload.wikimedia.org/wikipedia/commons/thumb/5/5d/St%C3%A4ndeordnung.jpg/200px-St%C3%A4ndeordnung.jpg"/>
          <p:cNvPicPr/>
          <p:nvPr/>
        </p:nvPicPr>
        <p:blipFill>
          <a:blip r:embed="rId2"/>
          <a:stretch/>
        </p:blipFill>
        <p:spPr>
          <a:xfrm>
            <a:off x="539640" y="620640"/>
            <a:ext cx="2955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411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uchowieństwo średniowieczne nie było grupą jednolitą. W jego skład wchodzili naprawdę ubodzy mnisi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http://www.kul.pl/files/470/public/skryptorium.jpg"/>
          <p:cNvPicPr/>
          <p:nvPr/>
        </p:nvPicPr>
        <p:blipFill>
          <a:blip r:embed="rId1"/>
          <a:stretch/>
        </p:blipFill>
        <p:spPr>
          <a:xfrm>
            <a:off x="684360" y="476280"/>
            <a:ext cx="4824360" cy="373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ttp://t3.gstatic.com/images?q=tbn:ANd9GcTBgN4xQjHd3TGpEDwHfbzSTAr1RzZFJgK3Iy0RjdjVojGhrYAmTQ"/>
          <p:cNvPicPr/>
          <p:nvPr/>
        </p:nvPicPr>
        <p:blipFill>
          <a:blip r:embed="rId2"/>
          <a:stretch/>
        </p:blipFill>
        <p:spPr>
          <a:xfrm>
            <a:off x="5580000" y="1197000"/>
            <a:ext cx="1800360" cy="2533680"/>
          </a:xfrm>
          <a:prstGeom prst="rect">
            <a:avLst/>
          </a:prstGeom>
          <a:ln w="0">
            <a:noFill/>
          </a:ln>
        </p:spPr>
      </p:pic>
      <p:sp>
        <p:nvSpPr>
          <p:cNvPr id="116" name="Prostokąt 5"/>
          <p:cNvSpPr/>
          <p:nvPr/>
        </p:nvSpPr>
        <p:spPr>
          <a:xfrm>
            <a:off x="324000" y="42210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kul.pl/files/470/public/skryptorium.jpg, dostęp 20.05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poprzez bogatych opatów i biskupów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upload.wikimedia.org/wikipedia/commons/thumb/5/5e/Odilo_F-Andreani.jpg/170px-Odilo_F-Andreani.jpg"/>
          <p:cNvPicPr/>
          <p:nvPr/>
        </p:nvPicPr>
        <p:blipFill>
          <a:blip r:embed="rId1"/>
          <a:stretch/>
        </p:blipFill>
        <p:spPr>
          <a:xfrm>
            <a:off x="468360" y="404640"/>
            <a:ext cx="2735280" cy="3411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www.archidiecezja.pl/include/article_img/olesnicki.jpg"/>
          <p:cNvPicPr/>
          <p:nvPr/>
        </p:nvPicPr>
        <p:blipFill>
          <a:blip r:embed="rId2"/>
          <a:stretch/>
        </p:blipFill>
        <p:spPr>
          <a:xfrm>
            <a:off x="4500720" y="333360"/>
            <a:ext cx="20286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Prostokąt 6"/>
          <p:cNvSpPr/>
          <p:nvPr/>
        </p:nvSpPr>
        <p:spPr>
          <a:xfrm>
            <a:off x="6659640" y="2781360"/>
            <a:ext cx="24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archidiecezja.pl/include/article_img/olesnicki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7"/>
          <p:cNvSpPr/>
          <p:nvPr/>
        </p:nvSpPr>
        <p:spPr>
          <a:xfrm>
            <a:off x="0" y="3860640"/>
            <a:ext cx="19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Źródło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pload.wikimedia.org/wikipedia/commons/thumb/5/5e/Odilo_F-Andreani.jpg/170px-Odilo_F-Andreani.jpg 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ostęp 21.05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…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aż do papieża, który był także świeckim monarchą w Państwie Kościelny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www.edupedia.pl/entry_img/20_Grzegorz_VII.jpg"/>
          <p:cNvPicPr/>
          <p:nvPr/>
        </p:nvPicPr>
        <p:blipFill>
          <a:blip r:embed="rId1"/>
          <a:stretch/>
        </p:blipFill>
        <p:spPr>
          <a:xfrm>
            <a:off x="2916360" y="549360"/>
            <a:ext cx="2203200" cy="325764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5"/>
          <p:cNvSpPr/>
          <p:nvPr/>
        </p:nvSpPr>
        <p:spPr>
          <a:xfrm>
            <a:off x="468360" y="1700280"/>
            <a:ext cx="1942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ttp://www.edupedia.pl/words/index/show/564676_leksykon_postaci-w_grzegorz_vii_wlasc_hildebrand.html, dostęp 22.05.201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05T23:52:33Z</dcterms:modified>
  <cp:revision>33</cp:revision>
  <dc:subject/>
  <dc:title>Slajd 1</dc:title>
</cp:coreProperties>
</file>