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F80-342A-458C-91A3-D20B8173921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8C79-68F4-4DF0-BFC9-0A16EF689C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13E-7097-4258-942A-910FCB4238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6576-CB7C-4798-BC38-521645004C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9AC-C06E-4E74-BF79-9DC146EA3E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70A9-259B-4B06-8D68-18EE53E877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9734-051E-4FC5-A6E5-039F1E281E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A31E-5165-45AE-A7E8-23F7640126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480-123C-4D73-958A-9981CED3DF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67E-8B36-44AA-AE96-469EE2D0DB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DF6E-8544-4496-BC99-7835DBFAD7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B49-5C37-42E8-8874-88FFAD6361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13C-B59E-40CE-8DAB-DA495B88B3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996-271A-44CE-A671-1E7C821910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730-8FA7-409F-A6C0-9C9F9BA5C5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104C-6DC5-4FCE-89B2-9D7A733506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C2F-59AA-40F0-BFB0-5880EFD096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21C1-8CBE-4CE0-A806-70F7DD5FEC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ACF-49E8-4A7F-97E9-F39A6C3AB5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1B33-8E39-401A-9EDE-74DA9D244A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3DC-08B3-4B17-96E4-533E893C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4FF-6112-4081-A6BC-DF35D0D5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6DE-762A-4D98-8CF9-C1FCB023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030-794E-4865-AB84-25E2487B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20DE-71F8-478B-9664-558C4934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D48B-78E3-4260-8859-4D7A948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31C8-195D-4D0C-A19E-54F976A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0F11-16E4-4A2E-BBDD-749F94F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D12-E98A-4893-80BE-FE1FD51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8BE7-B5D1-4AFD-9F61-FCCAD489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3C05-FE99-448F-8974-50F8F11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804-2C1C-4479-B49A-1174E6B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E9AE-E907-45FB-977A-C3809B9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62E-1914-426D-9D8C-B8D11C6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283-FB68-4F56-85F5-CE5C5F6F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C28E-8ED8-4817-8F9F-AB217930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C777-19E8-4823-BAA4-205E0A67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003-BBD0-4BF8-8711-41338F9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7E1-2C8C-40ED-A23E-E6752E40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27F-9142-45E5-9BC2-A3C548A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895-A9BF-4EF9-959B-5BC01EE0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5A2-B392-46E5-82CB-D697A67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A33-1959-4BBC-A959-7856542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DAF-6242-4E06-8238-0A95C04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07E2-A0D4-4707-AA9D-0F4FBD64B47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B1A-9F70-4100-8143-A1739B030E7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upload.wikimedia.org/wikipedia/commons/thumb/c/cd/Cleric-Knight-Workman.jpg/250px-Cleric-Knight-Workma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iedzaiedukacja.eu/archives/27861" TargetMode="External"/><Relationship Id="rId3" Type="http://schemas.openxmlformats.org/officeDocument/2006/relationships/hyperlink" Target="http://wiedzaiedukacja.eu/archives/27861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iedzaiedukacja.eu/archives/27861" TargetMode="External"/><Relationship Id="rId3" Type="http://schemas.openxmlformats.org/officeDocument/2006/relationships/hyperlink" Target="http://wiedzaiedukacja.eu/archives/27861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zujnyobronca.wrzuta.pl/audio/2yjSzzjbyKQ/jacek_kowalski_-_pasowani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paintings-art-picture.com/paintings/wp-content/uploads/Edmund-Blair-Leighton-The-Accolade-Paintnig-Art.jp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DBy_Ssn0K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5/5d/St&#228;ndeordnung.jpg/200px-St&#228;ndeordnun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hyperlink" Target="http://www.archidiecezja.pl/include/article_img/olesnicki.jpg" TargetMode="External"/><Relationship Id="rId5" Type="http://schemas.openxmlformats.org/officeDocument/2006/relationships/hyperlink" Target="http://www.archidiecezja.pl/include/article_img/olesnicki.jpg" TargetMode="External"/><Relationship Id="rId6" Type="http://schemas.openxmlformats.org/officeDocument/2006/relationships/hyperlink" Target="http://upload.wikimedia.org/wikipedia/commons/thumb/5/5e/Odilo_F-Andreani.jpg/170px-Odilo_F-Andreani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1. Rycerze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c/cd/Cleric-Knight-Workman.jpg/250px-Cleric-Knight-Workman.jp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http://upload.wikimedia.org/wikipedia/commons/thumb/c/cd/Cleric-Knight-Workman.jpg/250px-Cleric-Knight-Workman.jpg"/>
          <p:cNvPicPr/>
          <p:nvPr/>
        </p:nvPicPr>
        <p:blipFill>
          <a:blip r:embed="rId3"/>
          <a:stretch/>
        </p:blipFill>
        <p:spPr>
          <a:xfrm>
            <a:off x="395280" y="1341360"/>
            <a:ext cx="30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uchowni opiekowali się systemem kształc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1835280" y="720720"/>
            <a:ext cx="3525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Mieli też wkład w propagowanie nowoczesnych technik ro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ryc_1_breu_d_ae2809e_jac2b6rg__39"/>
          <p:cNvPicPr/>
          <p:nvPr/>
        </p:nvPicPr>
        <p:blipFill>
          <a:blip r:embed="rId1"/>
          <a:stretch/>
        </p:blipFill>
        <p:spPr>
          <a:xfrm>
            <a:off x="2843280" y="674640"/>
            <a:ext cx="3097080" cy="3033720"/>
          </a:xfrm>
          <a:prstGeom prst="rect">
            <a:avLst/>
          </a:prstGeom>
          <a:ln w="0">
            <a:noFill/>
          </a:ln>
        </p:spPr>
      </p:pic>
      <p:sp>
        <p:nvSpPr>
          <p:cNvPr id="129" name="Prostokąt 5"/>
          <p:cNvSpPr/>
          <p:nvPr/>
        </p:nvSpPr>
        <p:spPr>
          <a:xfrm>
            <a:off x="324000" y="2708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edzaiedukacja.eu/archives/2786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e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Ale przede wszystkim zapewniali opiekę duch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ryc_4__konwersi_na_grobie_le280baw_ae280b0tienne_w_opactwie_d_39"/>
          <p:cNvPicPr/>
          <p:nvPr/>
        </p:nvPicPr>
        <p:blipFill>
          <a:blip r:embed="rId1"/>
          <a:stretch/>
        </p:blipFill>
        <p:spPr>
          <a:xfrm>
            <a:off x="3564000" y="692280"/>
            <a:ext cx="2038320" cy="285732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5"/>
          <p:cNvSpPr/>
          <p:nvPr/>
        </p:nvSpPr>
        <p:spPr>
          <a:xfrm>
            <a:off x="324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edzaiedukacja.eu/archives/2786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e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Na tym tle dochodziło między duchownymi do licznych sporów. Ukształtowały się różne typy duchowości: benedyktyńska, cysterska, franciszkańska i dominikańs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CG4pO_VzLF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4.bp.blogspot.com/-NOoqgPlIn8I/TwQbTMwtfmI/AAAAAAAABLA/o1L9QUZrTpM/s1600/216416_1615061711076_1672338526_1187407_1230618_n.jpg"/>
          <p:cNvPicPr/>
          <p:nvPr/>
        </p:nvPicPr>
        <p:blipFill>
          <a:blip r:embed="rId1"/>
          <a:stretch/>
        </p:blipFill>
        <p:spPr>
          <a:xfrm>
            <a:off x="2268360" y="260280"/>
            <a:ext cx="36720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3. Ci, którzy pracują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3"/>
          <p:cNvSpPr/>
          <p:nvPr/>
        </p:nvSpPr>
        <p:spPr>
          <a:xfrm>
            <a:off x="324000" y="486900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upload.wikimedia.org/wikipedia/commons/thumb/5/5d/St%C3%A4ndeordnung.jpg/200px-St%C3%A4ndeordnu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pload.wikimedia.org/wikipedia/commons/thumb/5/5d/St%C3%A4ndeordnung.jpg/200px-St%C3%A4ndeordnung.jpg"/>
          <p:cNvPicPr/>
          <p:nvPr/>
        </p:nvPicPr>
        <p:blipFill>
          <a:blip r:embed="rId1"/>
          <a:stretch/>
        </p:blipFill>
        <p:spPr>
          <a:xfrm>
            <a:off x="539640" y="620640"/>
            <a:ext cx="2955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Chłopi stanowili większość średniowiecznego społeczeństwa. Utrzymywali pozostałe stany poprzez rentę feudalną, dziesięciny lub sprzedaż żywnoś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ww.gnosis.art.pl/iluminatornia/omnibus/bracia_Limbourg_czerwiec.jpg"/>
          <p:cNvPicPr/>
          <p:nvPr/>
        </p:nvPicPr>
        <p:blipFill>
          <a:blip r:embed="rId1"/>
          <a:srcRect l="0" t="51059" r="0" b="0"/>
          <a:stretch/>
        </p:blipFill>
        <p:spPr>
          <a:xfrm>
            <a:off x="3564000" y="1052640"/>
            <a:ext cx="352908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upload.wikimedia.org/wikipedia/commons/7/7a/Les_Tr%C3%A8s_Riches_Heures_du_duc_de_Berry_mars.jpg"/>
          <p:cNvPicPr/>
          <p:nvPr/>
        </p:nvPicPr>
        <p:blipFill>
          <a:blip r:embed="rId2"/>
          <a:srcRect l="0" t="41569" r="0" b="0"/>
          <a:stretch/>
        </p:blipFill>
        <p:spPr>
          <a:xfrm>
            <a:off x="539640" y="476280"/>
            <a:ext cx="3194280" cy="3014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7"/>
          <p:cNvSpPr/>
          <p:nvPr/>
        </p:nvSpPr>
        <p:spPr>
          <a:xfrm>
            <a:off x="7164360" y="2205000"/>
            <a:ext cx="16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l.wikipedia.org/wiki/Bardzo_bogate_godzinki_ksi%C4%99cia_de_Berry, dostęp 25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Mieszczanie zajmowali się głównie rzemiosłem i handlem. Robili jednak konkurencję rycerstwu, gdyż świetnie potrafili obronić się sam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Plik:Balthasar Behem Codex01.jpg"/>
          <p:cNvPicPr/>
          <p:nvPr/>
        </p:nvPicPr>
        <p:blipFill>
          <a:blip r:embed="rId1"/>
          <a:stretch/>
        </p:blipFill>
        <p:spPr>
          <a:xfrm>
            <a:off x="971640" y="692280"/>
            <a:ext cx="2448000" cy="2809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Plik:Balthasar Behem Codex Tanner.jpg"/>
          <p:cNvPicPr/>
          <p:nvPr/>
        </p:nvPicPr>
        <p:blipFill>
          <a:blip r:embed="rId2"/>
          <a:stretch/>
        </p:blipFill>
        <p:spPr>
          <a:xfrm>
            <a:off x="3492360" y="692280"/>
            <a:ext cx="2880000" cy="279720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6"/>
          <p:cNvSpPr/>
          <p:nvPr/>
        </p:nvSpPr>
        <p:spPr>
          <a:xfrm>
            <a:off x="6588000" y="1125360"/>
            <a:ext cx="18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Balthasar_Behem_Codex_Tann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Chłopi byli pogardzani przez rycerzy, ale mieli o nich swoje zdanie. Wysłuchaj uważnie utw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youtube.com/watch?v=2aEHfTf8L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4652640"/>
            <a:ext cx="770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ik muzyczny: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http://czujnyobronca.wrzuta.pl/audio/2yjSzzjbyKQ/jacek_kowalski_-_pasowan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paintings-art-picture.com/paintings/wp-content/uploads/Edmund-Blair-Leighton-The-Accolade-Paintnig-Art.jpg"/>
          <p:cNvPicPr/>
          <p:nvPr/>
        </p:nvPicPr>
        <p:blipFill>
          <a:blip r:embed="rId2"/>
          <a:stretch/>
        </p:blipFill>
        <p:spPr>
          <a:xfrm>
            <a:off x="2843280" y="549360"/>
            <a:ext cx="2973240" cy="424800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5"/>
          <p:cNvSpPr/>
          <p:nvPr/>
        </p:nvSpPr>
        <p:spPr>
          <a:xfrm>
            <a:off x="684360" y="378936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aintings-art-picture.com/paintings/wp-content/uploads/Edmund-Blair-Leighton-The-Accolade-Paintnig-Art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66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sal; 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; 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uzeren; 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nno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westytur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eudalizm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endacj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ekari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munitet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łd lenny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nta feudalna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Ćwiczenie z poję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195640" y="4941720"/>
            <a:ext cx="47131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6DBy_Ssn0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71640" y="3645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Calibri"/>
              </a:rPr>
              <a:t>Bertrand de Born, </a:t>
            </a:r>
            <a:r>
              <a:rPr b="0" i="1" lang="pl-PL" sz="4400" spc="-1" strike="noStrike">
                <a:solidFill>
                  <a:srgbClr val="ff0000"/>
                </a:solidFill>
                <a:latin typeface="Calibri"/>
              </a:rPr>
              <a:t>Pochwała woj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E:\foto2\2012\niepolomce\IMG_0106.JPG"/>
          <p:cNvPicPr/>
          <p:nvPr/>
        </p:nvPicPr>
        <p:blipFill>
          <a:blip r:embed="rId2"/>
          <a:srcRect l="8202" t="0" r="11486" b="0"/>
          <a:stretch/>
        </p:blipFill>
        <p:spPr>
          <a:xfrm>
            <a:off x="2124000" y="333360"/>
            <a:ext cx="4032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2. Duchowni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thumb/5/5d/St%C3%A4ndeordnung.jpg/200px-St%C3%A4ndeordnu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upload.wikimedia.org/wikipedia/commons/thumb/5/5d/St%C3%A4ndeordnung.jpg/200px-St%C3%A4ndeordnung.jpg"/>
          <p:cNvPicPr/>
          <p:nvPr/>
        </p:nvPicPr>
        <p:blipFill>
          <a:blip r:embed="rId2"/>
          <a:stretch/>
        </p:blipFill>
        <p:spPr>
          <a:xfrm>
            <a:off x="539640" y="620640"/>
            <a:ext cx="2955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11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uchowieństwo średniowieczne nie było grupą jednolitą. W jego skład wchodzili naprawdę ubodzy mnis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www.kul.pl/files/470/public/skryptorium.jpg"/>
          <p:cNvPicPr/>
          <p:nvPr/>
        </p:nvPicPr>
        <p:blipFill>
          <a:blip r:embed="rId1"/>
          <a:stretch/>
        </p:blipFill>
        <p:spPr>
          <a:xfrm>
            <a:off x="684360" y="476280"/>
            <a:ext cx="4824360" cy="3730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t3.gstatic.com/images?q=tbn:ANd9GcTBgN4xQjHd3TGpEDwHfbzSTAr1RzZFJgK3Iy0RjdjVojGhrYAmTQ"/>
          <p:cNvPicPr/>
          <p:nvPr/>
        </p:nvPicPr>
        <p:blipFill>
          <a:blip r:embed="rId2"/>
          <a:stretch/>
        </p:blipFill>
        <p:spPr>
          <a:xfrm>
            <a:off x="5580000" y="1197000"/>
            <a:ext cx="1800360" cy="253368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5"/>
          <p:cNvSpPr/>
          <p:nvPr/>
        </p:nvSpPr>
        <p:spPr>
          <a:xfrm>
            <a:off x="324000" y="42210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kul.pl/files/470/public/skryptorium.jpg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…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przez bogatych opatów i biskupów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thumb/5/5e/Odilo_F-Andreani.jpg/170px-Odilo_F-Andreani.jpg"/>
          <p:cNvPicPr/>
          <p:nvPr/>
        </p:nvPicPr>
        <p:blipFill>
          <a:blip r:embed="rId1"/>
          <a:stretch/>
        </p:blipFill>
        <p:spPr>
          <a:xfrm>
            <a:off x="468360" y="404640"/>
            <a:ext cx="2735280" cy="341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archidiecezja.pl/include/article_img/olesnicki.jpg"/>
          <p:cNvPicPr/>
          <p:nvPr/>
        </p:nvPicPr>
        <p:blipFill>
          <a:blip r:embed="rId2"/>
          <a:stretch/>
        </p:blipFill>
        <p:spPr>
          <a:xfrm>
            <a:off x="4500720" y="333360"/>
            <a:ext cx="20286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Prostokąt 6"/>
          <p:cNvSpPr/>
          <p:nvPr/>
        </p:nvSpPr>
        <p:spPr>
          <a:xfrm>
            <a:off x="6659640" y="2781360"/>
            <a:ext cx="24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archidiecezja.pl/include/article_img/olesnicki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7"/>
          <p:cNvSpPr/>
          <p:nvPr/>
        </p:nvSpPr>
        <p:spPr>
          <a:xfrm>
            <a:off x="0" y="3860640"/>
            <a:ext cx="19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pload.wikimedia.org/wikipedia/commons/thumb/5/5e/Odilo_F-Andreani.jpg/170px-Odilo_F-Andreani.jpg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…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aż do papieża, który był także świeckim monarchą w Państwie Koście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www.edupedia.pl/entry_img/20_Grzegorz_VII.jpg"/>
          <p:cNvPicPr/>
          <p:nvPr/>
        </p:nvPicPr>
        <p:blipFill>
          <a:blip r:embed="rId1"/>
          <a:stretch/>
        </p:blipFill>
        <p:spPr>
          <a:xfrm>
            <a:off x="2916360" y="549360"/>
            <a:ext cx="2203200" cy="325764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5"/>
          <p:cNvSpPr/>
          <p:nvPr/>
        </p:nvSpPr>
        <p:spPr>
          <a:xfrm>
            <a:off x="468360" y="1700280"/>
            <a:ext cx="1942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www.edupedia.pl/words/index/show/564676_leksykon_postaci-w_grzegorz_vii_wlasc_hildebrand.html, dostęp 22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5T23:52:33Z</dcterms:modified>
  <cp:revision>33</cp:revision>
  <dc:subject/>
  <dc:title>Slajd 1</dc:title>
</cp:coreProperties>
</file>