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8494-1B75-4FFC-9BA2-66615C4BE08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EC4B-1617-4B4D-9D05-4A91FCEC33E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121E-B220-4773-840B-6EEE0C758C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6691-6F9F-44FB-ABBB-E5E9A36FEF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42B4-3DF6-4B31-BAB5-227D58DF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D1D-BD6C-449F-AD5B-6C02BF36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A27D-37A5-48FD-96F0-C4D71BD0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C3C-B2EB-4C8C-A040-CAD554E4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431C9-6824-4318-A2C7-4FCF5572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D007-E8E5-4B22-AE18-85BF2CB7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0990-65D9-4267-8AB1-9F462A67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3E2B-A11B-4E3F-A33A-4710F89C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02FB-9646-42A3-98CB-D62D1D3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9ECF-CCFD-4BD0-8639-8412AB60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1B87-5C1C-44D1-AFD6-A3DD35AE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566-7984-420E-BF82-867B664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C948-E0EC-42C1-8619-141B9C93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A1BD-2138-4003-BBC8-12A9F34B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6367-D96B-48E6-BC2D-E2D7CFEF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3581-D77D-4F7E-958F-FB4E1F8E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7F17-0C1F-4E71-90B5-52FE3AC92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090-2128-415C-A713-6C9ABF0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CFD-0327-449C-840D-06CB174F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5C6-0F66-4794-B05D-3A1A39CD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E81-6D93-439D-A8A7-3AAB883C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AB6-E780-4154-A72D-7687D160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FB2-5BE0-4FE6-BF06-15B683C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14D-E84A-45F2-857E-4978A62C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4C05-E28F-43A5-9D69-661A26B1AEC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173-6CDB-4352-B989-2E66A7ABF6E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upload.wikimedia.org/wikipedia/commons/thumb/0/0c/Jean-Pierre_Norblin_de_La_Gourdaine,_Sejmik_w_ko&#347;ciele_(1785)_-_02.png/266px-Jean-Pierre_Norblin_de_La_Gourdaine,_Sejmik_w_ko&#347;ciele_(1785)_-_02.png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histmag.org/Historyczny-przeglad-prasy-3-9-pazdziernika-2011-5969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histmag.org/Historyczny-przeglad-prasy-3-9-pazdziernika-2011-5969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Polish_Sejm_under_the_reign_of_Sigismund_III_Vasa.JPG" TargetMode="External"/><Relationship Id="rId3" Type="http://schemas.openxmlformats.org/officeDocument/2006/relationships/hyperlink" Target="http://pl.wikipedia.org/wiki/Plik:Polish_Sejm_under_the_reign_of_Sigismund_III_Vasa.JPG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Polish_Sejm_under_the_reign_of_Sigismund_III_Vasa.JPG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2880" y="2276280"/>
            <a:ext cx="381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olski parlamentaryzm w Rzeczypospolitej Obojga Narodów</a:t>
            </a: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46836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Arial"/>
              </a:rPr>
              <a:t>Grzegorz Szymano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upload.wikimedia.org/wikipedia/commons/5/5b/Szlachta_Herby.jpg"/>
          <p:cNvPicPr/>
          <p:nvPr/>
        </p:nvPicPr>
        <p:blipFill>
          <a:blip r:embed="rId1"/>
          <a:stretch/>
        </p:blipFill>
        <p:spPr>
          <a:xfrm>
            <a:off x="684360" y="549360"/>
            <a:ext cx="46288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cja w XV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6056280" cy="4176720"/>
          </a:xfrm>
          <a:prstGeom prst="rect">
            <a:avLst/>
          </a:prstGeom>
          <a:ln w="0">
            <a:noFill/>
          </a:ln>
        </p:spPr>
      </p:pic>
      <p:sp>
        <p:nvSpPr>
          <p:cNvPr id="143" name="Prostokąt 2"/>
          <p:cNvSpPr/>
          <p:nvPr/>
        </p:nvSpPr>
        <p:spPr>
          <a:xfrm>
            <a:off x="6732720" y="1413000"/>
            <a:ext cx="241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muzhp.pl/Kalendarz/web2/7%20wrzesnia.jpg, dostęp 2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statnia elekcja, układ pola elekcyj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484200" y="1413000"/>
            <a:ext cx="5873760" cy="4421160"/>
          </a:xfrm>
          <a:prstGeom prst="rect">
            <a:avLst/>
          </a:prstGeom>
          <a:ln w="0">
            <a:noFill/>
          </a:ln>
        </p:spPr>
      </p:pic>
      <p:sp>
        <p:nvSpPr>
          <p:cNvPr id="148" name="Prostokąt 3"/>
          <p:cNvSpPr/>
          <p:nvPr/>
        </p:nvSpPr>
        <p:spPr>
          <a:xfrm>
            <a:off x="6357960" y="4292640"/>
            <a:ext cx="26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muzhp.pl/artykuly/676/elekcje-krolow-w-polsce-przedrozbiorowej, dostęp 6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770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niec epoki wolnych elekcji – zniesione przez Konstytucję 3 M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611280" y="2165400"/>
            <a:ext cx="5383080" cy="3451320"/>
          </a:xfrm>
          <a:prstGeom prst="rect">
            <a:avLst/>
          </a:prstGeom>
          <a:ln w="0">
            <a:noFill/>
          </a:ln>
        </p:spPr>
      </p:pic>
      <p:sp>
        <p:nvSpPr>
          <p:cNvPr id="152" name="Prostokąt 2"/>
          <p:cNvSpPr/>
          <p:nvPr/>
        </p:nvSpPr>
        <p:spPr>
          <a:xfrm>
            <a:off x="6516720" y="328464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olonistika.upol.cz/fileadmin/ksl/polonistika/studium/materialy/moduly/konstytucja.jpg, dostep 2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140360" y="3933360"/>
            <a:ext cx="3960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898989"/>
                </a:solidFill>
                <a:latin typeface="Calibri"/>
              </a:rPr>
              <a:t>Wręcz przeciwnie, utrwaliła. Zlikwidowała jej wynaturzenia. Miała jednak wadę – zmniejszyła dostęp uboższej szlachty do sprawowania władz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3811320" y="2130120"/>
            <a:ext cx="46465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 Konstytucja 3 maja zlikwidowała demokracj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49280" y="581040"/>
            <a:ext cx="33624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9280" y="35856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iec w czasach Kazimierza Wielkieg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1"/>
          <a:stretch/>
        </p:blipFill>
        <p:spPr>
          <a:xfrm>
            <a:off x="905040" y="1700280"/>
            <a:ext cx="6264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jmik w kościele – rysunek z XVI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571500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2"/>
          <p:cNvSpPr/>
          <p:nvPr/>
        </p:nvSpPr>
        <p:spPr>
          <a:xfrm>
            <a:off x="6523200" y="4194000"/>
            <a:ext cx="2411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upload.wikimedia.org/wikipedia/commons/thumb/0/0c/Jean-Pierre_Norblin_de_La_Gourdaine,_Sejmik_w_ko%C5%9Bciele_(1785)_-_02.png/266px-Jean-Pierre_Norblin_de_La_Gourdaine,_Sejmik_w_ko%C5%9Bciele_(1785)_-_02.png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, dostęp 8.06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ejmik w kościele – głosowan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590400" y="161460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110" name="Prostokąt 4"/>
          <p:cNvSpPr/>
          <p:nvPr/>
        </p:nvSpPr>
        <p:spPr>
          <a:xfrm>
            <a:off x="504720" y="5222880"/>
            <a:ext cx="26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 http://histmag.org/Historyczny-przeglad-prasy-3-9-pazdziernika-2011-5969</a:t>
            </a: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, dostęp 8.06.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Rzeczpospolita – pochodzenie poję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"/>
          <p:cNvPicPr/>
          <p:nvPr/>
        </p:nvPicPr>
        <p:blipFill>
          <a:blip r:embed="rId1"/>
          <a:stretch/>
        </p:blipFill>
        <p:spPr>
          <a:xfrm>
            <a:off x="1714680" y="1614600"/>
            <a:ext cx="5715000" cy="362880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4"/>
          <p:cNvSpPr/>
          <p:nvPr/>
        </p:nvSpPr>
        <p:spPr>
          <a:xfrm>
            <a:off x="2195640" y="4919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mag.org/Historyczny-przeglad-prasy-3-9-pazdziernika-2011-596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jm walny – wspólne posiedzenie króla, senatu i izby posel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601560" y="1573200"/>
            <a:ext cx="5400720" cy="4194360"/>
          </a:xfrm>
          <a:prstGeom prst="rect">
            <a:avLst/>
          </a:prstGeom>
          <a:ln w="0">
            <a:noFill/>
          </a:ln>
        </p:spPr>
      </p:pic>
      <p:sp>
        <p:nvSpPr>
          <p:cNvPr id="121" name="Prostokąt 6"/>
          <p:cNvSpPr/>
          <p:nvPr/>
        </p:nvSpPr>
        <p:spPr>
          <a:xfrm>
            <a:off x="6443640" y="1557360"/>
            <a:ext cx="24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pl.wikipedia.org/wiki/Plik:Polish_Sejm_under_the_reign_of_Sigismund_III_Vasa.JPG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dostęp 1.0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obieństwa – parlament brytyjski w okresie Stuart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6"/>
          <p:cNvSpPr/>
          <p:nvPr/>
        </p:nvSpPr>
        <p:spPr>
          <a:xfrm>
            <a:off x="3959280" y="3478320"/>
            <a:ext cx="248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Źródł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ews.richarddenning.co.uk/wp-content/uploads/2011/07/parliament_assembled_at_westmi_hi.jpg, dostęp 2.06.201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2"/>
          <p:cNvSpPr/>
          <p:nvPr/>
        </p:nvSpPr>
        <p:spPr>
          <a:xfrm>
            <a:off x="60156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326880" y="1413000"/>
            <a:ext cx="3453120" cy="41972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1"/>
          <p:cNvSpPr/>
          <p:nvPr/>
        </p:nvSpPr>
        <p:spPr>
          <a:xfrm>
            <a:off x="3959280" y="1557360"/>
            <a:ext cx="28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dobny charakter, choć z rozdzielonymi obradami stanów miały parlament duński i szwedzki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Riksens stä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w sądownictw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utoShape 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52520" y="1484280"/>
            <a:ext cx="613728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4"/>
          <p:cNvSpPr/>
          <p:nvPr/>
        </p:nvSpPr>
        <p:spPr>
          <a:xfrm>
            <a:off x="6589800" y="4076640"/>
            <a:ext cx="253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www.bialystok.ap.gov.pl/bit/50lat/grodzka_droh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5"/>
          <p:cNvSpPr/>
          <p:nvPr/>
        </p:nvSpPr>
        <p:spPr>
          <a:xfrm>
            <a:off x="6589800" y="1484280"/>
            <a:ext cx="197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umariusz księgi sądowej ziemskiej drohickiej Sądu Ziemskiego Drohickiego. Tekst w księdze w językach: łacińskim, polski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ierwsza wolna elekcja 157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6620040" cy="3867120"/>
          </a:xfrm>
          <a:prstGeom prst="rect">
            <a:avLst/>
          </a:prstGeom>
          <a:ln w="0">
            <a:noFill/>
          </a:ln>
        </p:spPr>
      </p:pic>
      <p:sp>
        <p:nvSpPr>
          <p:cNvPr id="139" name="Prostokąt 2"/>
          <p:cNvSpPr/>
          <p:nvPr/>
        </p:nvSpPr>
        <p:spPr>
          <a:xfrm>
            <a:off x="1928160" y="5589720"/>
            <a:ext cx="57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: http://historia.pgi.pl/matejko2.php, dostęp 3.6.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Grzegorz Szymanowski</cp:lastModifiedBy>
  <dcterms:modified xsi:type="dcterms:W3CDTF">2013-06-13T16:46:39Z</dcterms:modified>
  <cp:revision>19</cp:revision>
  <dc:subject/>
  <dc:title>Slajd 1</dc:title>
</cp:coreProperties>
</file>