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B334-1C5D-44A2-9D4B-EA3BE95011F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4BF8-304E-4ACD-96F3-F605B599243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E46C-4DB1-4B54-A55C-59208FAE57C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FB3C-3EF4-4FCF-8F50-4AA15E617DE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6EF-668B-4ACB-B8CD-142972CE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4CC-84DC-4819-AD81-30D22795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A80-3AF5-4933-B39A-E1D5C157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A37-3D73-454D-9E94-BEF696A7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1337-317C-41E5-B693-BB185479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6DAB-DD26-4C12-BA50-ED845B40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185E-2CFA-4A28-B474-5B5207BF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AD8C-5873-4704-B2EF-C01BF1E5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1CF7-DC8E-47D2-84F9-5FF82E99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9F51-5C6F-416E-95BF-63116009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D06D-BADA-479E-89A3-19C8E3C9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4BA-668B-4800-80DD-B7F52616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BC32-239D-4021-9FD4-7FA3B1D0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92D6-BF36-46BE-AE34-E5918ED3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9B27-1043-4B11-9888-4290AE2F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F33E-D88F-4C60-9170-F6AF7C84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4FD3-F678-4B27-BA87-834B4354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392-E3FC-40A2-959E-01FDF580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D83-7DAE-4749-8506-8BD8E515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727-53D8-43F6-882E-CD50B178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BDD4-514E-45C4-B72A-62FB0167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755-E2CC-409D-9E8A-34925255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8A2-90F1-4189-8976-EFC1CB1A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A44-CB00-496A-AF81-54D5F91D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15FB-9664-4504-A209-D591EE48B95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7BD2-8935-4392-81C8-38B56162913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upload.wikimedia.org/wikipedia/commons/thumb/0/0c/Jean-Pierre_Norblin_de_La_Gourdaine,_Sejmik_w_ko&#347;ciele_(1785)_-_02.png/266px-Jean-Pierre_Norblin_de_La_Gourdaine,_Sejmik_w_ko&#347;ciele_(1785)_-_02.png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histmag.org/Historyczny-przeglad-prasy-3-9-pazdziernika-2011-5969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histmag.org/Historyczny-przeglad-prasy-3-9-pazdziernika-2011-5969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pl.wikipedia.org/wiki/Plik:Polish_Sejm_under_the_reign_of_Sigismund_III_Vasa.JPG" TargetMode="External"/><Relationship Id="rId3" Type="http://schemas.openxmlformats.org/officeDocument/2006/relationships/hyperlink" Target="http://pl.wikipedia.org/wiki/Plik:Polish_Sejm_under_the_reign_of_Sigismund_III_Vasa.JPG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Polish_Sejm_under_the_reign_of_Sigismund_III_Vasa.JP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12880" y="2276280"/>
            <a:ext cx="381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Polski parlamentaryzm w Rzeczypospolitej Obojga Narodów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468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upload.wikimedia.org/wikipedia/commons/5/5b/Szlachta_Herby.jpg"/>
          <p:cNvPicPr/>
          <p:nvPr/>
        </p:nvPicPr>
        <p:blipFill>
          <a:blip r:embed="rId1"/>
          <a:stretch/>
        </p:blipFill>
        <p:spPr>
          <a:xfrm>
            <a:off x="684360" y="549360"/>
            <a:ext cx="46288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Elekcja w XVII 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6056280" cy="4176720"/>
          </a:xfrm>
          <a:prstGeom prst="rect">
            <a:avLst/>
          </a:prstGeom>
          <a:ln w="0">
            <a:noFill/>
          </a:ln>
        </p:spPr>
      </p:pic>
      <p:sp>
        <p:nvSpPr>
          <p:cNvPr id="143" name="Prostokąt 2"/>
          <p:cNvSpPr/>
          <p:nvPr/>
        </p:nvSpPr>
        <p:spPr>
          <a:xfrm>
            <a:off x="6732720" y="1413000"/>
            <a:ext cx="241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muzhp.pl/Kalendarz/web2/7%20wrzesnia.jpg, dostęp 2.0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statnia elekcja, układ pola elekcyj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484200" y="1413000"/>
            <a:ext cx="5873760" cy="4421160"/>
          </a:xfrm>
          <a:prstGeom prst="rect">
            <a:avLst/>
          </a:prstGeom>
          <a:ln w="0">
            <a:noFill/>
          </a:ln>
        </p:spPr>
      </p:pic>
      <p:sp>
        <p:nvSpPr>
          <p:cNvPr id="148" name="Prostokąt 3"/>
          <p:cNvSpPr/>
          <p:nvPr/>
        </p:nvSpPr>
        <p:spPr>
          <a:xfrm>
            <a:off x="6357960" y="4292640"/>
            <a:ext cx="26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muzhp.pl/artykuly/676/elekcje-krolow-w-polsce-przedrozbiorowej, dostęp 6.0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70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niec epoki wolnych elekcji – zniesione przez Konstytucję 3 M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611280" y="2165400"/>
            <a:ext cx="5383080" cy="3451320"/>
          </a:xfrm>
          <a:prstGeom prst="rect">
            <a:avLst/>
          </a:prstGeom>
          <a:ln w="0">
            <a:noFill/>
          </a:ln>
        </p:spPr>
      </p:pic>
      <p:sp>
        <p:nvSpPr>
          <p:cNvPr id="152" name="Prostokąt 2"/>
          <p:cNvSpPr/>
          <p:nvPr/>
        </p:nvSpPr>
        <p:spPr>
          <a:xfrm>
            <a:off x="6516720" y="3284640"/>
            <a:ext cx="23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polonistika.upol.cz/fileadmin/ksl/polonistika/studium/materialy/moduly/konstytucja.jpg, dostep 2.0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3960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Wręcz przeciwnie, utrwaliła. Zlikwidowała jej wynaturzenia. Miała jednak wadę – zmniejszyła dostęp uboższej szlachty do sprawowania władz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811320" y="2130120"/>
            <a:ext cx="4646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Konstytucja 3 maja zlikwidowała demokrację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449280" y="581040"/>
            <a:ext cx="33624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9280" y="35856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Wiec w czasach Kazimierza Wielkieg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905040" y="1700280"/>
            <a:ext cx="626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ejmik w kościele – rysunek z XVIII 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571500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2"/>
          <p:cNvSpPr/>
          <p:nvPr/>
        </p:nvSpPr>
        <p:spPr>
          <a:xfrm>
            <a:off x="6523200" y="4194000"/>
            <a:ext cx="241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 http://upload.wikimedia.org/wikipedia/commons/thumb/0/0c/Jean-Pierre_Norblin_de_La_Gourdaine,_Sejmik_w_ko%C5%9Bciele_(1785)_-_02.png/266px-Jean-Pierre_Norblin_de_La_Gourdaine,_Sejmik_w_ko%C5%9Bciele_(1785)_-_02.png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, dostęp 8.06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Sejmik w kościele – głosowa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590400" y="1614600"/>
            <a:ext cx="5715000" cy="3628800"/>
          </a:xfrm>
          <a:prstGeom prst="rect">
            <a:avLst/>
          </a:prstGeom>
          <a:ln w="0">
            <a:noFill/>
          </a:ln>
        </p:spPr>
      </p:pic>
      <p:sp>
        <p:nvSpPr>
          <p:cNvPr id="110" name="Prostokąt 4"/>
          <p:cNvSpPr/>
          <p:nvPr/>
        </p:nvSpPr>
        <p:spPr>
          <a:xfrm>
            <a:off x="504720" y="5222880"/>
            <a:ext cx="261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 http://histmag.org/Historyczny-przeglad-prasy-3-9-pazdziernika-2011-5969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, dostęp 8.06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Rzeczpospolita – pochodzenie pojęc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1714680" y="1614600"/>
            <a:ext cx="5715000" cy="3628800"/>
          </a:xfrm>
          <a:prstGeom prst="rect">
            <a:avLst/>
          </a:prstGeom>
          <a:ln w="0">
            <a:noFill/>
          </a:ln>
        </p:spPr>
      </p:pic>
      <p:sp>
        <p:nvSpPr>
          <p:cNvPr id="115" name="Prostokąt 4"/>
          <p:cNvSpPr/>
          <p:nvPr/>
        </p:nvSpPr>
        <p:spPr>
          <a:xfrm>
            <a:off x="2195640" y="4919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stmag.org/Historyczny-przeglad-prasy-3-9-pazdziernika-2011-596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ejm walny – wspólne posiedzenie króla, senatu i izby poselski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601560" y="1573200"/>
            <a:ext cx="5400720" cy="4194360"/>
          </a:xfrm>
          <a:prstGeom prst="rect">
            <a:avLst/>
          </a:prstGeom>
          <a:ln w="0">
            <a:noFill/>
          </a:ln>
        </p:spPr>
      </p:pic>
      <p:sp>
        <p:nvSpPr>
          <p:cNvPr id="121" name="Prostokąt 6"/>
          <p:cNvSpPr/>
          <p:nvPr/>
        </p:nvSpPr>
        <p:spPr>
          <a:xfrm>
            <a:off x="6443640" y="155736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l.wikipedia.org/wiki/Plik:Polish_Sejm_under_the_reign_of_Sigismund_III_Vasa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dostęp 1.0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obieństwa – parlament brytyjski w okresie Stuart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6"/>
          <p:cNvSpPr/>
          <p:nvPr/>
        </p:nvSpPr>
        <p:spPr>
          <a:xfrm>
            <a:off x="3959280" y="3478320"/>
            <a:ext cx="24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news.richarddenning.co.uk/wp-content/uploads/2011/07/parliament_assembled_at_westmi_hi.jpg, dostęp 2.06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60156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326880" y="1413000"/>
            <a:ext cx="3453120" cy="419724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1"/>
          <p:cNvSpPr/>
          <p:nvPr/>
        </p:nvSpPr>
        <p:spPr>
          <a:xfrm>
            <a:off x="3959280" y="1557360"/>
            <a:ext cx="28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obny charakter, choć z rozdzielonymi obradami stanów miały parlament duński i szwedzki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Riksens ständ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emokracja w sądownictw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52520" y="1484280"/>
            <a:ext cx="6137280" cy="40323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4"/>
          <p:cNvSpPr/>
          <p:nvPr/>
        </p:nvSpPr>
        <p:spPr>
          <a:xfrm>
            <a:off x="6589800" y="4076640"/>
            <a:ext cx="25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ialystok.ap.gov.pl/bit/50lat/grodzka_droh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rostokąt 5"/>
          <p:cNvSpPr/>
          <p:nvPr/>
        </p:nvSpPr>
        <p:spPr>
          <a:xfrm>
            <a:off x="6589800" y="1484280"/>
            <a:ext cx="197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umariusz księgi sądowej ziemskiej drohickiej Sądu Ziemskiego Drohickiego. Tekst w księdze w językach: łacińskim, polski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ierwsza wolna elekcja 157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6620040" cy="3867120"/>
          </a:xfrm>
          <a:prstGeom prst="rect">
            <a:avLst/>
          </a:prstGeom>
          <a:ln w="0">
            <a:noFill/>
          </a:ln>
        </p:spPr>
      </p:pic>
      <p:sp>
        <p:nvSpPr>
          <p:cNvPr id="139" name="Prostokąt 2"/>
          <p:cNvSpPr/>
          <p:nvPr/>
        </p:nvSpPr>
        <p:spPr>
          <a:xfrm>
            <a:off x="1928160" y="5589720"/>
            <a:ext cx="57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historia.pgi.pl/matejko2.php, dostęp 3.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13T16:46:39Z</dcterms:modified>
  <cp:revision>19</cp:revision>
  <dc:subject/>
  <dc:title>Slajd 1</dc:title>
</cp:coreProperties>
</file>