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F8C0-C6F9-4CA3-BC33-5043F9B6C07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4E65-207C-4351-88F2-3866442859D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297B-A155-4D1F-A18A-D16BBBC1DBA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419E-2DAB-46FE-9C43-AF31074D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AC8-F67F-4BE3-B049-F18C43A2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9B9-477A-4993-BFAC-AEA97D40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E2E5-A609-432B-96B8-5C27179B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FC5D-1931-40A4-B4B7-DC10EA8E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F4F5-4682-40D2-9330-61C42DB7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B874-0B61-4A03-BEF2-ECF78E62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07DF-BFFF-4BAC-913B-D56A1FA2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4DEE-2E0F-4CA6-A4AB-C6159069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A3C0-9D3A-4D4B-A02C-B9C69C40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CE23-79C7-42EC-A186-5BA5893C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1C1-2AB5-45DB-93ED-DE6ECC5D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693D-F3A3-4593-A64D-8852DDC8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FD79-E1BA-413D-AA8D-5064C7A9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47E1-6BBD-4931-AD56-3AC97DA5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6721-780F-4E70-B73F-68E046BB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B72B-BE4E-4D07-9284-7DA7AA64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F3E5B-5AC1-4535-B0C5-CB49699D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36ADD-D929-4B5B-9045-0FD51E8C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18B04-7215-4B76-B0EB-90334AAC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1CA7E-664C-444E-A301-B2AD07FF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27D3F-0DC0-4F7F-BFBF-8EAF90C9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A46-2508-4B31-9B28-B2DAE426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66DE-4DCE-4FCD-943C-FA7A1BB8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0516D-CE78-484A-9D4B-A93867F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9D1C0-EB30-483E-8E69-DDAB26B6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53466-114C-4760-AE3A-4ABC5CB6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26F2C-42E5-43CB-B224-E5C557C7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12506-7490-4743-9840-1FC779DB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269A6-8B02-4770-A673-E4FECB56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EBD55-EFEB-4A64-9454-1F348DA0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52075-45DF-45DF-B349-36D2B2B6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A9774-B263-4FAB-8AE0-3FDA6DE2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35D-6BC8-4B55-9FA0-E93E60BF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C8C0B-889E-4C2C-91A2-5FD844C1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C9FAC-840F-4621-9BAC-4A8E00E1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01980-C7FF-43B6-AFE1-B5FEB7A0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276B2-BF9C-4F0F-A720-AC4574E0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F9B73-59FE-4939-9114-4C494CF9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E12A6-A714-4358-B43E-B62BCB01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550B8-B1DA-4896-90C4-28EB5DF3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8A550-CA57-4751-9F2B-CC1260A4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F9179-A83F-43B1-B335-E373E281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2782B-4CFE-410C-88E8-FC945BA9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4FD-D90F-4680-9731-6A1D50C1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3DC31-54EE-4871-A02C-69734D27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427EF-57C5-4640-9DBF-7F4FA7EA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D3AB6-94E8-4670-90C0-6252CF08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7AE3A-EE6F-4E30-B0A9-8F46D049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A842F-AA91-4A47-A84F-7137A2FA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6A465-F937-4165-B874-70C65F27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4306C-4AB1-466E-A00F-B96261BF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DA20D-889C-4664-8794-B7F55A28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DF5F3-5EDA-46D8-A47E-2D5AB0E4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CE310-332E-40F2-9CDB-AED9B5BF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84F-B814-46D7-B35A-3BC3C7C6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D644F-273E-4ACB-877B-73470BFA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30F9-E343-4AB5-A0C9-DFDEEAEF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227C-7E4F-4029-9C28-BE28BF9E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AFB-5761-4C34-87F8-6A501FC3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49E5-4A7B-4069-B2C4-207761A9100D}" type="slidenum">
              <a:rPr b="0" lang="pl-P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3" descr=""/>
          <p:cNvPicPr/>
          <p:nvPr/>
        </p:nvPicPr>
        <p:blipFill>
          <a:blip r:embed="rId3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"/>
          <p:cNvPicPr/>
          <p:nvPr/>
        </p:nvPicPr>
        <p:blipFill>
          <a:blip r:embed="rId4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Prostokąt 9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7" name="Prostokąt 9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Łącznik prostoliniowy 10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5400-C0EB-4C28-88D6-2FFB511461B9}" type="slidenum">
              <a:rPr b="0" lang="pl-PL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4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4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3CB5-831B-4E2E-82AC-7B058E7A936C}" type="slidenum">
              <a:rPr b="0" lang="pl-P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rostokąt 9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10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E5EF-DCF3-4A02-B4D7-08D5C24433A2}" type="slidenum">
              <a:rPr b="0" lang="pl-PL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Prostokąt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83" name="Prostokąt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5" name="Picture 3" descr=""/>
          <p:cNvPicPr/>
          <p:nvPr/>
        </p:nvPicPr>
        <p:blipFill>
          <a:blip r:embed="rId3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1689-C44B-477F-B31D-1CBABB4DE04E}" type="slidenum">
              <a:rPr b="0" lang="pl-PL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sejm.gov.pl/" TargetMode="External"/><Relationship Id="rId3" Type="http://schemas.openxmlformats.org/officeDocument/2006/relationships/hyperlink" Target="http://www.google.pl/url?sa=i&amp;rct=j&amp;q=&amp;esrc=s&amp;source=images&amp;cd=&amp;cad=rja&amp;docid=eKK93ron-T-HZM&amp;tbnid=4cXrfgx1W0JcjM:&amp;ved=0CAQQjB0&amp;url=http%3A%2F%2Fszlachtazt.blogspot.com%2Fp%2Fszlachta.html&amp;ei=v2qiUeTnAYKZPb35gbgF&amp;bvm=bv.47008514,d.ZWU&amp;psig=AFQjCNHx1WKqMxUbD2dPzz6ZsXnrLm_Y-Q&amp;ust=1369684995547320" TargetMode="Externa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ytuł 1" descr=""/>
          <p:cNvPicPr/>
          <p:nvPr/>
        </p:nvPicPr>
        <p:blipFill>
          <a:blip r:embed="rId1"/>
          <a:stretch/>
        </p:blipFill>
        <p:spPr>
          <a:xfrm>
            <a:off x="828720" y="1481040"/>
            <a:ext cx="7724880" cy="2255760"/>
          </a:xfrm>
          <a:prstGeom prst="rect">
            <a:avLst/>
          </a:prstGeom>
          <a:ln w="0">
            <a:noFill/>
          </a:ln>
        </p:spPr>
      </p:pic>
      <p:sp>
        <p:nvSpPr>
          <p:cNvPr id="23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Calibri"/>
              </a:rPr>
              <a:t>Izabella Lankos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ytuł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Book Antiqua"/>
              </a:rPr>
              <a:t>To system ustrojowy Rzeczypospolitej gwarantujący stanowi szlacheckiemu prawo decydowania w sprawach państwa, zarówno w polityce zagranicznej, jak i wewnętrznej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Book Antiqua"/>
              </a:rPr>
              <a:t>Wykształciła się w XV i XVI wieku, dzięki uzyskiwanym przez szlachtę przywilejom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Book Antiqua"/>
              </a:rPr>
              <a:t>Jej ukoronowaniem była konstytucja </a:t>
            </a:r>
            <a:r>
              <a:rPr b="1" i="1" lang="pl-PL" sz="2400" spc="-1" strike="noStrike">
                <a:solidFill>
                  <a:srgbClr val="000000"/>
                </a:solidFill>
                <a:latin typeface="Book Antiqua"/>
              </a:rPr>
              <a:t>nihil novi </a:t>
            </a:r>
            <a:r>
              <a:rPr b="0" i="1" lang="pl-PL" sz="2400" spc="-1" strike="noStrike">
                <a:solidFill>
                  <a:srgbClr val="000000"/>
                </a:solidFill>
                <a:latin typeface="Book Antiqua"/>
              </a:rPr>
              <a:t>w 1505 roku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Book Antiqua"/>
              </a:rPr>
              <a:t>Ustrój demokracji szlacheckiej utrzymał się w Polsce do rozbiorów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9" descr="obraz2"/>
          <p:cNvPicPr/>
          <p:nvPr/>
        </p:nvPicPr>
        <p:blipFill>
          <a:blip r:embed="rId1"/>
          <a:stretch/>
        </p:blipFill>
        <p:spPr>
          <a:xfrm>
            <a:off x="900000" y="836640"/>
            <a:ext cx="68407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obraz1"/>
          <p:cNvPicPr/>
          <p:nvPr/>
        </p:nvPicPr>
        <p:blipFill>
          <a:blip r:embed="rId1"/>
          <a:stretch/>
        </p:blipFill>
        <p:spPr>
          <a:xfrm>
            <a:off x="755640" y="404640"/>
            <a:ext cx="6985080" cy="5270760"/>
          </a:xfrm>
          <a:prstGeom prst="rect">
            <a:avLst/>
          </a:prstGeom>
          <a:ln w="0">
            <a:noFill/>
          </a:ln>
        </p:spPr>
      </p:pic>
      <p:sp>
        <p:nvSpPr>
          <p:cNvPr id="241" name="Prostokąt 2"/>
          <p:cNvSpPr/>
          <p:nvPr/>
        </p:nvSpPr>
        <p:spPr>
          <a:xfrm>
            <a:off x="2212200" y="587700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edzenie sejmu w 1622 r., (miedziory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8"/>
          <p:cNvGrpSpPr/>
          <p:nvPr/>
        </p:nvGrpSpPr>
        <p:grpSpPr>
          <a:xfrm>
            <a:off x="2195640" y="1773360"/>
            <a:ext cx="4464000" cy="1008000"/>
            <a:chOff x="2195640" y="1773360"/>
            <a:chExt cx="4464000" cy="1008000"/>
          </a:xfrm>
        </p:grpSpPr>
        <p:sp>
          <p:nvSpPr>
            <p:cNvPr id="243" name="AutoShape 6"/>
            <p:cNvSpPr/>
            <p:nvPr/>
          </p:nvSpPr>
          <p:spPr>
            <a:xfrm>
              <a:off x="2195640" y="1773360"/>
              <a:ext cx="4464000" cy="100800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2986200" y="1916280"/>
              <a:ext cx="3094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4000" spc="-1" strike="noStrike">
                  <a:solidFill>
                    <a:srgbClr val="000000"/>
                  </a:solidFill>
                  <a:latin typeface="Tahoma"/>
                </a:rPr>
                <a:t>Sarmatyzm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AutoShape 17"/>
          <p:cNvSpPr/>
          <p:nvPr/>
        </p:nvSpPr>
        <p:spPr>
          <a:xfrm>
            <a:off x="2411280" y="2787480"/>
            <a:ext cx="792360" cy="1224000"/>
          </a:xfrm>
          <a:prstGeom prst="downArrow">
            <a:avLst>
              <a:gd name="adj1" fmla="val 50000"/>
              <a:gd name="adj2" fmla="val 3861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AutoShape 17"/>
          <p:cNvSpPr/>
          <p:nvPr/>
        </p:nvSpPr>
        <p:spPr>
          <a:xfrm>
            <a:off x="5076720" y="2789280"/>
            <a:ext cx="792360" cy="1224000"/>
          </a:xfrm>
          <a:prstGeom prst="downArrow">
            <a:avLst>
              <a:gd name="adj1" fmla="val 50000"/>
              <a:gd name="adj2" fmla="val 3861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Group 12"/>
          <p:cNvGrpSpPr/>
          <p:nvPr/>
        </p:nvGrpSpPr>
        <p:grpSpPr>
          <a:xfrm>
            <a:off x="611280" y="4013280"/>
            <a:ext cx="3456000" cy="1071360"/>
            <a:chOff x="611280" y="4013280"/>
            <a:chExt cx="3456000" cy="1071360"/>
          </a:xfrm>
        </p:grpSpPr>
        <p:sp>
          <p:nvSpPr>
            <p:cNvPr id="248" name="AutoShape 10"/>
            <p:cNvSpPr/>
            <p:nvPr/>
          </p:nvSpPr>
          <p:spPr>
            <a:xfrm>
              <a:off x="611280" y="4013280"/>
              <a:ext cx="3456000" cy="1071360"/>
            </a:xfrm>
            <a:prstGeom prst="flowChartDocumen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 Box 11"/>
            <p:cNvSpPr/>
            <p:nvPr/>
          </p:nvSpPr>
          <p:spPr>
            <a:xfrm>
              <a:off x="900000" y="4266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000000"/>
                  </a:solidFill>
                  <a:latin typeface="Tahoma"/>
                </a:rPr>
                <a:t>Styl życia szlachty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AutoShape 14"/>
          <p:cNvSpPr/>
          <p:nvPr/>
        </p:nvSpPr>
        <p:spPr>
          <a:xfrm>
            <a:off x="4533840" y="4013280"/>
            <a:ext cx="3456000" cy="1071360"/>
          </a:xfrm>
          <a:prstGeom prst="flowChart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Ideologia szlachec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ytuł 1" descr=""/>
          <p:cNvPicPr/>
          <p:nvPr/>
        </p:nvPicPr>
        <p:blipFill>
          <a:blip r:embed="rId1"/>
          <a:stretch/>
        </p:blipFill>
        <p:spPr>
          <a:xfrm>
            <a:off x="244440" y="324000"/>
            <a:ext cx="5626080" cy="1395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250560" y="1609200"/>
            <a:ext cx="51130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styl życia szlachty w XVII wieku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rozbudowana ideologia szlachecka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poczucie „przedmurza chrześcijaństwa” przez polską szlachtę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obyczaj, światopogląd i rodowód jaki przypisywała sobie szlachta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połączenie tradycji Wschodu i Zachodu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250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rebuchet MS"/>
              </a:rPr>
              <a:t>nurt ziemiański w Baroku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3373200" cy="3992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3"/>
          <a:stretch/>
        </p:blipFill>
        <p:spPr>
          <a:xfrm>
            <a:off x="5724360" y="3789360"/>
            <a:ext cx="2178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ytuł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6840" y="1609200"/>
            <a:ext cx="59151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ąsy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yprostowana postura ciała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otyły mężczyzna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pasy, żupany i futra z gronostajów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 ubiorze i wizerunkach szlachciców dominuje kolor żółty, pomarańczow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isiory i naszyjniki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1624"/>
              </a:spcBef>
              <a:buClr>
                <a:srgbClr val="b13f9a"/>
              </a:buClr>
              <a:buSzPct val="73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dzieci wyglądały jak dorośl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222876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ytuł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6840" y="1609200"/>
            <a:ext cx="519444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www.sejm.gov.p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 u="sng">
                <a:solidFill>
                  <a:srgbClr val="ffde66"/>
                </a:solidFill>
                <a:uFillTx/>
                <a:latin typeface="Trebuchet MS"/>
                <a:hlinkClick r:id="rId3"/>
              </a:rPr>
              <a:t>szlachtazt.blogspot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kultura.wp.pl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rebuchet MS"/>
              </a:rPr>
              <a:t>www.fronda.gliwice.pl 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4"/>
          <a:stretch/>
        </p:blipFill>
        <p:spPr>
          <a:xfrm>
            <a:off x="5148360" y="333360"/>
            <a:ext cx="3724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ytuł 1" descr=""/>
          <p:cNvPicPr/>
          <p:nvPr/>
        </p:nvPicPr>
        <p:blipFill>
          <a:blip r:embed="rId1"/>
          <a:stretch/>
        </p:blipFill>
        <p:spPr>
          <a:xfrm>
            <a:off x="0" y="1914480"/>
            <a:ext cx="9472680" cy="2255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tos</cp:lastModifiedBy>
  <dcterms:modified xsi:type="dcterms:W3CDTF">2013-05-26T20:10:39Z</dcterms:modified>
  <cp:revision>19</cp:revision>
  <dc:subject>szablon prezentacji KPW</dc:subject>
  <dc:title>Zrównoważony rozwój</dc:title>
</cp:coreProperties>
</file>