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9B3-E001-4F15-819E-27FEFF82AD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02A-F9BE-4F48-BD5F-DB7B436052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F6E-CDC3-4FF9-88E4-2577FE2012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A78-B337-4820-AC7F-0F30EFFC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6BB-5F2E-4B1C-A26F-3069B26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B45-2AC7-47E6-ACEA-1DACF907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2CE-4A35-43D4-BCF7-A0856AB6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884-BF8C-4CE8-ABB5-2D9736CE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179-1001-4193-8456-038BA73B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3AC-53FF-4E7A-AAF7-E7F720A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CD5-319C-4D32-BCA2-9C3C768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DE3E-E824-4597-AE82-E7EA70F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2BA-DD44-47D2-9735-2AC268C2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C82-708E-47D7-B7B7-BF58A6A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121-0757-4906-A590-F1E6DD29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6CB-D3CC-4EBA-A360-88F759A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A9B-D47D-45AF-8963-B10E5BA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7F4-B771-4FA8-A9AE-76C09671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9D6-C0F3-4761-9791-5DC9894B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FFA-46DD-4116-8F2A-4C1BBC7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E951-9A02-4C93-8D28-EE31185B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FF58-E41B-4014-B414-3AC0688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4B47-A62F-484E-BE17-4332832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8C79-97FC-45A5-A5B7-700D238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0C35-26DB-4B50-96FA-EE53C173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C4D-0BF0-40A7-9150-7574F4B6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9D28-AD3A-4B63-B6F3-32BAC31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7336-1E62-4E3B-8196-FBDE2B9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7B80-DA40-4DDB-87DD-5A8889D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7FF2-1D8E-4F14-A6F1-DDEA6C2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CF3C-C2C4-471A-9822-16E7B65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3CA2-C32D-4BA0-83BC-2440217B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9782-2930-4550-9A8F-61A90F0A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B60D-A0A7-4F0E-B557-03286AB2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8306-8032-4C82-8523-D0CD8C94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30B2-5BF1-466A-8B67-98559E03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4E4-320D-406F-B554-C659E07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2D77-2DFC-4ABC-BA54-2518A74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63E0-1976-4458-B396-A5A06F0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A479-FCA1-421A-B4A4-937D1BD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A840-AE23-4778-88EC-14EEF899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3E1F-A5E9-4E18-8AB4-B358710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FC03-8363-4B76-87CA-C02BE38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39FA-D5EC-4239-B3FA-49F04A3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E97D-EB66-485B-A3BF-41F8391E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3FDF-E5C3-4D88-8936-93FFE974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601B-5EE5-45AA-935C-59C6D649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BC7-BF93-4540-927C-3D5CF3A6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52DA-6598-4153-B630-B757DA7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C2F1-26D0-4365-93E3-7237D47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DFA9-079C-43E9-AB13-29807E7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07D5-8270-4A71-848D-C8567F48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98A6-31AC-4A2E-B7B8-66FC0EBB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B566-D070-4712-9AD4-0C8F040E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6808-8CB8-4371-BE0A-D0A1543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3782-E39B-4EF6-B0FF-05612BBB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DA31-54CF-4714-BB98-1741229F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378E-A436-4DC8-8F73-23D723ED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660-8914-4F50-ACFB-11FB5D39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89F8-EE71-4A0B-82CF-4D468FA4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36F-B547-42B7-BF00-100EB22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2E7-F997-4B68-9851-BA7F8F6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3E8-8C97-482E-823F-9B34CCE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1291-03A3-45B1-918B-C6F633E5D065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Prostokąt 9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7" name="Prostokąt 9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Łącznik prostoliniowy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4295-8249-4143-B428-6DAE8362982B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4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200-7E89-40DD-8B9F-1F69028FF0BF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BB34-88A0-485D-A56A-52770D8F11CE}" type="slidenum">
              <a:rPr b="0" lang="pl-P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69C-B43A-4CE6-9B8C-897D112F5C01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ejm.gov.pl/" TargetMode="External"/><Relationship Id="rId3" Type="http://schemas.openxmlformats.org/officeDocument/2006/relationships/hyperlink" Target="http://www.google.pl/url?sa=i&amp;rct=j&amp;q=&amp;esrc=s&amp;source=images&amp;cd=&amp;cad=rja&amp;docid=eKK93ron-T-HZM&amp;tbnid=4cXrfgx1W0JcjM:&amp;ved=0CAQQjB0&amp;url=http%3A%2F%2Fszlachtazt.blogspot.com%2Fp%2Fszlachta.html&amp;ei=v2qiUeTnAYKZPb35gbgF&amp;bvm=bv.47008514,d.ZWU&amp;psig=AFQjCNHx1WKqMxUbD2dPzz6ZsXnrLm_Y-Q&amp;ust=1369684995547320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ytuł 1" descr=""/>
          <p:cNvPicPr/>
          <p:nvPr/>
        </p:nvPicPr>
        <p:blipFill>
          <a:blip r:embed="rId1"/>
          <a:stretch/>
        </p:blipFill>
        <p:spPr>
          <a:xfrm>
            <a:off x="828720" y="1481040"/>
            <a:ext cx="7724880" cy="2255760"/>
          </a:xfrm>
          <a:prstGeom prst="rect">
            <a:avLst/>
          </a:prstGeom>
          <a:ln w="0">
            <a:noFill/>
          </a:ln>
        </p:spPr>
      </p:pic>
      <p:sp>
        <p:nvSpPr>
          <p:cNvPr id="23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Izabella Lanko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To system ustrojowy Rzeczypospolitej gwarantujący stanowi szlacheckiemu prawo decydowania w sprawach państwa, zarówno w polityce zagranicznej, jak i wewnętrznej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ykształciła się w XV i XVI wieku, dzięki uzyskiwanym przez szlachtę przywilejo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Jej ukoronowaniem była konstytucja </a:t>
            </a:r>
            <a:r>
              <a:rPr b="1" i="1" lang="pl-PL" sz="2400" spc="-1" strike="noStrike">
                <a:solidFill>
                  <a:srgbClr val="000000"/>
                </a:solidFill>
                <a:latin typeface="Book Antiqua"/>
              </a:rPr>
              <a:t>nihil novi </a:t>
            </a: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 1505 rok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Ustrój demokracji szlacheckiej utrzymał się w Polsce do rozbioró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obraz2"/>
          <p:cNvPicPr/>
          <p:nvPr/>
        </p:nvPicPr>
        <p:blipFill>
          <a:blip r:embed="rId1"/>
          <a:stretch/>
        </p:blipFill>
        <p:spPr>
          <a:xfrm>
            <a:off x="900000" y="836640"/>
            <a:ext cx="68407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obraz1"/>
          <p:cNvPicPr/>
          <p:nvPr/>
        </p:nvPicPr>
        <p:blipFill>
          <a:blip r:embed="rId1"/>
          <a:stretch/>
        </p:blipFill>
        <p:spPr>
          <a:xfrm>
            <a:off x="755640" y="404640"/>
            <a:ext cx="6985080" cy="527076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2"/>
          <p:cNvSpPr/>
          <p:nvPr/>
        </p:nvSpPr>
        <p:spPr>
          <a:xfrm>
            <a:off x="2212200" y="587700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edzenie sejmu w 1622 r., (miedziory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195640" y="1773360"/>
            <a:ext cx="4464000" cy="1008000"/>
            <a:chOff x="2195640" y="1773360"/>
            <a:chExt cx="4464000" cy="1008000"/>
          </a:xfrm>
        </p:grpSpPr>
        <p:sp>
          <p:nvSpPr>
            <p:cNvPr id="243" name="AutoShape 6"/>
            <p:cNvSpPr/>
            <p:nvPr/>
          </p:nvSpPr>
          <p:spPr>
            <a:xfrm>
              <a:off x="2195640" y="1773360"/>
              <a:ext cx="4464000" cy="100800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2986200" y="1916280"/>
              <a:ext cx="309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ahoma"/>
                </a:rPr>
                <a:t>Sarmatyzm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AutoShape 17"/>
          <p:cNvSpPr/>
          <p:nvPr/>
        </p:nvSpPr>
        <p:spPr>
          <a:xfrm>
            <a:off x="2411280" y="27874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076720" y="27892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611280" y="4013280"/>
            <a:ext cx="3456000" cy="1071360"/>
            <a:chOff x="611280" y="4013280"/>
            <a:chExt cx="3456000" cy="1071360"/>
          </a:xfrm>
        </p:grpSpPr>
        <p:sp>
          <p:nvSpPr>
            <p:cNvPr id="248" name="AutoShape 10"/>
            <p:cNvSpPr/>
            <p:nvPr/>
          </p:nvSpPr>
          <p:spPr>
            <a:xfrm>
              <a:off x="611280" y="4013280"/>
              <a:ext cx="3456000" cy="107136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900000" y="4266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Styl życia szlach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AutoShape 14"/>
          <p:cNvSpPr/>
          <p:nvPr/>
        </p:nvSpPr>
        <p:spPr>
          <a:xfrm>
            <a:off x="4533840" y="4013280"/>
            <a:ext cx="3456000" cy="10713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ologia szlachec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ytuł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5626080" cy="139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50560" y="1609200"/>
            <a:ext cx="511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yl życia szlachty w XVII wiek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rozbudowana ideologia szlacheck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czucie „przedmurza chrześcijaństwa” przez polską szlachtę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obyczaj, światopogląd i rodowód jaki przypisywała sobie szlacht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łączenie tradycji Wschodu i Zachod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urt ziemiański w Barok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373200" cy="3992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2178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9200"/>
            <a:ext cx="59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ąsy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prostowana postura ciał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otyły mężczyzn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asy, żupany i futra z gronostajów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ubiorze i wizerunkach szlachciców dominuje kolor żółty, pomarańczow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isiory i naszyjniki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dzieci wyglądały jak doroś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228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1609200"/>
            <a:ext cx="5194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sejm.gov.p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szlachtazt.blogspot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kultura.wp.pl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ww.fronda.gliwice.pl 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5148360" y="333360"/>
            <a:ext cx="372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0" y="1914480"/>
            <a:ext cx="9472680" cy="2255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5-26T20:10:39Z</dcterms:modified>
  <cp:revision>19</cp:revision>
  <dc:subject>szablon prezentacji KPW</dc:subject>
  <dc:title>Zrównoważony rozwój</dc:title>
</cp:coreProperties>
</file>