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1763-5CB9-491D-BA6B-0B7EBD9F0CC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AA32-E101-4C5C-97CE-40E0A3A9B7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C55E-0CD8-4C08-9D16-2E52EA49FE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409-5295-45D6-B7F7-B1123E4A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19F-47F2-4DB4-A171-E121CD8E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712-7A63-465D-9753-C456A0E2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DF3-F38A-4BEF-876F-A4AA9A8D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CBF9-36BA-4DA3-8D43-93F1E328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6F74-F214-4339-BBC9-D5A31499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1CF9-38DB-4109-8E09-5AEF1DEB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71AD-0F5E-4A83-A7E7-A9A8D801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DBDE-E305-4F75-872A-D7FB4BE5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A257-D4FA-4F62-9CFA-D5CC4A55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0438-67C2-4FB8-A35D-0E5FA6BF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F2E-E69E-4117-B3D9-35197E75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9B6D-9D41-4230-B2C2-97A169C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9E0C-365B-4186-B7A6-82F7D27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3AFC-F79E-43CE-AF5D-815DC243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BD60-7658-4CEA-8DF2-1ADFE3DE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5E2B-84A1-4C58-A20D-B379AC00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2B4-3B34-4F6E-BCC9-D9E72C8A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308-C6DE-4A40-BFA1-3CC92A74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088-302A-4D3B-824F-6104CBBA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88D-8698-4154-81C3-111BE3DC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0BE-961B-44BE-A28A-5CEBD7C1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0B0-11D0-4CF2-B891-4376CC0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2D8-504B-4FA0-8814-7E05551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F947-4C09-4DB0-B8EB-1BEC2F30609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8BE5-92A3-4F07-9EDF-7B1EE20966C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topia i antyutop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rancis Bacon „Nowa Atlantyd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4"/>
          <p:cNvSpPr/>
          <p:nvPr/>
        </p:nvSpPr>
        <p:spPr>
          <a:xfrm>
            <a:off x="611280" y="1341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rancis Bacon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ngielski filozof, żyjący w latach 1561-162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1632 r. napisał utopijną powieść o mitycznej krainie Bensalem, którą rządzą naukowcy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są wynalazcami (tworzą np. nowe gatunki roślin i zwierząt) i cudotwórcami (np. potrafią latać). Posiedzenia parlamentu są naukowymi debatami nad wynikami eksperyment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 czym mówią utopie renesanso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611280" y="1197000"/>
            <a:ext cx="799308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isują zagubione na dalekich oceanach wyspy szczęśliwe, nie dając swoim współczesnym żadnych wskazówek, jak tam dopłynąć. Utopie mogą wręcz wydawać się oderwanymi od rzeczywistości igraszkami intelektualnym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acki J,. Historia myśli socjologicznej, Wydawnictwo Naukowe PWN, Warszawa 2002, s.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3" descr="Island_near_Fiji.jpg"/>
          <p:cNvPicPr/>
          <p:nvPr/>
        </p:nvPicPr>
        <p:blipFill>
          <a:blip r:embed="rId1"/>
          <a:stretch/>
        </p:blipFill>
        <p:spPr>
          <a:xfrm>
            <a:off x="395280" y="3933720"/>
            <a:ext cx="831852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onathan Swift „Podróże Guliwer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611280" y="134136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Jonathan Swift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isarz irlandzki żyjący w latach 1667-174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726 r. napisał „Podróże Guliwer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łączenie parodii powieści podróżniczej i satyry na naturę ludzką. W książce przedstawił bezlitosną krytykę XVIII-wiecznej Anglii: jej ustroju parlamentarnego polityki, sądownictwa i nauki.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ohater książki, Lemuel Guliwer, w swojej podróży odwiedza m.in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pę Lilliput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ej mieszkańcy mają po 15 cm wzros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robdingna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raj olbrzymów, gdzie bohater staje się m.in. lalką małej dziewczyn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pę Laput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ządzoną przez uczo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lubbdubdrib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krainę zamieszkałą przez jasnowidzów i czarowni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aj Luggnaggów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mieszały przez ludzi skazanych na nieśmierteln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jczyznę Houyhnhnm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pięknych i szlachetnych koni, którym służą Jahusi – odrażający, zdegenerowani ludz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gnacy Krasicki „Mikołaja Doświadczyńskiego przypadki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203640" y="198900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gnacy Krasick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żyjący w latach 1735 – 1801 jeden z głównych przedstawicieli polskiego oświecenia, związany z programem reform Stanisława Augu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 1776 r. opublikował „Mikołaja Doświadczyńskiego przypadki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znawane z pierwszą nowożytną powieść polską. Jej bohater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afia na utopijną wyspę Nip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zie pod wpływe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ędrca Xao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pracy z Nipuanami zmienia swoje poglądy i postępowan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raz 3" descr="Ignacy_Krasicki.jpg"/>
          <p:cNvPicPr/>
          <p:nvPr/>
        </p:nvPicPr>
        <p:blipFill>
          <a:blip r:embed="rId1"/>
          <a:stretch/>
        </p:blipFill>
        <p:spPr>
          <a:xfrm>
            <a:off x="395280" y="1989000"/>
            <a:ext cx="2637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 wyspie Nip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11280" y="1341360"/>
            <a:ext cx="799308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Nie masz u Nipuanów słów wyrażających kłamstwo, kradzież, zdradę, pochlebstwo. Terminów prawnych nie znają. Choroby nie mają szczególnych nazwisk; ale też ani dworaków, ani jurystów, ani doktorów nie masz. (…) W zgromadzeniu naszym nie masz żadnej innej zwierzchności politycznej prócz naturalnej rodziców nad dziećmi. (…) Człowiek jednakowo z drugim człowiekiem rodzący się nie może, a przynajmniej nie powinien by sobie przywłaszczać zwierzchności nad nim;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wszyscy są równ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asicki I., Mikołaja Doświadczyńskiego przypadki, Zakład Narodowy im. Ossolińskich, Wrocław 19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26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Herbert George Wells „Wehikuł czasu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34136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erbert George Well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żyjący w latach 1866-1946 powieściopisarz angielsk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1895 r. napisał powieść fantastyczną „Wehikuł czasu”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órej głównym bohaterem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różnik w Czas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anonimowy naukowiec mieszkający w Richmond. Testując stworzony przez siebie wehikuł czasu, przenosi się do roku 802 701, gdzie spotyka m.in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loj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rasę żyjącą w małych grupach, niepracującą i jedzącą tylko owoce. Odkrywa też, że nieświadomi Elojowie służą jak pokarm dl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orlok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bezwłosych albinosów zamieszkujących podziem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Utopie heroiczne i eskapistycz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611280" y="134136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ocjolog Jerzy Szacki dzieli utopie 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roi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łączą wizję lepszego świata z wezwaniem do działania, które będzie prowadzić do zmiany rzeczywistości tak, by odpowiadała ludzkim potrzebom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skapisty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ozwalają na ucieczkę od trudnej rzeczywistości do idealnego świata marzeń; ich elementem nie jest walka o wprowadzanie zmia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a antyutop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611280" y="1125360"/>
            <a:ext cx="799308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Antyutopia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– utopia negatywna, przedstawiająca – zazwyczaj w formie powieści – społeczeństwo przyszłości jako nadmiernie zorganizowane, rządzone metodami dyktatorskimi, niszczące w człowieku jego indywidualność.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Antyutopie są zwykle polemikami z utopiam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, z ich ideologią i wiarą w świetlaną przyszłość; to, co w utopii jest traktowane jako przejaw idealnej organizacji społeczeństwa, w antyutopii jest przedstawiane jako czynnik ograniczający swobodę jednostki, dominacji nad nią systemu i maszy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yt. za: Sławiński J. (red.), Słownik terminów literackich, Ossolineum, Wrocław 2000, s. 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Literackie przykłady antyutop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3492360" y="2276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ldous Huxley „Nowy wspaniały świat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orge Orwell „Rok 198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raz 3" descr="1984-Big-Brother.jpg"/>
          <p:cNvPicPr/>
          <p:nvPr/>
        </p:nvPicPr>
        <p:blipFill>
          <a:blip r:embed="rId1"/>
          <a:stretch/>
        </p:blipFill>
        <p:spPr>
          <a:xfrm>
            <a:off x="324000" y="1484280"/>
            <a:ext cx="272232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ldous Huxley „Nowy wspaniały świa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4"/>
          <p:cNvSpPr/>
          <p:nvPr/>
        </p:nvSpPr>
        <p:spPr>
          <a:xfrm>
            <a:off x="684360" y="1628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ldous Huxle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 angielski powieściopisarz i eseista, żył w latach 1894-196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owy wspaniały świat” napisał w 1932 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zy hasła Republiki Świata, którą opisuje,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spólność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wyraża się zasadą „każdy jest dla każdego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dentycz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która jest efektem klonowania i przejawia się w sferze upodobań i poglądów, a w niższych klasach społecznych – także wygląd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abilność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wypływa z zachowania identyczności i wspólności, a udaje się to osiągnąć za pomocą nieustającej kontroli i tępienia zachowań nieprzewidzianych normą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1197000"/>
            <a:ext cx="7993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finicja pojęcia „utopia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brane teksty filozoficzne i literackie , w których pojawia się wątek utopii  (Platon, More, Campanella, Bacon, Swift, Krasicki, Well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utopii na heroiczne i eskapistyczn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finicja pojęcia „antyutopia”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ażniejsze powieści antyutopijne („Nowy wspaniały świat” Huxleya i „Rok 1984” Orwell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tywy antyutopijne w filmi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żyją obywatele Republiki Świ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iągnęli powszechną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zczęśliwość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wstają w wyniku sztucznego zapłodnienia i klonowania – od narodzin są poddawani warunkowaniu psychologicznemu i biologicznemu, by jako dorośli być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dealnymi członkami społeczności pozbawionej indywidualizmu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gnień i uczuć wyższych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ą idealnymi pracownikam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nie żądają podwyżek, nie strajkują, nie intryguj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ch ewentualne niepokoje uśmierza soma – narkotyk, na którego używanie są warunkowani od dzieck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eorge Orwell „Rok 1984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4"/>
          <p:cNvSpPr/>
          <p:nvPr/>
        </p:nvSpPr>
        <p:spPr>
          <a:xfrm>
            <a:off x="611280" y="1341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eorge Orwell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właściwie Eric Blair) – angielski pisarz i publicysta, żył w latach 1903 – 1950. Uczestniczył w wojnie domowej w Hiszpanii. W czasie II wojny światowej napisał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„Folwark zwierzęcy” –  powieść alegoryczną i parabolicz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w warstwie dosłownej będącą satyrą na rewolucję rosyjską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1949 r. wydał antyutopijną powieść  „Rok 1984”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w której przedstawił wizję Oceanii – państwa totalitarnego, na czele którego stoi nieomylny i wszechmocny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ki Bra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 państwie Wielkiego B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611280" y="9810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szechobecna inwigilacj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olicja Myśli, donosicielstwo, teleekrany, podsłuch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ngsoc – ustrój oparty na przemocy i nienawi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Tydzień Nienawi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ołeczeństwo hierarchiczn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artia Wewnętrzna – 2 proc. ludności, Partia Zewnętrzna – 13 proc. ludności, prole – 85 proc. ludno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asła Partii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wojna to pokój”, „wolność to niewola”, „ignorancja to siła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aganda sukcesu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Prawd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odlegała mu prasa, rozrywka, oświata i sztuka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Pokoj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jmowało się prowadzeniem wojny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Mił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ilnowało ładu i porządku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Obfit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jmowało się gospodark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owomow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urzędowy język Oceanii, ukształtowany tak, by uniemożliwić formułowanie myśli uznawanych za niewłaściwe (myślozbrod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iągłe zmienianie przeszłości (dwójmyśleni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ntyutopie w fil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4"/>
          <p:cNvSpPr/>
          <p:nvPr/>
        </p:nvSpPr>
        <p:spPr>
          <a:xfrm>
            <a:off x="611280" y="134136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k 1984”, reż. Michael Radford, 1984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dny świat”, reż. Kevin Costner, 1995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atrix”, reż. Andy i Lenny Wachowscy, 1999 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V jak Vendetta”, reż. James McTeigue, 2006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4"/>
          <p:cNvSpPr/>
          <p:nvPr/>
        </p:nvSpPr>
        <p:spPr>
          <a:xfrm>
            <a:off x="250920" y="105264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con F., Nowa Atlantyda, PAX, Warszawa 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ampanella T., Miasto słońca, Alfa, Warszawa, 199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uxley A., Nowy Wspaniały Świat, Muz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paliński W., Słownik mitów i tradycji kultury, tom 3, Wydawnictwo Rzeczpospolita HPS, Warszawa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rasicki I., Mikołaja Doświadczyńskiego przypadki, Zakład Narodowy im. Ossolińskich, Wrocław 197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re (Morus) T., Utopia, Daimonion, Lublin 19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well G., Rok 1984, Da Capo, Warszawa 199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laton, Państwo, Antyk, Kęty 19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awiński J. (red.), Słownik terminów literackich, Ossolineum, Wrocław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wift J., Podróże Guliwera, http://wolnelektury.pl/katalog/lektura/podroze-guliwer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acki J., Spotkania z utopią, Sic!, Warszawa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acki J,. Historia myśli socjologicznej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ells H.G., Wehikuł czasu, Amber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3"/>
          <p:cNvSpPr/>
          <p:nvPr/>
        </p:nvSpPr>
        <p:spPr>
          <a:xfrm>
            <a:off x="684360" y="1197000"/>
            <a:ext cx="7775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Platon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ragment fresku „Szkoła ateńska”, autor: Rafael Santi, źródło: Wikimedia Commons, http://pl.wikipedia.org/wiki/Plik:Plato-raphael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Wysp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, fot. Remember, źródło: Wikimedia Commons, http://pl.wikipedia.org/wiki/Plik:Island_near_Fiji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Ignacy Krasic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portretu, autor obrazu: Per Krafft the Elder, źródło: Wikimedia Commons, http://pl.wikipedia.org/wiki/Plik:Ignacy_Krasicki_111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Big brother is watching yo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utor: Frederic Guimonta, źródło: Wikimedia Commons, http://pl.wikipedia.org/wiki/Plik:1984-Big-Brother.jpg, licencja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rt Licens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http://artlibre.org/licence/lal/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a utop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Utopi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– nie mająca szans urzeczywistnienia i nie licząca się z realnym stanem rzeczy i stosunków społecznych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wizja idealnego, egalitarnego społeczeństw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. Nazwa pochodzi od tytułu łac. dzieła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Thomasa Morus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Potocznie – mrzonk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plan, pomysł wzniosły, idealny, ale nieżyciowy, nierealny, nieziszczalny, fantastycz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yt. za: Kopaliński W., Słownik mitów i tradycji kultury, tom 3, Wydawnictwo Rzeczpospolita HPS, Warszawa 2007, s. 3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Utopia w filozofii i literatu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34136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laton „Państwo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homas More (Morus) „Utopi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ommaso Campanella „Miasto słońc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rancis Bacon „Nowa Atlantyd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onathan Swift „Podróże Guliwera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gnacy Krasicki „Mikołaja Doświadczyńskiego przypadk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erbert George Wells „Wehikuł czasu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az 3" descr="Plato-raphael.jpg"/>
          <p:cNvPicPr/>
          <p:nvPr/>
        </p:nvPicPr>
        <p:blipFill>
          <a:blip r:embed="rId1"/>
          <a:stretch/>
        </p:blipFill>
        <p:spPr>
          <a:xfrm>
            <a:off x="755640" y="981000"/>
            <a:ext cx="1871640" cy="199404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ton „Państwo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4"/>
          <p:cNvSpPr/>
          <p:nvPr/>
        </p:nvSpPr>
        <p:spPr>
          <a:xfrm>
            <a:off x="3059280" y="981000"/>
            <a:ext cx="5689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laton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grecki filozof, żyjący ok. 427-347 p.n.e., krytycznie oceniał ateńską demokrację i uważał, że żyje w czasach upadku i zepsucia. Jego zdaniem żadne realnie funkcjonujące państwo nie jest idealne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84360" y="3213000"/>
            <a:ext cx="79912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latońskie państwo idealne przypomina organizm: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jest najpodobniejsze do jednego człowieka. Tak, jak kiedyś u kogoś z nas palec zostanie zraniony, to cała wspólnota cielesna, do której i dusza należy i wraz z nią tworzy jeden układ w niej panujący, spostrzega to i cała równocześnie wraz z tym palcem cierpi – cała, chociaż palec to tylko jej część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laton, Państwo, tłum. Władysław Witwicki, Antyk, Kęty 1997, s. 1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 platońskim państwie idealny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611280" y="1341360"/>
            <a:ext cx="7993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ie ma nierówności społeczn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.in. podziału na ubogich i bogatych, stąd postulat likwidacji własności prywatne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ieczna jest pewna uniformizacja obywatel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także w zakresie ich myśli i uczuć, czemu sprzyjać ma kontrola nad wszystkimi sferami życia jednostek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stnieją trzy kasty: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ędrcy, wojownicy i lud – każdy człowiek zajmuje się tym, do czego się najlepiej nadaj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homas More (Morus) „Utopi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341360"/>
            <a:ext cx="799308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homas More (Morus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żyjący w latach 1478 – 1535 angielski myśliciel, pisarz i mąż stanu.  Jako kanclerz Anglii sprzeciwił się rozwodowi Henryka VIII i uznaniu go za głowę Kościoła anglikańskiego. Skazany na ścięcie i stracony, został uznany za męczennika i kanonizowa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1516 r. napisał „Utopię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pełen tytuł: „Książeczka zaiste złota i niemniej pożyteczna jak przyjemna o najlepszym ustroju państwa i nieznanej dotąd wyspie Utopi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dealne społeczeństwo w „Utopii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341360"/>
            <a:ext cx="7993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naliza sposobu funkcjonowania renesansowej Angli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doprowadziła do wniosku, że konieczna jest przebudowa systemu społeczno-ekonomicznego – równy podział dóbr między wszystkich i brak własności prywatne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dealne państwo zapewnia wszystkim obywatelom dobrobyt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terialny, dostęp do nauki, kultury i oświaty; ludzie pracują dla dobra ogółu, nie istnieje własność prywatna i pieniądz, a społeczeństwo jest tolerancyjne, pokojowo nastawione, panuje w nim równouprawnienie kobiet i mężczyzn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ommaso Campanella „Miasto słońc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ommaso Campanell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żyjący w latach 1568-1639 włoski teolog i filozo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602 r. napisał „Miasto słońca” – utwór o idealnym społeczeństwi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czele Solariuszy stoi Metafizy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władca absolutny, a wspiera go trzech współwładców (Pon – Moc, Sin – Mądrość i Mor – Miłość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eszkańcy mogą wyrazić swoją wolę, poskarżyć się albo przedstawić swoje potrzeby w czas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elkich Zgromadzeń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 istnieje niewolnictwo, praca fizyczna cieszy się wielkim szacunkiem, a dzięki dobrej organizacji mieszkańcy pracują nie więcej niż 4 godziny dzienn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borem par i wychowaniem dzieci zarządzają odpowiedni urzędnic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lariusze są jednakowo boga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bo mają dostęp do wszystkich dóbr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jednakowo  biedn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onieważ nic nie jest ich własnością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joa</cp:lastModifiedBy>
  <dcterms:modified xsi:type="dcterms:W3CDTF">2013-04-03T16:40:45Z</dcterms:modified>
  <cp:revision>71</cp:revision>
  <dc:subject/>
  <dc:title>Slajd 1</dc:title>
</cp:coreProperties>
</file>